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2E3-8465-42EC-8C12-181ADEBE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CBD-75B3-49FD-AF92-3BFDD65D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4D6-BD79-4B8E-9AE0-A8776B34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8CC-79B2-436C-A057-EB838D35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07A-6431-4BA4-ADE9-A8CC3DA3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FCC-A3E4-4E7C-82FB-0AD41E6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51A-5123-4BBF-965F-7D379B4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E8C-1C30-4020-8552-C4C14237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37D-B6B1-4893-B771-5D9CDC87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DE7-A41B-4BD9-B102-9C015C54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94A-5551-4385-AC15-D23734CE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A63-FFF8-4CC8-83FB-6B713F7E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325B-52BC-433F-AD3D-69428D03A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751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f3300"/>
                </a:solidFill>
                <a:latin typeface="Times New Roman"/>
              </a:rPr>
              <a:t>Әмирхан Е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4176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66ff33"/>
                </a:solidFill>
                <a:latin typeface="Times New Roman"/>
              </a:rPr>
              <a:t>Чын мәгънәсендә татар әдәбиятының горурлыгы.Бу әдипне купләр “кеше куңелен дәвалаучы,язучы”, доктор дип тэ йортәләр һэм психолог язучы дип тә атыйла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940360" y="1413000"/>
            <a:ext cx="2754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418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Дәүләкән – Дим буендагы гүзәл табига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</a:rPr>
              <a:t> почмаг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Тезисла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-Бәдретдиннең күңел матурлыг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-Ана белән бала мәхәббәтенең матурлыг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-Шәкертләрнең матур мөгамәләс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-Табига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матурлыг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Сүз кем турында б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ң ярлы, сәләтле, тигез, сабыр холыклы,  ялагайлана, масая белми, тыйнак шәкерт. Кешедән әйбер сорарга яратмый, мәдәрәсә тормышы өчен кирәк бөтен нәрсәсе бар. Калын дәрес-китапларына мохтаҗ. Булганнарын пөхтә тышлап, кадерләп саклый.  Скрипкада уйный бел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хуҗасын табыгы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дер күлмәк өстеннән шундый ук киндер алъяпкыч буган, оек-чабаталы хатын. Бөтен битен-күзен кайчандыр кичергән рәхимсез чәчәк зәхмәте тәмам бозып бетергән. Сул күзе бөтенләй кысылып, ә уң күзе иләмсез зураеп калган. Шадра, чалыш, һич йомылмас, кашсыз-керфексез акайган күзле йө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Әнисенең матурлыгы нидә соң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Әнисе ни өчен Бәдретдин белән горурла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5564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«Бу йортның безгә билгесез ниндидер тирән сере - бәхетсезлегеме, фаҗигасеме, әллә без аңлаудан гаҗиз бөек бер өлеше - бәхетеме торып калд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tt-RU" sz="4800" spc="-1" strike="noStrike">
                <a:solidFill>
                  <a:srgbClr val="000000"/>
                </a:solidFill>
                <a:latin typeface="Arial"/>
              </a:rPr>
              <a:t>Бәхет нәрсә ул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Ана - бөек ис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Нәрсә җитә Ана булуг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Хатын-кызның бөтен матурлыгы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Бөтен күрке Ана булуда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01996d513654"/>
          <p:cNvPicPr/>
          <p:nvPr/>
        </p:nvPicPr>
        <p:blipFill>
          <a:blip r:embed="rId1"/>
          <a:stretch/>
        </p:blipFill>
        <p:spPr>
          <a:xfrm>
            <a:off x="5940360" y="4221000"/>
            <a:ext cx="293076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lide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Йомгак яс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45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втор шушы әсәре аша безгә нәрсә әйтергә тели? Әсәрнең төп идеясе нин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хшы мөнәсәбәтләр аша матурлыкка омтылу, кешенең эчке матурлыгының-әти-әнисенә мөнәсәбәтендә күренүен күрд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у әсәре белән кешенең тышкы матурлыгы гына җитмәвен, эчке матурлыкның әһәмиятен күрсәт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ип бу хикәясендә бала белән ана арасында булган мәхәббәт матурлыгын, бөеклеген билгели һәм шушы фикерне зур сәнгать дәрәҗәсенә күтәреп расл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кс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1. «Матурлык» хикәясенең эчтәлегенә төшендерү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2.Әсәргә анализ ясау алымнарын кулланып, хикәянең тәрбияви әһәмиятен билгеләү,анда күтәрелгән мәсь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әләләрнең хәзерге вакытта да мөһим икәнлеген күрсәтү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3.Укучыларда ата-анага карата миһербанлык тәрбиялә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Йомгакл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Мәк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Уч төбендә тәбә пешереп ашатсаң да,анаң каршындагы изге бурычны үти алмыйсы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tt-RU" sz="6000" spc="-1" strike="noStrike">
                <a:solidFill>
                  <a:srgbClr val="ff3300"/>
                </a:solidFill>
                <a:latin typeface="Times New Roman"/>
              </a:rPr>
              <a:t>Тышкы күркәмлек түгел, бәлки рухи байлык, интеллект, нечкә зәвык, чама хисе һәм яхшы күңеллелек матур итә икән кешене</a:t>
            </a:r>
            <a:r>
              <a:rPr b="0" lang="tt-RU" sz="6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443280" y="0"/>
            <a:ext cx="2700360" cy="6858000"/>
          </a:xfrm>
          <a:prstGeom prst="rect">
            <a:avLst/>
          </a:prstGeom>
          <a:solidFill>
            <a:srgbClr val="003300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Күчмә кош.Туган ягына кайткач,ул җәй буена иртә таңнан кичкә кадәр сайрый. Югарыга һавага күтәрелә дә,шунда җырын суза. Әйтерсең лә,кояшка кадәр менеп җитәргә 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56"/>
          <p:cNvPicPr/>
          <p:nvPr/>
        </p:nvPicPr>
        <p:blipFill>
          <a:blip r:embed="rId1"/>
          <a:stretch/>
        </p:blipFill>
        <p:spPr>
          <a:xfrm>
            <a:off x="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m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16f365d0577b0885f51bf19794884eb"/>
          <p:cNvPicPr/>
          <p:nvPr/>
        </p:nvPicPr>
        <p:blipFill>
          <a:blip r:embed="rId1"/>
          <a:stretch/>
        </p:blipFill>
        <p:spPr>
          <a:xfrm>
            <a:off x="1476360" y="0"/>
            <a:ext cx="613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Кәккү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ешеләрнең исләренә ниндидер бик мөһим нәрсәне төшерер өчен табигать тарафыннан яратылган күзгә күренмәс сәер кош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Димәк,кеше гомере санаулы гына. Бу тормышта үзеңнең кылган эшләреңә,гамәлләреңә исәп тотарга тиешсең, дип искәрткән сым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042920" y="689400"/>
            <a:ext cx="71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1296800"/>
                <a:tab algn="l" pos="1157292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SL_Times New Roman"/>
              </a:rPr>
              <a:t>Өй эше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296800"/>
                <a:tab algn="l" pos="1157292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SL_Times New Roman"/>
              </a:rPr>
              <a:t>“</a:t>
            </a:r>
            <a:r>
              <a:rPr b="1" lang="tt-RU" sz="3600" spc="-1" strike="noStrike">
                <a:solidFill>
                  <a:srgbClr val="000000"/>
                </a:solidFill>
                <a:latin typeface="SL_Times New Roman"/>
              </a:rPr>
              <a:t>Ана һәм бала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” темасы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1296800"/>
                <a:tab algn="l" pos="1157292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кыска иҗади инша язып килергә</a:t>
            </a:r>
            <a:r>
              <a:rPr b="0" lang="tt-RU" sz="3200" spc="-1" strike="noStrike">
                <a:solidFill>
                  <a:srgbClr val="000000"/>
                </a:solidFill>
                <a:latin typeface="SL_Times New Roman"/>
              </a:rPr>
              <a:t>.</a:t>
            </a:r>
            <a:r>
              <a:rPr b="0" lang="tt-RU" sz="2400" spc="-1" strike="noStrike">
                <a:solidFill>
                  <a:srgbClr val="3366ff"/>
                </a:solidFill>
                <a:latin typeface="SL_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468360" y="189000"/>
            <a:ext cx="8136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Тел дигән дәрья бар, төбендә энҗе-мәрҗән бар, белгәннәр чумып алыр, белмәгәннәр 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коры калыр”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Хатын-кызның бөтен матурлыгы, бөтен күрке ана булуда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tt-RU" sz="3200" spc="-1" strike="noStrike">
                <a:solidFill>
                  <a:srgbClr val="ffff00"/>
                </a:solidFill>
                <a:latin typeface="Arial"/>
              </a:rPr>
              <a:t>Һади Такт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01996d513654"/>
          <p:cNvPicPr/>
          <p:nvPr/>
        </p:nvPicPr>
        <p:blipFill>
          <a:blip r:embed="rId1"/>
          <a:stretch/>
        </p:blipFill>
        <p:spPr>
          <a:xfrm>
            <a:off x="6500880" y="5229360"/>
            <a:ext cx="2643120" cy="14284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" descr=""/>
          <p:cNvPicPr/>
          <p:nvPr/>
        </p:nvPicPr>
        <p:blipFill>
          <a:blip r:embed="rId2"/>
          <a:stretch/>
        </p:blipFill>
        <p:spPr>
          <a:xfrm>
            <a:off x="279360" y="620640"/>
            <a:ext cx="8656560" cy="5718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360" y="905040"/>
            <a:ext cx="822960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</a:rPr>
              <a:t>1. </a:t>
            </a: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Матурлык – гүзәл, күңелгә рәхәтлек бирә торган нәрсә (күренеш,эш, тормыш һ.б.); матур, сокланырлык урыннар (табигат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тә, матур әдәбият әсәрләрендә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Ягымлы, сөйкемле, үзенә җәлеп итә торган тышкы кыяфәт; кеше характерындагы, эшчәнлегендәге хуплана торган сыйф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tt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тар теленең аңлатмалы сүзлеге</a:t>
            </a:r>
            <a:r>
              <a:rPr b="0" lang="tt-RU" sz="28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01996d513654"/>
          <p:cNvPicPr/>
          <p:nvPr/>
        </p:nvPicPr>
        <p:blipFill>
          <a:blip r:embed="rId1"/>
          <a:stretch/>
        </p:blipFill>
        <p:spPr>
          <a:xfrm>
            <a:off x="6500880" y="5661000"/>
            <a:ext cx="264312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1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ур кеше нинди сыйфатларга ия була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tt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-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01996d513654"/>
          <p:cNvPicPr/>
          <p:nvPr/>
        </p:nvPicPr>
        <p:blipFill>
          <a:blip r:embed="rId1"/>
          <a:stretch/>
        </p:blipFill>
        <p:spPr>
          <a:xfrm>
            <a:off x="6500880" y="5429160"/>
            <a:ext cx="2643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1" descr=""/>
          <p:cNvPicPr/>
          <p:nvPr/>
        </p:nvPicPr>
        <p:blipFill>
          <a:blip r:embed="rId1"/>
          <a:stretch/>
        </p:blipFill>
        <p:spPr>
          <a:xfrm>
            <a:off x="324000" y="480960"/>
            <a:ext cx="8405640" cy="566424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1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405640" cy="5657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15:04Z</dcterms:created>
  <dc:creator>User</dc:creator>
  <dc:description/>
  <dc:language>en-US</dc:language>
  <cp:lastModifiedBy>2018</cp:lastModifiedBy>
  <dcterms:modified xsi:type="dcterms:W3CDTF">2020-12-04T08:53:21Z</dcterms:modified>
  <cp:revision>33</cp:revision>
  <dc:subject/>
  <dc:title>Что?       Где ?           Когда?</dc:title>
</cp:coreProperties>
</file>