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AB3-BE4C-4B5B-8EE9-847E2AC9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10C-25E7-43EA-94BE-658CEB5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A04-8CB4-45A6-8A83-2096F5DA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C67-74BB-403D-8F4D-882A331F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149-D9F4-4C83-8175-874351DD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CB8-2C2A-4487-9D80-F1D1DD33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767-7023-4187-8578-02D28F7B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CC4-0EBC-49F4-9489-573E2700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25B-C1D4-49E6-92F3-666B1C6D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CE8-8EDC-4C7C-9DD5-3E0DDD13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44F-360E-40ED-BFE6-F6491646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38E-D241-451A-AE35-BA5E195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DA28-D727-48CC-9683-1B813069F2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751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3300"/>
                </a:solidFill>
                <a:latin typeface="Times New Roman"/>
              </a:rPr>
              <a:t>Әмирхан Е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4176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66ff33"/>
                </a:solidFill>
                <a:latin typeface="Times New Roman"/>
              </a:rPr>
              <a:t>Чын мәгънәсендә татар әдәбиятының горурлыгы.Бу әдипне купләр “кеше куңелен дәвалаучы,язучы”, доктор дип тэ йортәләр һэм психолог язучы дип тә атыйла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75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418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Дәүләкән – Дим буендагы гүзәл табига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 почмаг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Тезисла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-Бәдретдиннең күңел матурлыг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-Ана белән бала мәхәббәтенең матурлыг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-Шәкертләрнең матур мөгамәләс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-Табига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матурлыг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Сүз кем турында б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ң ярлы, сәләтле, тигез, сабыр холыклы,  ялагайлана, масая белми, тыйнак шәкерт. Кешедән әйбер сорарга яратмый, мәдәрәсә тормышы өчен кирәк бөтен нәрсәсе бар. Калын дәрес-китапларына мохтаҗ. Булганнарын пөхтә тышлап, кадерләп саклый.  Скрипкада уйный белә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хуҗасын табыгы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дер күлмәк өстеннән шундый ук киндер алъяпкыч буган, оек-чабаталы хатын. Бөтен битен-күзен кайчандыр кичергән рәхимсез чәчәк зәхмәте тәмам бозып бетергән. Сул күзе бөтенләй кысылып, ә уң күзе иләмсез зураеп калган. Шадра, чалыш, һич йомылмас, кашсыз-керфексез акайган күзле йө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Әнисенең матурлыгы нидә соң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Әнисе ни өчен Бәдретдин белән горурл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5564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«Бу йортның безгә билгесез ниндидер тирән сере - бәхетсезлегеме, фаҗигасеме, әллә без аңлаудан гаҗиз бөек бер өлеше - бәхетеме торып калды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tt-RU" sz="4800" spc="-1" strike="noStrike">
                <a:solidFill>
                  <a:srgbClr val="000000"/>
                </a:solidFill>
                <a:latin typeface="Arial"/>
              </a:rPr>
              <a:t>Бәхет нәрсә ул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на - бөек ис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Нәрсә җитә Ана булуг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Хатын-кызның бөтен матурлыг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Бөтен күрке Ана булуда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01996d513654"/>
          <p:cNvPicPr/>
          <p:nvPr/>
        </p:nvPicPr>
        <p:blipFill>
          <a:blip r:embed="rId1"/>
          <a:stretch/>
        </p:blipFill>
        <p:spPr>
          <a:xfrm>
            <a:off x="5940360" y="4221000"/>
            <a:ext cx="293076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lid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Йомгак яс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45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тор шушы әсәре аша безгә нәрсә әйтергә тели? Әсәрнең төп идеясе нин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хшы мөнәсәбәтләр аша матурлыкка омтылу, кешенең эчке матурлыгының-әти-әнисенә мөнәсәбәтендә күренүен күрд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у әсәре белән кешенең тышкы матурлыгы гына җитмәвен, эчке матурлыкның әһәмиятен күрсәт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ип бу хикәясендә бала белән ана арасында булган мәхәббәт матурлыгын, бөеклеген билгели һәм шушы фикерне зур сәнгать дәрәҗәсенә күтәреп расл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кс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1. «Матурлык» хикәясенең эчтәлегенә төшендерү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2.Әсәргә анализ ясау алымнарын кулланып, хикәянең тәрбияви әһәмиятен билгеләү,анда күтәрелгән мәсь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әләләрнең хәзерге вакытта да мөһим икәнлеген күрсәтү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 3.Укучыларда ата-анага карата миһербанлык тәрбиялә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Йомгакл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Мәк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Уч төбендә тәбә пешереп ашатсаң да,анаң каршындагы изге бурычны үти алмыйсы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tt-RU" sz="6000" spc="-1" strike="noStrike">
                <a:solidFill>
                  <a:srgbClr val="ff3300"/>
                </a:solidFill>
                <a:latin typeface="Times New Roman"/>
              </a:rPr>
              <a:t>Тышкы күркәмлек түгел, бәлки рухи байлык, интеллект, нечкә зәвык, чама хисе һәм яхшы күңеллелек матур итә икән кешене</a:t>
            </a:r>
            <a:r>
              <a:rPr b="0" lang="tt-RU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443280" y="0"/>
            <a:ext cx="2700360" cy="6858000"/>
          </a:xfrm>
          <a:prstGeom prst="rect">
            <a:avLst/>
          </a:prstGeom>
          <a:solidFill>
            <a:srgbClr val="003300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үчмә кош.Туган ягына кайткач,ул җәй буена иртә таңнан кичкә кадәр сайрый. Югарыга һавага күтәрелә дә,шунда җырын суза. Әйтерсең лә,кояшка кадәр менеп җитәргә 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56"/>
          <p:cNvPicPr/>
          <p:nvPr/>
        </p:nvPicPr>
        <p:blipFill>
          <a:blip r:embed="rId1"/>
          <a:stretch/>
        </p:blipFill>
        <p:spPr>
          <a:xfrm>
            <a:off x="0" y="0"/>
            <a:ext cx="64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mg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16f365d0577b0885f51bf19794884eb"/>
          <p:cNvPicPr/>
          <p:nvPr/>
        </p:nvPicPr>
        <p:blipFill>
          <a:blip r:embed="rId1"/>
          <a:stretch/>
        </p:blipFill>
        <p:spPr>
          <a:xfrm>
            <a:off x="147636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Кәккү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Кешеләрнең исләренә ниндидер бик мөһим нәрсәне төшерер өчен табигать тарафыннан яратылган күзгә күренмәс сәер ко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Димәк,кеше гомере санаулы гына. Бу тормышта үзеңнең кылган эшләреңә,гамәлләреңә исәп тотарга тиешсең, дип искәрткән сым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042920" y="68940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1296800"/>
                <a:tab algn="l" pos="1157292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SL_Times New Roman"/>
              </a:rPr>
              <a:t>Өй эше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296800"/>
                <a:tab algn="l" pos="1157292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SL_Times New Roman"/>
              </a:rPr>
              <a:t>“</a:t>
            </a:r>
            <a:r>
              <a:rPr b="1" lang="tt-RU" sz="3600" spc="-1" strike="noStrike">
                <a:solidFill>
                  <a:srgbClr val="000000"/>
                </a:solidFill>
                <a:latin typeface="SL_Times New Roman"/>
              </a:rPr>
              <a:t>Ана һәм бала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” темасы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296800"/>
                <a:tab algn="l" pos="1157292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кыска иҗади инша язып килергә</a:t>
            </a:r>
            <a:r>
              <a:rPr b="0" lang="tt-RU" sz="3200" spc="-1" strike="noStrike">
                <a:solidFill>
                  <a:srgbClr val="000000"/>
                </a:solidFill>
                <a:latin typeface="SL_Times New Roman"/>
              </a:rPr>
              <a:t>.</a:t>
            </a:r>
            <a:r>
              <a:rPr b="0" lang="tt-RU" sz="2400" spc="-1" strike="noStrike">
                <a:solidFill>
                  <a:srgbClr val="3366ff"/>
                </a:solidFill>
                <a:latin typeface="SL_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468360" y="189000"/>
            <a:ext cx="8136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Тел дигән дәрья бар, төбендә энҗе-мәрҗән бар, белгәннәр чумып алыр, белмәгәннәр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оры калыр”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Хатын-кызның бөтен матурлыгы, бөтен күрке ана булуда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tt-RU" sz="3200" spc="-1" strike="noStrike">
                <a:solidFill>
                  <a:srgbClr val="ffff00"/>
                </a:solidFill>
                <a:latin typeface="Arial"/>
              </a:rPr>
              <a:t>Һади Такт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01996d513654"/>
          <p:cNvPicPr/>
          <p:nvPr/>
        </p:nvPicPr>
        <p:blipFill>
          <a:blip r:embed="rId1"/>
          <a:stretch/>
        </p:blipFill>
        <p:spPr>
          <a:xfrm>
            <a:off x="6500880" y="5229360"/>
            <a:ext cx="264312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" descr=""/>
          <p:cNvPicPr/>
          <p:nvPr/>
        </p:nvPicPr>
        <p:blipFill>
          <a:blip r:embed="rId2"/>
          <a:stretch/>
        </p:blipFill>
        <p:spPr>
          <a:xfrm>
            <a:off x="279360" y="620640"/>
            <a:ext cx="8656560" cy="5718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360" y="905040"/>
            <a:ext cx="82296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</a:rPr>
              <a:t>1. </a:t>
            </a: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Матурлык – гүзәл, күңелгә рәхәтлек бирә торган нәрсә (күренеш,эш, тормыш һ.б.); матур, сокланырлык урыннар (табигат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тә, матур әдәбият әсәрләрендә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Ягымлы, сөйкемле, үзенә җәлеп итә торган тышкы кыяфәт; кеше характерындагы, эшчәнлегендәге хуплана торган сыйф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tt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тар теленең аңлатмалы сүзлеге</a:t>
            </a: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01996d513654"/>
          <p:cNvPicPr/>
          <p:nvPr/>
        </p:nvPicPr>
        <p:blipFill>
          <a:blip r:embed="rId1"/>
          <a:stretch/>
        </p:blipFill>
        <p:spPr>
          <a:xfrm>
            <a:off x="6500880" y="5661000"/>
            <a:ext cx="2643120" cy="1197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ур кеше нинди сыйфатларга ия була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01996d513654"/>
          <p:cNvPicPr/>
          <p:nvPr/>
        </p:nvPicPr>
        <p:blipFill>
          <a:blip r:embed="rId1"/>
          <a:stretch/>
        </p:blipFill>
        <p:spPr>
          <a:xfrm>
            <a:off x="6500880" y="5429160"/>
            <a:ext cx="2643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1" descr=""/>
          <p:cNvPicPr/>
          <p:nvPr/>
        </p:nvPicPr>
        <p:blipFill>
          <a:blip r:embed="rId1"/>
          <a:stretch/>
        </p:blipFill>
        <p:spPr>
          <a:xfrm>
            <a:off x="324000" y="480960"/>
            <a:ext cx="8405640" cy="56642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1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405640" cy="5657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7:15:04Z</dcterms:created>
  <dc:creator>User</dc:creator>
  <dc:description/>
  <dc:language>en-US</dc:language>
  <cp:lastModifiedBy>2018</cp:lastModifiedBy>
  <dcterms:modified xsi:type="dcterms:W3CDTF">2020-12-04T08:53:21Z</dcterms:modified>
  <cp:revision>33</cp:revision>
  <dc:subject/>
  <dc:title>Что?       Где ?           Когда?</dc:title>
</cp:coreProperties>
</file>