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A2E9-EC6B-4222-A06B-EDE255B05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B7B3-1B59-4CAE-9CB3-D07A71A01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EDD5-0859-46C0-8F1F-CC5B28FCE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CBE4-5DE7-4C85-AFD4-A7B419CC9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1DDC-2E94-4DC2-BEF8-CDDA07FA4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28C0-D5C4-429C-A2BC-645359C17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BB6B-F494-4508-BBFE-D68AE34ED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E523-3B72-46A9-B87C-46762E3F2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1E90-E3B3-424F-9466-0EAE4886C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CFF9-BA79-4C74-B11E-9FE939112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8816-58C3-4880-85BD-880A4864E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9801-67E2-4B6A-9FDD-7E8418EA6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280"/>
            <a:ext cx="822168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5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B57F-E9E8-407E-9447-79D64FBA39A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8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627280" y="1825560"/>
            <a:ext cx="56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«Психолого-педагогическая технология регулирования  поведения обуч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2050920" y="47628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ХАНТЫ-МАНСИЙСКОГО АВТОНОМНОГО ОКРУГА - ЮГР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«СУРГУТСКИЙ МУЗЫКАЛЬНЫЙ КОЛЛЕДЖ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979640" y="5589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Молчанова Наталья Георги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реподаватель первой квалификационной катего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БУ «Сургутский музыкальный колледж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2070000" y="366840"/>
            <a:ext cx="6335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тинные цели ребен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ребенок их не осозна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1908000" y="1989000"/>
            <a:ext cx="665964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щущать свою состоятельность в учебн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роить и поддерживать хорошие отнош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носить свой особый вклад в жизнь группы и школы\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4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2124000" y="549360"/>
            <a:ext cx="6558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и преодоление негативного повед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908000" y="2133720"/>
            <a:ext cx="6985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ведение направленное на привлечение вним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льше внимания уделять хорошему повед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ить учеников просить внимания, когда они             в этом очень нуждаю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делять внимание ученику на переме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делять внимание индивидуа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979640" y="549360"/>
            <a:ext cx="6702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– привлечение вним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979640" y="1628640"/>
            <a:ext cx="69134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инимизация вним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гнорировать поступок, встать рядом, произнести имя ученика, послать записку (письменное замечание), сделать «Я – обращени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законить поведение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вести данное поведение до его крайних форм, предложить классу присоединиться к данному пове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ступить неожидан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 понизить или изменить голос, говорить, обращаясь к стене, временно прервать ур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5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050920" y="620640"/>
            <a:ext cx="671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– привлечение вним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1835280" y="1773360"/>
            <a:ext cx="70578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влечь учени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адать прямой вопрос, попросить об одолжении, сменить вид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мечать достой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 благодарить учеников, отличающихся хорошим повед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ересадить ученика на другое мес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6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908000" y="512640"/>
            <a:ext cx="7061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Поведение, направленное на достижение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1908000" y="2133720"/>
            <a:ext cx="7128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властного поведения -ребенок проявляет задатки лиде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стойчив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осто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леустремлен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у харак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особность сопротивляться авторите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6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411280" y="-206280"/>
            <a:ext cx="627084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1112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1120"/>
                <a:tab algn="l" pos="85896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властного поведения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979640" y="1600200"/>
            <a:ext cx="67024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ход от конфронтации и снижение напряж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пускать власть учеников в разумных предел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24000" y="657360"/>
            <a:ext cx="67737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Мстительное по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1908000" y="2276640"/>
            <a:ext cx="677412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мстительного по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обрета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ысокая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жизнеспособ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8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2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24000" y="357120"/>
            <a:ext cx="6558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мстительного повед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908000" y="1773360"/>
            <a:ext cx="7128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троить отношения с учениками по принципу заботы о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бучать учеников выражать душевную боль и страдания приемлемым способ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8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265480" y="431640"/>
            <a:ext cx="6342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поведения ученика власть или ме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908000" y="1844640"/>
            <a:ext cx="70567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Изящный уход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знать власть ученика, перенести обсуждение вопроса без зр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620640"/>
            <a:ext cx="822492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нкции (Джеральд Гильберт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457200" y="160020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908000" y="1878120"/>
            <a:ext cx="6971040" cy="4103640"/>
          </a:xfrm>
          <a:prstGeom prst="rect">
            <a:avLst/>
          </a:prstGeom>
          <a:ln w="0">
            <a:noFill/>
          </a:ln>
        </p:spPr>
      </p:pic>
      <p:grpSp>
        <p:nvGrpSpPr>
          <p:cNvPr id="198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9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1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340000" y="2133720"/>
            <a:ext cx="62704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лохое поведе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это поступки или действия одного человека, вызывающие негативные эмоции у другого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9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2195640" y="549360"/>
            <a:ext cx="64864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Избегание не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979640" y="1897200"/>
            <a:ext cx="670248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ильные сторо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mn-Cyrl-MN" sz="2800" spc="-1" strike="noStrike">
                <a:solidFill>
                  <a:srgbClr val="000000"/>
                </a:solidFill>
                <a:latin typeface="Times New Roman"/>
              </a:rPr>
              <a:t>Для большинства учеников сильных сторон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0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7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979640" y="-149400"/>
          <a:ext cx="6983280" cy="7034400"/>
        </p:xfrm>
        <a:graphic>
          <a:graphicData uri="http://schemas.openxmlformats.org/drawingml/2006/table">
            <a:tbl>
              <a:tblPr/>
              <a:tblGrid>
                <a:gridCol w="1316160"/>
                <a:gridCol w="1476360"/>
                <a:gridCol w="1531800"/>
                <a:gridCol w="1339920"/>
                <a:gridCol w="1319040"/>
              </a:tblGrid>
              <a:tr h="600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Мотивы плохого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Привлечение внима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Власть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Месть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Избегание неудачи</a:t>
                      </a:r>
                      <a:r>
                        <a:rPr b="0" lang="ru-RU" sz="1100" spc="-1" strike="noStrike">
                          <a:solidFill>
                            <a:srgbClr val="990000"/>
                          </a:solidFill>
                          <a:latin typeface="Century"/>
                        </a:rPr>
                        <a:t>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5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оциальные причин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Эмоциональная холодность родителе, внимание уделяется «плохому», а не хорошему поведению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Мода на «сильную личность», отсутствие примеров конструктивного подчинения в окружении ребенка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ст насилия в обществ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лишком высокие требования родителей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ущность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лучать особо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нимани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«Ты мне ничего не сделаешь»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редить в ответ на обиду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 буду и пробовать, все равно не получится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«Сильные стороны» повед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требность в контакте с учителе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мелость, сопротивление влияния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пособность защищать себя от боли и обид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т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Реакция учителя: импульс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делать замечание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тить выходку с помощью физического действия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Немедленно ответить силой или уйти из ситуации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Оправдаться и объяснить неудачу с помощью специалиста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Реакции ученика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ременно прекращают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щают выходку, когда сами решат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рекращают выходку, когда сами решат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падают в зависимость от учителя. Продолжают ничего не делать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Способ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предотвращения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Century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чить ребят просить внимания приемлемыми способами. Оказывать внимание за хорошее поведение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ходить от конфронтации. Отдавать часть своих организационных функций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троить отношения с учащимся по принципу заботы о нем.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3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оддержка учащегося, чтобы его установка «Я не могу» сменилась на «Я могу»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AutoShape 119">
            <a:hlinkClick r:id="" action="ppaction://hlinkshowjump?jump=firstslide"/>
          </p:cNvPr>
          <p:cNvSpPr/>
          <p:nvPr/>
        </p:nvSpPr>
        <p:spPr>
          <a:xfrm>
            <a:off x="8459640" y="6308640"/>
            <a:ext cx="503280" cy="406440"/>
          </a:xfrm>
          <a:custGeom>
            <a:avLst/>
            <a:gdLst>
              <a:gd name="textAreaLeft" fmla="*/ 26280 w 503280"/>
              <a:gd name="textAreaRight" fmla="*/ 477000 w 5032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6742" h="21600">
                <a:moveTo>
                  <a:pt x="0" y="0"/>
                </a:moveTo>
                <a:lnTo>
                  <a:pt x="26742" y="0"/>
                </a:lnTo>
                <a:lnTo>
                  <a:pt x="26742" y="21600"/>
                </a:lnTo>
                <a:lnTo>
                  <a:pt x="0" y="21600"/>
                </a:lnTo>
                <a:close/>
              </a:path>
              <a:path fill="lightenLess" w="26742" h="21600">
                <a:moveTo>
                  <a:pt x="0" y="0"/>
                </a:moveTo>
                <a:lnTo>
                  <a:pt x="26742" y="0"/>
                </a:lnTo>
                <a:lnTo>
                  <a:pt x="25342" y="1400"/>
                </a:lnTo>
                <a:lnTo>
                  <a:pt x="1400" y="1400"/>
                </a:lnTo>
                <a:close/>
              </a:path>
              <a:path fill="darken" w="26742" h="21600">
                <a:moveTo>
                  <a:pt x="26742" y="0"/>
                </a:moveTo>
                <a:lnTo>
                  <a:pt x="26742" y="21600"/>
                </a:lnTo>
                <a:lnTo>
                  <a:pt x="25342" y="20200"/>
                </a:lnTo>
                <a:lnTo>
                  <a:pt x="25342" y="1400"/>
                </a:lnTo>
                <a:close/>
              </a:path>
              <a:path fill="darkenLess" w="26742" h="21600">
                <a:moveTo>
                  <a:pt x="26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2" y="20200"/>
                </a:lnTo>
                <a:close/>
              </a:path>
              <a:path fill="lighten" w="26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42" h="21600">
                <a:moveTo>
                  <a:pt x="13371" y="3837"/>
                </a:moveTo>
                <a:lnTo>
                  <a:pt x="15947" y="6448"/>
                </a:lnTo>
                <a:lnTo>
                  <a:pt x="15947" y="4707"/>
                </a:lnTo>
                <a:lnTo>
                  <a:pt x="17723" y="4707"/>
                </a:lnTo>
                <a:lnTo>
                  <a:pt x="17723" y="8224"/>
                </a:lnTo>
                <a:lnTo>
                  <a:pt x="20334" y="10800"/>
                </a:lnTo>
                <a:lnTo>
                  <a:pt x="18680" y="10800"/>
                </a:lnTo>
                <a:lnTo>
                  <a:pt x="18680" y="17989"/>
                </a:lnTo>
                <a:lnTo>
                  <a:pt x="8062" y="17989"/>
                </a:lnTo>
                <a:lnTo>
                  <a:pt x="8062" y="10800"/>
                </a:lnTo>
                <a:lnTo>
                  <a:pt x="6408" y="10800"/>
                </a:lnTo>
                <a:close/>
              </a:path>
              <a:path fill="darkenLess" w="26742" h="21600">
                <a:moveTo>
                  <a:pt x="15947" y="6448"/>
                </a:moveTo>
                <a:lnTo>
                  <a:pt x="15947" y="4707"/>
                </a:lnTo>
                <a:lnTo>
                  <a:pt x="17723" y="4707"/>
                </a:lnTo>
                <a:lnTo>
                  <a:pt x="17723" y="8224"/>
                </a:lnTo>
                <a:close/>
              </a:path>
              <a:path fill="darkenLess" w="26742" h="21600">
                <a:moveTo>
                  <a:pt x="12448" y="14299"/>
                </a:moveTo>
                <a:lnTo>
                  <a:pt x="14294" y="14299"/>
                </a:lnTo>
                <a:lnTo>
                  <a:pt x="14294" y="17989"/>
                </a:lnTo>
                <a:lnTo>
                  <a:pt x="18680" y="17989"/>
                </a:lnTo>
                <a:lnTo>
                  <a:pt x="18680" y="10800"/>
                </a:lnTo>
                <a:lnTo>
                  <a:pt x="8062" y="10800"/>
                </a:lnTo>
                <a:lnTo>
                  <a:pt x="8062" y="17989"/>
                </a:lnTo>
                <a:lnTo>
                  <a:pt x="12448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3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2481120" y="403200"/>
            <a:ext cx="6201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филактика поведения, направленного на избегание неудач / неуспе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979640" y="2060640"/>
            <a:ext cx="69850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ь  - у</a:t>
            </a:r>
            <a:r>
              <a:rPr b="0" lang="mn-Cyrl-MN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еники хотят успеха: все делать только отлично, лучше все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мочь ученику сменить установку «Я не могу» на установку «Я могу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</a:t>
            </a:r>
            <a:r>
              <a:rPr b="0" lang="mn-Cyrl-MN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мочь в преодолении социальной изоляции путем включения ученика в отношения с другими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1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857240" y="533520"/>
            <a:ext cx="6847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тренные методы вмешательства, когда цель поведения ученика избегание неудач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835280" y="1844640"/>
            <a:ext cx="712944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менить методы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осуществлять дифференцированный под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одушевлять и поддержива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– приравнивать ошибки к усилиям, уменьшать значимость совершенных ошиб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ормировать уверенность в себ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акцентировать улучшения, признавать трудность зада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поминать прошлые успех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знавать достижения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добрение вслух, одобрительные записи в днев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Демонстрировать свое одобр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Lucida Sans Unicode"/>
              </a:rPr>
              <a:t>(«Очень хорошо!», «Замечательно!», «Здорово!», «Вот это да!», «Я горжусь тобой!»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2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1979640" y="1773360"/>
            <a:ext cx="670248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22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124000" y="1125360"/>
            <a:ext cx="62596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 чем строится поведение учеников: основные законы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ченики выбирают определенное поведение в определенных обстоятельств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Любое поведение подчинено общей цели - чувствовать себя принадлежащим к учеб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жизни.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закон.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рушая дисциплину, ученик осознает, что ведет себя неправильно, но может не осознавать, что за этим нарушением стоит одна их четырех целей: привлечение внимания, власть, месть, избегание неу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9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8640" y="692280"/>
            <a:ext cx="822672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ли негативного повед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Рудольф Дрейкур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124000" y="2795760"/>
            <a:ext cx="644688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влечение вним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л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збегание неу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0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50920" y="1197000"/>
            <a:ext cx="640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влечение внимания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чение особого внимания от окруж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51200" y="4363920"/>
            <a:ext cx="2475000" cy="1944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908000" y="2637000"/>
            <a:ext cx="69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дражение, желание сделать замеч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временно прекращает плохое поведени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1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839960" y="601560"/>
            <a:ext cx="6759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ласть: стремление доказать свою состо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2087640" cy="242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124000" y="1700280"/>
            <a:ext cx="66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гнев, негодование, страх и стремление настоять на сво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продолжает плохое поведени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1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340000" y="212760"/>
            <a:ext cx="61563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ть: осознанное или неосознанное причинение боли другому челове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81320" y="4218120"/>
            <a:ext cx="2781360" cy="2090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2101680" y="1844640"/>
            <a:ext cx="676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обида, боль, стремление ответить силой или уйти от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усиливает плох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2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6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951200" y="404640"/>
            <a:ext cx="67039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клонение или симуляция неспособности: потеря веры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651640" y="4151160"/>
            <a:ext cx="2724120" cy="2084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1773360" y="1747800"/>
            <a:ext cx="71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моции и реакции взрослого на негативное поведение ребенка: беспомощность и желание помочь ребенку, сделать за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я ребенка: никак не реагирует на то, что на него обратили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3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501920" y="-206280"/>
            <a:ext cx="7180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акции ребенка на замечание взрослого</a:t>
            </a: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457200" y="1600200"/>
            <a:ext cx="82249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501920" y="1766880"/>
            <a:ext cx="7662600" cy="418788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-79200" y="-12600"/>
            <a:ext cx="1865160" cy="6883200"/>
            <a:chOff x="-79200" y="-12600"/>
            <a:chExt cx="1865160" cy="688320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-79200" y="-12600"/>
              <a:ext cx="186516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-61920" y="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2f2f2"/>
                  </a:solidFill>
                  <a:latin typeface="Times New Roman"/>
                  <a:ea typeface="Lucida Sans Unicode"/>
                </a:rPr>
                <a:t>Заголовок слай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" name="Picture 3" descr="D:\мероприятия\!логотип СМК\логотип (орган).pn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17:14:14Z</dcterms:created>
  <dc:creator>Егоров</dc:creator>
  <dc:description/>
  <dc:language>en-US</dc:language>
  <cp:lastModifiedBy>Молчанова Наталья</cp:lastModifiedBy>
  <dcterms:modified xsi:type="dcterms:W3CDTF">2021-03-06T08:38:49Z</dcterms:modified>
  <cp:revision>249</cp:revision>
  <dc:subject/>
  <dc:title>Слайд 1</dc:title>
</cp:coreProperties>
</file>