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599F0-61A6-40B2-9201-A374755850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2D54D-C0F9-4619-A7D4-9C61DCC6DF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B02C0-0B30-44A4-A8C1-5368C1D821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08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EEC32-183F-4718-8CD2-145A7F4B4C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47A7E-9C22-448C-88E3-242CE77CA7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710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09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508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7FBB3-7C98-4946-AF0F-2E096B2478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3585D-A262-40A6-B52A-02FB6CD14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F8BAC-0A9B-411F-A9A3-E220D98623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FBDDB-9048-4373-86AB-0790BE80E5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02FCF-6DD3-4B4D-B269-D266C4107D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BC601-BFD6-4B09-8344-370C8BAC2E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8FB70-EBD9-41EE-AE52-5F14C1BCCF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20628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3280"/>
            <a:ext cx="2128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353280"/>
            <a:ext cx="2125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3F583-6F19-4EE3-8827-CC7FDB7AE31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36828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Заголовок 1"/>
          <p:cNvGrpSpPr/>
          <p:nvPr/>
        </p:nvGrpSpPr>
        <p:grpSpPr>
          <a:xfrm>
            <a:off x="55440" y="-12600"/>
            <a:ext cx="1865520" cy="6883200"/>
            <a:chOff x="55440" y="-12600"/>
            <a:chExt cx="1865520" cy="6883200"/>
          </a:xfrm>
        </p:grpSpPr>
        <p:pic>
          <p:nvPicPr>
            <p:cNvPr id="8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5440" y="-12600"/>
              <a:ext cx="186552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73080" y="0"/>
              <a:ext cx="18349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6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4"/>
          <p:cNvSpPr/>
          <p:nvPr/>
        </p:nvSpPr>
        <p:spPr>
          <a:xfrm>
            <a:off x="2627280" y="1825560"/>
            <a:ext cx="568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«Психолого-педагогическая технология регулирования  поведения обучающихся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Подзаголовок 2"/>
          <p:cNvSpPr/>
          <p:nvPr/>
        </p:nvSpPr>
        <p:spPr>
          <a:xfrm>
            <a:off x="2050920" y="476280"/>
            <a:ext cx="698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БЮДЖЕТНОЕ ПРОФЕССИОНАЛЬНОЕ ОБРАЗОВАТЕЛЬНОЕ УЧРЕЖДЕНИ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ХАНТЫ-МАНСИЙСКОГО АВТОНОМНОГО ОКРУГА - ЮГРЫ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 «СУРГУТСКИЙ МУЗЫКАЛЬНЫЙ КОЛЛЕДЖ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одзаголовок 2"/>
          <p:cNvSpPr/>
          <p:nvPr/>
        </p:nvSpPr>
        <p:spPr>
          <a:xfrm>
            <a:off x="1979640" y="5589720"/>
            <a:ext cx="698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040"/>
                </a:solidFill>
                <a:latin typeface="Arial"/>
                <a:ea typeface="Arial"/>
              </a:rPr>
              <a:t>Молчанова Наталья Георгиевна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040"/>
                </a:solidFill>
                <a:latin typeface="Arial"/>
                <a:ea typeface="Arial"/>
              </a:rPr>
              <a:t>Педагог-психолог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040"/>
                </a:solidFill>
                <a:latin typeface="Arial"/>
                <a:ea typeface="Arial"/>
              </a:rPr>
              <a:t>преподаватель первой квалификационной категор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040"/>
                </a:solidFill>
                <a:latin typeface="Arial"/>
                <a:ea typeface="Arial"/>
              </a:rPr>
              <a:t>БУ «Сургутский музыкальный колледж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2070000" y="366840"/>
            <a:ext cx="633564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стинные цели ребенк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(ребенок их не осознае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1908000" y="1989000"/>
            <a:ext cx="6659640" cy="45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щущать свою состоятельность в учебной деятель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троить и поддерживать хорошие отнош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носить свой особый вклад в жизнь группы и школы\коллекти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14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Lucida Sans Unicode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6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2124000" y="549360"/>
            <a:ext cx="65581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офилактика и преодоление негативного повед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1908000" y="2133720"/>
            <a:ext cx="69850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оведение направленное на привлечение внима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больше внимания уделять хорошему поведени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учить учеников просить внимания, когда они             в этом очень нуждаютс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уделять внимание ученику на перемен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уделять внимание индивидуаль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15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Lucida Sans Unicode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2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1979640" y="549360"/>
            <a:ext cx="67024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стренные методы вмешательства, когда цель – привлечение внима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1979640" y="1628640"/>
            <a:ext cx="6913440" cy="44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инимизация внимания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гнорировать поступок, встать рядом, произнести имя ученика, послать записку (письменное замечание), сделать «Я – обращение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Узаконить поведение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овести данное поведение до его крайних форм, предложить классу присоединиться к данному поведен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оступить неожиданн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: понизить или изменить голос, говорить, обращаясь к стене, временно прервать ур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15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Lucida Sans Unicode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8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2050920" y="620640"/>
            <a:ext cx="6713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стренные методы вмешательства, когда цель – привлечение вниман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1835280" y="1773360"/>
            <a:ext cx="70578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твлечь ученик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задать прямой вопрос, попросить об одолжении, сменить вид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тмечать достойное повед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: благодарить учеников, отличающихся хорошим поведени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ересадить ученика на другое мес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16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Lucida Sans Unicode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4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1908000" y="512640"/>
            <a:ext cx="70614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. Поведение, направленное на достижение вла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1908000" y="2133720"/>
            <a:ext cx="71280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ильные стороны властного поведения -ребенок проявляет задатки лидер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астойчив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амостоятель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целеустремленность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илу характер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пособность сопротивляться авторите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16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Lucida Sans Unicode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0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2411280" y="-206280"/>
            <a:ext cx="627084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11120"/>
                <a:tab algn="l" pos="858960"/>
                <a:tab algn="l" pos="1308240"/>
                <a:tab algn="l" pos="1757520"/>
                <a:tab algn="l" pos="2206800"/>
                <a:tab algn="l" pos="2655720"/>
                <a:tab algn="l" pos="3105000"/>
                <a:tab algn="l" pos="3554280"/>
                <a:tab algn="l" pos="4003560"/>
                <a:tab algn="l" pos="4452840"/>
                <a:tab algn="l" pos="4902120"/>
                <a:tab algn="l" pos="5351400"/>
                <a:tab algn="l" pos="5800680"/>
                <a:tab algn="l" pos="6249960"/>
                <a:tab algn="l" pos="6699240"/>
                <a:tab algn="l" pos="7148520"/>
                <a:tab algn="l" pos="7597800"/>
                <a:tab algn="l" pos="8047080"/>
                <a:tab algn="l" pos="8496360"/>
                <a:tab algn="l" pos="8945640"/>
                <a:tab algn="l" pos="939492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офилактика властного поведения: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1979640" y="1600200"/>
            <a:ext cx="670248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уход от конфронтации и снижение напряжен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опускать власть учеников в разумных пределах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17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Lucida Sans Unicode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6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2124000" y="657360"/>
            <a:ext cx="67737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. Мстительное повед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1908000" y="2276640"/>
            <a:ext cx="6774120" cy="38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ильные стороны мстительного повед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зобретатель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ысокая актив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жизнеспособность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18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Lucida Sans Unicode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2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2124000" y="357120"/>
            <a:ext cx="65581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офилактика мстительного поведения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1908000" y="1773360"/>
            <a:ext cx="712800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троить отношения с учениками по принципу заботы о ни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бучать учеников выражать душевную боль и страдания приемлемым способ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18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Lucida Sans Unicode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8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2265480" y="431640"/>
            <a:ext cx="63421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стренные методы вмешательства, когда цель поведения ученика власть или мес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908000" y="1844640"/>
            <a:ext cx="705672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«Изящный уход»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изнать власть ученика, перенести обсуждение вопроса без зр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19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Lucida Sans Unicode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94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457200" y="620640"/>
            <a:ext cx="822492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анкции (Джеральд Гильберт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457200" y="1600200"/>
            <a:ext cx="822492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1908000" y="1878120"/>
            <a:ext cx="6971040" cy="4103640"/>
          </a:xfrm>
          <a:prstGeom prst="rect">
            <a:avLst/>
          </a:prstGeom>
          <a:ln w="0">
            <a:noFill/>
          </a:ln>
        </p:spPr>
      </p:pic>
      <p:grpSp>
        <p:nvGrpSpPr>
          <p:cNvPr id="198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199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Lucida Sans Unicode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1" name="Picture 3" descr="D:\мероприятия\!логотип СМК\логотип (орган).png"/>
          <p:cNvPicPr/>
          <p:nvPr/>
        </p:nvPicPr>
        <p:blipFill>
          <a:blip r:embed="rId3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340000" y="2133720"/>
            <a:ext cx="627048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лохое поведени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– это поступки или действия одного человека, вызывающие негативные эмоции у другого челове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9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Lucida Sans Unicode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4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"/>
          <p:cNvSpPr/>
          <p:nvPr/>
        </p:nvSpPr>
        <p:spPr>
          <a:xfrm>
            <a:off x="2195640" y="549360"/>
            <a:ext cx="64864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. Избегание неуспех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1979640" y="1897200"/>
            <a:ext cx="670248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ильные сторон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Times New Roman"/>
              </a:rPr>
              <a:t>Для большинства учеников сильных сторон н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20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Lucida Sans Unicode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7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1979640" y="-149400"/>
          <a:ext cx="6983280" cy="7034400"/>
        </p:xfrm>
        <a:graphic>
          <a:graphicData uri="http://schemas.openxmlformats.org/drawingml/2006/table">
            <a:tbl>
              <a:tblPr/>
              <a:tblGrid>
                <a:gridCol w="1316160"/>
                <a:gridCol w="1476360"/>
                <a:gridCol w="1531800"/>
                <a:gridCol w="1339920"/>
                <a:gridCol w="1319040"/>
              </a:tblGrid>
              <a:tr h="600120"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990000"/>
                          </a:solidFill>
                          <a:latin typeface="Century"/>
                        </a:rPr>
                        <a:t>Мотивы плохого поведения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990000"/>
                          </a:solidFill>
                          <a:latin typeface="Century"/>
                        </a:rPr>
                        <a:t>Привлечение внимания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990000"/>
                          </a:solidFill>
                          <a:latin typeface="Century"/>
                        </a:rPr>
                        <a:t>Власть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990000"/>
                          </a:solidFill>
                          <a:latin typeface="Century"/>
                        </a:rPr>
                        <a:t>Месть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990000"/>
                          </a:solidFill>
                          <a:latin typeface="Century"/>
                        </a:rPr>
                        <a:t>Избегание неудачи</a:t>
                      </a:r>
                      <a:r>
                        <a:rPr b="0" lang="ru-RU" sz="1100" spc="-1" strike="noStrike">
                          <a:solidFill>
                            <a:srgbClr val="990000"/>
                          </a:solidFill>
                          <a:latin typeface="Century"/>
                        </a:rPr>
                        <a:t>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3520"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Century"/>
                        </a:rPr>
                        <a:t>Социальные причины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Эмоциональная холодность родителе, внимание уделяется «плохому», а не хорошему поведению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Мода на «сильную личность», отсутствие примеров конструктивного подчинения в окружении ребенка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Рост насилия в обществе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Слишком высокие требования родителей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Century"/>
                        </a:rPr>
                        <a:t>Сущность поведения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Получать особо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внимание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«Ты мне ничего не сделаешь»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Вредить в ответ на обиду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Не буду и пробовать, все равно не получится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Century"/>
                        </a:rPr>
                        <a:t>«Сильные стороны» поведения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Потребность в контакте с учителем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Смелость, сопротивление влияниям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Способность защищать себя от боли и обид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Нет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Century"/>
                        </a:rPr>
                        <a:t>Реакция учителя: импульс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Сделать замечани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Прекратить выходку с помощью физического действия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Немедленно ответить силой или уйти из ситуации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Оправдаться и объяснить неудачу с помощью специалиста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720"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Century"/>
                        </a:rPr>
                        <a:t>Реакции ученика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Century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Временно прекращают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Прекращают выходку, когда сами решат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Прекращают выходку, когда сами решат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Попадают в зависимость от учителя. Продолжают ничего не делать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Century"/>
                        </a:rPr>
                        <a:t>Способ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Century"/>
                        </a:rPr>
                        <a:t>предотвращения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Century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Учить ребят просить внимания приемлемыми способами. Оказывать внимание за хорошее поведение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Уходить от конфронтации. Отдавать часть своих организационных функций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Строить отношения с учащимся по принципу заботы о нем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Поддержка учащегося, чтобы его установка «Я не могу» сменилась на «Я могу»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AutoShape 119">
            <a:hlinkClick r:id="" action="ppaction://hlinkshowjump?jump=firstslide"/>
          </p:cNvPr>
          <p:cNvSpPr/>
          <p:nvPr/>
        </p:nvSpPr>
        <p:spPr>
          <a:xfrm>
            <a:off x="8459640" y="6308640"/>
            <a:ext cx="503280" cy="406440"/>
          </a:xfrm>
          <a:custGeom>
            <a:avLst/>
            <a:gdLst>
              <a:gd name="textAreaLeft" fmla="*/ 26280 w 503280"/>
              <a:gd name="textAreaRight" fmla="*/ 477000 w 50328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26742" h="21600">
                <a:moveTo>
                  <a:pt x="0" y="0"/>
                </a:moveTo>
                <a:lnTo>
                  <a:pt x="26742" y="0"/>
                </a:lnTo>
                <a:lnTo>
                  <a:pt x="26742" y="21600"/>
                </a:lnTo>
                <a:lnTo>
                  <a:pt x="0" y="21600"/>
                </a:lnTo>
                <a:close/>
              </a:path>
              <a:path fill="lightenLess" w="26742" h="21600">
                <a:moveTo>
                  <a:pt x="0" y="0"/>
                </a:moveTo>
                <a:lnTo>
                  <a:pt x="26742" y="0"/>
                </a:lnTo>
                <a:lnTo>
                  <a:pt x="25342" y="1400"/>
                </a:lnTo>
                <a:lnTo>
                  <a:pt x="1400" y="1400"/>
                </a:lnTo>
                <a:close/>
              </a:path>
              <a:path fill="darken" w="26742" h="21600">
                <a:moveTo>
                  <a:pt x="26742" y="0"/>
                </a:moveTo>
                <a:lnTo>
                  <a:pt x="26742" y="21600"/>
                </a:lnTo>
                <a:lnTo>
                  <a:pt x="25342" y="20200"/>
                </a:lnTo>
                <a:lnTo>
                  <a:pt x="25342" y="1400"/>
                </a:lnTo>
                <a:close/>
              </a:path>
              <a:path fill="darkenLess" w="26742" h="21600">
                <a:moveTo>
                  <a:pt x="267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2" y="20200"/>
                </a:lnTo>
                <a:close/>
              </a:path>
              <a:path fill="lighten" w="267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42" h="21600">
                <a:moveTo>
                  <a:pt x="13371" y="3837"/>
                </a:moveTo>
                <a:lnTo>
                  <a:pt x="15947" y="6448"/>
                </a:lnTo>
                <a:lnTo>
                  <a:pt x="15947" y="4707"/>
                </a:lnTo>
                <a:lnTo>
                  <a:pt x="17723" y="4707"/>
                </a:lnTo>
                <a:lnTo>
                  <a:pt x="17723" y="8224"/>
                </a:lnTo>
                <a:lnTo>
                  <a:pt x="20334" y="10800"/>
                </a:lnTo>
                <a:lnTo>
                  <a:pt x="18680" y="10800"/>
                </a:lnTo>
                <a:lnTo>
                  <a:pt x="18680" y="17989"/>
                </a:lnTo>
                <a:lnTo>
                  <a:pt x="8062" y="17989"/>
                </a:lnTo>
                <a:lnTo>
                  <a:pt x="8062" y="10800"/>
                </a:lnTo>
                <a:lnTo>
                  <a:pt x="6408" y="10800"/>
                </a:lnTo>
                <a:close/>
              </a:path>
              <a:path fill="darkenLess" w="26742" h="21600">
                <a:moveTo>
                  <a:pt x="15947" y="6448"/>
                </a:moveTo>
                <a:lnTo>
                  <a:pt x="15947" y="4707"/>
                </a:lnTo>
                <a:lnTo>
                  <a:pt x="17723" y="4707"/>
                </a:lnTo>
                <a:lnTo>
                  <a:pt x="17723" y="8224"/>
                </a:lnTo>
                <a:close/>
              </a:path>
              <a:path fill="darkenLess" w="26742" h="21600">
                <a:moveTo>
                  <a:pt x="12448" y="14299"/>
                </a:moveTo>
                <a:lnTo>
                  <a:pt x="14294" y="14299"/>
                </a:lnTo>
                <a:lnTo>
                  <a:pt x="14294" y="17989"/>
                </a:lnTo>
                <a:lnTo>
                  <a:pt x="18680" y="17989"/>
                </a:lnTo>
                <a:lnTo>
                  <a:pt x="18680" y="10800"/>
                </a:lnTo>
                <a:lnTo>
                  <a:pt x="8062" y="10800"/>
                </a:lnTo>
                <a:lnTo>
                  <a:pt x="8062" y="17989"/>
                </a:lnTo>
                <a:lnTo>
                  <a:pt x="12448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211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3" name="Picture 3" descr="D:\мероприятия\!логотип СМК\логотип (орган).png"/>
          <p:cNvPicPr/>
          <p:nvPr/>
        </p:nvPicPr>
        <p:blipFill>
          <a:blip r:embed="rId3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2481120" y="403200"/>
            <a:ext cx="62010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офилактика поведения, направленного на избегание неудач / неуспех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1979640" y="2060640"/>
            <a:ext cx="698508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обенность  - у</a:t>
            </a:r>
            <a:r>
              <a:rPr b="0" lang="mn-Cyrl-MN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ченики хотят успеха: все делать только отлично, лучше все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омочь ученику сменить установку «Я не могу» на установку «Я могу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</a:t>
            </a:r>
            <a:r>
              <a:rPr b="0" lang="mn-Cyrl-MN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мочь в преодолении социальной изоляции путем включения ученика в отношения с другими людь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21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Lucida Sans Unicode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9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1857240" y="533520"/>
            <a:ext cx="6847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стренные методы вмешательства, когда цель поведения ученика избегание неудач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1835280" y="1844640"/>
            <a:ext cx="712944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зменить методы обучен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– осуществлять дифференцированный подх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оодушевлять и поддерживат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– приравнивать ошибки к усилиям, уменьшать значимость совершенных ошиб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Формировать уверенность в себ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акцентировать улучшения, признавать трудность зада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апоминать прошлые успех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изнавать достижения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добрение вслух, одобрительные записи в дневн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  <a:ea typeface="Lucida Sans Unicode"/>
              </a:rPr>
              <a:t>Демонстрировать свое одобрен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Lucida Sans Unicode"/>
              </a:rPr>
              <a:t>(«Очень хорошо!», «Замечательно!», «Здорово!», «Вот это да!», «Я горжусь тобой!»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223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Lucida Sans Unicode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5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"/>
          <p:cNvSpPr/>
          <p:nvPr/>
        </p:nvSpPr>
        <p:spPr>
          <a:xfrm>
            <a:off x="1979640" y="1773360"/>
            <a:ext cx="670248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22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Lucida Sans Unicode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0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2124000" y="1125360"/>
            <a:ext cx="625968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а чем строится поведение учеников: основные законы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закон.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Ученики выбирают определенное поведение в определенных обстоятельства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 закон.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Любое поведение подчинено общей цели - чувствовать себя принадлежащим к учебной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жизни.                               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 закон.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арушая дисциплину, ученик осознает, что ведет себя неправильно, но может не осознавать, что за этим нарушением стоит одна их четырех целей: привлечение внимания, власть, месть, избегание неудач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9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Lucida Sans Unicode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9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458640" y="692280"/>
            <a:ext cx="822672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Цели негативного поведени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(Рудольф Дрейкур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2124000" y="2795760"/>
            <a:ext cx="6446880" cy="36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ивлечение вним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ла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збегание неудач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103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Lucida Sans Unicode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5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2050920" y="1197000"/>
            <a:ext cx="640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ивлечение внимания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олучение особого внимания от окружающ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4651200" y="4363920"/>
            <a:ext cx="2475000" cy="19447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1908000" y="2637000"/>
            <a:ext cx="698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моции и реакции взрослого на негативное поведение ребенк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аздражение, желание сделать замеч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еакция ребенка: временно прекращает плохое поведение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110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Lucida Sans Unicode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2" name="Picture 3" descr="D:\мероприятия\!логотип СМК\логотип (орган).png"/>
          <p:cNvPicPr/>
          <p:nvPr/>
        </p:nvPicPr>
        <p:blipFill>
          <a:blip r:embed="rId3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1839960" y="601560"/>
            <a:ext cx="675936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ласть: стремление доказать свою состоя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132000" y="4149720"/>
            <a:ext cx="2087640" cy="24256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2124000" y="1700280"/>
            <a:ext cx="669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моции и реакции взрослого на негативное поведение ребенка: гнев, негодование, страх и стремление настоять на сво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еакция ребенка: продолжает плохое поведение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117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Lucida Sans Unicode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9" name="Picture 3" descr="D:\мероприятия\!логотип СМК\логотип (орган).png"/>
          <p:cNvPicPr/>
          <p:nvPr/>
        </p:nvPicPr>
        <p:blipFill>
          <a:blip r:embed="rId3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2340000" y="212760"/>
            <a:ext cx="615636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есть: осознанное или неосознанное причинение боли другому челове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3181320" y="4218120"/>
            <a:ext cx="2781360" cy="20905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3"/>
          <p:cNvSpPr/>
          <p:nvPr/>
        </p:nvSpPr>
        <p:spPr>
          <a:xfrm>
            <a:off x="2101680" y="1844640"/>
            <a:ext cx="6769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моции и реакции взрослого на негативное поведение ребенка: обида, боль, стремление ответить силой или уйти от ситу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еакция ребенка: усиливает плохое повед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124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Lucida Sans Unicode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6" name="Picture 3" descr="D:\мероприятия\!логотип СМК\логотип (орган).png"/>
          <p:cNvPicPr/>
          <p:nvPr/>
        </p:nvPicPr>
        <p:blipFill>
          <a:blip r:embed="rId3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1951200" y="404640"/>
            <a:ext cx="670392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Уклонение или симуляция неспособности: потеря веры в себ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651640" y="4151160"/>
            <a:ext cx="2724120" cy="20844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1773360" y="1747800"/>
            <a:ext cx="7119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моции и реакции взрослого на негативное поведение ребенка: беспомощность и желание помочь ребенку, сделать за не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еакция ребенка: никак не реагирует на то, что на него обратили вним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131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Lucida Sans Unicode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3" name="Picture 3" descr="D:\мероприятия\!логотип СМК\логотип (орган).png"/>
          <p:cNvPicPr/>
          <p:nvPr/>
        </p:nvPicPr>
        <p:blipFill>
          <a:blip r:embed="rId3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1501920" y="-206280"/>
            <a:ext cx="71802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еакции ребенка на замечание взрослого</a:t>
            </a:r>
            <a:br>
              <a:rPr sz="36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457200" y="1600200"/>
            <a:ext cx="822492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1501920" y="1766880"/>
            <a:ext cx="7662600" cy="4187880"/>
          </a:xfrm>
          <a:prstGeom prst="rect">
            <a:avLst/>
          </a:prstGeom>
          <a:ln w="0">
            <a:noFill/>
          </a:ln>
        </p:spPr>
      </p:pic>
      <p:grpSp>
        <p:nvGrpSpPr>
          <p:cNvPr id="137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138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Lucida Sans Unicode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0" name="Picture 3" descr="D:\мероприятия\!логотип СМК\логотип (орган).png"/>
          <p:cNvPicPr/>
          <p:nvPr/>
        </p:nvPicPr>
        <p:blipFill>
          <a:blip r:embed="rId3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7T17:14:14Z</dcterms:created>
  <dc:creator>Егоров</dc:creator>
  <dc:description/>
  <dc:language>en-US</dc:language>
  <cp:lastModifiedBy>Молчанова Наталья</cp:lastModifiedBy>
  <dcterms:modified xsi:type="dcterms:W3CDTF">2021-03-06T08:38:49Z</dcterms:modified>
  <cp:revision>249</cp:revision>
  <dc:subject/>
  <dc:title>Слайд 1</dc:title>
</cp:coreProperties>
</file>