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AE3-46C1-45D9-B965-248AD27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8225-33AB-42E5-8A5D-00FB914A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325-C2C4-428E-B3A9-D2DFD211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1F2-40E3-4985-BE88-DF88AFB9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F63-C920-4387-AA8D-BBE57EAA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24A9-11BD-4EEB-A491-E82EB0FF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C3A-65A4-430F-9EFB-D83846B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8423-B999-46F2-A0DD-48F4B69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3338-95A3-448B-B2C5-0E0A52EE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C8CE-94B8-43C1-BF99-F0E363E2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AAC-BF87-40AA-BFAD-3B16A79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BA9-0AC3-4A74-BE58-536CCE97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7E4B-F18E-4AE2-8697-59DB022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53F-19AB-47B5-87A0-CC01C703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43C0-B47A-4D98-B74D-6B959D3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D12D-3122-45BE-BA88-A115DF45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9B8-301D-40B9-ADE8-9B839AD2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024F-123E-4F96-8601-939FBCA6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A02B8-9160-4AEE-8206-41955C55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82D0-84E3-46F2-9123-95ECB3B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7D5C-8A85-4DBE-B708-6973EBAB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2A8E-5670-494C-85C6-41AA89BA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A6D-9B59-45EA-A32E-0D5EE31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DB3D-5EB0-4ED0-86FF-E420E48B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1AD1-D39C-4156-8B63-15AC621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64DE-8EF3-4B4D-94BC-1F52F82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D4BD-7A2D-4B15-A4D0-2374FD6C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434D-ADEC-4B90-AACA-5013F71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A9D1-0334-42CC-92DB-EF8CBF15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9FFE-3628-46A1-8777-CCD0375F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F823-C791-40ED-A337-67C58695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365B-66C8-40AB-A7BA-43D2FD05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15B4C-2F9E-4989-A3C7-F7BF54BB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5C4-231A-40CD-923A-0089654F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349E-F434-4486-93A4-1541ED48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1F5E-EB72-4313-9E9C-D50092F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41B34-7139-48FD-A9EF-074BF9B2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FB38-DA21-4D41-B373-32235B26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0505-0FD9-490B-BF55-A468812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8029-B88B-44B8-91DF-29724603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5398-78EB-49B4-9816-AF45514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9654-898B-4C1D-81A2-26D85C04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7FEA-3235-49D1-AADB-48A6D824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489D-38D1-4425-B393-F7E83FB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65B-392A-4D52-A663-9A861CF1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3F4E5-978E-466B-BD6D-DC89D2B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56A9C-7C64-45FD-8E93-8E7103ED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1CC7-AAA6-40BA-88AE-9026D99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DF05-47D7-4EFB-88DC-78A4CFCB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9A894-87D1-41F3-8B0F-51AF7B5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2804-A095-4200-B63F-F81EF37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E7258-2EC2-4880-A72E-8DFC543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EF26-ED73-49FC-9B07-8DA15FA3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F0516-1071-4C6B-8381-797F0B73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A18F-8A6C-4FF4-A3B0-9C3F9FCB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0A1-D970-453D-9D73-264DA4EF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47D2-1810-4773-B51E-F7517EC7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0AC-A49C-4867-89DD-50A3EE7F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B90-266E-4257-9B55-638C70E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3B3-B98C-4FFC-B1E4-D2077480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E67-C25E-4B59-9DD7-4ACD1079E3D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44F9-CE26-4CE8-BC95-0CFD9A8567F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E675-7EA6-4501-A590-D115630019D0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8F90-66BF-4DFB-A027-2A93577D44F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3E6B-A26D-40C8-AF52-7618161A615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C9DB-3F05-4E4A-8FEA-11CC05BB04C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4966-2408-4A3F-866B-C670784532F4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A6F-C77E-41A1-8F74-BDD4C9C18C5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7DD-414C-4553-9BBB-D14D01AEE56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B03-C4A1-46FC-8FAC-6EAEA9F7C1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89040" y="1779480"/>
            <a:ext cx="7772400" cy="1463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МБОУ СШ № 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г. Тейково Ивановской обла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Учитель географ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46"/>
                </a:solidFill>
                <a:latin typeface="Lucida Sans Unicode"/>
              </a:rPr>
              <a:t>Якимова А.Ю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F0F-987F-42AB-8E67-7D09BED2EC1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68360" y="14842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Почему о реках русский народ складывал много песен?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D541-B14C-4769-9BFE-3B002BE7B99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общение о реках Ивановской области, их значении  для  населения в прошлом и настоящ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раграф ………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нести крупные реки России на контурную карту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ru.wikipedia.org/wiki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tsumada.ru/?f=publ2&amp;idp=17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andreyb.ru/kucherla-altay-splav-foto.asp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phototherapy.me/images/39/1037.JP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ttp://www.ecosystema.ru/07referats/slovgeo/715.ht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8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671-7E95-447D-90F7-E21B968298B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4" descr=""/>
          <p:cNvPicPr/>
          <p:nvPr/>
        </p:nvPicPr>
        <p:blipFill>
          <a:blip r:embed="rId1"/>
          <a:stretch/>
        </p:blipFill>
        <p:spPr>
          <a:xfrm>
            <a:off x="457200" y="1073160"/>
            <a:ext cx="8229600" cy="313848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86C-6AA0-4F1A-AAB1-59C618538C3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Содержимое 5" descr="Волга в Твери.jpg"/>
          <p:cNvPicPr/>
          <p:nvPr/>
        </p:nvPicPr>
        <p:blipFill>
          <a:blip r:embed="rId1"/>
          <a:stretch/>
        </p:blipFill>
        <p:spPr>
          <a:xfrm>
            <a:off x="928800" y="1643040"/>
            <a:ext cx="7429320" cy="4254480"/>
          </a:xfrm>
          <a:prstGeom prst="rect">
            <a:avLst/>
          </a:prstGeom>
          <a:ln w="0">
            <a:noFill/>
          </a:ln>
        </p:spPr>
      </p:pic>
      <p:pic>
        <p:nvPicPr>
          <p:cNvPr id="29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9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489-CEA0-48DD-B2DD-1029C2848B8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6215040" y="6072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трелка вправо 6"/>
          <p:cNvSpPr/>
          <p:nvPr/>
        </p:nvSpPr>
        <p:spPr>
          <a:xfrm>
            <a:off x="7072200" y="6215040"/>
            <a:ext cx="42876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Содержимое 5" descr="Енисей в Красноярске.jpg"/>
          <p:cNvPicPr/>
          <p:nvPr/>
        </p:nvPicPr>
        <p:blipFill>
          <a:blip r:embed="rId1"/>
          <a:stretch/>
        </p:blipFill>
        <p:spPr>
          <a:xfrm>
            <a:off x="1714680" y="160164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296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9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6A6E-792D-4280-84D8-D1277FCBEB8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5357880" y="600084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Стрелка вправо 7"/>
          <p:cNvSpPr/>
          <p:nvPr/>
        </p:nvSpPr>
        <p:spPr>
          <a:xfrm>
            <a:off x="6372360" y="616572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5" descr="Дон.png"/>
          <p:cNvPicPr/>
          <p:nvPr/>
        </p:nvPicPr>
        <p:blipFill>
          <a:blip r:embed="rId1"/>
          <a:stretch/>
        </p:blipFill>
        <p:spPr>
          <a:xfrm>
            <a:off x="1397160" y="1515960"/>
            <a:ext cx="6349680" cy="4457880"/>
          </a:xfrm>
          <a:prstGeom prst="rect">
            <a:avLst/>
          </a:prstGeom>
          <a:ln w="0">
            <a:noFill/>
          </a:ln>
        </p:spPr>
      </p:pic>
      <p:pic>
        <p:nvPicPr>
          <p:cNvPr id="30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2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7E28-36FD-44C4-AAD2-9D566BE3F85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105520" y="1480680"/>
            <a:ext cx="40384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5572080" y="6143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трелка вправо 6"/>
          <p:cNvSpPr/>
          <p:nvPr/>
        </p:nvSpPr>
        <p:spPr>
          <a:xfrm>
            <a:off x="6643800" y="6286680"/>
            <a:ext cx="4284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39" name="Picture 7" descr="В1"/>
          <p:cNvPicPr/>
          <p:nvPr/>
        </p:nvPicPr>
        <p:blipFill>
          <a:blip r:embed="rId1"/>
          <a:stretch/>
        </p:blipFill>
        <p:spPr>
          <a:xfrm>
            <a:off x="395280" y="404640"/>
            <a:ext cx="4038480" cy="3032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в3"/>
          <p:cNvPicPr/>
          <p:nvPr/>
        </p:nvPicPr>
        <p:blipFill>
          <a:blip r:embed="rId2"/>
          <a:stretch/>
        </p:blipFill>
        <p:spPr>
          <a:xfrm>
            <a:off x="4716360" y="184464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64304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Lucida Sans Unicode"/>
              </a:rPr>
              <a:t>Почему о реках русский народ складывал много песен?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Номер слайда 9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10B-B656-49A1-9300-21A51F8C63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ель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ение особенностей рек Росси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дачи уро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йти крупные реки России на карт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снить особенности рек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равнить реки по этим признакам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делать вывод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E0B-C621-42A4-80A8-017611CAF3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857840" y="1480680"/>
            <a:ext cx="382896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России насчитывается около 2,5 млн. рек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Реки Обь, Енисей, Лена, Амур относятся к величайшим рекам ми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амая длинная река России – Обь с Иртышом (5410км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амая многоводная река в России - Енис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6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47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E18-B301-4A03-A320-799EB2F4F88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Содержимое 6" descr="vodnres.jpg"/>
          <p:cNvPicPr/>
          <p:nvPr/>
        </p:nvPicPr>
        <p:blipFill>
          <a:blip r:embed="rId2"/>
          <a:stretch/>
        </p:blipFill>
        <p:spPr>
          <a:xfrm>
            <a:off x="500040" y="1500120"/>
            <a:ext cx="4286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95280" y="1197000"/>
          <a:ext cx="8229600" cy="4233960"/>
        </p:xfrm>
        <a:graphic>
          <a:graphicData uri="http://schemas.openxmlformats.org/drawingml/2006/table">
            <a:tbl>
              <a:tblPr/>
              <a:tblGrid>
                <a:gridCol w="542880"/>
                <a:gridCol w="2357640"/>
                <a:gridCol w="1928520"/>
                <a:gridCol w="340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лощадь бассейнов 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римеры р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еверный Ледовиты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ихи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нутренний с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Атлантический оке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коло 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250" name="Заголовок 2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8229600" cy="11458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5286240" y="2000160"/>
            <a:ext cx="33577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еверная Двина, Печора, Обь, </a:t>
            </a:r>
            <a:r>
              <a:rPr b="0" lang="ru-RU" sz="16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Енисей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, Лена, Яна, Индигирка, Колы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6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987-7960-4E16-87EC-A9328B4F8E7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5357880" y="20001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5286240" y="278604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5286240" y="27860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86240" y="3786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5286240" y="3714840"/>
            <a:ext cx="3357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Волг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Урал, Тер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5286240" y="4572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зовите эти реки, используя карту в атл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5286240" y="4572000"/>
            <a:ext cx="3357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Дон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, Кубань, 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481040"/>
            <a:ext cx="41148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48320" y="1481040"/>
            <a:ext cx="4038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адение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–это превышение истока реки над устьем ( в м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Исток Невы – Ладожское озеро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4м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Устье – Финский залив Балтийского моря   0м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Падение : 4 – 0 = 4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3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FCF-9AC4-4A30-B023-56ECF12582F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Хорда 7"/>
          <p:cNvSpPr/>
          <p:nvPr/>
        </p:nvSpPr>
        <p:spPr>
          <a:xfrm rot="11602800">
            <a:off x="-246240" y="4596840"/>
            <a:ext cx="2214720" cy="1214280"/>
          </a:xfrm>
          <a:custGeom>
            <a:avLst/>
            <a:gdLst/>
            <a:ahLst/>
            <a:rect l="l" t="t" r="r" b="b"/>
            <a:pathLst>
              <a:path w="2214563" h="1214438">
                <a:moveTo>
                  <a:pt x="1639699" y="1139636"/>
                </a:moveTo>
                <a:cubicBezTo>
                  <a:pt x="1374516" y="1219384"/>
                  <a:pt x="1061389" y="1236178"/>
                  <a:pt x="773056" y="1186116"/>
                </a:cubicBezTo>
                <a:cubicBezTo>
                  <a:pt x="128108" y="1074137"/>
                  <a:pt x="-184582" y="673967"/>
                  <a:pt x="112409" y="340644"/>
                </a:cubicBezTo>
                <a:cubicBezTo>
                  <a:pt x="298137" y="132196"/>
                  <a:pt x="684222" y="0"/>
                  <a:pt x="1107282" y="0"/>
                </a:cubicBezTo>
                <a:lnTo>
                  <a:pt x="1639699" y="113963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олилиния 9"/>
          <p:cNvSpPr/>
          <p:nvPr/>
        </p:nvSpPr>
        <p:spPr>
          <a:xfrm>
            <a:off x="1100160" y="1979640"/>
            <a:ext cx="1932120" cy="2662200"/>
          </a:xfrm>
          <a:custGeom>
            <a:avLst/>
            <a:gdLst/>
            <a:ahLst/>
            <a:rect l="l" t="t" r="r" b="b"/>
            <a:pathLst>
              <a:path w="1932972" h="2662177">
                <a:moveTo>
                  <a:pt x="1932972" y="0"/>
                </a:moveTo>
                <a:lnTo>
                  <a:pt x="1932972" y="0"/>
                </a:lnTo>
                <a:cubicBezTo>
                  <a:pt x="1902106" y="15433"/>
                  <a:pt x="1872584" y="33911"/>
                  <a:pt x="1840375" y="46299"/>
                </a:cubicBezTo>
                <a:cubicBezTo>
                  <a:pt x="1788977" y="66067"/>
                  <a:pt x="1763453" y="47423"/>
                  <a:pt x="1713053" y="81023"/>
                </a:cubicBezTo>
                <a:cubicBezTo>
                  <a:pt x="1678910" y="103785"/>
                  <a:pt x="1671455" y="105475"/>
                  <a:pt x="1643605" y="138896"/>
                </a:cubicBezTo>
                <a:cubicBezTo>
                  <a:pt x="1570598" y="226504"/>
                  <a:pt x="1664657" y="129419"/>
                  <a:pt x="1597306" y="196770"/>
                </a:cubicBezTo>
                <a:cubicBezTo>
                  <a:pt x="1585705" y="231574"/>
                  <a:pt x="1587515" y="236299"/>
                  <a:pt x="1562582" y="266218"/>
                </a:cubicBezTo>
                <a:cubicBezTo>
                  <a:pt x="1552103" y="278793"/>
                  <a:pt x="1538337" y="288367"/>
                  <a:pt x="1527858" y="300942"/>
                </a:cubicBezTo>
                <a:cubicBezTo>
                  <a:pt x="1454861" y="388539"/>
                  <a:pt x="1548901" y="291475"/>
                  <a:pt x="1481559" y="358815"/>
                </a:cubicBezTo>
                <a:cubicBezTo>
                  <a:pt x="1477701" y="370390"/>
                  <a:pt x="1477076" y="383611"/>
                  <a:pt x="1469985" y="393539"/>
                </a:cubicBezTo>
                <a:cubicBezTo>
                  <a:pt x="1457299" y="411299"/>
                  <a:pt x="1439119" y="424405"/>
                  <a:pt x="1423686" y="439838"/>
                </a:cubicBezTo>
                <a:cubicBezTo>
                  <a:pt x="1412111" y="451413"/>
                  <a:pt x="1402582" y="465482"/>
                  <a:pt x="1388962" y="474562"/>
                </a:cubicBezTo>
                <a:cubicBezTo>
                  <a:pt x="1377387" y="482278"/>
                  <a:pt x="1364800" y="488658"/>
                  <a:pt x="1354238" y="497711"/>
                </a:cubicBezTo>
                <a:cubicBezTo>
                  <a:pt x="1337667" y="511915"/>
                  <a:pt x="1328644" y="537108"/>
                  <a:pt x="1307939" y="544010"/>
                </a:cubicBezTo>
                <a:cubicBezTo>
                  <a:pt x="1264276" y="558565"/>
                  <a:pt x="1243563" y="562086"/>
                  <a:pt x="1203767" y="601883"/>
                </a:cubicBezTo>
                <a:cubicBezTo>
                  <a:pt x="1136412" y="669241"/>
                  <a:pt x="1230485" y="572138"/>
                  <a:pt x="1157468" y="659757"/>
                </a:cubicBezTo>
                <a:cubicBezTo>
                  <a:pt x="1146989" y="672332"/>
                  <a:pt x="1133223" y="681906"/>
                  <a:pt x="1122744" y="694481"/>
                </a:cubicBezTo>
                <a:cubicBezTo>
                  <a:pt x="1113838" y="705168"/>
                  <a:pt x="1109432" y="719368"/>
                  <a:pt x="1099595" y="729205"/>
                </a:cubicBezTo>
                <a:cubicBezTo>
                  <a:pt x="1089758" y="739042"/>
                  <a:pt x="1076446" y="744638"/>
                  <a:pt x="1064871" y="752354"/>
                </a:cubicBezTo>
                <a:cubicBezTo>
                  <a:pt x="993608" y="859245"/>
                  <a:pt x="1084551" y="727752"/>
                  <a:pt x="1018572" y="810228"/>
                </a:cubicBezTo>
                <a:cubicBezTo>
                  <a:pt x="960178" y="883223"/>
                  <a:pt x="1028160" y="812216"/>
                  <a:pt x="972273" y="868101"/>
                </a:cubicBezTo>
                <a:cubicBezTo>
                  <a:pt x="953952" y="941392"/>
                  <a:pt x="969523" y="901164"/>
                  <a:pt x="914400" y="983848"/>
                </a:cubicBezTo>
                <a:lnTo>
                  <a:pt x="914400" y="983848"/>
                </a:lnTo>
                <a:lnTo>
                  <a:pt x="868101" y="1122744"/>
                </a:lnTo>
                <a:cubicBezTo>
                  <a:pt x="864243" y="1134319"/>
                  <a:pt x="863295" y="1147316"/>
                  <a:pt x="856527" y="1157468"/>
                </a:cubicBezTo>
                <a:cubicBezTo>
                  <a:pt x="848810" y="1169043"/>
                  <a:pt x="839598" y="1179750"/>
                  <a:pt x="833377" y="1192192"/>
                </a:cubicBezTo>
                <a:cubicBezTo>
                  <a:pt x="827921" y="1203105"/>
                  <a:pt x="828079" y="1216454"/>
                  <a:pt x="821802" y="1226916"/>
                </a:cubicBezTo>
                <a:cubicBezTo>
                  <a:pt x="816187" y="1236274"/>
                  <a:pt x="805470" y="1241544"/>
                  <a:pt x="798653" y="1250066"/>
                </a:cubicBezTo>
                <a:cubicBezTo>
                  <a:pt x="789963" y="1260929"/>
                  <a:pt x="781725" y="1272348"/>
                  <a:pt x="775504" y="1284790"/>
                </a:cubicBezTo>
                <a:cubicBezTo>
                  <a:pt x="742002" y="1351793"/>
                  <a:pt x="795029" y="1288414"/>
                  <a:pt x="729205" y="1354238"/>
                </a:cubicBezTo>
                <a:cubicBezTo>
                  <a:pt x="702605" y="1434039"/>
                  <a:pt x="723311" y="1406432"/>
                  <a:pt x="682906" y="1446835"/>
                </a:cubicBezTo>
                <a:cubicBezTo>
                  <a:pt x="647784" y="1552208"/>
                  <a:pt x="701665" y="1385771"/>
                  <a:pt x="659757" y="1539433"/>
                </a:cubicBezTo>
                <a:cubicBezTo>
                  <a:pt x="653337" y="1562975"/>
                  <a:pt x="642526" y="1585208"/>
                  <a:pt x="636608" y="1608881"/>
                </a:cubicBezTo>
                <a:cubicBezTo>
                  <a:pt x="628891" y="1639747"/>
                  <a:pt x="623519" y="1671295"/>
                  <a:pt x="613458" y="1701478"/>
                </a:cubicBezTo>
                <a:lnTo>
                  <a:pt x="590309" y="1770926"/>
                </a:lnTo>
                <a:cubicBezTo>
                  <a:pt x="587722" y="1807150"/>
                  <a:pt x="591025" y="1949261"/>
                  <a:pt x="555585" y="2002420"/>
                </a:cubicBezTo>
                <a:lnTo>
                  <a:pt x="532435" y="2037144"/>
                </a:lnTo>
                <a:cubicBezTo>
                  <a:pt x="517880" y="2080810"/>
                  <a:pt x="514364" y="2101514"/>
                  <a:pt x="474562" y="2141316"/>
                </a:cubicBezTo>
                <a:cubicBezTo>
                  <a:pt x="459129" y="2156749"/>
                  <a:pt x="440370" y="2169455"/>
                  <a:pt x="428263" y="2187615"/>
                </a:cubicBezTo>
                <a:cubicBezTo>
                  <a:pt x="420547" y="2199190"/>
                  <a:pt x="413804" y="2211476"/>
                  <a:pt x="405114" y="2222339"/>
                </a:cubicBezTo>
                <a:cubicBezTo>
                  <a:pt x="386267" y="2245898"/>
                  <a:pt x="373019" y="2251451"/>
                  <a:pt x="347240" y="2268638"/>
                </a:cubicBezTo>
                <a:cubicBezTo>
                  <a:pt x="339524" y="2280213"/>
                  <a:pt x="330993" y="2291284"/>
                  <a:pt x="324091" y="2303362"/>
                </a:cubicBezTo>
                <a:cubicBezTo>
                  <a:pt x="315530" y="2318343"/>
                  <a:pt x="310513" y="2335304"/>
                  <a:pt x="300942" y="2349661"/>
                </a:cubicBezTo>
                <a:cubicBezTo>
                  <a:pt x="294889" y="2358741"/>
                  <a:pt x="284340" y="2364080"/>
                  <a:pt x="277792" y="2372810"/>
                </a:cubicBezTo>
                <a:cubicBezTo>
                  <a:pt x="261099" y="2395068"/>
                  <a:pt x="251167" y="2422585"/>
                  <a:pt x="231494" y="2442258"/>
                </a:cubicBezTo>
                <a:cubicBezTo>
                  <a:pt x="223777" y="2449974"/>
                  <a:pt x="215161" y="2456886"/>
                  <a:pt x="208344" y="2465407"/>
                </a:cubicBezTo>
                <a:cubicBezTo>
                  <a:pt x="199654" y="2476270"/>
                  <a:pt x="195664" y="2490971"/>
                  <a:pt x="185195" y="2500132"/>
                </a:cubicBezTo>
                <a:cubicBezTo>
                  <a:pt x="164257" y="2518453"/>
                  <a:pt x="115747" y="2546430"/>
                  <a:pt x="115747" y="2546430"/>
                </a:cubicBezTo>
                <a:cubicBezTo>
                  <a:pt x="98665" y="2572052"/>
                  <a:pt x="84609" y="2598054"/>
                  <a:pt x="57873" y="2615878"/>
                </a:cubicBezTo>
                <a:cubicBezTo>
                  <a:pt x="4238" y="2651635"/>
                  <a:pt x="36190" y="2601371"/>
                  <a:pt x="11575" y="2650602"/>
                </a:cubicBezTo>
                <a:lnTo>
                  <a:pt x="0" y="2627453"/>
                </a:lnTo>
                <a:lnTo>
                  <a:pt x="11575" y="2662177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олилиния 11"/>
          <p:cNvSpPr/>
          <p:nvPr/>
        </p:nvSpPr>
        <p:spPr>
          <a:xfrm>
            <a:off x="1262160" y="1979640"/>
            <a:ext cx="1805040" cy="2870280"/>
          </a:xfrm>
          <a:custGeom>
            <a:avLst/>
            <a:gdLst/>
            <a:ahLst/>
            <a:rect l="l" t="t" r="r" b="b"/>
            <a:pathLst>
              <a:path w="1805650" h="2870521">
                <a:moveTo>
                  <a:pt x="1805650" y="0"/>
                </a:moveTo>
                <a:lnTo>
                  <a:pt x="1805650" y="0"/>
                </a:lnTo>
                <a:cubicBezTo>
                  <a:pt x="1778642" y="23149"/>
                  <a:pt x="1754922" y="50805"/>
                  <a:pt x="1724627" y="69448"/>
                </a:cubicBezTo>
                <a:cubicBezTo>
                  <a:pt x="1703845" y="82237"/>
                  <a:pt x="1655179" y="92597"/>
                  <a:pt x="1655179" y="92597"/>
                </a:cubicBezTo>
                <a:cubicBezTo>
                  <a:pt x="1643604" y="100314"/>
                  <a:pt x="1630292" y="105910"/>
                  <a:pt x="1620455" y="115747"/>
                </a:cubicBezTo>
                <a:cubicBezTo>
                  <a:pt x="1610619" y="125584"/>
                  <a:pt x="1605996" y="139608"/>
                  <a:pt x="1597306" y="150471"/>
                </a:cubicBezTo>
                <a:cubicBezTo>
                  <a:pt x="1590489" y="158992"/>
                  <a:pt x="1580973" y="165099"/>
                  <a:pt x="1574156" y="173620"/>
                </a:cubicBezTo>
                <a:cubicBezTo>
                  <a:pt x="1565466" y="184483"/>
                  <a:pt x="1560060" y="197782"/>
                  <a:pt x="1551007" y="208344"/>
                </a:cubicBezTo>
                <a:cubicBezTo>
                  <a:pt x="1490212" y="279272"/>
                  <a:pt x="1525838" y="233108"/>
                  <a:pt x="1469984" y="277792"/>
                </a:cubicBezTo>
                <a:cubicBezTo>
                  <a:pt x="1461463" y="284609"/>
                  <a:pt x="1453652" y="292420"/>
                  <a:pt x="1446835" y="300942"/>
                </a:cubicBezTo>
                <a:cubicBezTo>
                  <a:pt x="1438145" y="311805"/>
                  <a:pt x="1434549" y="326976"/>
                  <a:pt x="1423686" y="335666"/>
                </a:cubicBezTo>
                <a:cubicBezTo>
                  <a:pt x="1414159" y="343288"/>
                  <a:pt x="1400537" y="343382"/>
                  <a:pt x="1388962" y="347240"/>
                </a:cubicBezTo>
                <a:cubicBezTo>
                  <a:pt x="1392820" y="362673"/>
                  <a:pt x="1400536" y="377631"/>
                  <a:pt x="1400536" y="393539"/>
                </a:cubicBezTo>
                <a:cubicBezTo>
                  <a:pt x="1400536" y="433442"/>
                  <a:pt x="1389762" y="457397"/>
                  <a:pt x="1365812" y="486137"/>
                </a:cubicBezTo>
                <a:cubicBezTo>
                  <a:pt x="1355333" y="498712"/>
                  <a:pt x="1341567" y="508286"/>
                  <a:pt x="1331088" y="520861"/>
                </a:cubicBezTo>
                <a:cubicBezTo>
                  <a:pt x="1301005" y="556960"/>
                  <a:pt x="1318466" y="551793"/>
                  <a:pt x="1284789" y="578734"/>
                </a:cubicBezTo>
                <a:cubicBezTo>
                  <a:pt x="1273926" y="587424"/>
                  <a:pt x="1260928" y="593193"/>
                  <a:pt x="1250065" y="601883"/>
                </a:cubicBezTo>
                <a:cubicBezTo>
                  <a:pt x="1241544" y="608700"/>
                  <a:pt x="1236677" y="620153"/>
                  <a:pt x="1226916" y="625033"/>
                </a:cubicBezTo>
                <a:cubicBezTo>
                  <a:pt x="1205091" y="635946"/>
                  <a:pt x="1157468" y="648182"/>
                  <a:pt x="1157468" y="648182"/>
                </a:cubicBezTo>
                <a:cubicBezTo>
                  <a:pt x="1090117" y="715533"/>
                  <a:pt x="1187202" y="621474"/>
                  <a:pt x="1099594" y="694481"/>
                </a:cubicBezTo>
                <a:cubicBezTo>
                  <a:pt x="985821" y="789291"/>
                  <a:pt x="1132769" y="672881"/>
                  <a:pt x="1041721" y="763929"/>
                </a:cubicBezTo>
                <a:cubicBezTo>
                  <a:pt x="996155" y="809495"/>
                  <a:pt x="1018215" y="764405"/>
                  <a:pt x="983848" y="810228"/>
                </a:cubicBezTo>
                <a:cubicBezTo>
                  <a:pt x="916331" y="900252"/>
                  <a:pt x="967449" y="859743"/>
                  <a:pt x="902825" y="902825"/>
                </a:cubicBezTo>
                <a:cubicBezTo>
                  <a:pt x="887392" y="925974"/>
                  <a:pt x="865324" y="945879"/>
                  <a:pt x="856526" y="972273"/>
                </a:cubicBezTo>
                <a:cubicBezTo>
                  <a:pt x="852668" y="983848"/>
                  <a:pt x="850407" y="996084"/>
                  <a:pt x="844951" y="1006997"/>
                </a:cubicBezTo>
                <a:cubicBezTo>
                  <a:pt x="838730" y="1019439"/>
                  <a:pt x="828023" y="1029279"/>
                  <a:pt x="821802" y="1041721"/>
                </a:cubicBezTo>
                <a:cubicBezTo>
                  <a:pt x="816346" y="1052634"/>
                  <a:pt x="815683" y="1065532"/>
                  <a:pt x="810227" y="1076445"/>
                </a:cubicBezTo>
                <a:cubicBezTo>
                  <a:pt x="804006" y="1088888"/>
                  <a:pt x="792728" y="1098458"/>
                  <a:pt x="787078" y="1111170"/>
                </a:cubicBezTo>
                <a:cubicBezTo>
                  <a:pt x="777168" y="1133468"/>
                  <a:pt x="763929" y="1180618"/>
                  <a:pt x="763929" y="1180618"/>
                </a:cubicBezTo>
                <a:cubicBezTo>
                  <a:pt x="760071" y="1211484"/>
                  <a:pt x="760539" y="1243205"/>
                  <a:pt x="752354" y="1273215"/>
                </a:cubicBezTo>
                <a:cubicBezTo>
                  <a:pt x="748694" y="1286636"/>
                  <a:pt x="737895" y="1297076"/>
                  <a:pt x="729205" y="1307939"/>
                </a:cubicBezTo>
                <a:cubicBezTo>
                  <a:pt x="710358" y="1331498"/>
                  <a:pt x="697110" y="1337051"/>
                  <a:pt x="671331" y="1354238"/>
                </a:cubicBezTo>
                <a:cubicBezTo>
                  <a:pt x="667473" y="1365813"/>
                  <a:pt x="665212" y="1378049"/>
                  <a:pt x="659756" y="1388962"/>
                </a:cubicBezTo>
                <a:cubicBezTo>
                  <a:pt x="653535" y="1401404"/>
                  <a:pt x="639335" y="1410045"/>
                  <a:pt x="636607" y="1423686"/>
                </a:cubicBezTo>
                <a:cubicBezTo>
                  <a:pt x="627496" y="1469243"/>
                  <a:pt x="634143" y="1517025"/>
                  <a:pt x="625032" y="1562582"/>
                </a:cubicBezTo>
                <a:cubicBezTo>
                  <a:pt x="619026" y="1592614"/>
                  <a:pt x="593523" y="1598273"/>
                  <a:pt x="578734" y="1620456"/>
                </a:cubicBezTo>
                <a:cubicBezTo>
                  <a:pt x="569163" y="1634812"/>
                  <a:pt x="563301" y="1651321"/>
                  <a:pt x="555584" y="1666754"/>
                </a:cubicBezTo>
                <a:cubicBezTo>
                  <a:pt x="551726" y="1693762"/>
                  <a:pt x="549360" y="1721025"/>
                  <a:pt x="544010" y="1747777"/>
                </a:cubicBezTo>
                <a:cubicBezTo>
                  <a:pt x="530958" y="1813038"/>
                  <a:pt x="525914" y="1825214"/>
                  <a:pt x="509286" y="1875099"/>
                </a:cubicBezTo>
                <a:cubicBezTo>
                  <a:pt x="507258" y="1893352"/>
                  <a:pt x="500209" y="2023073"/>
                  <a:pt x="474562" y="2048719"/>
                </a:cubicBezTo>
                <a:cubicBezTo>
                  <a:pt x="466845" y="2056435"/>
                  <a:pt x="457960" y="2063138"/>
                  <a:pt x="451412" y="2071868"/>
                </a:cubicBezTo>
                <a:cubicBezTo>
                  <a:pt x="434719" y="2094126"/>
                  <a:pt x="405113" y="2141316"/>
                  <a:pt x="405113" y="2141316"/>
                </a:cubicBezTo>
                <a:cubicBezTo>
                  <a:pt x="402237" y="2161449"/>
                  <a:pt x="397505" y="2229089"/>
                  <a:pt x="381964" y="2257063"/>
                </a:cubicBezTo>
                <a:cubicBezTo>
                  <a:pt x="308542" y="2389221"/>
                  <a:pt x="363602" y="2285802"/>
                  <a:pt x="312516" y="2349661"/>
                </a:cubicBezTo>
                <a:cubicBezTo>
                  <a:pt x="303826" y="2360524"/>
                  <a:pt x="298057" y="2373522"/>
                  <a:pt x="289367" y="2384385"/>
                </a:cubicBezTo>
                <a:cubicBezTo>
                  <a:pt x="282550" y="2392906"/>
                  <a:pt x="273034" y="2399013"/>
                  <a:pt x="266217" y="2407534"/>
                </a:cubicBezTo>
                <a:cubicBezTo>
                  <a:pt x="257527" y="2418397"/>
                  <a:pt x="252121" y="2431696"/>
                  <a:pt x="243068" y="2442258"/>
                </a:cubicBezTo>
                <a:cubicBezTo>
                  <a:pt x="208892" y="2482130"/>
                  <a:pt x="194879" y="2480763"/>
                  <a:pt x="173620" y="2523281"/>
                </a:cubicBezTo>
                <a:cubicBezTo>
                  <a:pt x="159042" y="2552436"/>
                  <a:pt x="155551" y="2599508"/>
                  <a:pt x="150470" y="2627453"/>
                </a:cubicBezTo>
                <a:cubicBezTo>
                  <a:pt x="146951" y="2646809"/>
                  <a:pt x="145804" y="2666906"/>
                  <a:pt x="138896" y="2685326"/>
                </a:cubicBezTo>
                <a:cubicBezTo>
                  <a:pt x="124393" y="2724002"/>
                  <a:pt x="104725" y="2721591"/>
                  <a:pt x="81022" y="2754775"/>
                </a:cubicBezTo>
                <a:cubicBezTo>
                  <a:pt x="70993" y="2768815"/>
                  <a:pt x="66433" y="2786092"/>
                  <a:pt x="57873" y="2801073"/>
                </a:cubicBezTo>
                <a:cubicBezTo>
                  <a:pt x="50971" y="2813151"/>
                  <a:pt x="43414" y="2824934"/>
                  <a:pt x="34724" y="2835797"/>
                </a:cubicBezTo>
                <a:cubicBezTo>
                  <a:pt x="27907" y="2844319"/>
                  <a:pt x="19291" y="2851230"/>
                  <a:pt x="11574" y="2858947"/>
                </a:cubicBezTo>
                <a:lnTo>
                  <a:pt x="0" y="2870521"/>
                </a:lnTo>
                <a:lnTo>
                  <a:pt x="104172" y="2766349"/>
                </a:lnTo>
                <a:lnTo>
                  <a:pt x="81022" y="2743200"/>
                </a:lnTo>
              </a:path>
            </a:pathLst>
          </a:custGeom>
          <a:noFill/>
          <a:ln w="9360">
            <a:solidFill>
              <a:srgbClr val="2da2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19"/>
          <p:cNvSpPr/>
          <p:nvPr/>
        </p:nvSpPr>
        <p:spPr>
          <a:xfrm>
            <a:off x="3071880" y="2000160"/>
            <a:ext cx="6429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22"/>
          <p:cNvSpPr/>
          <p:nvPr/>
        </p:nvSpPr>
        <p:spPr>
          <a:xfrm>
            <a:off x="1428840" y="4714920"/>
            <a:ext cx="2214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войная стрелка вверх/вниз 25"/>
          <p:cNvSpPr/>
          <p:nvPr/>
        </p:nvSpPr>
        <p:spPr>
          <a:xfrm>
            <a:off x="3214800" y="2071800"/>
            <a:ext cx="142920" cy="2571480"/>
          </a:xfrm>
          <a:prstGeom prst="upDownArrow">
            <a:avLst>
              <a:gd name="adj1" fmla="val 50000"/>
              <a:gd name="adj2" fmla="val 4997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2"/>
          <p:cNvSpPr/>
          <p:nvPr/>
        </p:nvSpPr>
        <p:spPr>
          <a:xfrm>
            <a:off x="3071880" y="15717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00040" y="40719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3429000" y="2857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480680"/>
            <a:ext cx="8229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Уклон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то отношение падения реки (в см) к длине реки (в км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Например: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Падение Невы:  4м = 400см           Длина Невы:  74 к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</a:rPr>
              <a:t>Уклон :   400 : 74 = </a:t>
            </a:r>
            <a:r>
              <a:rPr b="0" i="1" lang="ru-RU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5,4 см/ к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сход воды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- количество воды, проходящее по руслу за единицу времени   ( в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/ с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Годовой сток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личество воды, которое река выносит за год</a:t>
            </a: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в к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Твердый сток –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сь переносимый рекой твердый материал (в млн т в год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5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3570-9D74-498A-A61B-212CA67D03E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Проведем сравнительный анализ крупных рек России по вопросам на карточках ( данные в таблице округлены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8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81C-4E35-45E0-8C6E-CE51526FC7F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00040" y="2143080"/>
          <a:ext cx="8215200" cy="3770280"/>
        </p:xfrm>
        <a:graphic>
          <a:graphicData uri="http://schemas.openxmlformats.org/drawingml/2006/table">
            <a:tbl>
              <a:tblPr/>
              <a:tblGrid>
                <a:gridCol w="388800"/>
                <a:gridCol w="1165320"/>
                <a:gridCol w="1009800"/>
                <a:gridCol w="1062000"/>
                <a:gridCol w="1090440"/>
                <a:gridCol w="1090800"/>
                <a:gridCol w="1177920"/>
                <a:gridCol w="12301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аде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ние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Уклон, см/к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Годовой сток, км</a:t>
                      </a:r>
                      <a:r>
                        <a:rPr b="1" lang="ru-RU" sz="16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Расход воды,  м</a:t>
                      </a:r>
                      <a:r>
                        <a:rPr b="1" lang="ru-RU" sz="1600" spc="-1" strike="noStrike" baseline="30000">
                          <a:solidFill>
                            <a:srgbClr val="ffffff"/>
                          </a:solidFill>
                          <a:latin typeface="Lucida Sans Unicod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/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Твердый   сток, млн т в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Площадь бассейна, км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3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Енис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580 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 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490 00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 990 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3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2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 361 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р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 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7:44:08Z</dcterms:created>
  <dc:creator>Admin</dc:creator>
  <dc:description/>
  <dc:language>en-US</dc:language>
  <cp:lastModifiedBy>111</cp:lastModifiedBy>
  <dcterms:modified xsi:type="dcterms:W3CDTF">2021-03-29T16:09:04Z</dcterms:modified>
  <cp:revision>130</cp:revision>
  <dc:subject/>
  <dc:title>Реки России</dc:title>
</cp:coreProperties>
</file>