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83FA-F57D-4A14-B897-DCAFBD689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6B9C-621F-470F-B75B-9A1960DE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0762-9786-4100-B08A-EB30A2B32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628B-56BF-4CC5-8FDE-DFB79ED7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AD78-7A88-49A7-8B68-EC6BC02A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AAB8-417F-4164-B2AC-4466A2F6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33CB-E4DA-44B4-8F8C-67694913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235C-FD36-42CC-A978-4C2618AB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E01C-2D07-4D06-94C9-675D616A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6FC4-5E6B-4DA2-A172-0A1DCADE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C7B3-7E45-481A-9071-0E1B46C1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0765-83E1-49DD-A93A-DE8E0118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6040-96F8-4499-901B-919F69BB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9113-7B04-49E4-BA3F-6A5A1408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DE53-E780-4A68-9F20-8120C1BB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94E0-1A8A-44A2-899C-866299E98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78BE-6576-48DE-95E4-DCA993D99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6290C-F58F-4F80-9C55-545F3CCC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9CD2F-BE19-45FB-96F5-D140BAFF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DA279-28A2-49F8-A075-8C5CC05F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E45D1-21EE-4E09-B2E1-30CDD885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3EB97-8370-470C-AFB4-6941AAF5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0047-9D7B-4526-961A-4C380C79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8573D-B834-4E60-8F75-8F46BE0C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1FB72-BDA0-4520-BE7A-3D551C68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1FB04-7B0B-4A3E-9920-7CA7C97B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EB9F8-6DA9-4545-B252-06058419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F5D1C-9EC5-4573-8220-80009EA5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AF1B1-315A-4B94-9812-01719DC7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2AF61-E644-4CA3-8996-579D8445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55F87-F904-46E2-887A-09C049E7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E3BAB-6BBF-44C3-9171-DEEDE1C9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543CF-959F-4BA9-A9F0-DD89F7E4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4D80-25F5-4FC7-8476-A9729495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D783B-B58C-4021-B15A-FC593766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0085E-0943-48BE-837F-4B4E0AA7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8DCE9-3B16-493C-984C-00FD9C73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A94C5-E074-4323-92DD-51675DAD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743DF-E3F7-479C-BE29-69ECA0FD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C9760-7D36-4137-ACE2-F296F207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DD71D-36C1-4C88-9399-8B694A5B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03EF0-983B-4C11-8655-8F904B80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B3B5E-2E5A-4BB0-AE21-315289E5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DA528-3665-49E7-A85B-3596B923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7C12-AF7D-440E-A102-BEE9E6DC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3E31F-A336-43D7-8117-E6D383A5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D367C-30BF-4E0C-9E4E-7B45D5E7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7EA44-6168-46D1-8B1F-78741C57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F616D-A42C-4C96-B047-9D4E4455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C6262-0D35-4EB2-945D-C0CFBDD2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4A115-6975-48CA-85AC-38B071CA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A1CDD-462A-4CC0-B75E-3B74FB9F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34AAC-1271-41D0-9351-8EB8DBAF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0B305-DF94-4506-982D-6FF1F739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12706-7A23-47A1-AF15-1CBBC2C46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2DF0-6D93-4374-BE54-A86594EE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0008E-6D98-4A0D-8AA8-9C74ACF00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89BA-79B4-4DBB-A9A6-BE0E9431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C374-F8F4-4E9E-BD84-3B0E4B92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3C0B-6465-44AB-8A84-196DD24F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2A2F-F2BD-43C8-AA7D-C30C6FD18C91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2093-7042-4007-85D1-2BD5FA53B82A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E8C0-76F3-4EEB-A907-5557E089C496}" type="datetime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5E2D-5923-4D39-9764-7B7392934487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8854-F938-4EFA-AE10-37F5A95A8ACF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4AAF-1DB3-4640-B26D-EE5538C609A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F694-960F-4929-9098-70319CB25EB8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CE2B-E696-4808-BD3B-D114AB1B902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9" name="Прямоугольный треугольник 16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Прямая соединительная линия 18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92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52F2-10DF-4F69-A1C4-44C7B3BB0B7E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A3AC-D669-4FE8-800B-6FB82BEA704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689040" y="1779480"/>
            <a:ext cx="7772400" cy="14637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46"/>
                </a:solidFill>
                <a:latin typeface="Lucida Sans Unicode"/>
              </a:rPr>
              <a:t>МБОУ СШ № 2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46"/>
                </a:solidFill>
                <a:latin typeface="Lucida Sans Unicode"/>
              </a:rPr>
              <a:t>г. Тейково Ивановской области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46"/>
                </a:solidFill>
                <a:latin typeface="Lucida Sans Unicode"/>
              </a:rPr>
              <a:t>Учитель географии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46"/>
                </a:solidFill>
                <a:latin typeface="Lucida Sans Unicode"/>
              </a:rPr>
              <a:t>Якимова А.Ю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2BDF-A294-4E37-A9EF-96F1815DD04E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68360" y="1484280"/>
            <a:ext cx="82296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Lucida Sans Unicode"/>
              </a:rPr>
              <a:t>Почему о реках русский народ складывал много песен?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1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82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8AE9-8D7C-4286-B87F-123366D43E9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общение о реках Ивановской области, их значении  для  населения в прошлом и настояще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араграф ………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нести крупные реки России на контурную карту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ru.wikipedia.org/wiki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http://www.tsumada.ru/?f=publ2&amp;idp=17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http://andreyb.ru/kucherla-altay-splav-foto.asp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http://phototherapy.me/images/39/1037.JP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http://www.ecosystema.ru/07referats/slovgeo/715.ht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6" name="Заголовок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87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3A06-96AD-4DC6-A4BD-50A1D991E0E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Заголовок 4" descr=""/>
          <p:cNvPicPr/>
          <p:nvPr/>
        </p:nvPicPr>
        <p:blipFill>
          <a:blip r:embed="rId1"/>
          <a:stretch/>
        </p:blipFill>
        <p:spPr>
          <a:xfrm>
            <a:off x="457200" y="1073160"/>
            <a:ext cx="8229600" cy="3138480"/>
          </a:xfrm>
          <a:prstGeom prst="rect">
            <a:avLst/>
          </a:prstGeom>
          <a:ln w="0">
            <a:noFill/>
          </a:ln>
        </p:spPr>
      </p:pic>
      <p:sp>
        <p:nvSpPr>
          <p:cNvPr id="289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DE84-A917-4436-83C0-30D00A1BD53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Содержимое 5" descr="Волга в Твери.jpg"/>
          <p:cNvPicPr/>
          <p:nvPr/>
        </p:nvPicPr>
        <p:blipFill>
          <a:blip r:embed="rId1"/>
          <a:stretch/>
        </p:blipFill>
        <p:spPr>
          <a:xfrm>
            <a:off x="928800" y="1643040"/>
            <a:ext cx="7429320" cy="4254480"/>
          </a:xfrm>
          <a:prstGeom prst="rect">
            <a:avLst/>
          </a:prstGeom>
          <a:ln w="0">
            <a:noFill/>
          </a:ln>
        </p:spPr>
      </p:pic>
      <p:pic>
        <p:nvPicPr>
          <p:cNvPr id="291" name="Заголовок 3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92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0EED-739D-4E60-8E3A-2C03F259661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"/>
          <p:cNvSpPr/>
          <p:nvPr/>
        </p:nvSpPr>
        <p:spPr>
          <a:xfrm>
            <a:off x="6215040" y="607212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Стрелка вправо 6"/>
          <p:cNvSpPr/>
          <p:nvPr/>
        </p:nvSpPr>
        <p:spPr>
          <a:xfrm>
            <a:off x="7072200" y="6215040"/>
            <a:ext cx="428760" cy="7164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Содержимое 5" descr="Енисей в Красноярске.jpg"/>
          <p:cNvPicPr/>
          <p:nvPr/>
        </p:nvPicPr>
        <p:blipFill>
          <a:blip r:embed="rId1"/>
          <a:stretch/>
        </p:blipFill>
        <p:spPr>
          <a:xfrm>
            <a:off x="1714680" y="1601640"/>
            <a:ext cx="5715000" cy="4286520"/>
          </a:xfrm>
          <a:prstGeom prst="rect">
            <a:avLst/>
          </a:prstGeom>
          <a:ln w="0">
            <a:noFill/>
          </a:ln>
        </p:spPr>
      </p:pic>
      <p:pic>
        <p:nvPicPr>
          <p:cNvPr id="296" name="Заголовок 3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97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29DB-B823-4A10-8038-5AEC436E98D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6"/>
          <p:cNvSpPr/>
          <p:nvPr/>
        </p:nvSpPr>
        <p:spPr>
          <a:xfrm>
            <a:off x="5357880" y="600084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Стрелка вправо 7"/>
          <p:cNvSpPr/>
          <p:nvPr/>
        </p:nvSpPr>
        <p:spPr>
          <a:xfrm>
            <a:off x="6372360" y="6165720"/>
            <a:ext cx="500040" cy="71640"/>
          </a:xfrm>
          <a:prstGeom prst="rightArrow">
            <a:avLst>
              <a:gd name="adj1" fmla="val 50000"/>
              <a:gd name="adj2" fmla="val 4986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Содержимое 5" descr="Дон.png"/>
          <p:cNvPicPr/>
          <p:nvPr/>
        </p:nvPicPr>
        <p:blipFill>
          <a:blip r:embed="rId1"/>
          <a:stretch/>
        </p:blipFill>
        <p:spPr>
          <a:xfrm>
            <a:off x="1397160" y="1515960"/>
            <a:ext cx="6349680" cy="4457880"/>
          </a:xfrm>
          <a:prstGeom prst="rect">
            <a:avLst/>
          </a:prstGeom>
          <a:ln w="0">
            <a:noFill/>
          </a:ln>
        </p:spPr>
      </p:pic>
      <p:pic>
        <p:nvPicPr>
          <p:cNvPr id="301" name="Заголовок 3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02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221D-65CA-4E20-8673-7EF389F89A5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105520" y="1480680"/>
            <a:ext cx="403848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TextBox 5"/>
          <p:cNvSpPr/>
          <p:nvPr/>
        </p:nvSpPr>
        <p:spPr>
          <a:xfrm>
            <a:off x="5572080" y="614376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Стрелка вправо 6"/>
          <p:cNvSpPr/>
          <p:nvPr/>
        </p:nvSpPr>
        <p:spPr>
          <a:xfrm>
            <a:off x="6643800" y="6286680"/>
            <a:ext cx="4284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239" name="Picture 7" descr="В1"/>
          <p:cNvPicPr/>
          <p:nvPr/>
        </p:nvPicPr>
        <p:blipFill>
          <a:blip r:embed="rId1"/>
          <a:stretch/>
        </p:blipFill>
        <p:spPr>
          <a:xfrm>
            <a:off x="395280" y="404640"/>
            <a:ext cx="4038480" cy="3032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в3"/>
          <p:cNvPicPr/>
          <p:nvPr/>
        </p:nvPicPr>
        <p:blipFill>
          <a:blip r:embed="rId2"/>
          <a:stretch/>
        </p:blipFill>
        <p:spPr>
          <a:xfrm>
            <a:off x="4716360" y="184464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643040"/>
            <a:ext cx="82296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Lucida Sans Unicode"/>
              </a:rPr>
              <a:t>Почему о реках русский народ складывал много песен?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Номер слайда 9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B058-AE32-4A2A-A5F5-8D0D79EE5E1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Цель урока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зучение особенностей рек России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адачи урока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йти крупные реки России на карте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ыяснить особенности рек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равнить реки по этим признакам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делать вывод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30160" indent="-4381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AE92-B3D9-432C-B7F2-B3B0F78B501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857840" y="1480680"/>
            <a:ext cx="382896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 России насчитывается около 2,5 млн. рек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Реки Обь, Енисей, Лена, Амур относятся к величайшим рекам мир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амая длинная река России – Обь с Иртышом (5410км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амая многоводная река в России - Енисей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46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47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B4CE-4FEF-41F2-9E7F-1C03B2C4C09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Содержимое 6" descr="vodnres.jpg"/>
          <p:cNvPicPr/>
          <p:nvPr/>
        </p:nvPicPr>
        <p:blipFill>
          <a:blip r:embed="rId2"/>
          <a:stretch/>
        </p:blipFill>
        <p:spPr>
          <a:xfrm>
            <a:off x="500040" y="1500120"/>
            <a:ext cx="428616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395280" y="1197000"/>
          <a:ext cx="8229600" cy="4233960"/>
        </p:xfrm>
        <a:graphic>
          <a:graphicData uri="http://schemas.openxmlformats.org/drawingml/2006/table">
            <a:tbl>
              <a:tblPr/>
              <a:tblGrid>
                <a:gridCol w="542880"/>
                <a:gridCol w="2357640"/>
                <a:gridCol w="1928520"/>
                <a:gridCol w="34005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С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Площадь бассейнов в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Примеры р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еверный Ледовитый оке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Тихий оке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нутренний с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5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Атлантический оке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около 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pic>
        <p:nvPicPr>
          <p:cNvPr id="250" name="Заголовок 2" descr=""/>
          <p:cNvPicPr/>
          <p:nvPr/>
        </p:nvPicPr>
        <p:blipFill>
          <a:blip r:embed="rId1"/>
          <a:stretch/>
        </p:blipFill>
        <p:spPr>
          <a:xfrm>
            <a:off x="444600" y="262080"/>
            <a:ext cx="8229600" cy="1145880"/>
          </a:xfrm>
          <a:prstGeom prst="rect">
            <a:avLst/>
          </a:prstGeom>
          <a:ln w="0">
            <a:noFill/>
          </a:ln>
        </p:spPr>
      </p:pic>
      <p:sp>
        <p:nvSpPr>
          <p:cNvPr id="251" name="TextBox 4"/>
          <p:cNvSpPr/>
          <p:nvPr/>
        </p:nvSpPr>
        <p:spPr>
          <a:xfrm>
            <a:off x="5286240" y="2000160"/>
            <a:ext cx="33577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еверная Двина, Печора, Обь, </a:t>
            </a:r>
            <a:r>
              <a:rPr b="0" lang="ru-RU" sz="16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Енисей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, Лена, Яна, Индигирка, Колы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Номер слайда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21F4-1F56-44C0-B65C-C8F624C295D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5357880" y="2000160"/>
            <a:ext cx="33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Lucida Sans Unicode"/>
              </a:rPr>
              <a:t>Назовите эти реки, используя карту в атла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5286240" y="278604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Lucida Sans Unicode"/>
              </a:rPr>
              <a:t>Назовите эти реки, используя карту в атла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9"/>
          <p:cNvSpPr/>
          <p:nvPr/>
        </p:nvSpPr>
        <p:spPr>
          <a:xfrm>
            <a:off x="5286240" y="278604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Ам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5286240" y="378612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Lucida Sans Unicode"/>
              </a:rPr>
              <a:t>Назовите эти реки, используя карту в атла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2"/>
          <p:cNvSpPr/>
          <p:nvPr/>
        </p:nvSpPr>
        <p:spPr>
          <a:xfrm>
            <a:off x="5286240" y="3714840"/>
            <a:ext cx="3357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Волга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, Урал, Тер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3"/>
          <p:cNvSpPr/>
          <p:nvPr/>
        </p:nvSpPr>
        <p:spPr>
          <a:xfrm>
            <a:off x="5286240" y="457200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Lucida Sans Unicode"/>
              </a:rPr>
              <a:t>Назовите эти реки, используя карту в атла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4"/>
          <p:cNvSpPr/>
          <p:nvPr/>
        </p:nvSpPr>
        <p:spPr>
          <a:xfrm>
            <a:off x="5286240" y="4572000"/>
            <a:ext cx="3357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Дон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, Кубань, Н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481040"/>
            <a:ext cx="41148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648320" y="1481040"/>
            <a:ext cx="403848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Падение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–это превышение истока реки над устьем ( в м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Lucida Sans Unicode"/>
              </a:rPr>
              <a:t>Например: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Lucida Sans Unicode"/>
              </a:rPr>
              <a:t>Исток Невы – Ладожское озеро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Lucida Sans Unicode"/>
              </a:rPr>
              <a:t>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Lucida Sans Unicode"/>
              </a:rPr>
              <a:t>4м,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Lucida Sans Unicode"/>
              </a:rPr>
              <a:t>Устье – Финский залив Балтийского моря   0м,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Падение : 4 – 0 = 4м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62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63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9A5D-6E96-43D5-A78F-B42AA42FACD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Хорда 7"/>
          <p:cNvSpPr/>
          <p:nvPr/>
        </p:nvSpPr>
        <p:spPr>
          <a:xfrm rot="11602800">
            <a:off x="-246240" y="4596840"/>
            <a:ext cx="2214720" cy="1214280"/>
          </a:xfrm>
          <a:custGeom>
            <a:avLst/>
            <a:gdLst/>
            <a:ahLst/>
            <a:rect l="l" t="t" r="r" b="b"/>
            <a:pathLst>
              <a:path w="2214563" h="1214438">
                <a:moveTo>
                  <a:pt x="1639699" y="1139636"/>
                </a:moveTo>
                <a:cubicBezTo>
                  <a:pt x="1374516" y="1219384"/>
                  <a:pt x="1061389" y="1236178"/>
                  <a:pt x="773056" y="1186116"/>
                </a:cubicBezTo>
                <a:cubicBezTo>
                  <a:pt x="128108" y="1074137"/>
                  <a:pt x="-184582" y="673967"/>
                  <a:pt x="112409" y="340644"/>
                </a:cubicBezTo>
                <a:cubicBezTo>
                  <a:pt x="298137" y="132196"/>
                  <a:pt x="684222" y="0"/>
                  <a:pt x="1107282" y="0"/>
                </a:cubicBezTo>
                <a:lnTo>
                  <a:pt x="1639699" y="113963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олилиния 9"/>
          <p:cNvSpPr/>
          <p:nvPr/>
        </p:nvSpPr>
        <p:spPr>
          <a:xfrm>
            <a:off x="1100160" y="1979640"/>
            <a:ext cx="1932120" cy="2662200"/>
          </a:xfrm>
          <a:custGeom>
            <a:avLst/>
            <a:gdLst/>
            <a:ahLst/>
            <a:rect l="l" t="t" r="r" b="b"/>
            <a:pathLst>
              <a:path w="1932972" h="2662177">
                <a:moveTo>
                  <a:pt x="1932972" y="0"/>
                </a:moveTo>
                <a:lnTo>
                  <a:pt x="1932972" y="0"/>
                </a:lnTo>
                <a:cubicBezTo>
                  <a:pt x="1902106" y="15433"/>
                  <a:pt x="1872584" y="33911"/>
                  <a:pt x="1840375" y="46299"/>
                </a:cubicBezTo>
                <a:cubicBezTo>
                  <a:pt x="1788977" y="66067"/>
                  <a:pt x="1763453" y="47423"/>
                  <a:pt x="1713053" y="81023"/>
                </a:cubicBezTo>
                <a:cubicBezTo>
                  <a:pt x="1678910" y="103785"/>
                  <a:pt x="1671455" y="105475"/>
                  <a:pt x="1643605" y="138896"/>
                </a:cubicBezTo>
                <a:cubicBezTo>
                  <a:pt x="1570598" y="226504"/>
                  <a:pt x="1664657" y="129419"/>
                  <a:pt x="1597306" y="196770"/>
                </a:cubicBezTo>
                <a:cubicBezTo>
                  <a:pt x="1585705" y="231574"/>
                  <a:pt x="1587515" y="236299"/>
                  <a:pt x="1562582" y="266218"/>
                </a:cubicBezTo>
                <a:cubicBezTo>
                  <a:pt x="1552103" y="278793"/>
                  <a:pt x="1538337" y="288367"/>
                  <a:pt x="1527858" y="300942"/>
                </a:cubicBezTo>
                <a:cubicBezTo>
                  <a:pt x="1454861" y="388539"/>
                  <a:pt x="1548901" y="291475"/>
                  <a:pt x="1481559" y="358815"/>
                </a:cubicBezTo>
                <a:cubicBezTo>
                  <a:pt x="1477701" y="370390"/>
                  <a:pt x="1477076" y="383611"/>
                  <a:pt x="1469985" y="393539"/>
                </a:cubicBezTo>
                <a:cubicBezTo>
                  <a:pt x="1457299" y="411299"/>
                  <a:pt x="1439119" y="424405"/>
                  <a:pt x="1423686" y="439838"/>
                </a:cubicBezTo>
                <a:cubicBezTo>
                  <a:pt x="1412111" y="451413"/>
                  <a:pt x="1402582" y="465482"/>
                  <a:pt x="1388962" y="474562"/>
                </a:cubicBezTo>
                <a:cubicBezTo>
                  <a:pt x="1377387" y="482278"/>
                  <a:pt x="1364800" y="488658"/>
                  <a:pt x="1354238" y="497711"/>
                </a:cubicBezTo>
                <a:cubicBezTo>
                  <a:pt x="1337667" y="511915"/>
                  <a:pt x="1328644" y="537108"/>
                  <a:pt x="1307939" y="544010"/>
                </a:cubicBezTo>
                <a:cubicBezTo>
                  <a:pt x="1264276" y="558565"/>
                  <a:pt x="1243563" y="562086"/>
                  <a:pt x="1203767" y="601883"/>
                </a:cubicBezTo>
                <a:cubicBezTo>
                  <a:pt x="1136412" y="669241"/>
                  <a:pt x="1230485" y="572138"/>
                  <a:pt x="1157468" y="659757"/>
                </a:cubicBezTo>
                <a:cubicBezTo>
                  <a:pt x="1146989" y="672332"/>
                  <a:pt x="1133223" y="681906"/>
                  <a:pt x="1122744" y="694481"/>
                </a:cubicBezTo>
                <a:cubicBezTo>
                  <a:pt x="1113838" y="705168"/>
                  <a:pt x="1109432" y="719368"/>
                  <a:pt x="1099595" y="729205"/>
                </a:cubicBezTo>
                <a:cubicBezTo>
                  <a:pt x="1089758" y="739042"/>
                  <a:pt x="1076446" y="744638"/>
                  <a:pt x="1064871" y="752354"/>
                </a:cubicBezTo>
                <a:cubicBezTo>
                  <a:pt x="993608" y="859245"/>
                  <a:pt x="1084551" y="727752"/>
                  <a:pt x="1018572" y="810228"/>
                </a:cubicBezTo>
                <a:cubicBezTo>
                  <a:pt x="960178" y="883223"/>
                  <a:pt x="1028160" y="812216"/>
                  <a:pt x="972273" y="868101"/>
                </a:cubicBezTo>
                <a:cubicBezTo>
                  <a:pt x="953952" y="941392"/>
                  <a:pt x="969523" y="901164"/>
                  <a:pt x="914400" y="983848"/>
                </a:cubicBezTo>
                <a:lnTo>
                  <a:pt x="914400" y="983848"/>
                </a:lnTo>
                <a:lnTo>
                  <a:pt x="868101" y="1122744"/>
                </a:lnTo>
                <a:cubicBezTo>
                  <a:pt x="864243" y="1134319"/>
                  <a:pt x="863295" y="1147316"/>
                  <a:pt x="856527" y="1157468"/>
                </a:cubicBezTo>
                <a:cubicBezTo>
                  <a:pt x="848810" y="1169043"/>
                  <a:pt x="839598" y="1179750"/>
                  <a:pt x="833377" y="1192192"/>
                </a:cubicBezTo>
                <a:cubicBezTo>
                  <a:pt x="827921" y="1203105"/>
                  <a:pt x="828079" y="1216454"/>
                  <a:pt x="821802" y="1226916"/>
                </a:cubicBezTo>
                <a:cubicBezTo>
                  <a:pt x="816187" y="1236274"/>
                  <a:pt x="805470" y="1241544"/>
                  <a:pt x="798653" y="1250066"/>
                </a:cubicBezTo>
                <a:cubicBezTo>
                  <a:pt x="789963" y="1260929"/>
                  <a:pt x="781725" y="1272348"/>
                  <a:pt x="775504" y="1284790"/>
                </a:cubicBezTo>
                <a:cubicBezTo>
                  <a:pt x="742002" y="1351793"/>
                  <a:pt x="795029" y="1288414"/>
                  <a:pt x="729205" y="1354238"/>
                </a:cubicBezTo>
                <a:cubicBezTo>
                  <a:pt x="702605" y="1434039"/>
                  <a:pt x="723311" y="1406432"/>
                  <a:pt x="682906" y="1446835"/>
                </a:cubicBezTo>
                <a:cubicBezTo>
                  <a:pt x="647784" y="1552208"/>
                  <a:pt x="701665" y="1385771"/>
                  <a:pt x="659757" y="1539433"/>
                </a:cubicBezTo>
                <a:cubicBezTo>
                  <a:pt x="653337" y="1562975"/>
                  <a:pt x="642526" y="1585208"/>
                  <a:pt x="636608" y="1608881"/>
                </a:cubicBezTo>
                <a:cubicBezTo>
                  <a:pt x="628891" y="1639747"/>
                  <a:pt x="623519" y="1671295"/>
                  <a:pt x="613458" y="1701478"/>
                </a:cubicBezTo>
                <a:lnTo>
                  <a:pt x="590309" y="1770926"/>
                </a:lnTo>
                <a:cubicBezTo>
                  <a:pt x="587722" y="1807150"/>
                  <a:pt x="591025" y="1949261"/>
                  <a:pt x="555585" y="2002420"/>
                </a:cubicBezTo>
                <a:lnTo>
                  <a:pt x="532435" y="2037144"/>
                </a:lnTo>
                <a:cubicBezTo>
                  <a:pt x="517880" y="2080810"/>
                  <a:pt x="514364" y="2101514"/>
                  <a:pt x="474562" y="2141316"/>
                </a:cubicBezTo>
                <a:cubicBezTo>
                  <a:pt x="459129" y="2156749"/>
                  <a:pt x="440370" y="2169455"/>
                  <a:pt x="428263" y="2187615"/>
                </a:cubicBezTo>
                <a:cubicBezTo>
                  <a:pt x="420547" y="2199190"/>
                  <a:pt x="413804" y="2211476"/>
                  <a:pt x="405114" y="2222339"/>
                </a:cubicBezTo>
                <a:cubicBezTo>
                  <a:pt x="386267" y="2245898"/>
                  <a:pt x="373019" y="2251451"/>
                  <a:pt x="347240" y="2268638"/>
                </a:cubicBezTo>
                <a:cubicBezTo>
                  <a:pt x="339524" y="2280213"/>
                  <a:pt x="330993" y="2291284"/>
                  <a:pt x="324091" y="2303362"/>
                </a:cubicBezTo>
                <a:cubicBezTo>
                  <a:pt x="315530" y="2318343"/>
                  <a:pt x="310513" y="2335304"/>
                  <a:pt x="300942" y="2349661"/>
                </a:cubicBezTo>
                <a:cubicBezTo>
                  <a:pt x="294889" y="2358741"/>
                  <a:pt x="284340" y="2364080"/>
                  <a:pt x="277792" y="2372810"/>
                </a:cubicBezTo>
                <a:cubicBezTo>
                  <a:pt x="261099" y="2395068"/>
                  <a:pt x="251167" y="2422585"/>
                  <a:pt x="231494" y="2442258"/>
                </a:cubicBezTo>
                <a:cubicBezTo>
                  <a:pt x="223777" y="2449974"/>
                  <a:pt x="215161" y="2456886"/>
                  <a:pt x="208344" y="2465407"/>
                </a:cubicBezTo>
                <a:cubicBezTo>
                  <a:pt x="199654" y="2476270"/>
                  <a:pt x="195664" y="2490971"/>
                  <a:pt x="185195" y="2500132"/>
                </a:cubicBezTo>
                <a:cubicBezTo>
                  <a:pt x="164257" y="2518453"/>
                  <a:pt x="115747" y="2546430"/>
                  <a:pt x="115747" y="2546430"/>
                </a:cubicBezTo>
                <a:cubicBezTo>
                  <a:pt x="98665" y="2572052"/>
                  <a:pt x="84609" y="2598054"/>
                  <a:pt x="57873" y="2615878"/>
                </a:cubicBezTo>
                <a:cubicBezTo>
                  <a:pt x="4238" y="2651635"/>
                  <a:pt x="36190" y="2601371"/>
                  <a:pt x="11575" y="2650602"/>
                </a:cubicBezTo>
                <a:lnTo>
                  <a:pt x="0" y="2627453"/>
                </a:lnTo>
                <a:lnTo>
                  <a:pt x="11575" y="2662177"/>
                </a:lnTo>
              </a:path>
            </a:pathLst>
          </a:custGeom>
          <a:noFill/>
          <a:ln w="9360">
            <a:solidFill>
              <a:srgbClr val="2da2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олилиния 11"/>
          <p:cNvSpPr/>
          <p:nvPr/>
        </p:nvSpPr>
        <p:spPr>
          <a:xfrm>
            <a:off x="1262160" y="1979640"/>
            <a:ext cx="1805040" cy="2870280"/>
          </a:xfrm>
          <a:custGeom>
            <a:avLst/>
            <a:gdLst/>
            <a:ahLst/>
            <a:rect l="l" t="t" r="r" b="b"/>
            <a:pathLst>
              <a:path w="1805650" h="2870521">
                <a:moveTo>
                  <a:pt x="1805650" y="0"/>
                </a:moveTo>
                <a:lnTo>
                  <a:pt x="1805650" y="0"/>
                </a:lnTo>
                <a:cubicBezTo>
                  <a:pt x="1778642" y="23149"/>
                  <a:pt x="1754922" y="50805"/>
                  <a:pt x="1724627" y="69448"/>
                </a:cubicBezTo>
                <a:cubicBezTo>
                  <a:pt x="1703845" y="82237"/>
                  <a:pt x="1655179" y="92597"/>
                  <a:pt x="1655179" y="92597"/>
                </a:cubicBezTo>
                <a:cubicBezTo>
                  <a:pt x="1643604" y="100314"/>
                  <a:pt x="1630292" y="105910"/>
                  <a:pt x="1620455" y="115747"/>
                </a:cubicBezTo>
                <a:cubicBezTo>
                  <a:pt x="1610619" y="125584"/>
                  <a:pt x="1605996" y="139608"/>
                  <a:pt x="1597306" y="150471"/>
                </a:cubicBezTo>
                <a:cubicBezTo>
                  <a:pt x="1590489" y="158992"/>
                  <a:pt x="1580973" y="165099"/>
                  <a:pt x="1574156" y="173620"/>
                </a:cubicBezTo>
                <a:cubicBezTo>
                  <a:pt x="1565466" y="184483"/>
                  <a:pt x="1560060" y="197782"/>
                  <a:pt x="1551007" y="208344"/>
                </a:cubicBezTo>
                <a:cubicBezTo>
                  <a:pt x="1490212" y="279272"/>
                  <a:pt x="1525838" y="233108"/>
                  <a:pt x="1469984" y="277792"/>
                </a:cubicBezTo>
                <a:cubicBezTo>
                  <a:pt x="1461463" y="284609"/>
                  <a:pt x="1453652" y="292420"/>
                  <a:pt x="1446835" y="300942"/>
                </a:cubicBezTo>
                <a:cubicBezTo>
                  <a:pt x="1438145" y="311805"/>
                  <a:pt x="1434549" y="326976"/>
                  <a:pt x="1423686" y="335666"/>
                </a:cubicBezTo>
                <a:cubicBezTo>
                  <a:pt x="1414159" y="343288"/>
                  <a:pt x="1400537" y="343382"/>
                  <a:pt x="1388962" y="347240"/>
                </a:cubicBezTo>
                <a:cubicBezTo>
                  <a:pt x="1392820" y="362673"/>
                  <a:pt x="1400536" y="377631"/>
                  <a:pt x="1400536" y="393539"/>
                </a:cubicBezTo>
                <a:cubicBezTo>
                  <a:pt x="1400536" y="433442"/>
                  <a:pt x="1389762" y="457397"/>
                  <a:pt x="1365812" y="486137"/>
                </a:cubicBezTo>
                <a:cubicBezTo>
                  <a:pt x="1355333" y="498712"/>
                  <a:pt x="1341567" y="508286"/>
                  <a:pt x="1331088" y="520861"/>
                </a:cubicBezTo>
                <a:cubicBezTo>
                  <a:pt x="1301005" y="556960"/>
                  <a:pt x="1318466" y="551793"/>
                  <a:pt x="1284789" y="578734"/>
                </a:cubicBezTo>
                <a:cubicBezTo>
                  <a:pt x="1273926" y="587424"/>
                  <a:pt x="1260928" y="593193"/>
                  <a:pt x="1250065" y="601883"/>
                </a:cubicBezTo>
                <a:cubicBezTo>
                  <a:pt x="1241544" y="608700"/>
                  <a:pt x="1236677" y="620153"/>
                  <a:pt x="1226916" y="625033"/>
                </a:cubicBezTo>
                <a:cubicBezTo>
                  <a:pt x="1205091" y="635946"/>
                  <a:pt x="1157468" y="648182"/>
                  <a:pt x="1157468" y="648182"/>
                </a:cubicBezTo>
                <a:cubicBezTo>
                  <a:pt x="1090117" y="715533"/>
                  <a:pt x="1187202" y="621474"/>
                  <a:pt x="1099594" y="694481"/>
                </a:cubicBezTo>
                <a:cubicBezTo>
                  <a:pt x="985821" y="789291"/>
                  <a:pt x="1132769" y="672881"/>
                  <a:pt x="1041721" y="763929"/>
                </a:cubicBezTo>
                <a:cubicBezTo>
                  <a:pt x="996155" y="809495"/>
                  <a:pt x="1018215" y="764405"/>
                  <a:pt x="983848" y="810228"/>
                </a:cubicBezTo>
                <a:cubicBezTo>
                  <a:pt x="916331" y="900252"/>
                  <a:pt x="967449" y="859743"/>
                  <a:pt x="902825" y="902825"/>
                </a:cubicBezTo>
                <a:cubicBezTo>
                  <a:pt x="887392" y="925974"/>
                  <a:pt x="865324" y="945879"/>
                  <a:pt x="856526" y="972273"/>
                </a:cubicBezTo>
                <a:cubicBezTo>
                  <a:pt x="852668" y="983848"/>
                  <a:pt x="850407" y="996084"/>
                  <a:pt x="844951" y="1006997"/>
                </a:cubicBezTo>
                <a:cubicBezTo>
                  <a:pt x="838730" y="1019439"/>
                  <a:pt x="828023" y="1029279"/>
                  <a:pt x="821802" y="1041721"/>
                </a:cubicBezTo>
                <a:cubicBezTo>
                  <a:pt x="816346" y="1052634"/>
                  <a:pt x="815683" y="1065532"/>
                  <a:pt x="810227" y="1076445"/>
                </a:cubicBezTo>
                <a:cubicBezTo>
                  <a:pt x="804006" y="1088888"/>
                  <a:pt x="792728" y="1098458"/>
                  <a:pt x="787078" y="1111170"/>
                </a:cubicBezTo>
                <a:cubicBezTo>
                  <a:pt x="777168" y="1133468"/>
                  <a:pt x="763929" y="1180618"/>
                  <a:pt x="763929" y="1180618"/>
                </a:cubicBezTo>
                <a:cubicBezTo>
                  <a:pt x="760071" y="1211484"/>
                  <a:pt x="760539" y="1243205"/>
                  <a:pt x="752354" y="1273215"/>
                </a:cubicBezTo>
                <a:cubicBezTo>
                  <a:pt x="748694" y="1286636"/>
                  <a:pt x="737895" y="1297076"/>
                  <a:pt x="729205" y="1307939"/>
                </a:cubicBezTo>
                <a:cubicBezTo>
                  <a:pt x="710358" y="1331498"/>
                  <a:pt x="697110" y="1337051"/>
                  <a:pt x="671331" y="1354238"/>
                </a:cubicBezTo>
                <a:cubicBezTo>
                  <a:pt x="667473" y="1365813"/>
                  <a:pt x="665212" y="1378049"/>
                  <a:pt x="659756" y="1388962"/>
                </a:cubicBezTo>
                <a:cubicBezTo>
                  <a:pt x="653535" y="1401404"/>
                  <a:pt x="639335" y="1410045"/>
                  <a:pt x="636607" y="1423686"/>
                </a:cubicBezTo>
                <a:cubicBezTo>
                  <a:pt x="627496" y="1469243"/>
                  <a:pt x="634143" y="1517025"/>
                  <a:pt x="625032" y="1562582"/>
                </a:cubicBezTo>
                <a:cubicBezTo>
                  <a:pt x="619026" y="1592614"/>
                  <a:pt x="593523" y="1598273"/>
                  <a:pt x="578734" y="1620456"/>
                </a:cubicBezTo>
                <a:cubicBezTo>
                  <a:pt x="569163" y="1634812"/>
                  <a:pt x="563301" y="1651321"/>
                  <a:pt x="555584" y="1666754"/>
                </a:cubicBezTo>
                <a:cubicBezTo>
                  <a:pt x="551726" y="1693762"/>
                  <a:pt x="549360" y="1721025"/>
                  <a:pt x="544010" y="1747777"/>
                </a:cubicBezTo>
                <a:cubicBezTo>
                  <a:pt x="530958" y="1813038"/>
                  <a:pt x="525914" y="1825214"/>
                  <a:pt x="509286" y="1875099"/>
                </a:cubicBezTo>
                <a:cubicBezTo>
                  <a:pt x="507258" y="1893352"/>
                  <a:pt x="500209" y="2023073"/>
                  <a:pt x="474562" y="2048719"/>
                </a:cubicBezTo>
                <a:cubicBezTo>
                  <a:pt x="466845" y="2056435"/>
                  <a:pt x="457960" y="2063138"/>
                  <a:pt x="451412" y="2071868"/>
                </a:cubicBezTo>
                <a:cubicBezTo>
                  <a:pt x="434719" y="2094126"/>
                  <a:pt x="405113" y="2141316"/>
                  <a:pt x="405113" y="2141316"/>
                </a:cubicBezTo>
                <a:cubicBezTo>
                  <a:pt x="402237" y="2161449"/>
                  <a:pt x="397505" y="2229089"/>
                  <a:pt x="381964" y="2257063"/>
                </a:cubicBezTo>
                <a:cubicBezTo>
                  <a:pt x="308542" y="2389221"/>
                  <a:pt x="363602" y="2285802"/>
                  <a:pt x="312516" y="2349661"/>
                </a:cubicBezTo>
                <a:cubicBezTo>
                  <a:pt x="303826" y="2360524"/>
                  <a:pt x="298057" y="2373522"/>
                  <a:pt x="289367" y="2384385"/>
                </a:cubicBezTo>
                <a:cubicBezTo>
                  <a:pt x="282550" y="2392906"/>
                  <a:pt x="273034" y="2399013"/>
                  <a:pt x="266217" y="2407534"/>
                </a:cubicBezTo>
                <a:cubicBezTo>
                  <a:pt x="257527" y="2418397"/>
                  <a:pt x="252121" y="2431696"/>
                  <a:pt x="243068" y="2442258"/>
                </a:cubicBezTo>
                <a:cubicBezTo>
                  <a:pt x="208892" y="2482130"/>
                  <a:pt x="194879" y="2480763"/>
                  <a:pt x="173620" y="2523281"/>
                </a:cubicBezTo>
                <a:cubicBezTo>
                  <a:pt x="159042" y="2552436"/>
                  <a:pt x="155551" y="2599508"/>
                  <a:pt x="150470" y="2627453"/>
                </a:cubicBezTo>
                <a:cubicBezTo>
                  <a:pt x="146951" y="2646809"/>
                  <a:pt x="145804" y="2666906"/>
                  <a:pt x="138896" y="2685326"/>
                </a:cubicBezTo>
                <a:cubicBezTo>
                  <a:pt x="124393" y="2724002"/>
                  <a:pt x="104725" y="2721591"/>
                  <a:pt x="81022" y="2754775"/>
                </a:cubicBezTo>
                <a:cubicBezTo>
                  <a:pt x="70993" y="2768815"/>
                  <a:pt x="66433" y="2786092"/>
                  <a:pt x="57873" y="2801073"/>
                </a:cubicBezTo>
                <a:cubicBezTo>
                  <a:pt x="50971" y="2813151"/>
                  <a:pt x="43414" y="2824934"/>
                  <a:pt x="34724" y="2835797"/>
                </a:cubicBezTo>
                <a:cubicBezTo>
                  <a:pt x="27907" y="2844319"/>
                  <a:pt x="19291" y="2851230"/>
                  <a:pt x="11574" y="2858947"/>
                </a:cubicBezTo>
                <a:lnTo>
                  <a:pt x="0" y="2870521"/>
                </a:lnTo>
                <a:lnTo>
                  <a:pt x="104172" y="2766349"/>
                </a:lnTo>
                <a:lnTo>
                  <a:pt x="81022" y="2743200"/>
                </a:lnTo>
              </a:path>
            </a:pathLst>
          </a:custGeom>
          <a:noFill/>
          <a:ln w="9360">
            <a:solidFill>
              <a:srgbClr val="2da2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19"/>
          <p:cNvSpPr/>
          <p:nvPr/>
        </p:nvSpPr>
        <p:spPr>
          <a:xfrm>
            <a:off x="3071880" y="2000160"/>
            <a:ext cx="64296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22"/>
          <p:cNvSpPr/>
          <p:nvPr/>
        </p:nvSpPr>
        <p:spPr>
          <a:xfrm>
            <a:off x="1428840" y="4714920"/>
            <a:ext cx="221436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Двойная стрелка вверх/вниз 25"/>
          <p:cNvSpPr/>
          <p:nvPr/>
        </p:nvSpPr>
        <p:spPr>
          <a:xfrm>
            <a:off x="3214800" y="2071800"/>
            <a:ext cx="142920" cy="2571480"/>
          </a:xfrm>
          <a:prstGeom prst="upDownArrow">
            <a:avLst>
              <a:gd name="adj1" fmla="val 50000"/>
              <a:gd name="adj2" fmla="val 49979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2"/>
          <p:cNvSpPr/>
          <p:nvPr/>
        </p:nvSpPr>
        <p:spPr>
          <a:xfrm>
            <a:off x="3071880" y="157176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3"/>
          <p:cNvSpPr/>
          <p:nvPr/>
        </p:nvSpPr>
        <p:spPr>
          <a:xfrm>
            <a:off x="500040" y="40719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4"/>
          <p:cNvSpPr/>
          <p:nvPr/>
        </p:nvSpPr>
        <p:spPr>
          <a:xfrm>
            <a:off x="3429000" y="2857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480680"/>
            <a:ext cx="822960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Уклон –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это отношение падения реки (в см) к длине реки (в км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i="1" lang="ru-RU" sz="1800" spc="-1" strike="noStrike">
                <a:solidFill>
                  <a:srgbClr val="000000"/>
                </a:solidFill>
                <a:latin typeface="Lucida Sans Unicode"/>
              </a:rPr>
              <a:t>Например: 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Lucida Sans Unicode"/>
              </a:rPr>
              <a:t>Падение Невы:  4м = 400см           Длина Невы:  74 км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Lucida Sans Unicode"/>
              </a:rPr>
              <a:t>Уклон :   400 : 74 = </a:t>
            </a:r>
            <a:r>
              <a:rPr b="0" i="1" lang="ru-RU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5,4 см/ км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Расход воды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- количество воды, проходящее по руслу за единицу времени   ( в 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/ с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Годовой сток –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количество воды, которое река выносит за год</a:t>
            </a:r>
            <a:r>
              <a:rPr b="1" lang="ru-RU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(в к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Твердый сток –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сь переносимый рекой твердый материал (в млн т в год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74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75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5E65-1CA6-40B2-BA05-73FF4854599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Проведем сравнительный анализ крупных рек России по вопросам на карточках ( данные в таблице округлены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77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78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1BF0-BA7C-4815-8862-F2BCFA817B9A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500040" y="2143080"/>
          <a:ext cx="8215200" cy="3770280"/>
        </p:xfrm>
        <a:graphic>
          <a:graphicData uri="http://schemas.openxmlformats.org/drawingml/2006/table">
            <a:tbl>
              <a:tblPr/>
              <a:tblGrid>
                <a:gridCol w="388800"/>
                <a:gridCol w="1165320"/>
                <a:gridCol w="1009800"/>
                <a:gridCol w="1062000"/>
                <a:gridCol w="1090440"/>
                <a:gridCol w="1090800"/>
                <a:gridCol w="1177920"/>
                <a:gridCol w="1230120"/>
              </a:tblGrid>
              <a:tr h="106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Ре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Паде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ние, 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Уклон, см/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Годовой сток, км</a:t>
                      </a:r>
                      <a:r>
                        <a:rPr b="1" lang="ru-RU" sz="1600" spc="-1" strike="noStrike" baseline="30000">
                          <a:solidFill>
                            <a:srgbClr val="ffffff"/>
                          </a:solidFill>
                          <a:latin typeface="Lucida Sans Unicode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Расход воды,  м</a:t>
                      </a:r>
                      <a:r>
                        <a:rPr b="1" lang="ru-RU" sz="1600" spc="-1" strike="noStrike" baseline="30000">
                          <a:solidFill>
                            <a:srgbClr val="ffffff"/>
                          </a:solidFill>
                          <a:latin typeface="Lucida Sans Unicode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 / 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Твердый   сток, млн т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Площадь бассейна, км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535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Енис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5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3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 580 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Л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7 1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 490 00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534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Об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 990 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34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ол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2-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 361 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52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Тер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7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3 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17:44:08Z</dcterms:created>
  <dc:creator>Admin</dc:creator>
  <dc:description/>
  <dc:language>en-US</dc:language>
  <cp:lastModifiedBy>111</cp:lastModifiedBy>
  <dcterms:modified xsi:type="dcterms:W3CDTF">2021-03-29T16:09:04Z</dcterms:modified>
  <cp:revision>130</cp:revision>
  <dc:subject/>
  <dc:title>Реки России</dc:title>
</cp:coreProperties>
</file>