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BA1-1A03-4FA5-8C69-6AB189C3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336-6088-4528-92D5-47F9FA44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244-9E33-4F4A-A6C2-2A1A3B9F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958-9CC5-4285-A268-649330D8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25B0-4F46-4DBF-A24F-5F26BD24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938C-5274-49F1-9C8B-3F988553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5092-C324-498A-82E8-2F5C5F5C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7919-5A68-44C8-B073-F6B351D3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F5B3-C9E8-4637-94B4-721043A1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3456-057C-48D1-A5A2-949EE358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4B13-5CB7-4B78-BF9D-5FDFBF9B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09E-C429-44A2-89C2-E7DC8F9F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F41F-F449-4301-92D7-CAF13443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F225-B4DA-4D7F-A84B-C79C671E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CE8A-004C-4320-A5CA-2FF14CC0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0877-1EED-49BC-B29D-DDE41089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B5B3-F82C-4FA0-B9C8-03DD1906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BE43-6B27-4914-AECB-D98A1E70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1AB6-3AE2-4A1E-A89A-05ED994E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605A-3563-4964-8D99-F1C70856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F957-CF49-4A2B-B6AA-58D11516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CDD4-E389-49BC-9282-919B2AB6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97A-76EF-45EF-BD11-7ECC36CF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9DCA-962D-4BED-8231-724872F3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354ED-5605-4878-92E7-BC780042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E8CE0-D900-4E92-90EA-7CC52110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FBAA-0489-4E48-8649-31AF6179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2DBB-1DD2-47BE-AF60-E82FE496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C1E7-7E39-4B4D-9196-7AA58D7B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3E76-6AC3-413C-9D3D-DB023980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AE994-240F-44AF-88D3-FEA61CB8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09FA8-6E60-4F0F-A1DF-AB63529F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7AB30-E0BC-444D-AE6F-AE1839A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1B3-CFA6-4CBD-8583-90EA8A88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DDDE5-C389-4113-B4ED-AD566DA3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DC31-7309-4CD6-BFAE-6387BF9C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7C5EC-ED1E-4398-A42B-AA079920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0FA0-2458-4F00-8C2A-2320E161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EAADC-D931-4924-8311-8D0DA85B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824A6-F1D2-4D05-B8C3-060905CF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67FA-B56F-45DA-AC2B-CBAAD2E8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4E2DB-32C0-4265-8B78-DE1D0491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CBC0-C37C-4273-A0EF-777DB779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96F-73B5-4FE5-BD7A-CD4707FF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25B7-3AC0-4407-A49D-5C0E5265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D2B-6434-47E9-BF36-0C4234DA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89B-9766-4230-8E50-7503569F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E98-BBB8-4BFD-B5AB-D9A30B56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3BC7-C7E7-4672-9466-62421181628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A222-3D4B-453C-BE82-EA872A13780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AF9F-E065-4A48-88B2-A57663557D0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C90D-F5C9-40B1-B0A9-FD630ACB613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dee0"/>
                </a:solidFill>
                <a:latin typeface="Times New Roman"/>
              </a:rPr>
              <a:t>Автор: Полукаров Андрей Андрее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dee0"/>
                </a:solidFill>
                <a:latin typeface="Times New Roman"/>
              </a:rPr>
              <a:t>Ученик 11 класс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dee0"/>
                </a:solidFill>
                <a:latin typeface="Times New Roman"/>
              </a:rPr>
              <a:t>МБОУ «Ромодановская СОШ №3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22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ОПОНИМИЧЕСКИЙ АНАЛИЗ УЛИЦ ПОСЕЛКА РОМОДАНО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опонимы поселка Ромоданово в основном  сформированы с учетом названия объектов расположенных рядом и природных фактор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ый урбаноним несет конкретную и разнообразную информацию, практически необходимую для исследований в различных сферах человеческой деятельност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сследование показало, что в топонимике улиц прослеживается отражение истории как Мордовии, так и России в цело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аная работа в перспективе предполагает  углубление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исследования и изучения вопроса о переименовании улиц в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оцессе развития поселк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9480"/>
            <a:ext cx="78501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981000"/>
            <a:ext cx="792504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Цель работы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названия улиц сельского поселения  Ромоданово, определить количество и названия улиц и провести их классификацию по нескольким критери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ить научную литературу по теме исследо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ить количество улиц поселка Ромоданово и их назв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анализировать названия ул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сти классификацию названий улиц поселка по нескольким признак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казать взаимосвязь названий улиц с историческими процесс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ТОДЫ  ИССЛЕДОВАНИЯ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341000"/>
            <a:ext cx="79250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Историко-генетический метод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один из наиболее распространенных в исторических исследованиях. Суть его состоит в последовательном раскрытии свойств, функций и изменений изучаемой реальности в процессе ее исторического движе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Описательный метод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- научный метод; используется во всех общественно-исторических и естественных науках и стоит на первом месте по широте примене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Метод анализа  источников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является преобладающим в работе. Анализ источников  дает возможность  проследить историю возникновения топонимов, их изменение в процессе жизнедеятельности человек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Статистический метод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– работа со статистическими данными, их обработка и анализ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ЛАССИФИКАЦИЯ УРБАНОНИМ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600200"/>
            <a:ext cx="792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отражены имена люд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получившие названия от объектов, расположенных на них или ряд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отражены особенности данного объек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заключена история возникновения и развития объек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заключены значимые для общества, города явления, категории, професс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названия которых имеют иностранное происхожд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проявляется географический принцип номин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ъекты, отражающие социально-коммунистические иде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ЛАССИФИКАЦИЯ  УРБАНОНИМОВ ПОСЕЛКА РОМОДАНОВО  ПО ВИДАМ УЛИ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95640" y="160020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лицы – 76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ереулки – 14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езды – 7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ерритории 3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Шоссе – 5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НАЛИЗ УРБАНОНИМОВ ПОСЕЛКА РОМОДАНО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1600200"/>
            <a:ext cx="792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отражены имена людей -  25 наимено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кты, получившие названия от объектов, расположенных на них или рядом – 31 наименовани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отражены особенности данного объекта – 9 наимено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кты, в названиях которых проявляется географический и природный принцип номинации – 29 наимено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ede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ъекты, отражающие социально-коммунистические идеи – 12 наименов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 УРБАНОНИМОВ ОТРАЖАЮЩИХ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ГРАФИЧЕСКИЕ И ПРИРОДНЫЕ ОСОБЕННОСТИ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1197000"/>
          <a:ext cx="8496360" cy="5830920"/>
        </p:xfrm>
        <a:graphic>
          <a:graphicData uri="http://schemas.openxmlformats.org/drawingml/2006/table">
            <a:tbl>
              <a:tblPr/>
              <a:tblGrid>
                <a:gridCol w="561960"/>
                <a:gridCol w="1982880"/>
                <a:gridCol w="1982520"/>
                <a:gridCol w="1984680"/>
                <a:gridCol w="1984320"/>
              </a:tblGrid>
              <a:tr h="1267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я - гидрони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я отражающие особенности рельеф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я отражающие природные особенност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звания отражающие напра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ереж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с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ен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точ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г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ый ( п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вановское ( ш 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чной ( п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мруд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чалковское( ш 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дник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е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зурная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инское( ш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о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ення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ж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дуж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тр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ябин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д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нечный ( п 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истый ( п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по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ч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ЛАССИФИКАЦИЯ  УРБАНОНИМОВ ОТРАЖАЮЩИХ ИМЕНА ЛЮДЕЙ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11280" y="1341360"/>
          <a:ext cx="8281800" cy="4680000"/>
        </p:xfrm>
        <a:graphic>
          <a:graphicData uri="http://schemas.openxmlformats.org/drawingml/2006/table">
            <a:tbl>
              <a:tblPr/>
              <a:tblGrid>
                <a:gridCol w="431640"/>
                <a:gridCol w="1944720"/>
                <a:gridCol w="2160720"/>
                <a:gridCol w="2016000"/>
                <a:gridCol w="1728720"/>
              </a:tblGrid>
              <a:tr h="88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эты и пис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итические дея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енные дея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менитые лю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ького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ны Лу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в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чу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7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е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зержинск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па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и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ва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ро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тьянин ( п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7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ш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р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ерала Ляп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атова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8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Эр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д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ат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7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ежа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нин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он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яковск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па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ана Раз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ЛАССИФИКАЦИЯ  УРБАНОНИМОВ ОТРАЖАЮЩИХ ИМЕНА ЛЮДЕЙ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9640" y="1268280"/>
          <a:ext cx="8136000" cy="5102280"/>
        </p:xfrm>
        <a:graphic>
          <a:graphicData uri="http://schemas.openxmlformats.org/drawingml/2006/table">
            <a:tbl>
              <a:tblPr/>
              <a:tblGrid>
                <a:gridCol w="693720"/>
                <a:gridCol w="2186280"/>
                <a:gridCol w="2592360"/>
                <a:gridCol w="266364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рические личности Российской импе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рические личности ССС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рические личности Мордов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</a:tr>
              <a:tr h="40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ького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ны Лу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ин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е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в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ро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ва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зержинск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ерала Ляп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ш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чу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ат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ана Раз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он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р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.Эрк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н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ежа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яковск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тьянин ( п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дл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атова (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cbcb"/>
                    </a:solidFill>
                  </a:tcPr>
                </a:tc>
              </a:tr>
              <a:tr h="40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010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па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пак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0:18:56Z</dcterms:created>
  <dc:creator>Admin</dc:creator>
  <dc:description/>
  <dc:language>en-US</dc:language>
  <cp:lastModifiedBy>завуч</cp:lastModifiedBy>
  <dcterms:modified xsi:type="dcterms:W3CDTF">2013-02-26T09:26:43Z</dcterms:modified>
  <cp:revision>11</cp:revision>
  <dc:subject/>
  <dc:title>Топонимический анализ населенных пунктов Ромодановского района</dc:title>
</cp:coreProperties>
</file>