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C50-EB13-4E46-A10A-30FC86C6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99B-CC2C-45B9-B9C9-CFD790B3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5A0-483D-4171-9E18-BFDF2BDF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FF2-DB43-45D8-ACF5-0223F39B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7EA8-2430-41B2-BF51-055AD3F8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6808-EF50-420A-9A96-FC29D200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316F-5771-47AF-A400-C93B9C3F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BA66-B300-46CD-A0CF-53637391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BF34-A6B7-4570-80F5-4336FF1F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4FBC-43AB-43A1-91E3-EA93E777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DE96-1A14-4E9D-9D37-BC9B75B0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6CA-0EFC-46A7-A569-5854F40B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7A2A-4DEF-48C4-B173-4D1152F4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1F2E-E5E5-43D0-A76C-22C7BA5E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01CE-72A1-4EF2-ACB4-6AC1D7EC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96D6-6DAF-443F-AD14-26437704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6314-16F8-46BA-9592-00AC95EA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4844D-76A5-448B-A778-B95F53A4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1E539-F7F4-4559-913F-DF5CCB5F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C5F1A-95AB-4B0F-AEFC-8BE7040A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607A6-CEE9-4900-B30F-C3FBFAD8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63E2C-5ED3-4226-8F31-299479F7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75E-C82B-4E4A-8415-94696CE8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A65C-9E59-4BD5-B3CF-0C8930BF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C31E5-0214-4093-92E1-98A379E5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80BFD-7E63-4790-9DFF-D2287853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FA20C-798A-4638-8385-7BE47DC5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C35E8-D6A3-4309-B6B3-9D52E390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208AB-2B95-4AAC-A152-AED50FCB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FA70-9873-4544-8E55-3D703834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ECAFD-E36B-422C-BDB9-A3D7241C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32D21-3CA9-4E61-94EC-F4894282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A46BB-F2E8-4940-9816-C40DC869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46F-6E26-4FD1-B483-8DBF2286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273FA-4CD0-46F3-86DB-E8AA75C0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7645-1FF4-4CF2-B5F7-D7CE1546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073B6-D47C-41BF-B99D-E594EAEB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7898A-3DC3-4902-873C-27C4FA6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1D3D4-3750-41C8-B04C-C67BE9B5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CC854-2F84-4B65-844D-D5B48D89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91F7E-100E-4865-8609-0375B548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7260A-F6FB-49C2-A351-3398EFD6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FBCC-AE9E-484E-A21C-71014746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31B-BFF9-49EA-9A73-6C5BFF53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6D5-9E1E-44DE-8F48-9205669F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34E-1843-496F-879A-0F1116D4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BBF-3860-4130-B180-3AE70EF6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3DC-3678-4F60-915F-D5160794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84D7-A580-4529-8083-2E153A7E58F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AF3D-3062-40C1-A635-9E710506492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0482-48B9-4EE4-851E-251C2E21087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B3DC-382C-4673-BB38-13780EC7D3A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dee0"/>
                </a:solidFill>
                <a:latin typeface="Times New Roman"/>
              </a:rPr>
              <a:t>Автор: Полукаров Андрей Андрееви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dee0"/>
                </a:solidFill>
                <a:latin typeface="Times New Roman"/>
              </a:rPr>
              <a:t>Ученик 11 класс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dee0"/>
                </a:solidFill>
                <a:latin typeface="Times New Roman"/>
              </a:rPr>
              <a:t>МБОУ «Ромодановская СОШ №3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22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ОПОНИМИЧЕСКИЙ АНАЛИЗ УЛИЦ ПОСЕЛКА РОМОДАНО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опонимы поселка Ромоданово в основном  сформированы с учетом названия объектов расположенных рядом и природных фактор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ждый урбаноним несет конкретную и разнообразную информацию, практически необходимую для исследований в различных сферах человеческой деятельност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сследование показало, что в топонимике улиц прослеживается отражение истории как Мордовии, так и России в цело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аная работа в перспективе предполагает  углубление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сследования и изучения вопроса о переименовании улиц в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оцессе развития поселк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9480"/>
            <a:ext cx="78501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981000"/>
            <a:ext cx="792504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Цель работы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названия улиц сельского поселения  Ромоданово, определить количество и названия улиц и провести их классификацию по нескольким критери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научную литературу по теме исследов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ить количество улиц поселка Ромоданово и их назв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анализировать названия ул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вести классификацию названий улиц поселка по нескольким признак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казать взаимосвязь названий улиц с историческими процесс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ТОДЫ  ИССЛЕДОВАНИЯ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1341000"/>
            <a:ext cx="79250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Историко-генетический метод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один из наиболее распространенных в исторических исследованиях. Суть его состоит в последовательном раскрытии свойств, функций и изменений изучаемой реальности в процессе ее исторического движен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Описательный метод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- научный метод; используется во всех общественно-исторических и естественных науках и стоит на первом месте по широте применения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Метод анализа  источников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является преобладающим в работе. Анализ источников  дает возможность  проследить историю возникновения топонимов, их изменение в процессе жизнедеятельности человек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Статистический метод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– работа со статистическими данными, их обработка и анализ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ЛАССИФИКАЦИЯ УРБАНОНИМ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600200"/>
            <a:ext cx="7925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ы, в названиях которых отражены имена люд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ы, получившие названия от объектов, расположенных на них или ряд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ы, в названиях которых отражены особенности данного объек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ы, в названиях которых заключена история возникновения и развития объек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ы, в названиях которых заключены значимые для общества, города явления, категории, професс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ы, названия которых имеют иностранное происхожд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ы, в названиях которых проявляется географический принцип номин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ы, отражающие социально-коммунистические иде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ЛАССИФИКАЦИЯ  УРБАНОНИМОВ ПОСЕЛКА РОМОДАНОВО  ПО ВИДАМ УЛИ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195640" y="160020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лицы – 76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ереулки – 14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езды – 7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ерритории 3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Шоссе – 5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НАЛИЗ УРБАНОНИМОВ ПОСЕЛКА РОМОДАНО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1600200"/>
            <a:ext cx="7925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ъекты, в названиях которых отражены имена людей -  25 наименова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ъекты, получившие названия от объектов, расположенных на них или рядом – 31 наименован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ъекты, в названиях которых отражены особенности данного объекта – 9 наименова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ъекты, в названиях которых проявляется географический и природный принцип номинации – 29 наименова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ъекты, отражающие социально-коммунистические идеи – 12 наименова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 УРБАНОНИМОВ ОТРАЖАЮЩИХ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ГРАФИЧЕСКИЕ И ПРИРОДНЫЕ ОСОБЕННОСТИ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1197000"/>
          <a:ext cx="8496360" cy="5830920"/>
        </p:xfrm>
        <a:graphic>
          <a:graphicData uri="http://schemas.openxmlformats.org/drawingml/2006/table">
            <a:tbl>
              <a:tblPr/>
              <a:tblGrid>
                <a:gridCol w="561960"/>
                <a:gridCol w="1982880"/>
                <a:gridCol w="1982520"/>
                <a:gridCol w="1984680"/>
                <a:gridCol w="1984320"/>
              </a:tblGrid>
              <a:tr h="1267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я - гидрони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я отражающие особенности рельеф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я отражающие природные особеннос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я отражающие напра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ереж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с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ення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точ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г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леный ( п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вановское ( ш 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чной ( п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гор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мруд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чалковское( ш 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ник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е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зурная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инское( ш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о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ення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ж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дуж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тра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ябин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д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нечный ( п 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нистый ( п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по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оч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ЛАССИФИКАЦИЯ  УРБАНОНИМОВ ОТРАЖАЮЩИХ ИМЕНА ЛЮДЕЙ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11280" y="1341360"/>
          <a:ext cx="8281800" cy="4680000"/>
        </p:xfrm>
        <a:graphic>
          <a:graphicData uri="http://schemas.openxmlformats.org/drawingml/2006/table">
            <a:tbl>
              <a:tblPr/>
              <a:tblGrid>
                <a:gridCol w="431640"/>
                <a:gridCol w="1944720"/>
                <a:gridCol w="2160720"/>
                <a:gridCol w="2016000"/>
                <a:gridCol w="1728720"/>
              </a:tblGrid>
              <a:tr h="88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эты и пис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итические дея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енные дея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менитые лю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ького (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ны Лу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вод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чур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7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ен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зержинск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па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и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ва (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н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рон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тьянин ( п 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7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шк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р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нерала Ляп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атова (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8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Эр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дл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атк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7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ежа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нин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он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яковско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пак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ана Раз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ЛАССИФИКАЦИЯ  УРБАНОНИМОВ ОТРАЖАЮЩИХ ИМЕНА ЛЮДЕЙ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39640" y="1268280"/>
          <a:ext cx="8136000" cy="5102280"/>
        </p:xfrm>
        <a:graphic>
          <a:graphicData uri="http://schemas.openxmlformats.org/drawingml/2006/table">
            <a:tbl>
              <a:tblPr/>
              <a:tblGrid>
                <a:gridCol w="693720"/>
                <a:gridCol w="2186280"/>
                <a:gridCol w="2592360"/>
                <a:gridCol w="266364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торические личности Российской импе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торические личности ССС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торические личности Мордов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40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ького (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ны Лу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и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ен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вод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рон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04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ва (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зержинск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нерала Ляп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шк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чур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атк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ана Раз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н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он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р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Эр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н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ежа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яковск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тьянин ( п 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7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дл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атова (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0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па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пак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0:18:56Z</dcterms:created>
  <dc:creator>Admin</dc:creator>
  <dc:description/>
  <dc:language>en-US</dc:language>
  <cp:lastModifiedBy>завуч</cp:lastModifiedBy>
  <dcterms:modified xsi:type="dcterms:W3CDTF">2013-02-26T09:26:43Z</dcterms:modified>
  <cp:revision>11</cp:revision>
  <dc:subject/>
  <dc:title>Топонимический анализ населенных пунктов Ромодановского района</dc:title>
</cp:coreProperties>
</file>