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93E-DE3F-4FC2-9967-BAF134A8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7E0-0332-4021-AA70-C66A44C8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27E-F577-4F79-8EB8-536213C5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8D7-B8F5-442A-A6C0-1C7FFED2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DC0F-65C9-4608-8AAE-D3B24E37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5612-128E-4807-A213-1FA5E9B4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EED6-7977-4106-997D-1F501D8E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A66A-4511-45EC-BDFF-EE1E630D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BFC5-7A29-4AF6-B40D-D20B3C9E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9EE1-6D51-4977-8E99-89BC6BBD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EEAB-0F29-464F-87F3-FB0457AC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518-D699-4E82-B031-34A6FA36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77D4-EBE0-41A9-8E8A-ED46DC55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C522-5E0F-4D21-B5BF-F19AE80B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8217-2E37-4B78-B66E-61621B3F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80AE-EA34-42F3-88B3-CAD9A8B8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FFFE-CF54-4825-B6EC-5CA1AEC8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AE1-3C2F-4E8F-8A54-F8BED37D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308-BBC0-4590-BDE5-708DA847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A44-4DD0-4504-87F0-7AEC59C3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F33-350A-4F02-BE9C-6C947AEA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27D-D8C9-4D6A-9611-88A11BEA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6A0-CEF3-406B-AB6B-1388FD59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770-7D6E-418D-9401-E75D69FC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2FB1-E0F6-45FA-B11A-FAE2F4378DA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86AE-A5DB-4BC0-89C8-3889BA2FDDD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жнейшие географические открытия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Учитель геогра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МБОУ СШ №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г Тейк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Иван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Якимова А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абота с интерактивной доско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ишем материки, которые были открыты в эпоху Великих географическ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делаем вывод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лет потребовалось, чтобы людям открыть мате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 ли было делать географические открытия в прошл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граф 6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ицу выуч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тетрадь с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абота с интерактивной доско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им районы географических открытий древности и Средневек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ишем материки, которые были известны в древности и Средневек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ли материки были откры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Практическая работа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717920"/>
                <a:gridCol w="3411360"/>
                <a:gridCol w="256392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уче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Христофор Колумб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й путешестве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ал путь в богатые страны А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ил 4 плавания к остров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нал, что открыл 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826920" y="2349360"/>
            <a:ext cx="37706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826920" y="2349360"/>
            <a:ext cx="37706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826920" y="2349360"/>
            <a:ext cx="37706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Колумб"/>
          <p:cNvPicPr/>
          <p:nvPr/>
        </p:nvPicPr>
        <p:blipFill>
          <a:blip r:embed="rId1"/>
          <a:stretch/>
        </p:blipFill>
        <p:spPr>
          <a:xfrm>
            <a:off x="1042920" y="2487600"/>
            <a:ext cx="32418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Фернан Магеллан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угальский путешестве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ил первое 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л 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Магеллан"/>
          <p:cNvPicPr/>
          <p:nvPr/>
        </p:nvPicPr>
        <p:blipFill>
          <a:blip r:embed="rId1"/>
          <a:stretch/>
        </p:blipFill>
        <p:spPr>
          <a:xfrm>
            <a:off x="1187280" y="2362320"/>
            <a:ext cx="3070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Виллем Янсзон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ландский морепл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м достиг берегов материка 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мал, что побывал в Новой Гви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Янсзон"/>
          <p:cNvPicPr/>
          <p:nvPr/>
        </p:nvPicPr>
        <p:blipFill>
          <a:blip r:embed="rId1"/>
          <a:stretch/>
        </p:blipFill>
        <p:spPr>
          <a:xfrm>
            <a:off x="1332000" y="2708280"/>
            <a:ext cx="26654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жеймс Кук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ий морепл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ледовал восточное побережье Австра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л, что Австралия – самостоятельный мате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КУК"/>
          <p:cNvPicPr/>
          <p:nvPr/>
        </p:nvPicPr>
        <p:blipFill>
          <a:blip r:embed="rId1"/>
          <a:stretch/>
        </p:blipFill>
        <p:spPr>
          <a:xfrm>
            <a:off x="1496880" y="2362320"/>
            <a:ext cx="28591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Ф.Ф.Беллинсгаузен и М.П. Лазарев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435280" y="2361960"/>
            <a:ext cx="35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морепла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ли самый …… материк Земли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877"/>
          <p:cNvPicPr/>
          <p:nvPr/>
        </p:nvPicPr>
        <p:blipFill>
          <a:blip r:embed="rId1"/>
          <a:stretch/>
        </p:blipFill>
        <p:spPr>
          <a:xfrm>
            <a:off x="539640" y="2421000"/>
            <a:ext cx="244800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m_23157"/>
          <p:cNvPicPr/>
          <p:nvPr/>
        </p:nvPicPr>
        <p:blipFill>
          <a:blip r:embed="rId2"/>
          <a:stretch/>
        </p:blipFill>
        <p:spPr>
          <a:xfrm>
            <a:off x="2862360" y="3716280"/>
            <a:ext cx="24303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Проверим таблицу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2362320"/>
          <a:ext cx="7693200" cy="4325760"/>
        </p:xfrm>
        <a:graphic>
          <a:graphicData uri="http://schemas.openxmlformats.org/drawingml/2006/table">
            <a:tbl>
              <a:tblPr/>
              <a:tblGrid>
                <a:gridCol w="1212840"/>
                <a:gridCol w="3384720"/>
                <a:gridCol w="309564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2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истофор Колум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л Амер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9-1522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рнан Магелл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осветное путеше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6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ллем Янсз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л Австрал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8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еймс К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 – самостоятельный матер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Ф.Беллинсгаузен и М.П. Лазар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ли Антаркт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5:39:03Z</dcterms:created>
  <dc:creator>Анжелика</dc:creator>
  <dc:description/>
  <dc:language>en-US</dc:language>
  <cp:lastModifiedBy>111</cp:lastModifiedBy>
  <dcterms:modified xsi:type="dcterms:W3CDTF">2021-03-29T16:09:28Z</dcterms:modified>
  <cp:revision>6</cp:revision>
  <dc:subject/>
  <dc:title>Важнейшие географические открытия</dc:title>
</cp:coreProperties>
</file>