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D0F-AE2C-4417-AF62-8EA65FA4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CB9-7E5F-4020-95CC-C3F343D4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DD2-26AC-4424-AC78-330FCC1E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4CB-2776-4AF9-9732-25AACA82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9A2F-619D-415D-84DE-06BF168D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384A-61BD-4BB3-9FAD-BEE8EFFB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2591-3FFE-4E74-9853-D06E4966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719E-90DB-410C-9F43-D4C69A7D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7FEB-80B8-4156-AC73-85C81321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C5FF-CE0D-404B-8AC5-A7CD18EF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A3BA-4532-443C-8B77-3B673881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330-9660-43DF-A60F-60972464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5ABF-BA71-4AE5-AB1B-08AD8669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0082-C45E-4FD2-B7F7-B39E1670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016C-24D1-4C1B-AD4B-EB4C0863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647-E405-438A-A7DE-1DF95E8A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EA6C-D7AC-4A29-8A06-5CB9CEFA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2B8-C7A1-4A42-A577-20472AB3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96F-D17D-4734-99F0-D9CED38B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1F7-A080-4A59-80C8-AA626BC0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DA4-4EE4-40F9-B1AE-B63B6D6F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FE5-0CC8-47AB-8D3C-B592A550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C9E-5099-4BD2-AA8D-A42CDF05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3475-0D0E-4974-B900-67A3EECA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D2D2-EFA7-413C-BA3C-6F0ECBBCC97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9E20-A2B0-4605-8B5B-7B4D02F6C07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жнейшие географические открытия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Учитель геогра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МБОУ СШ №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г Тейко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Иван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Якимова А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абота с интерактивной доско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ишем материки, которые были открыты в эпоху Великих географическ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делаем вывод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лет потребовалось, чтобы людям открыть мате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гко ли было делать географические открытия в прошло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граф 6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ицу выуч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тетрадь с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Работа с интерактивной доско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им районы географических открытий древности и Средневек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ишем материки, которые были известны в древности и Средневек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 ли материки были откры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Практическая работа 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717920"/>
                <a:gridCol w="3411360"/>
                <a:gridCol w="256392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 уче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Христофор Колумб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й путешестве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ал путь в богатые страны А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ил 4 плавания к остров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знал, что открыл 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826920" y="2349360"/>
            <a:ext cx="37706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826920" y="2349360"/>
            <a:ext cx="37706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826920" y="2349360"/>
            <a:ext cx="37706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Колумб"/>
          <p:cNvPicPr/>
          <p:nvPr/>
        </p:nvPicPr>
        <p:blipFill>
          <a:blip r:embed="rId1"/>
          <a:stretch/>
        </p:blipFill>
        <p:spPr>
          <a:xfrm>
            <a:off x="1042920" y="2487600"/>
            <a:ext cx="32418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Фернан Магеллан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тугальский путешестве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ил первое 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л 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Магеллан"/>
          <p:cNvPicPr/>
          <p:nvPr/>
        </p:nvPicPr>
        <p:blipFill>
          <a:blip r:embed="rId1"/>
          <a:stretch/>
        </p:blipFill>
        <p:spPr>
          <a:xfrm>
            <a:off x="1187280" y="2362320"/>
            <a:ext cx="3070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Виллем Янсзон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ландский морепл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м достиг берегов материка 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мал, что побывал в Новой Гви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Янсзон"/>
          <p:cNvPicPr/>
          <p:nvPr/>
        </p:nvPicPr>
        <p:blipFill>
          <a:blip r:embed="rId1"/>
          <a:stretch/>
        </p:blipFill>
        <p:spPr>
          <a:xfrm>
            <a:off x="1332000" y="2708280"/>
            <a:ext cx="26654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жеймс Кук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ий морепл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ледовал восточное побережье Австра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л, что Австралия – самостоятельный мате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КУК"/>
          <p:cNvPicPr/>
          <p:nvPr/>
        </p:nvPicPr>
        <p:blipFill>
          <a:blip r:embed="rId1"/>
          <a:stretch/>
        </p:blipFill>
        <p:spPr>
          <a:xfrm>
            <a:off x="1496880" y="2362320"/>
            <a:ext cx="28591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Ф.Ф.Беллинсгаузен и М.П. Лазарев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435280" y="2361960"/>
            <a:ext cx="35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морепла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ли самый …… материк Земли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877"/>
          <p:cNvPicPr/>
          <p:nvPr/>
        </p:nvPicPr>
        <p:blipFill>
          <a:blip r:embed="rId1"/>
          <a:stretch/>
        </p:blipFill>
        <p:spPr>
          <a:xfrm>
            <a:off x="539640" y="2421000"/>
            <a:ext cx="244800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m_23157"/>
          <p:cNvPicPr/>
          <p:nvPr/>
        </p:nvPicPr>
        <p:blipFill>
          <a:blip r:embed="rId2"/>
          <a:stretch/>
        </p:blipFill>
        <p:spPr>
          <a:xfrm>
            <a:off x="2862360" y="3716280"/>
            <a:ext cx="24303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Проверим таблицу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2362320"/>
          <a:ext cx="7693200" cy="4325760"/>
        </p:xfrm>
        <a:graphic>
          <a:graphicData uri="http://schemas.openxmlformats.org/drawingml/2006/table">
            <a:tbl>
              <a:tblPr/>
              <a:tblGrid>
                <a:gridCol w="1212840"/>
                <a:gridCol w="3384720"/>
                <a:gridCol w="309564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2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истофор Колум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л Амер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9-1522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рнан Магелл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осветное путеше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6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ллем Янсз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л Австрал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8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еймс К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алия – самостоятельный матер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0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.Ф.Беллинсгаузен и М.П. Лазар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ли Антарктид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15:39:03Z</dcterms:created>
  <dc:creator>Анжелика</dc:creator>
  <dc:description/>
  <dc:language>en-US</dc:language>
  <cp:lastModifiedBy>111</cp:lastModifiedBy>
  <dcterms:modified xsi:type="dcterms:W3CDTF">2021-03-29T16:09:28Z</dcterms:modified>
  <cp:revision>6</cp:revision>
  <dc:subject/>
  <dc:title>Важнейшие географические открытия</dc:title>
</cp:coreProperties>
</file>