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0D97-138C-43C1-83E3-FA4A33B9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A3B3-05FC-4DAE-AF2D-2E066979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3827-099E-4286-A422-0C6002B3F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3F6F-57D7-4547-A4BB-5305FB35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37FD-D96A-4E9E-8BA8-B3F5C73C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4B27-E5C9-4C81-8D2C-5F3B8400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BF7D-9F06-4FDD-B98A-BF8881BB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8D1A-02D5-4354-89B1-B99F1555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8E72-FBD6-425A-AD81-275F3BC3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E0AB-B189-446B-BE76-448D1FD4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C911-57AA-4DB9-83FD-4FDD42FF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8D38-D7D6-4C8F-971C-7966CD2A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C285-CE78-4BA9-A36B-A5B1ADE7F8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го бюджетного общеобразовательного учреждения города Москвы  Школа № 20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2349000"/>
            <a:ext cx="6945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енние истори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доренко Елена Евгень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ва 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: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среднего  возраста слишком маленький жизненный опыт и знания о природе. Они не знакомы с происхождением тех или иных явлений, процессов в природе, не могут ответить на интересующие их вопросы: «Зачем опадает листва?», «Куда прячутся насекомые?» и т.д. Дети младшего возраста только начинают познавать мир, явления природы. Участие детей в этом проекте позволит ознакомить их с представлением об осени — как времени года, её характерных признаках, развить творческие способности, поисковую деятельность, связную речь.</a:t>
            </a:r>
            <a:br>
              <a:rPr sz="1800"/>
            </a:br>
            <a:br>
              <a:rPr sz="14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: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асто взрослые забывают понаблюдать с ребенком, полюбоваться красотой мира природы, не поддерживают детскую любознательность. Именно ранний возраст – самое благоприятное время для накопления представлений об окружающем мире. Необходимо не только показать детям, какой прекрасный мир их окружает, но и  объяснить, почему нужно беречь и любить природу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 проекта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второй младшей группы, воспитатели, родител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детей с красотой осенней природы.</a:t>
            </a:r>
            <a:br>
              <a:rPr sz="2000"/>
            </a:br>
            <a:br>
              <a:rPr sz="20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 для детей:</a:t>
            </a:r>
            <a:br>
              <a:rPr sz="22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Познакомить детей с понятием «время года – осень», с сезонными  изменениями в природе происходящими осенью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ширить представление о многообразии и пользе овощей и фруктов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ширять и активизировать словарный запас дете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питывать у детей эмоциональное, положительное отношение к природе, умение видеть прекрасное в разное время год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питывать бережное отношение к природе.</a:t>
            </a:r>
            <a:br>
              <a:rPr sz="2000"/>
            </a:br>
            <a:br>
              <a:rPr sz="20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 для родителе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2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Формирование экологического воспитания у дете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зготовление поделок из природного материал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овлечь родителей в педагогический процесс, укрепить заинтересованность в сотрудничестве с детским садом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е результаты для детей:</a:t>
            </a:r>
            <a:br>
              <a:rPr sz="2200"/>
            </a:b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формировать у детей знания об осени, её признаках и дарах, о бережном отношении к природе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2. Пополнить словарный запас детей, как активного, так и пассивного словаря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3. Развить творческие способности у детей.</a:t>
            </a:r>
            <a:br>
              <a:rPr sz="2000"/>
            </a:br>
            <a:br>
              <a:rPr sz="18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е результаты для родителей:</a:t>
            </a:r>
            <a:br>
              <a:rPr sz="2200"/>
            </a:b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 родителей появится интерес к образовательному процессу, развитию творчества, знаний и умений у дете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частие родителей в совместной продуктивной деятельност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нимание родителями в дальнейшем требований ДОУ к семь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проектной 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этап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ы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оставление плана работы над проек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бор  материала необходимого для реализации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зработка конспектов НОД по планируемой те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рганизация предметно-развивающей среды по теме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формление картотеки: загадок, стихов, пословиц об ос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этап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бота с детьми:</a:t>
            </a:r>
            <a:br>
              <a:rPr sz="2800"/>
            </a:b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Calibri"/>
              </a:rPr>
              <a:t>Образовательная область «Социально-</a:t>
            </a:r>
            <a:br>
              <a:rPr sz="2400"/>
            </a:b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Calibri"/>
              </a:rPr>
              <a:t>коммуникативное развити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4000" y="1916280"/>
            <a:ext cx="79200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еседы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ень в гости к нам пришла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ая сегодня погода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ры осени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 изменилась одежда люде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ремена год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Calibri"/>
              </a:rPr>
              <a:t>Образовательная область «Познавательное развити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3640" y="1717200"/>
            <a:ext cx="6105240" cy="44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картин «Прогулка в лесу», «Уборка урожа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рассказа по картинке «Осень в лес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дки об овощ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Calibri"/>
              </a:rPr>
              <a:t>Образовательная область «Речевое развитие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341000"/>
            <a:ext cx="8147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ение художественной литератур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Блок «Зайчик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. Александрова «Дождик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К. Бальмонт «Осень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Плещеев «Осень наступила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Босев «Дождь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. Тувим «Овощи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ая народная сказк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ершки и корешки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550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2T14:08:51Z</dcterms:created>
  <dc:creator>Сидоренко Елена Евгеньевна</dc:creator>
  <dc:description/>
  <dc:language>en-US</dc:language>
  <cp:lastModifiedBy>Пользователь</cp:lastModifiedBy>
  <dcterms:modified xsi:type="dcterms:W3CDTF">2021-04-18T16:57:57Z</dcterms:modified>
  <cp:revision>47</cp:revision>
  <dc:subject/>
  <dc:title>Осень Золотая</dc:title>
</cp:coreProperties>
</file>