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774-54CE-487D-93C0-84DCCD80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B50-A799-4A7D-A16A-9A40FB3B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5C7-5749-4125-9736-0801A81E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276-916C-4227-8DDE-6E9639BE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202-97E6-414F-9EBB-84092AFF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309-E9C0-4DC2-8CDD-E2ED4C5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14B-5A79-4165-9B47-9C7E383C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4F1-E1F0-425D-B06F-83E01FDC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9A4-3293-4752-A8A8-A703F26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163-A16C-4D55-9DA1-273E578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04C-8A33-448B-90DD-B48CF75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ACC-2163-4ACF-8F6E-398EA7B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2E9A-B625-4FF4-91DB-C1515AED7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бюджетного общеобразовательного учреждения города Москвы  Школа № 20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349000"/>
            <a:ext cx="6945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ние истор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оренко Елена Евген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реднего  возраста слишком маленький жизненный опыт и знания о природе. Они не знакомы с происхождением тех или иных явлений, процессов в природе, не могут ответить на интересующие их вопросы: «Зачем опадает листва?», «Куда прячутся насекомые?» и т.д. Дети младшего возраста только начинают познавать мир, явления природы. Участие детей в этом проекте позволит ознакомить их с представлением об осени — как времени года, её характерных признаках, развить творческие способности, поисковую деятельность, связную речь.</a:t>
            </a:r>
            <a:br>
              <a:rPr sz="1800"/>
            </a:br>
            <a:br>
              <a:rPr sz="1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о взрослые забывают понаблюдать с ребенком, полюбоваться красотой мира природы, не поддерживают детскую любознательность. Именно ранний возраст – самое благоприятное время для накопления представлений об окружающем мире. Необходимо не только показать детям, какой прекрасный мир их окружает, но и  объяснить, почему нужно беречь и любить природу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второй младшей группы, воспитатели, родит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красотой осенней природы.</a:t>
            </a:r>
            <a:br>
              <a:rPr sz="2000"/>
            </a:b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для детей: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ознакомить детей с понятием «время года – осень», с сезонными  изменениями в природе происходящими осенью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ширить представление о многообразии и пользе овощей и фрук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ширять и активизировать словарный запас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питывать у детей эмоциональное, положительное отношение к природе, умение видеть прекрасное в разное время год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питывать бережное отношение к природе.</a:t>
            </a:r>
            <a:br>
              <a:rPr sz="2000"/>
            </a:b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для родител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экологического воспитания у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готовление поделок из природного матери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влечь родителей в педагогический процесс, укрепить заинтересованность в сотрудничестве с детским сад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для детей:</a:t>
            </a:r>
            <a:br>
              <a:rPr sz="22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формировать у детей знания об осени, её признаках и дарах, о бережном отношении к природ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. Пополнить словарный запас детей, как активного, так и пассивного словар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3. Развить творческие способности у детей.</a:t>
            </a:r>
            <a:br>
              <a:rPr sz="2000"/>
            </a:b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для родителей:</a:t>
            </a:r>
            <a:br>
              <a:rPr sz="22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 родителей появится интерес к образовательному процессу, развитию творчества, знаний и умений у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ие родителей в совместной продуктивно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нимание родителями в дальнейшем требований ДОУ к сем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ление плана работы над проек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бор  материала необходимого для реализаци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работка конспектов НОД по планируемой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рганизация предметно-развивающей среды по теме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формление картотеки: загадок, стихов, пословиц об ос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а с детьми:</a:t>
            </a:r>
            <a:br>
              <a:rPr sz="28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Образовательная область «Социально-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коммуникативн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916280"/>
            <a:ext cx="79200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седы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ь в гости к нам пришл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ая сегодня погод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ры осен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изменилась одежда люд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мена год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Образовательная область «Познавательн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717200"/>
            <a:ext cx="61052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картин «Прогулка в лесу», «Уборка урож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а по картинке «Осень в лес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об овощ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Образовательная область «Речевое развити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ение художественной литерату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лок «Зайчи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Александрова «Дожди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К. Бальмонт «Осен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лещеев «Осень наступил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осев «Дожд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 Тувим «Овощ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сказ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ршки и кореш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2T14:08:51Z</dcterms:created>
  <dc:creator>Сидоренко Елена Евгеньевна</dc:creator>
  <dc:description/>
  <dc:language>en-US</dc:language>
  <cp:lastModifiedBy>Пользователь</cp:lastModifiedBy>
  <dcterms:modified xsi:type="dcterms:W3CDTF">2021-04-18T16:57:57Z</dcterms:modified>
  <cp:revision>47</cp:revision>
  <dc:subject/>
  <dc:title>Осень Золотая</dc:title>
</cp:coreProperties>
</file>