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9C33-BB60-420A-929F-09997C78BB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езнодорожный вокз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65EE-441F-494B-8857-B956F635D7C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EA6-9641-47A3-9662-137F8D4C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053-DA9E-4840-80B7-94D22D36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FE2-BDC2-47A3-9498-0E31A973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6FE-1F6C-45E7-A013-4ACEC51C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AE0-6ABF-4E9A-B2AD-34680B94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7CA7-9596-483F-AD93-F0DEC69A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2BE6-A584-4647-95D0-A1F9D91A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93F1-4925-43FF-A896-F7266CDE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63A-CE7D-4F87-B32E-107B4F1A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038-70DC-4034-B18F-61EB5CE6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3CA-4E33-421B-ABCF-B895B12A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B95-BBC6-41F9-AFB7-91DEA9FE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E4DE-60BA-4C5A-A2D2-94FA57245AC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c00000"/>
                </a:solidFill>
                <a:latin typeface="Calibri"/>
              </a:rPr>
              <a:t>Чебоксары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biblio.chgpu.edu.ru/IMG/contacts/glkorp.jpg"/>
          <p:cNvPicPr/>
          <p:nvPr/>
        </p:nvPicPr>
        <p:blipFill>
          <a:blip r:embed="rId1"/>
          <a:stretch/>
        </p:blipFill>
        <p:spPr>
          <a:xfrm>
            <a:off x="500040" y="285840"/>
            <a:ext cx="79297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ttp://img-2006-09.photosight.ru/05/162927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fotoham.ru/img/picture/Oct/11/e68ba0a3c2027dfd005290e40169a201/1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trip-guide.ru/img/14521/86862.jpg"/>
          <p:cNvPicPr/>
          <p:nvPr/>
        </p:nvPicPr>
        <p:blipFill>
          <a:blip r:embed="rId1"/>
          <a:srcRect l="5861" t="0" r="0" b="0"/>
          <a:stretch/>
        </p:blipFill>
        <p:spPr>
          <a:xfrm>
            <a:off x="0" y="476280"/>
            <a:ext cx="9136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afisha.cheb.ru/pics/big/135255.jpg"/>
          <p:cNvPicPr/>
          <p:nvPr/>
        </p:nvPicPr>
        <p:blipFill>
          <a:blip r:embed="rId1"/>
          <a:srcRect l="0" t="0" r="0" b="8868"/>
          <a:stretch/>
        </p:blipFill>
        <p:spPr>
          <a:xfrm>
            <a:off x="0" y="260280"/>
            <a:ext cx="91440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https://pre.russia.travel/upload/uf/125/1256d89a0d54545b78cde1af6f5eb3c0.jpg"/>
          <p:cNvPicPr/>
          <p:nvPr/>
        </p:nvPicPr>
        <p:blipFill>
          <a:blip r:embed="rId1"/>
          <a:srcRect l="0" t="0" r="0" b="7808"/>
          <a:stretch/>
        </p:blipFill>
        <p:spPr>
          <a:xfrm>
            <a:off x="142920" y="428760"/>
            <a:ext cx="870120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pre.russia.travel/upload/uf/179/179da06bd210c6c7cf6f46ae90efac9a.jpg"/>
          <p:cNvPicPr/>
          <p:nvPr/>
        </p:nvPicPr>
        <p:blipFill>
          <a:blip r:embed="rId1"/>
          <a:srcRect l="0" t="0" r="0" b="7058"/>
          <a:stretch/>
        </p:blipFill>
        <p:spPr>
          <a:xfrm>
            <a:off x="214200" y="500040"/>
            <a:ext cx="87440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http://f.otzyv.ru/f/11/10/89913/24403/1512131953216.jpg"/>
          <p:cNvPicPr/>
          <p:nvPr/>
        </p:nvPicPr>
        <p:blipFill>
          <a:blip r:embed="rId1"/>
          <a:stretch/>
        </p:blipFill>
        <p:spPr>
          <a:xfrm>
            <a:off x="428760" y="571680"/>
            <a:ext cx="843120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Аттракционы в лакреевском лесу - Чебоксары"/>
          <p:cNvPicPr/>
          <p:nvPr/>
        </p:nvPicPr>
        <p:blipFill>
          <a:blip r:embed="rId1"/>
          <a:stretch/>
        </p:blipFill>
        <p:spPr>
          <a:xfrm>
            <a:off x="179280" y="189000"/>
            <a:ext cx="875376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cheboksar.net/uploads/posts/2012-03/1332499896_sdc13541-1.jpg"/>
          <p:cNvPicPr/>
          <p:nvPr/>
        </p:nvPicPr>
        <p:blipFill>
          <a:blip r:embed="rId1"/>
          <a:stretch/>
        </p:blipFill>
        <p:spPr>
          <a:xfrm>
            <a:off x="250920" y="189000"/>
            <a:ext cx="868680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foto.cheb.ru/foto/foto.cheb.ru-6666.jpg"/>
          <p:cNvPicPr/>
          <p:nvPr/>
        </p:nvPicPr>
        <p:blipFill>
          <a:blip r:embed="rId1"/>
          <a:srcRect l="0" t="5428" r="0" b="0"/>
          <a:stretch/>
        </p:blipFill>
        <p:spPr>
          <a:xfrm>
            <a:off x="0" y="1285920"/>
            <a:ext cx="9144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7T16:44:34Z</dcterms:created>
  <dc:creator>355</dc:creator>
  <dc:description/>
  <dc:language>en-US</dc:language>
  <cp:lastModifiedBy>Windows User</cp:lastModifiedBy>
  <dcterms:modified xsi:type="dcterms:W3CDTF">2016-08-19T09:15:57Z</dcterms:modified>
  <cp:revision>13</cp:revision>
  <dc:subject/>
  <dc:title>Чебоксары</dc:title>
</cp:coreProperties>
</file>