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037-A81F-4461-9960-A0F16EC93D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езнодорожный вокз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A815-4F3C-422F-B5B0-30604CA023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AD4-C540-49EC-9E79-7198C164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B1E-7857-46DB-AF40-70D5EEB7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8B0-87A7-49A6-9BD6-2996EF22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314-720C-4E75-90FA-3AC62D4D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79E-C71C-402E-B333-C034E481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7E0-D3CA-47B3-9587-B8502200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0A2-EB7C-4C9A-AA93-0747047F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5FA-CD51-4618-8CC6-BAF92E25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11D-EF27-428A-927F-C7096B06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0D3-AFF8-407E-9A85-F86223B4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220-3A30-4FB3-9B79-F21ACED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EEB-163A-4BCF-8121-77F80605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0919-1DCA-4983-9EA0-B08BFBE1FF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c00000"/>
                </a:solidFill>
                <a:latin typeface="Calibri"/>
              </a:rPr>
              <a:t>Чебоксары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biblio.chgpu.edu.ru/IMG/contacts/glkorp.jpg"/>
          <p:cNvPicPr/>
          <p:nvPr/>
        </p:nvPicPr>
        <p:blipFill>
          <a:blip r:embed="rId1"/>
          <a:stretch/>
        </p:blipFill>
        <p:spPr>
          <a:xfrm>
            <a:off x="500040" y="285840"/>
            <a:ext cx="79297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img-2006-09.photosight.ru/05/16292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fotoham.ru/img/picture/Oct/11/e68ba0a3c2027dfd005290e40169a201/1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trip-guide.ru/img/14521/86862.jpg"/>
          <p:cNvPicPr/>
          <p:nvPr/>
        </p:nvPicPr>
        <p:blipFill>
          <a:blip r:embed="rId1"/>
          <a:srcRect l="5861" t="0" r="0" b="0"/>
          <a:stretch/>
        </p:blipFill>
        <p:spPr>
          <a:xfrm>
            <a:off x="0" y="476280"/>
            <a:ext cx="9136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afisha.cheb.ru/pics/big/135255.jpg"/>
          <p:cNvPicPr/>
          <p:nvPr/>
        </p:nvPicPr>
        <p:blipFill>
          <a:blip r:embed="rId1"/>
          <a:srcRect l="0" t="0" r="0" b="8868"/>
          <a:stretch/>
        </p:blipFill>
        <p:spPr>
          <a:xfrm>
            <a:off x="0" y="26028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https://pre.russia.travel/upload/uf/125/1256d89a0d54545b78cde1af6f5eb3c0.jpg"/>
          <p:cNvPicPr/>
          <p:nvPr/>
        </p:nvPicPr>
        <p:blipFill>
          <a:blip r:embed="rId1"/>
          <a:srcRect l="0" t="0" r="0" b="7808"/>
          <a:stretch/>
        </p:blipFill>
        <p:spPr>
          <a:xfrm>
            <a:off x="142920" y="428760"/>
            <a:ext cx="87012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pre.russia.travel/upload/uf/179/179da06bd210c6c7cf6f46ae90efac9a.jpg"/>
          <p:cNvPicPr/>
          <p:nvPr/>
        </p:nvPicPr>
        <p:blipFill>
          <a:blip r:embed="rId1"/>
          <a:srcRect l="0" t="0" r="0" b="7058"/>
          <a:stretch/>
        </p:blipFill>
        <p:spPr>
          <a:xfrm>
            <a:off x="214200" y="500040"/>
            <a:ext cx="87440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f.otzyv.ru/f/11/10/89913/24403/1512131953216.jpg"/>
          <p:cNvPicPr/>
          <p:nvPr/>
        </p:nvPicPr>
        <p:blipFill>
          <a:blip r:embed="rId1"/>
          <a:stretch/>
        </p:blipFill>
        <p:spPr>
          <a:xfrm>
            <a:off x="428760" y="571680"/>
            <a:ext cx="843120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Аттракционы в лакреевском лесу - Чебоксары"/>
          <p:cNvPicPr/>
          <p:nvPr/>
        </p:nvPicPr>
        <p:blipFill>
          <a:blip r:embed="rId1"/>
          <a:stretch/>
        </p:blipFill>
        <p:spPr>
          <a:xfrm>
            <a:off x="179280" y="189000"/>
            <a:ext cx="87537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cheboksar.net/uploads/posts/2012-03/1332499896_sdc13541-1.jpg"/>
          <p:cNvPicPr/>
          <p:nvPr/>
        </p:nvPicPr>
        <p:blipFill>
          <a:blip r:embed="rId1"/>
          <a:stretch/>
        </p:blipFill>
        <p:spPr>
          <a:xfrm>
            <a:off x="250920" y="189000"/>
            <a:ext cx="86868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foto.cheb.ru/foto/foto.cheb.ru-6666.jpg"/>
          <p:cNvPicPr/>
          <p:nvPr/>
        </p:nvPicPr>
        <p:blipFill>
          <a:blip r:embed="rId1"/>
          <a:srcRect l="0" t="5428" r="0" b="0"/>
          <a:stretch/>
        </p:blipFill>
        <p:spPr>
          <a:xfrm>
            <a:off x="0" y="1285920"/>
            <a:ext cx="9144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7T16:44:34Z</dcterms:created>
  <dc:creator>355</dc:creator>
  <dc:description/>
  <dc:language>en-US</dc:language>
  <cp:lastModifiedBy>Windows User</cp:lastModifiedBy>
  <dcterms:modified xsi:type="dcterms:W3CDTF">2016-08-19T09:15:57Z</dcterms:modified>
  <cp:revision>13</cp:revision>
  <dc:subject/>
  <dc:title>Чебоксары</dc:title>
</cp:coreProperties>
</file>