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A46-EAA5-4153-887C-80BE7F37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8B2-E05B-414F-AD34-5487BFE1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A6C-BD81-4471-929E-890D35B7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1A6-72EE-4BD6-B020-5900E605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C9AE-810D-4AE5-9F0F-B35F245D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CDB2-1E23-4837-BEC0-3AC971DE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4DA8-E740-481F-98B6-9FE109B8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F01B-2689-4DDC-A9CB-A8413F54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C049-CFAE-4D77-914F-FB5F6A18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FE0E-7BEF-473C-B2B7-1E016CB0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B96C-806C-45E1-8E54-4D5A5517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FE2-7266-4E4D-B0A8-CCA0250A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2F3-24B6-4831-A5FA-F9AC2F3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74C5-B9A7-48F2-BD3B-A2822D28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53BE-E8B9-4B68-87E9-D6AD86A1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2510-AF8A-47E8-9E72-DEB066CB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C19B-D798-4A03-BAE5-1AF31D30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0D14-3723-448E-8040-1373C0B0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AC395-1370-4D8B-83D3-25030880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CAE8-7D22-47BC-A55A-23EAD664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7B522-A017-453B-8099-0889587F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F47E-F159-407C-8A33-CBF00DDC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1C9-81BF-4A3D-A4B7-D505CA5B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F1646-6B05-479D-8686-57C2D7D9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F3FD-D508-4052-9D49-82CEEA6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9894-9318-4D7F-AAB2-824A99CF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7C0C0-72C1-4FAB-A1ED-10513704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A51C-EEEE-490A-88A1-C5F35C3E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E8E8-C18A-4217-9F70-C9A55383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DC4F5-B1AB-4978-8194-B2E4A233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2A1-7A09-49AE-A583-63E1ED55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C36A-C4BA-4543-9522-8B6AF7BC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340-4BC9-47B7-8344-6E8A9032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D43-419D-439F-890B-391F5F02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C6A-6051-4C56-AD70-2CE2A439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5AC-D5CF-4663-8482-94086611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CC1E-1D84-4804-B7F7-CFCBF7E3B46C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F991-6A48-4E39-B082-B3A6D644354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EF29-AEB1-456D-88AB-F9C039F4F9A4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oskart.ru/tsifry.html" TargetMode="External"/><Relationship Id="rId2" Type="http://schemas.openxmlformats.org/officeDocument/2006/relationships/hyperlink" Target="http://posl.sc11tavda.edusite.ru/p3aa1.html" TargetMode="External"/><Relationship Id="rId3" Type="http://schemas.openxmlformats.org/officeDocument/2006/relationships/hyperlink" Target="http://gimnasy.tukalinsk.omskedu.ru/index.php/component/content/article/225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34880" y="764640"/>
            <a:ext cx="5829480" cy="25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ПРОЕКТ </a:t>
            </a:r>
            <a:br>
              <a:rPr sz="5400"/>
            </a:br>
            <a:r>
              <a:rPr b="1" i="1" lang="ru-RU" sz="54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«ЧИСЛА В ПОСЛОВИЦАХ </a:t>
            </a:r>
            <a:br>
              <a:rPr sz="5400"/>
            </a:br>
            <a:r>
              <a:rPr b="1" i="1" lang="ru-RU" sz="54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И ПОГОВОРКАХ»</a:t>
            </a:r>
            <a:endParaRPr b="0" lang="en-US" sz="5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29" name="Рисунок 3" descr="552.png"/>
          <p:cNvPicPr/>
          <p:nvPr/>
        </p:nvPicPr>
        <p:blipFill>
          <a:blip r:embed="rId1"/>
          <a:stretch/>
        </p:blipFill>
        <p:spPr>
          <a:xfrm rot="910800">
            <a:off x="1258560" y="475920"/>
            <a:ext cx="160488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d4bb7dcf5253.jpg"/>
          <p:cNvPicPr/>
          <p:nvPr/>
        </p:nvPicPr>
        <p:blipFill>
          <a:blip r:embed="rId2"/>
          <a:stretch/>
        </p:blipFill>
        <p:spPr>
          <a:xfrm rot="20340600">
            <a:off x="1116000" y="2852280"/>
            <a:ext cx="1389240" cy="1976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9b7036b42a20.jpg"/>
          <p:cNvPicPr/>
          <p:nvPr/>
        </p:nvPicPr>
        <p:blipFill>
          <a:blip r:embed="rId3"/>
          <a:stretch/>
        </p:blipFill>
        <p:spPr>
          <a:xfrm>
            <a:off x="2340000" y="4508640"/>
            <a:ext cx="1490760" cy="2120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3708360" y="4508640"/>
            <a:ext cx="481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Работу выполнила ученица 6 «А» класса Иванова К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9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инственную силу приписывали древние и числу девять, причем в одни времена добрую, в другие – злую. Число девять весьма часто встречается в русской народной куль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87280" y="3427200"/>
            <a:ext cx="76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За тридевять земель, в тридевятом цар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Девятый в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135"/>
          <p:cNvPicPr/>
          <p:nvPr/>
        </p:nvPicPr>
        <p:blipFill>
          <a:blip r:embed="rId1"/>
          <a:stretch/>
        </p:blipFill>
        <p:spPr>
          <a:xfrm>
            <a:off x="1476360" y="4076640"/>
            <a:ext cx="15526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12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7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почитается число двенадцать, «дюжина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месяцев в год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знаков Зодиа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делений на циферблатах ча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зы на 12 пер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12 замыкало с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187280" y="3357720"/>
            <a:ext cx="76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 году двенадцать месяцев, и в каждом - свои яг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равда двенадцать цепей разорв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дного воробья на двенадцать блюд не разложишь.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" descr="057"/>
          <p:cNvPicPr/>
          <p:nvPr/>
        </p:nvPicPr>
        <p:blipFill>
          <a:blip r:embed="rId1"/>
          <a:stretch/>
        </p:blipFill>
        <p:spPr>
          <a:xfrm>
            <a:off x="3851280" y="4764240"/>
            <a:ext cx="20937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6" descr="9b7036b42a20.jpg"/>
          <p:cNvPicPr/>
          <p:nvPr/>
        </p:nvPicPr>
        <p:blipFill>
          <a:blip r:embed="rId1"/>
          <a:stretch/>
        </p:blipFill>
        <p:spPr>
          <a:xfrm>
            <a:off x="4211640" y="4403880"/>
            <a:ext cx="1490760" cy="21207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d4bb7dcf5253.jpg"/>
          <p:cNvPicPr/>
          <p:nvPr/>
        </p:nvPicPr>
        <p:blipFill>
          <a:blip r:embed="rId2"/>
          <a:stretch/>
        </p:blipFill>
        <p:spPr>
          <a:xfrm>
            <a:off x="5508720" y="4292640"/>
            <a:ext cx="1671480" cy="23781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13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3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надцать сулит одни неприятности. Оно простое и делится только на себя и единицу. Суеверия, связанные с числом 13, оказались наиболее устойчивыми и получили наибольшее распростра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аших предков – славян не было суеверий, связанных с числом 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258920" y="3213000"/>
            <a:ext cx="76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ашего брата по тринадцати на дюжину кладу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а и то не бер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Тринадцатый гость под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100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 - число, выражающее полное совершенство (10x1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ра делится на столе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100 состоит из единицы и двух нуле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 1с языка чисел переводится как "энергия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 0 переводится как "созревание" или "засыпание" 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1187280" y="2853000"/>
            <a:ext cx="76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Не имей сто рублей, а имей сто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Лучше один  раз увидеть, чем сто раз услыш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дним махом сто побивахом, а прочих не считах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то голов - сто у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Трус умирает сто раз, а герой - один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дна весна на Родине лучше, чем сто весен на чужб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ля матери ребёнок до ста лет дитё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 субботу в обед будет сто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Верный друг лучше сотни 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1284486490YWW05M"/>
          <p:cNvPicPr/>
          <p:nvPr/>
        </p:nvPicPr>
        <p:blipFill>
          <a:blip r:embed="rId1"/>
          <a:stretch/>
        </p:blipFill>
        <p:spPr>
          <a:xfrm>
            <a:off x="755640" y="5229360"/>
            <a:ext cx="2340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Corbel"/>
              </a:rPr>
              <a:t>Заключение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Люди с древних времён вкладывали в числа определённый смысл. Всё это нашло отражение в устном народном творчестве, в том числе и в пословицах и поговорках.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a6b727"/>
                </a:solidFill>
                <a:latin typeface="Corbel"/>
              </a:rPr>
              <a:t>Оказалось, что чаще всего в пословицах и поговорках встречаются числа –1, 3, 7.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Corbel"/>
              </a:rPr>
              <a:t>Источники информации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Александров Э., Левшин В. В лабиринте чисел.М.: Художественная литература, 2004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Аникин В.П. Русские народные пословицы, поговорки, загадки и детский фольклор. М.: Просвещение, 2004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Волина В.В. Пословицы, поговорки, ребусы. С.-Пб, Дидактика Плюс, 2009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Даль В.И. Пословицы русского народа, М.: Художественная литература, 2003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Пословицы, поговорки.  </a:t>
            </a:r>
            <a:r>
              <a:rPr b="0" lang="ru-RU" sz="1900" spc="-1" strike="noStrike" u="sng">
                <a:solidFill>
                  <a:srgbClr val="f59e00"/>
                </a:solidFill>
                <a:uFillTx/>
                <a:latin typeface="Corbel"/>
                <a:hlinkClick r:id="rId1"/>
              </a:rPr>
              <a:t>http://www.poskart.ru/tsifry.html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Пословицы про счёт. </a:t>
            </a:r>
            <a:r>
              <a:rPr b="0" lang="ru-RU" sz="1900" spc="-1" strike="noStrike" u="sng">
                <a:solidFill>
                  <a:srgbClr val="f59e00"/>
                </a:solidFill>
                <a:uFillTx/>
                <a:latin typeface="Corbel"/>
                <a:hlinkClick r:id="rId2"/>
              </a:rPr>
              <a:t>http://posl.sc11tavda.edusite.ru/p3aa1.html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Числа и пословицы. </a:t>
            </a:r>
            <a:r>
              <a:rPr b="0" lang="ru-RU" sz="1900" spc="-1" strike="noStrike" u="sng">
                <a:solidFill>
                  <a:srgbClr val="f59e00"/>
                </a:solidFill>
                <a:uFillTx/>
                <a:latin typeface="Corbel"/>
                <a:hlinkClick r:id="rId3"/>
              </a:rPr>
              <a:t>http://gimnasy.tukalinsk.omskedu.ru/index.php/component/content/article/225.html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678240" indent="-597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a6b727"/>
                </a:solidFill>
                <a:latin typeface="Corbel"/>
              </a:rPr>
              <a:t>Картинки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 u="sng">
                <a:solidFill>
                  <a:srgbClr val="a6b727"/>
                </a:solidFill>
                <a:uFillTx/>
                <a:latin typeface="Corbel"/>
              </a:rPr>
              <a:t>Содержание: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4" name="Заголовок 1"/>
          <p:cNvSpPr/>
          <p:nvPr/>
        </p:nvSpPr>
        <p:spPr>
          <a:xfrm>
            <a:off x="1538280" y="1773360"/>
            <a:ext cx="7497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1538280" y="1268280"/>
            <a:ext cx="7497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1116000" y="1437840"/>
            <a:ext cx="80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 Введ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 Из истории пословиц и погово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. Волшебные числа в произведениях устного народного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1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2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3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7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9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12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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Число 13 в пословицах и погово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. Заключение. Выводы по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5. Источники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1"/>
          <p:cNvSpPr/>
          <p:nvPr/>
        </p:nvSpPr>
        <p:spPr>
          <a:xfrm>
            <a:off x="1258920" y="0"/>
            <a:ext cx="7497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изучении русского фольклора, я заметила, что в пословицах и поговорках очень часто употребляются чис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чему числа нашли свое отражение в русских пословицах и поговорка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ва их роль в устном народном творчеств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332000" y="2451600"/>
            <a:ext cx="781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следовать пословицы, поговорки, в которых есть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Гипотез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а в пословицах и поговорках имеют магический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Провести анализ литературы с целью выявления и классификации пословиц с числами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пределить, каким числам народная мудрость посвятила больше послов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истематизировать пословицы с числами 1,2,3,7,9,12, 13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3" descr="552.png"/>
          <p:cNvPicPr/>
          <p:nvPr/>
        </p:nvPicPr>
        <p:blipFill>
          <a:blip r:embed="rId1"/>
          <a:stretch/>
        </p:blipFill>
        <p:spPr>
          <a:xfrm>
            <a:off x="250920" y="4581360"/>
            <a:ext cx="1049400" cy="1494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d4bb7dcf5253.jpg"/>
          <p:cNvPicPr/>
          <p:nvPr/>
        </p:nvPicPr>
        <p:blipFill>
          <a:blip r:embed="rId2"/>
          <a:stretch/>
        </p:blipFill>
        <p:spPr>
          <a:xfrm rot="21469800">
            <a:off x="250920" y="2708280"/>
            <a:ext cx="1085760" cy="1544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6" descr="9b7036b42a20.jpg"/>
          <p:cNvPicPr/>
          <p:nvPr/>
        </p:nvPicPr>
        <p:blipFill>
          <a:blip r:embed="rId3"/>
          <a:stretch/>
        </p:blipFill>
        <p:spPr>
          <a:xfrm>
            <a:off x="250920" y="692280"/>
            <a:ext cx="9334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8000" y="188640"/>
            <a:ext cx="8460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Corbel"/>
              </a:rPr>
              <a:t>Из истории пословиц и поговорок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43" name="Рисунок 4" descr="6l9n3zfraqeq.jpg"/>
          <p:cNvPicPr/>
          <p:nvPr/>
        </p:nvPicPr>
        <p:blipFill>
          <a:blip r:embed="rId1"/>
          <a:stretch/>
        </p:blipFill>
        <p:spPr>
          <a:xfrm rot="21440400">
            <a:off x="1258560" y="3933720"/>
            <a:ext cx="1471680" cy="2035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1116000" y="112536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русского народа существует огромное множество пословиц и поговорок. Трудно сказать, с каких времён среди народа начали ходить пословицы и поговорки. Появились они ещё в то время, когда не было письм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187280" y="2406240"/>
            <a:ext cx="7561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ов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– краткие народные изречения с назидательным содержанием, народные афоризмы. В пословице есть второй смысл, это аллегор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Чем дальше в лес, тем больше д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700360" y="3638160"/>
            <a:ext cx="5977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ословицы есть родная сестра –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говор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Они похожи друг на друга. Поговорки – краткие устойчивые выражения, не составляющие, в отличие от пословиц, законченных высказы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емь пятниц на неде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715120" y="5171040"/>
            <a:ext cx="645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65349"/>
                </a:solidFill>
                <a:latin typeface="Arial"/>
              </a:rPr>
              <a:t>«Поговорка – цветок, пословица – ягод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2700360" y="5733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большой сборник пословиц принадлежит Владимиру Ивановичу Дал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7" descr="1297639810_1845558"/>
          <p:cNvPicPr/>
          <p:nvPr/>
        </p:nvPicPr>
        <p:blipFill>
          <a:blip r:embed="rId2"/>
          <a:stretch/>
        </p:blipFill>
        <p:spPr>
          <a:xfrm>
            <a:off x="249120" y="3500280"/>
            <a:ext cx="245124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4980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 u="sng">
                <a:solidFill>
                  <a:srgbClr val="a6b727"/>
                </a:solidFill>
                <a:uFillTx/>
                <a:latin typeface="Corbel"/>
              </a:rPr>
              <a:t>Волшебные числа в произведениях устного народного творчества</a:t>
            </a:r>
            <a:endParaRPr b="0" lang="en-US" sz="3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1332000" y="907920"/>
            <a:ext cx="7497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 очень часто употреблял в пословицах и поговорках числа. У каждого народа свой набор числовых символо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ровела опрос своих одноклассников и выяс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87280" y="2349360"/>
          <a:ext cx="7488360" cy="4175280"/>
        </p:xfrm>
        <a:graphic>
          <a:graphicData uri="http://schemas.openxmlformats.org/drawingml/2006/table">
            <a:tbl>
              <a:tblPr/>
              <a:tblGrid>
                <a:gridCol w="654120"/>
                <a:gridCol w="2990880"/>
                <a:gridCol w="38433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ете ли вы пословицы и поговорки, в которых есть числ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е числа чаще всего встречаются в пословицах и поговорка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    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   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  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 5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дите примеры пословиц с числ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в поле не воин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14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нога тут, другая там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нуться в три погибел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2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ро одного не ждут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4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 раз отмерь, один раз отрежь- 13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й сто рублей, а имей сто друзе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 один раз увидеть, чем сто раз услышать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8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2" descr="Картинка 4 из 192723"/>
          <p:cNvPicPr/>
          <p:nvPr/>
        </p:nvPicPr>
        <p:blipFill>
          <a:blip r:embed="rId1"/>
          <a:stretch/>
        </p:blipFill>
        <p:spPr>
          <a:xfrm>
            <a:off x="2700360" y="5084640"/>
            <a:ext cx="165564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6" descr="9b7036b42a20.jpg"/>
          <p:cNvPicPr/>
          <p:nvPr/>
        </p:nvPicPr>
        <p:blipFill>
          <a:blip r:embed="rId1"/>
          <a:stretch/>
        </p:blipFill>
        <p:spPr>
          <a:xfrm>
            <a:off x="0" y="2924280"/>
            <a:ext cx="1873080" cy="2665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15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1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Единица – изобретение математиков, она нужна для счета, и в магии чисел ее не существует. В древних текстах слово «один» употребляется нечасто и означает нечто неделимое, целостное, такое, как Бог, Космос, Вселенная.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  в некоторых пословицах единица означает  что-то очень малое, незначительно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258920" y="2829240"/>
            <a:ext cx="7634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ин в поле не во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ин в море  не рыб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Семь бед - один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ин за всех и все за од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Лучше один  раз увидеть, чем сто раз услыш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В страду одна забота – не стояла бы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т великого до смешного – один ша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на голова – хорошо, а две луч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ин дурак пятерых умных сс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Barron"/>
              </a:rPr>
              <a:t>Одна голова – два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ANd9GcSkuS0BEKxWKeaJ5WzkLmQAC0jQHc9WYZK2VWnxvi2Iiv6L3mvjRw"/>
          <p:cNvPicPr/>
          <p:nvPr/>
        </p:nvPicPr>
        <p:blipFill>
          <a:blip r:embed="rId1"/>
          <a:stretch/>
        </p:blipFill>
        <p:spPr>
          <a:xfrm>
            <a:off x="250920" y="350028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2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ии числа Двойка как бы есть, но вроде ее нет. Просто деление на свет и тьм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нак сравнения одного с другим. А еще Двойка – символ взаимоотношений и взаимодействий человека с тем, что его окруж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258920" y="2844000"/>
            <a:ext cx="7634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тарый  друг лучше новых дв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ва медведя в одной берлоге не уживу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 двумя зайцами   погонишься  - ни  одного  не  пойма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ва сапога – п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дна голова – хорошо, а две луч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купой платит дваж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Убить двух зай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вум смертям не бывать, а одной не мин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Лентяй да шалопай – два родных б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Из двух зол выбирай меньш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За битого двух небитых д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4" descr="d4bb7dcf5253.jpg"/>
          <p:cNvPicPr/>
          <p:nvPr/>
        </p:nvPicPr>
        <p:blipFill>
          <a:blip r:embed="rId1"/>
          <a:stretch/>
        </p:blipFill>
        <p:spPr>
          <a:xfrm>
            <a:off x="0" y="3068640"/>
            <a:ext cx="1873080" cy="2665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3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и – первое в магическом ряду число. Оно открывает настоящий магический счет, с ним появляется что – то действительно новое. Время мы делим на три – прошлое, настоящее, будущее, пространство мы делим на три – ширину, длину, высот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три у многих народов священ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187280" y="3140280"/>
            <a:ext cx="7634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Заблудиться в трёх сос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Бог любит тро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У мужика в августе три заботы: и косить, и пахать, и се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е узнавай друга в три дня – узнавай в три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Обещанного три года жд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От горшка три вер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Наврал с три коро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лакать в три ру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огнуться в три погиб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7"/>
          <p:cNvPicPr/>
          <p:nvPr/>
        </p:nvPicPr>
        <p:blipFill>
          <a:blip r:embed="rId1"/>
          <a:stretch/>
        </p:blipFill>
        <p:spPr>
          <a:xfrm>
            <a:off x="0" y="3357720"/>
            <a:ext cx="3384720" cy="2706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259920"/>
            <a:ext cx="7715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 u="sng">
                <a:solidFill>
                  <a:srgbClr val="a6b727"/>
                </a:solidFill>
                <a:uFillTx/>
                <a:latin typeface="Monotype Corsiva"/>
              </a:rPr>
              <a:t>Пословицы и поговорки с числом 7.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1332000" y="836640"/>
            <a:ext cx="7497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 – самое «путаное» число на свете. Семерка – число, которое используется, чтобы указать на что – то необычное, даже сверхъестественное. Число 7 – символ обновления. Большое значение числу семь придаёт христианская  религия. «Бог создал мир за 7 дней», посвятив седьмой день отдыху. В глубокой древности это число долгое время считалось неопределённо большим количеством.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187280" y="2882520"/>
            <a:ext cx="76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ь раз отмерь, один раз отре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еро одного не ж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ь пятниц на нед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Тайна за семью печа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еро с ложкой, а один с со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У семи нянек дитя без гл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еро – не один, в обиду не дад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Лук  от семи нед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ь ворот, да все в о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дним махом семерых убивах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еро одного не ж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и пядей во лб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емь бед - один ответ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3:04:29Z</dcterms:created>
  <dc:creator>user</dc:creator>
  <dc:description/>
  <dc:language>en-US</dc:language>
  <cp:lastModifiedBy>User</cp:lastModifiedBy>
  <dcterms:modified xsi:type="dcterms:W3CDTF">2021-04-06T09:56:24Z</dcterms:modified>
  <cp:revision>24</cp:revision>
  <dc:subject/>
  <dc:title>Учебный проект по математике  для 5 класса Цифры в пословицах и поговорках</dc:title>
</cp:coreProperties>
</file>