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310-6C09-4B11-AD28-F3F92AF2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AD5-745F-4F16-B35F-392FB0A2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A02-4488-4E4D-9D29-4AC1FD7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DBB-457A-40D4-907A-9384209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766-B439-46F6-808F-EBF6E69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0CA8-2E08-448F-AC11-80B39E9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319B-4030-486B-ABC9-5C15A8E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DD8-9DFA-4199-8E19-A2882499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41A-419A-4EDB-B1C2-7B20745E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DF2-0335-4195-9DB6-C638B0D9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238-60EA-478A-816E-EDD5A02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A21-B4A9-4516-8EC7-CF23D32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FCD3-05C1-472D-A356-23D567D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A783-B603-4165-99EB-FD37E1E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996-76A0-4E54-A816-636CDE2E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D6D3-131B-46AC-9881-3DA5331C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AC7E-C788-400E-8F2F-ED251DE3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ECF4-E402-4F96-A734-EBAB1064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236C-B71B-43E7-BA1B-FD37D49C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991E-28A7-4225-8090-D93ED943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679E-D2DB-4D50-86A9-F135993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154E-E545-4C6E-A62C-783DDFD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909-81BE-44C9-9A0B-C717011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7F0F-EFE6-4FB4-B654-5EA41D5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D159-EFB3-44DB-980A-DBAF3BA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13CA-530C-4390-9824-83D5B2E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0AFB-05D7-46EB-A34E-43C94CC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C64D-3E1B-46A1-B4F2-341E564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FE6E-5964-4FF6-A29E-8CE82539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41CD-C4D5-4EB2-8689-1A344C25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E30-4482-4BD2-8B84-01298F6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F43-ED8E-40F3-8D8F-D9F105C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6A2-745E-4BB7-8D4F-0014A56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EFE-C050-47AD-BDB0-E091B44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C53-0A19-4919-AD6A-7DEA2AD6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EDF-1097-4C90-8D33-96EC424A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1782-326B-4392-83AB-E1CF8AE4C967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E4F-2363-46C0-BE31-C3960A3AC9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B72-C79D-4AFE-867E-B86599B8DB9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skart.ru/tsifry.html" TargetMode="External"/><Relationship Id="rId2" Type="http://schemas.openxmlformats.org/officeDocument/2006/relationships/hyperlink" Target="http://posl.sc11tavda.edusite.ru/p3aa1.html" TargetMode="External"/><Relationship Id="rId3" Type="http://schemas.openxmlformats.org/officeDocument/2006/relationships/hyperlink" Target="http://gimnasy.tukalinsk.omskedu.ru/index.php/component/content/article/225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34880" y="764640"/>
            <a:ext cx="582948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ПРОЕКТ </a:t>
            </a:r>
            <a:br>
              <a:rPr sz="5400"/>
            </a:b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ЧИСЛА В ПОСЛОВИЦАХ </a:t>
            </a:r>
            <a:br>
              <a:rPr sz="5400"/>
            </a:b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И ПОГОВОРКАХ»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29" name="Рисунок 3" descr="552.png"/>
          <p:cNvPicPr/>
          <p:nvPr/>
        </p:nvPicPr>
        <p:blipFill>
          <a:blip r:embed="rId1"/>
          <a:stretch/>
        </p:blipFill>
        <p:spPr>
          <a:xfrm rot="910800">
            <a:off x="1258560" y="475920"/>
            <a:ext cx="160488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d4bb7dcf5253.jpg"/>
          <p:cNvPicPr/>
          <p:nvPr/>
        </p:nvPicPr>
        <p:blipFill>
          <a:blip r:embed="rId2"/>
          <a:stretch/>
        </p:blipFill>
        <p:spPr>
          <a:xfrm rot="20340600">
            <a:off x="1116000" y="2852280"/>
            <a:ext cx="1389240" cy="1976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9b7036b42a20.jpg"/>
          <p:cNvPicPr/>
          <p:nvPr/>
        </p:nvPicPr>
        <p:blipFill>
          <a:blip r:embed="rId3"/>
          <a:stretch/>
        </p:blipFill>
        <p:spPr>
          <a:xfrm>
            <a:off x="2340000" y="4508640"/>
            <a:ext cx="1490760" cy="2120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70836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боту выполнила ученица 6 «А» класса Иванова К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9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инственную силу приписывали древние и числу девять, причем в одни времена добрую, в другие – злую. Число девять весьма часто встречается в русской народ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87280" y="342720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За тридевять земель, в тридевятом цар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евятый 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135"/>
          <p:cNvPicPr/>
          <p:nvPr/>
        </p:nvPicPr>
        <p:blipFill>
          <a:blip r:embed="rId1"/>
          <a:stretch/>
        </p:blipFill>
        <p:spPr>
          <a:xfrm>
            <a:off x="1476360" y="4076640"/>
            <a:ext cx="15526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2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читается число двенадцать, «дюжина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месяцев в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знаков Зодиа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делений на циферблатах ча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зы на 12 пер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12 замыкало с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187280" y="3357720"/>
            <a:ext cx="76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году двенадцать месяцев, и в каждом - свои я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авда двенадцать цепей разор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ого воробья на двенадцать блюд не разложишь.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057"/>
          <p:cNvPicPr/>
          <p:nvPr/>
        </p:nvPicPr>
        <p:blipFill>
          <a:blip r:embed="rId1"/>
          <a:stretch/>
        </p:blipFill>
        <p:spPr>
          <a:xfrm>
            <a:off x="3851280" y="4764240"/>
            <a:ext cx="2093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6" descr="9b7036b42a20.jpg"/>
          <p:cNvPicPr/>
          <p:nvPr/>
        </p:nvPicPr>
        <p:blipFill>
          <a:blip r:embed="rId1"/>
          <a:stretch/>
        </p:blipFill>
        <p:spPr>
          <a:xfrm>
            <a:off x="4211640" y="4403880"/>
            <a:ext cx="1490760" cy="21207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d4bb7dcf5253.jpg"/>
          <p:cNvPicPr/>
          <p:nvPr/>
        </p:nvPicPr>
        <p:blipFill>
          <a:blip r:embed="rId2"/>
          <a:stretch/>
        </p:blipFill>
        <p:spPr>
          <a:xfrm>
            <a:off x="5508720" y="4292640"/>
            <a:ext cx="1671480" cy="2378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3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надцать сулит одни неприятности. Оно простое и делится только на себя и единицу. Суеверия, связанные с числом 13, оказались наиболее устойчивыми и получили наибольшее распростра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аших предков – славян не было суеверий, связанных с числом 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58920" y="321300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ашего брата по тринадцати на дюжину клад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 и то не бе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ринадцатый гость под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00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 - число, выражающее полное совершенство (10x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а делится на столе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100 состоит из единицы и двух нуле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 1с языка чисел переводится как "энергия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 0 переводится как "созревание" или "засыпание" 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187280" y="285300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е имей сто рублей, а имей сто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учше один  раз увидеть, чем сто раз услы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им махом сто побивахом, а прочих не счит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о голов - сто у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рус умирает сто раз, а герой -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а весна на Родине лучше, чем сто весен на чужб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ля матери ребёнок до ста лет дитё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субботу в обед будет сто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ерный друг лучше сотни 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1284486490YWW05M"/>
          <p:cNvPicPr/>
          <p:nvPr/>
        </p:nvPicPr>
        <p:blipFill>
          <a:blip r:embed="rId1"/>
          <a:stretch/>
        </p:blipFill>
        <p:spPr>
          <a:xfrm>
            <a:off x="755640" y="5229360"/>
            <a:ext cx="2340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Заключен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Люди с древних времён вкладывали в числа определённый смысл. Всё это нашло отражение в устном народном творчестве, в том числе и в пословицах и поговорках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казалось, что чаще всего в пословицах и поговорках встречаются числа –1, 3, 7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Источники информации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Александров Э., Левшин В. В лабиринте чисел.М.: Художественная литература, 2004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Аникин В.П. Русские народные пословицы, поговорки, загадки и детский фольклор. М.: Просвещение, 2004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Волина В.В. Пословицы, поговорки, ребусы. С.-Пб, Дидактика Плюс, 2009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Даль В.И. Пословицы русского народа, М.: Художественная литература, 2003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Пословицы, поговорки. 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1"/>
              </a:rPr>
              <a:t>http://www.poskart.ru/tsifry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Пословицы про счёт.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2"/>
              </a:rPr>
              <a:t>http://posl.sc11tavda.edusite.ru/p3aa1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Числа и пословицы.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3"/>
              </a:rPr>
              <a:t>http://gimnasy.tukalinsk.omskedu.ru/index.php/component/content/article/225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Картинки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Содержание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1538280" y="1773360"/>
            <a:ext cx="7497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1538280" y="1268280"/>
            <a:ext cx="7497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116000" y="1437840"/>
            <a:ext cx="80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В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 Из истории пословиц и погово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Волшебные числа в произведениях устного народн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2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3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7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9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2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3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Заключение. Выводы по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. Источник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1258920" y="0"/>
            <a:ext cx="7497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изучении русского фольклора, я заметила, что в пословицах и поговорках очень часто употребляются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ему числа нашли свое отражение в русских пословицах и поговорк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ва их роль в устном народном творчеств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332000" y="2451600"/>
            <a:ext cx="78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ть пословицы, поговорки, в которых есть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а в пословицах и поговорках имеют магический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Провести анализ литературы с целью выявления и классификации пословиц с числам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, каким числам народная мудрость посвятила больше послов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истематизировать пословицы с числами 1,2,3,7,9,12, 13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552.png"/>
          <p:cNvPicPr/>
          <p:nvPr/>
        </p:nvPicPr>
        <p:blipFill>
          <a:blip r:embed="rId1"/>
          <a:stretch/>
        </p:blipFill>
        <p:spPr>
          <a:xfrm>
            <a:off x="250920" y="4581360"/>
            <a:ext cx="104940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d4bb7dcf5253.jpg"/>
          <p:cNvPicPr/>
          <p:nvPr/>
        </p:nvPicPr>
        <p:blipFill>
          <a:blip r:embed="rId2"/>
          <a:stretch/>
        </p:blipFill>
        <p:spPr>
          <a:xfrm rot="21469800">
            <a:off x="250920" y="2708280"/>
            <a:ext cx="1085760" cy="1544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9b7036b42a20.jpg"/>
          <p:cNvPicPr/>
          <p:nvPr/>
        </p:nvPicPr>
        <p:blipFill>
          <a:blip r:embed="rId3"/>
          <a:stretch/>
        </p:blipFill>
        <p:spPr>
          <a:xfrm>
            <a:off x="250920" y="692280"/>
            <a:ext cx="933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188640"/>
            <a:ext cx="846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Из истории пословиц и поговорок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3" name="Рисунок 4" descr="6l9n3zfraqeq.jpg"/>
          <p:cNvPicPr/>
          <p:nvPr/>
        </p:nvPicPr>
        <p:blipFill>
          <a:blip r:embed="rId1"/>
          <a:stretch/>
        </p:blipFill>
        <p:spPr>
          <a:xfrm rot="21440400">
            <a:off x="1258560" y="3933720"/>
            <a:ext cx="1471680" cy="203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116000" y="1125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русского народа существует огромное множество пословиц и поговорок. Трудно сказать, с каких времён среди народа начали ходить пословицы и поговорки. Появились они ещё в то время, когда не было письм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187280" y="2406240"/>
            <a:ext cx="756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краткие народные изречения с назидательным содержанием, народные афоризмы. В пословице есть второй смысл, это аллего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Чем дальше в лес, тем больше д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700360" y="3638160"/>
            <a:ext cx="597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ословицы есть родная сестра –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говор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ни похожи друг на друга. Поговорки – краткие устойчивые выражения, не составляющие, в отличие от пословиц, законченных высказы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емь пятниц на нед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715120" y="5171040"/>
            <a:ext cx="645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5349"/>
                </a:solidFill>
                <a:latin typeface="Arial"/>
              </a:rPr>
              <a:t>«Поговорка – цветок, пословица – ягод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700360" y="573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большой сборник пословиц принадлежит Владимиру Ивановичу Да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1297639810_1845558"/>
          <p:cNvPicPr/>
          <p:nvPr/>
        </p:nvPicPr>
        <p:blipFill>
          <a:blip r:embed="rId2"/>
          <a:stretch/>
        </p:blipFill>
        <p:spPr>
          <a:xfrm>
            <a:off x="249120" y="3500280"/>
            <a:ext cx="24512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4980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a6b727"/>
                </a:solidFill>
                <a:uFillTx/>
                <a:latin typeface="Corbel"/>
              </a:rPr>
              <a:t>Волшебные числа в произведениях устного народного творчества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1332000" y="907920"/>
            <a:ext cx="7497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 очень часто употреблял в пословицах и поговорках числа. У каждого народа свой набор числовых символ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овела опрос своих одноклассников и выяс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87280" y="2349360"/>
          <a:ext cx="7488360" cy="4175280"/>
        </p:xfrm>
        <a:graphic>
          <a:graphicData uri="http://schemas.openxmlformats.org/drawingml/2006/table">
            <a:tbl>
              <a:tblPr/>
              <a:tblGrid>
                <a:gridCol w="654120"/>
                <a:gridCol w="2990880"/>
                <a:gridCol w="38433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те ли вы пословицы и поговорки, в которых есть чис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числа чаще всего встречаются в пословицах и поговорка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   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  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5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ите примеры пословиц с числ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в поле не воин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4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нога тут, другая та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нуться в три погибел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ро одного не жду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 раз отмерь, один раз отрежь- 13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й сто рублей, а имей сто друзе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 один раз увидеть, чем сто раз услыша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2" descr="Картинка 4 из 192723"/>
          <p:cNvPicPr/>
          <p:nvPr/>
        </p:nvPicPr>
        <p:blipFill>
          <a:blip r:embed="rId1"/>
          <a:stretch/>
        </p:blipFill>
        <p:spPr>
          <a:xfrm>
            <a:off x="2700360" y="5084640"/>
            <a:ext cx="16556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6" descr="9b7036b42a20.jpg"/>
          <p:cNvPicPr/>
          <p:nvPr/>
        </p:nvPicPr>
        <p:blipFill>
          <a:blip r:embed="rId1"/>
          <a:stretch/>
        </p:blipFill>
        <p:spPr>
          <a:xfrm>
            <a:off x="0" y="2924280"/>
            <a:ext cx="1873080" cy="2665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15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Единица – изобретение математиков, она нужна для счета, и в магии чисел ее не существует. В древних текстах слово «один» употребляется нечасто и означает нечто неделимое, целостное, такое, как Бог, Космос, Вселенная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  в некоторых пословицах единица означает  что-то очень малое, незначительно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258920" y="2829240"/>
            <a:ext cx="763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в поле не во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в море  не ры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Семь бед - один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за всех и все за о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Лучше один  раз увидеть, чем сто раз услы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В страду одна забота – не стояла бы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т великого до смешного – один ш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на голова – хорошо, а две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дурак пятерых умных сс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на голова – два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ANd9GcSkuS0BEKxWKeaJ5WzkLmQAC0jQHc9WYZK2VWnxvi2Iiv6L3mvjRw"/>
          <p:cNvPicPr/>
          <p:nvPr/>
        </p:nvPicPr>
        <p:blipFill>
          <a:blip r:embed="rId1"/>
          <a:stretch/>
        </p:blipFill>
        <p:spPr>
          <a:xfrm>
            <a:off x="250920" y="35002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2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ии числа Двойка как бы есть, но вроде ее нет. Просто деление на свет и тьм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нак сравнения одного с другим. А еще Двойка – символ взаимоотношений и взаимодействий человека с тем, что его окруж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258920" y="2844000"/>
            <a:ext cx="763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арый  друг лучше новых дв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а медведя в одной берлоге не уживу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 двумя зайцами   погонишься  - ни  одного  не  пойм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а сапога – п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а голова – хорошо, а две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купой платит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бить двух зай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ум смертям не бывать, а одной не мин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ентяй да шалопай – два родных б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Из двух зол выбирай мень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 битого двух небитых 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4" descr="d4bb7dcf5253.jpg"/>
          <p:cNvPicPr/>
          <p:nvPr/>
        </p:nvPicPr>
        <p:blipFill>
          <a:blip r:embed="rId1"/>
          <a:stretch/>
        </p:blipFill>
        <p:spPr>
          <a:xfrm>
            <a:off x="0" y="3068640"/>
            <a:ext cx="1873080" cy="2665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3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– первое в магическом ряду число. Оно открывает настоящий магический счет, с ним появляется что – то действительно новое. Время мы делим на три – прошлое, настоящее, будущее, пространство мы делим на три – ширину, длину, высот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три у многих народов священ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87280" y="3140280"/>
            <a:ext cx="763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блудиться в трёх сос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Бог любит тро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 мужика в августе три заботы: и косить, и пахать, и се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е узнавай друга в три дня – узнавай в тр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бещанного три года ж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т горшка три вер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врал с три кор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лакать в три ру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огнуться в три погиб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7"/>
          <p:cNvPicPr/>
          <p:nvPr/>
        </p:nvPicPr>
        <p:blipFill>
          <a:blip r:embed="rId1"/>
          <a:stretch/>
        </p:blipFill>
        <p:spPr>
          <a:xfrm>
            <a:off x="0" y="3357720"/>
            <a:ext cx="3384720" cy="2706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7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 – самое «путаное» число на свете. Семерка – число, которое используется, чтобы указать на что – то необычное, даже сверхъестественное. Число 7 – символ обновления. Большое значение числу семь придаёт христианская  религия. «Бог создал мир за 7 дней», посвятив седьмой день отдыху. В глубокой древности это число долгое время считалось неопределённо большим количеством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187280" y="2882520"/>
            <a:ext cx="76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раз отмерь, один раз отре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пятниц на нед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айна за семью печа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с ложкой, а один с со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 семи нянек дитя без гл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– не один, в обиду не дад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ук  от семи не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ворот, да все в о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им махом семерых убива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и пядей во л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бед - один ответ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3:04:29Z</dcterms:created>
  <dc:creator>user</dc:creator>
  <dc:description/>
  <dc:language>en-US</dc:language>
  <cp:lastModifiedBy>User</cp:lastModifiedBy>
  <dcterms:modified xsi:type="dcterms:W3CDTF">2021-04-06T09:56:24Z</dcterms:modified>
  <cp:revision>24</cp:revision>
  <dc:subject/>
  <dc:title>Учебный проект по математике  для 5 класса Цифры в пословицах и поговорках</dc:title>
</cp:coreProperties>
</file>