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6.wmf" ContentType="image/x-wmf"/>
  <Override PartName="/ppt/media/image13.png" ContentType="image/png"/>
  <Override PartName="/ppt/media/image4.gif" ContentType="image/gif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10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170-0F65-46EB-AE84-5D735595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D7C-6E1A-4B27-B0D1-03B0A71A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D66-C94B-4E2B-8221-B34852C0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FE9-020A-42A0-9A9E-5972C27E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EB4-E802-44A7-BD2C-557E48DE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A25-E606-496B-8AC2-C31AC62F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62E-1A03-47AC-8976-65436B41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B89-DCC4-43A5-BFDD-950217AA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1D1-AAE1-410C-AD6C-11F2883B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EF9-7DF6-40D8-9CDB-EC6D96AA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FAB-F26A-42A7-A0DE-66FA995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10E-2A53-4BC4-8F85-6A2AB4DA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CE585F-4938-4459-A0FD-104A4CE2C4E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27640" y="4524480"/>
            <a:ext cx="2916360" cy="2333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12000" y="1557360"/>
            <a:ext cx="1158840" cy="1557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3640" y="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84720" y="5373720"/>
            <a:ext cx="1050840" cy="148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05144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012000" y="26028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" y="2997360"/>
            <a:ext cx="8569080" cy="85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  животные и их  детёныши.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5616360" cy="544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69080" y="4165560"/>
            <a:ext cx="2374920" cy="269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47628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сточки собака гложет,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Злых людей кусает тоже –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бы не забрался вор,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торожит и дом и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232600" cy="331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3787920"/>
            <a:ext cx="3418200" cy="307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227664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лугу телёнок ск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Му-у-у» – кричи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он не пл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ь-коровушку зовёт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локом поит он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телёнка, и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27640" y="3211560"/>
            <a:ext cx="2738520" cy="3646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5486400" cy="480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522936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ыгнул шейку жеребёнок –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ильной лошади ребёнок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лько на копытца встал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след за мамой поб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635280" cy="4292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418140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98100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мотри, играют в прятк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Шаловливые котятк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таилась у окошка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ихо-тихо мама-кошка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ит деточек играть: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ячик по полу катают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ышкой мяч воображают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о подбросят, то пойм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03280" y="6237360"/>
            <a:ext cx="612720" cy="62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5805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3.7037 -7 C 0.08229 0.000230000000000175 0.48247 -0.01644 0.68003 0.00486 C 0.68507 0.01204 0.68455 0.02407 0.67743 0.02824 C 0.66441 0.03565 0.6526 0.03241 0.6375 0.03333 C 0.6217 0.0375 0.6059 0.04236 0.58993 0.04491 C 0.40365 0.04375 0.19931 0.14514 0.03125 0.03819 C 0.02101 0.03171 0.03351 0.03773 0.02378 0.03333 C 0.02049 0.02893 0.01563 0.02222 0.01128 0.01991 C 0.00399 0.01574 0.00799 0.0206 0.00503 0.01667 E">
                                      <p:cBhvr>
                                        <p:cTn id="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399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грязнули-свин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пине щетин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ордашке пятач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зади тонкий хвост-крю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19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956120" cy="4039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15200" y="4481640"/>
            <a:ext cx="1828800" cy="237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0360" y="5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зочке прыгуч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орной, бодуч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ится украдк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апусту с гря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003640" y="5445000"/>
            <a:ext cx="1327320" cy="1211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5164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2465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16680" y="4149720"/>
            <a:ext cx="1987560" cy="255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23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3429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гнё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333360"/>
            <a:ext cx="388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ебенка - ягн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тушки-коле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у папы бар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у мамы ове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457360"/>
            <a:ext cx="4419720" cy="440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48360" y="4219560"/>
            <a:ext cx="2719440" cy="2638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859280" y="76500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идит мух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лик длинноух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етке для него всег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орковка и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08360" y="5607000"/>
            <a:ext cx="1655640" cy="125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924360" y="5229360"/>
            <a:ext cx="1655640" cy="1250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488360" y="5607000"/>
            <a:ext cx="1655640" cy="125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80000" y="3645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льч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04:05Z</dcterms:created>
  <dc:creator>Admin</dc:creator>
  <dc:description/>
  <dc:language>en-US</dc:language>
  <cp:lastModifiedBy>Admin</cp:lastModifiedBy>
  <dcterms:modified xsi:type="dcterms:W3CDTF">2011-04-22T18:39:53Z</dcterms:modified>
  <cp:revision>3</cp:revision>
  <dc:subject/>
  <dc:title>Слайд 1</dc:title>
</cp:coreProperties>
</file>