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6.wmf" ContentType="image/x-wmf"/>
  <Override PartName="/ppt/media/image13.png" ContentType="image/png"/>
  <Override PartName="/ppt/media/image4.gif" ContentType="image/gif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10.png" ContentType="image/png"/>
  <Override PartName="/ppt/media/image26.wmf" ContentType="image/x-wmf"/>
  <Override PartName="/ppt/media/image1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E95-959F-4BAF-86A7-08C2BC64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55C-5C0E-4E26-A59A-5AC8C2E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B85-4E6C-4970-8B3B-BB130FC2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523-4F06-4384-A2B5-86A41993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5AB-3730-485A-84F1-961A50D2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BE9-299C-4145-82B4-605E628C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B49-6331-4ABA-8395-403B94B3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57A-BE5B-4F2A-AE14-D3381276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DA8-CA46-496E-A08B-9351F8FC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F1E-C7C4-4B01-B174-9BE22BD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53B-3ABA-445F-873A-ADF963F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AE0-4D07-4D5A-8A39-2E57FADD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219AF7-F8B7-44DE-8918-5AF1D5A0425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27640" y="4524480"/>
            <a:ext cx="2916360" cy="2333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812000" y="1557360"/>
            <a:ext cx="1158840" cy="1557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871640" cy="16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284720" y="5373720"/>
            <a:ext cx="1050840" cy="148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051440"/>
            <a:ext cx="3095640" cy="280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012000" y="26028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4000" y="2997360"/>
            <a:ext cx="8569080" cy="858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  животные и их  детёныши.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5616360" cy="544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69080" y="4165560"/>
            <a:ext cx="237492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476280"/>
            <a:ext cx="45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Б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сточки собака гложет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Злых людей кусает тоже –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Чтобы не забрался вор,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торожит и дом и д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3500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5232600" cy="331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492360" y="3787920"/>
            <a:ext cx="3418200" cy="307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280" y="2276640"/>
            <a:ext cx="338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 лугу телёнок ск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«Му-у-у» – кричи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он не плач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ть-коровушку зовёт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ком поит он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телёнка, и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18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44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227640" y="3211560"/>
            <a:ext cx="2738520" cy="364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548640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522936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ыгнул шейку жеребёнок –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ильной лошади ребёнок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олько на копытца встал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след за мамой побеж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76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2349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363528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418140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98100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смотри, играют в прятк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Шаловливые котятк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итаилась у окошка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ихо-тихо мама-кошка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чит деточек играть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ячик по полу катают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ышкой мяч воображают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 подбросят, то поймаю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03280" y="6237360"/>
            <a:ext cx="612720" cy="62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04000" y="260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8053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3.7037 -7 C 0.08229 0.000230000000000175 0.48247 -0.01644 0.68003 0.00486 C 0.68507 0.01204 0.68455 0.02407 0.67743 0.02824 C 0.66441 0.03565 0.6526 0.03241 0.6375 0.03333 C 0.6217 0.0375 0.6059 0.04236 0.58993 0.04491 C 0.40365 0.04375 0.19931 0.14514 0.03125 0.03819 C 0.02101 0.03171 0.03351 0.03773 0.02378 0.03333 C 0.02049 0.02893 0.01563 0.02222 0.01128 0.01991 C 0.00399 0.01574 0.00799 0.0206 0.00503 0.01667 E">
                                      <p:cBhvr>
                                        <p:cTn id="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8400" cy="3994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4076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грязнули-свин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пине щети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рдашке пятач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зади тонкий хвост-крю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9640" y="32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ос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956120" cy="403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15200" y="4481640"/>
            <a:ext cx="1828800" cy="237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700360" y="54936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зочке прыгуч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орной, бодуч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ится украд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апусту с гря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003640" y="5445000"/>
            <a:ext cx="1327320" cy="1211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51640" y="386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2465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16680" y="4149720"/>
            <a:ext cx="1987560" cy="2554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234936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429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гнё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333360"/>
            <a:ext cx="388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ебенка - ягн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тушки-коле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папы бар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у мамы ове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457360"/>
            <a:ext cx="4419720" cy="440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48360" y="4219560"/>
            <a:ext cx="2719440" cy="2638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859280" y="76500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идит му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лик длинноух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етке для него всегд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морковка и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08360" y="5607000"/>
            <a:ext cx="1655640" cy="1251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24360" y="5229360"/>
            <a:ext cx="1655640" cy="1250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488360" y="5607000"/>
            <a:ext cx="1655640" cy="125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8000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льч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04:05Z</dcterms:created>
  <dc:creator>Admin</dc:creator>
  <dc:description/>
  <dc:language>en-US</dc:language>
  <cp:lastModifiedBy>Admin</cp:lastModifiedBy>
  <dcterms:modified xsi:type="dcterms:W3CDTF">2011-04-22T18:39:53Z</dcterms:modified>
  <cp:revision>3</cp:revision>
  <dc:subject/>
  <dc:title>Слайд 1</dc:title>
</cp:coreProperties>
</file>