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EBAC-2911-493D-83DE-E098AD83F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FC1D-033D-4CCC-B8FB-F0E6CEB1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C4AEC5-FE80-475C-883F-F4C2AB1D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77B70D-65B8-41B4-9A75-9346E014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993A5C-8902-439D-8D9F-C3856093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36AA24-C910-4EBA-BDEE-6CBBCB41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EA591B-8046-45C1-9AD5-DB11356F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8595BA-B6A8-4FDE-AD72-386889BD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DBD33D-82FA-4C11-B9D5-80CD403C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B7C8F0-4207-4D71-A250-1A5F34D9C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7E2265-E423-4548-A90C-C6CE9690E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F28A-770B-4FCD-9B5E-AAA0CF9A3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55D2-CAAD-4BA5-B760-BDA64280C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7EE35-6097-4580-BBE5-0BEC02939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42D5E-2B81-4F73-85CF-3AEDA5EF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9C5F2-3412-462D-95AB-E58EF5F0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4F60D-D066-4FEB-A8B6-8B79C395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D11A0-29CB-44D8-8BA4-A88CB3F1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98C0B-D8FA-4319-A053-7B892B35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75C51-BC58-477C-8D90-6D51FAF6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D4B1-FF07-4DA3-AB96-9541D40D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42E02-8601-494F-B108-0AB9AF71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57C1B-FC97-4F5B-BFFC-06013E84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077FE-42FA-44DB-909A-35B6DC46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284B6-68B5-4489-9661-59226389E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E5888-B16C-4C4D-8A56-B16F54AAE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14813-CD25-4891-AE32-AEFFE90C8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5F9FC-59E7-4ACA-B73F-10B03900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01B8D-90D4-4B38-837A-402B0089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9A574-50FC-4BE0-A84D-21680831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041C7-16BA-491F-A489-EF6B67D0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2A02-6E63-47B8-9039-54CDE27A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70696-46CA-4940-ACDB-0C2300EF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9789D-65DB-433E-B6B6-D6D8B2A1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E9A69-9833-4E2B-A9E5-2598DD65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B6CD3-19BE-43DE-A70F-2B5CFF91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AEC00-AB3D-4DF6-A2BC-BB6A6E89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8F499-5BE0-4AD5-AE3F-84BFDEF20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301C1-DF0B-424D-A603-547F697C6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259FD8-11B7-450D-9A63-047BC7275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4E666B-8574-4AC0-AF24-CE91C0A2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B751EC-3DC0-47DE-8E7E-E5B3F992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360E-9E2D-4445-8F3D-A570CA3E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BBDB20-2B5D-4F4E-A3DB-F0E83959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1CD710-3282-4716-8845-35512A0A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BB71AB-F88D-4BE5-B09D-6F376B32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69EE19-27D7-4B81-9A86-6B9E896D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DA7FAF-D656-4D8C-B163-5E578E42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5EF993-623C-4B3D-AC52-149B8572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D8C442-5A0B-4227-8981-CE26FEAE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D63A8B-1B22-4240-9CE4-23B44EF95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786F40-3CBA-4A19-BFD6-C1204FA45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C6A81-BD22-47A0-BE72-8EDA2DB7D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A8A0-490A-47FA-AE60-83FFF445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C7A95-2512-4F3F-A53C-59E11FF4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80D1D-A406-46E9-83F4-7F45696B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D2231-4993-40AA-AA0D-FAE7526A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466AD-6D0A-4E39-8BF6-189F0B57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8F699-B2B9-48E2-965E-750D4938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04BC5-422D-4C30-86C2-40F48E25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79ED7-C1A3-49C9-84C5-D40C7663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71254-39A5-434E-B266-ED29AFD5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51B98-3B64-4D72-A01B-4424E410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DEC5F-D0A8-4205-91C2-C11AB5C36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4513-8702-48E9-AFA4-A40F1C4D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27E38-BDC5-4B85-8C87-8D9F0AD80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5970D-8C9E-4E7E-A8CA-4334DF3D9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1304B-2141-4433-9D92-37C1E780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C019E-A47D-4E8B-A6D7-8BC96AD1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233EE-C4A5-4D3C-A1C5-D892A332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410F0-A6C0-4EF5-96BE-3956E4CF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A2112-AC18-4812-B976-A18C1C93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7A86E-0314-434A-ADF6-116CE921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BF408-D4C4-46E2-AD39-2C00A28F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50F20-6D65-48EE-B5AD-CA63FED7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870D-F92E-401D-9A5A-55117627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44475-F9ED-4A9F-9D4E-A006E9D3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11C82-339B-432B-9F96-E466FC82F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6E997-FAE0-4ACD-A7BF-90D351223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A889F-09D4-4322-BF94-F8226AAEA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6CDBD-60A5-42D8-ABF9-DCFD93AF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9311A-7E88-44A4-95DD-76E30172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27447-F4C9-4796-8C1A-388D9EBC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0B76C-40EF-43B7-A836-3CAC4115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061D5-91AD-438D-B422-5D8AE948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A01C1-0DA5-41A4-B58E-631AAB2F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1A4D-1EEC-4657-93A6-0A3FD197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A1994-A56B-49D9-867F-4C162625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258E1-C934-4F09-B6ED-80997B5F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4D517-9136-44E9-A26F-A0C5436F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D68E2-D8DF-4F1F-9E95-8EAD20344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C121C-DB5B-471A-B4A4-56AC042DD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E9C9A1-E924-4D04-B82C-5F8B2C31F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FF9A59-3DE8-4888-BF9A-93FB763C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91EF13-9776-4A17-977C-D5014B20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52D5D2-7D17-46E2-94B7-317A7ABC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24E5CD-704A-4BDE-869A-02BC2C35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29D3-FBB7-46B8-BE8E-24AFDE51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F40974-5398-4CCD-B365-EB4FFA42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E3F900-4A81-4E47-8FE2-CFF50BB7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9DD3DB-08B8-4285-83A9-2D2842D8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1B6C39-9578-4C81-98E7-AD07BD76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1976A4-6903-4955-A7D0-836F7A16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0F7CAA-AA12-4BB3-A897-87A673975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C8F57B-64E9-4695-BBD7-ABF028C7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E45EDA-E559-4DEB-82A4-8099A02F7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52C196-097F-486F-B2A2-6F8A3B6E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4826CE-D629-43CE-A857-D94A52A9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7D72-ACAD-4058-B76A-48AB57D8AF89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876D-9A9C-4EB7-BD5E-0C78CCECD52C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66D1-D24A-40F1-8E29-2759D569A99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5C19-157B-40DD-9109-9EA80F76D119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65C2-C5F0-4807-8DE9-ADCB2145F2EA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6A45-27C7-4F75-8E83-191B05D2B34B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CDD6-6EA4-4ED8-93DC-D8186C14DD69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6D63-ABE4-4A51-AB88-D792DB147826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B76D-BAC4-4231-93EA-B628FDBF3ED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324000" y="749160"/>
            <a:ext cx="8229600" cy="202428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68360" y="270828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mbria"/>
              </a:rPr>
              <a:t>8 класс</a:t>
            </a:r>
            <a:endParaRPr b="0" lang="en-US" sz="7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573120" y="2755800"/>
            <a:ext cx="7961400" cy="16700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"/>
          <p:cNvPicPr/>
          <p:nvPr/>
        </p:nvPicPr>
        <p:blipFill>
          <a:blip r:embed="rId2"/>
          <a:stretch/>
        </p:blipFill>
        <p:spPr>
          <a:xfrm>
            <a:off x="571680" y="4168800"/>
            <a:ext cx="1612800" cy="2016000"/>
          </a:xfrm>
          <a:prstGeom prst="rect">
            <a:avLst/>
          </a:prstGeom>
          <a:ln w="0">
            <a:noFill/>
          </a:ln>
        </p:spPr>
      </p:pic>
      <p:sp>
        <p:nvSpPr>
          <p:cNvPr id="398" name="TextBox 6"/>
          <p:cNvSpPr/>
          <p:nvPr/>
        </p:nvSpPr>
        <p:spPr>
          <a:xfrm>
            <a:off x="2462400" y="993600"/>
            <a:ext cx="318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Georgia"/>
              </a:rPr>
              <a:t>Тема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-109440" y="476280"/>
            <a:ext cx="8229600" cy="14317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6840" y="1599840"/>
            <a:ext cx="4543560" cy="49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mbria"/>
                <a:ea typeface="Arial"/>
              </a:rPr>
              <a:t>В этой драме история не была для Есенина самоцелью, он не стремился детализировать события крестьянские войны. В стихах больше просматривается современная Россия, нежели времена Екатерины Второй. Романтический цвет, в который окрашены фигуры Пугачева и его сподвижников, несет в себе кровавый оттенок двадцатых годов двадцатого века.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2"/>
          <a:stretch/>
        </p:blipFill>
        <p:spPr>
          <a:xfrm>
            <a:off x="5340240" y="1844640"/>
            <a:ext cx="35100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262080" y="-244440"/>
            <a:ext cx="8474040" cy="15066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0" y="78588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04000" indent="-504000">
              <a:lnSpc>
                <a:spcPct val="80000"/>
              </a:lnSpc>
              <a:buClr>
                <a:srgbClr val="72a376"/>
              </a:buClr>
              <a:buSzPct val="70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  <a:ea typeface="Arial"/>
              </a:rPr>
              <a:t>В каком произведении русской литературы автор прибегает к образу Емельяна Пугачёва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04000" indent="-504000">
              <a:lnSpc>
                <a:spcPct val="80000"/>
              </a:lnSpc>
              <a:buClr>
                <a:srgbClr val="72a376"/>
              </a:buClr>
              <a:buSzPct val="70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  <a:ea typeface="Arial"/>
              </a:rPr>
              <a:t>Если сравнивать произведение А.Пушкина и С.Есенина,  каким предстаёт предводитель восстания в этих произведениях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04000" indent="-504000">
              <a:lnSpc>
                <a:spcPct val="80000"/>
              </a:lnSpc>
              <a:buClr>
                <a:srgbClr val="72a376"/>
              </a:buClr>
              <a:buSzPct val="70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  <a:ea typeface="Arial"/>
              </a:rPr>
              <a:t>О чём говорит Пугачёв у Есенина? К чему призывает? О чём горюет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04000" indent="-504000">
              <a:lnSpc>
                <a:spcPct val="80000"/>
              </a:lnSpc>
              <a:buClr>
                <a:srgbClr val="72a376"/>
              </a:buClr>
              <a:buSzPct val="70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  <a:ea typeface="Arial"/>
              </a:rPr>
              <a:t>Как вы понимаете строки: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04000" indent="-5040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  <a:ea typeface="Arial"/>
              </a:rPr>
              <a:t>Я положил себе зарок молчать до срока.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04000" indent="-5040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  <a:ea typeface="Arial"/>
              </a:rPr>
              <a:t>Ржет дорога в жуткое пространство.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04000" indent="-5040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  <a:ea typeface="Arial"/>
              </a:rPr>
              <a:t>Луна, как желтый медведь,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04000" indent="-5040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  <a:ea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  <a:ea typeface="Arial"/>
              </a:rPr>
              <a:t>В мокрой траве ворочается.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04000" indent="-5040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  <a:ea typeface="Arial"/>
              </a:rPr>
              <a:t>Яик, Яик, ты меня звал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04000" indent="-5040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  <a:ea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  <a:ea typeface="Arial"/>
              </a:rPr>
              <a:t>Стоном придавленной черни!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2"/>
          <a:stretch/>
        </p:blipFill>
        <p:spPr>
          <a:xfrm rot="315600">
            <a:off x="7389720" y="4781160"/>
            <a:ext cx="130032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360360" y="212760"/>
            <a:ext cx="8442360" cy="134136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0" y="12855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  <a:ea typeface="Arial"/>
              </a:rPr>
              <a:t>«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  <a:ea typeface="Arial"/>
              </a:rPr>
              <a:t>Ржет дорога в жуткое пространство»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  <a:ea typeface="Arial"/>
              </a:rPr>
              <a:t>«Мне нравится степей твоих медь»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  <a:ea typeface="Arial"/>
              </a:rPr>
              <a:t>«Луна, как желтый медведь»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  <a:ea typeface="Arial"/>
              </a:rPr>
              <a:t>«Яик, Яик, ты меня звал стоном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  <a:ea typeface="Arial"/>
              </a:rPr>
              <a:t>придавленной черни»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  <a:ea typeface="Arial"/>
              </a:rPr>
              <a:t>«Словно яблоко тяжелое виснет с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  <a:ea typeface="Arial"/>
              </a:rPr>
              <a:t>шеи твоя голова»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  <a:ea typeface="Arial"/>
              </a:rPr>
              <a:t>«Слышен прялки ровный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  <a:ea typeface="Arial"/>
              </a:rPr>
              <a:t>разговор»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  <a:ea typeface="Arial"/>
              </a:rPr>
              <a:t>«Стонет Русь от цепких лапищ»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  <a:ea typeface="Arial"/>
              </a:rPr>
              <a:t>«Колокол луны скатился ниже»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2"/>
          <a:stretch/>
        </p:blipFill>
        <p:spPr>
          <a:xfrm>
            <a:off x="5292720" y="2276640"/>
            <a:ext cx="37591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182520" y="-139680"/>
            <a:ext cx="8474040" cy="15048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57120" y="107136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  <a:ea typeface="Arial"/>
              </a:rPr>
              <a:t>Летом 1922 года Есенин читал поэму М.Горькому в Берлине. Горький вспоминал об этом так: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mbria"/>
                <a:ea typeface="Arial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  <a:ea typeface="Arial"/>
              </a:rPr>
              <a:t>«Взволновал он меня до спазмы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  <a:ea typeface="Arial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  <a:ea typeface="Arial"/>
              </a:rPr>
              <a:t>в   горле, рыдать хотелось.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  <a:ea typeface="Arial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  <a:ea typeface="Arial"/>
              </a:rPr>
              <a:t>Помнится, я не мог сказать ему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  <a:ea typeface="Arial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  <a:ea typeface="Arial"/>
              </a:rPr>
              <a:t>никаких похвал, да он – я думаю –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  <a:ea typeface="Arial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  <a:ea typeface="Arial"/>
              </a:rPr>
              <a:t>и не нуждался в  них»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mbria"/>
                <a:ea typeface="Arial"/>
              </a:rPr>
              <a:t>Какое настроение вызвала у вас поэма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2"/>
          <a:stretch/>
        </p:blipFill>
        <p:spPr>
          <a:xfrm>
            <a:off x="7572240" y="2286000"/>
            <a:ext cx="1285920" cy="18604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"/>
          <p:cNvPicPr/>
          <p:nvPr/>
        </p:nvPicPr>
        <p:blipFill>
          <a:blip r:embed="rId3"/>
          <a:stretch/>
        </p:blipFill>
        <p:spPr>
          <a:xfrm>
            <a:off x="0" y="2571840"/>
            <a:ext cx="142884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5066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95280" y="227628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  <a:ea typeface="Arial"/>
              </a:rPr>
              <a:t>Ответить на вопросы на стр. 130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  <a:ea typeface="Arial"/>
              </a:rPr>
              <a:t>Подготовить выразительное чтение отрывка из поэмы «Пугачев»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16:11:18Z</dcterms:created>
  <dc:creator>Admin</dc:creator>
  <dc:description/>
  <dc:language>en-US</dc:language>
  <cp:lastModifiedBy>Dima</cp:lastModifiedBy>
  <dcterms:modified xsi:type="dcterms:W3CDTF">2021-04-18T09:29:11Z</dcterms:modified>
  <cp:revision>28</cp:revision>
  <dc:subject/>
  <dc:title>С.А.Есенин. Слово о поэте. «Пугачёв» - поэма на историческую тему. </dc:title>
</cp:coreProperties>
</file>