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C85-5023-4F42-A085-CC8C3493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330-81B5-4FBF-AC3B-653333E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1F3CF-20EB-4577-BADD-3516CDD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C91ED-0928-4506-8CBB-D631918A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89010-C647-4E27-ABC5-04D6746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D0803-2D6B-4EDA-8310-278FDE08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9788CE-A440-4954-9A1F-3A15A2B9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2AF19-5853-4839-B616-571DBA0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5E8B94-A6F8-4887-A64B-70C1B35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689CA-5032-4190-8014-1CC74680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4BB0DF-31D0-45DD-9B81-D3C0AC06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0A5-2EC6-4BBD-88D5-E3E4D51B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4B-457A-4BE6-9CEC-BB62B45E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6AA6-734C-463E-8384-495F7D87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88DDE-B903-4317-8703-BD20DBC3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CCD4-796C-42BD-B9D1-0A046FB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9397F-CB78-4536-8CB2-974A7771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D832E-E32B-4458-81AF-BC3543D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5E86-0BC7-40E2-B0F1-9E6DA872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3F86-E823-4184-913C-7EA32E1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DC9-EE4A-415F-A6DB-94244C67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F9784-2B68-402A-911B-6AF093D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3BC5A-8DE4-41E0-B2DC-EB0289A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9F83C-B4DD-4820-9AC3-FFA3F6B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5BD63-923B-42E4-B0D4-7F4F23A1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0DA56-4FC2-44F7-B859-BB0E7CF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76D1-1136-4487-A67A-A0ED30D4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CF5E-1750-4DC1-BFB4-B764398A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A77B-D4B6-49C2-BE1C-5E04A49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6E00-579F-441F-9EAA-CB80D768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796F-343D-4607-BEAB-6A216EE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8B-4846-4A9B-A2DE-3700BFBB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818B-63C6-4A23-B40A-FAEAC8B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A46B3-E685-44B2-B63E-4E787E5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4B33-93F9-49B6-A1C9-5FF7BBF0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04038-42BB-485B-B04D-A3127402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0624-508C-46BA-A89F-AB632B1D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338C-0D1C-4BB5-B581-F27EC44F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7FEFD-2E8B-478B-95E4-BFC8DB2E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B089E-9A5D-464D-BB2F-9AA5654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EB001-CCAC-43DB-88C6-F8B17E6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84071-6527-41EB-9F0D-364BE72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38D-7799-4E2F-ADD3-F07AC87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C44F3-7FD7-4D54-8640-732E1DCD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5F763-0C22-46D9-A3EB-8E8F25A7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0E7CD-B5CA-4FAA-AB44-048A545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42D1A-128C-49BA-AF7A-9F92C5B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D20BD5-74E9-48EB-9534-367A28C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EDAAA-8C99-4FD8-B876-9AA2DBA5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749A7-C636-4C0B-8765-ECA35325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F929E-5BBA-48C3-9DE3-68266E3D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55979-F509-41D6-B5CC-F6CFBD52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DB34B-FA22-4311-95C3-AF987CA6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10E-2218-4F9A-9D3C-4B0F5C4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C280-0342-491F-9CD2-B3B982D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15D8F-B5A2-4E3A-A64C-ADA12FEA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CE958-2F7D-440E-9784-6BF821AF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02DA-B579-4B98-BDC0-9CECEFEB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6D05-E8F4-4F23-9131-D7B22131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6B58-4D10-4EA0-AAF7-C2C5840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78ACB-D41F-44D3-9272-84F6CCD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6D6F-668F-4E2D-856E-81D0B00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C841-0E20-4B14-A2A7-0CC350B5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2837-9EA4-457C-9389-D713250F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86C-52FC-4625-BC00-AB3D6438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633F-6D5D-4790-88D4-1B375EBF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49D72-23EA-4417-A0C2-64FD6882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CCA58-46F7-4252-80D3-3E12B1AF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8A42-92FC-472D-A567-4EB3A30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968D-E98A-4DA0-81D2-2A80948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6E99-628A-4CE1-BE72-D6E760F1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DDF7-D245-45BF-B86B-29E6455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87BD-3DD8-4E9E-AF06-AF86845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53A49-F82F-4FFF-8C8D-C75E6BB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03F0-1A2F-42E8-8477-19B82D4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FBE-98E9-4F55-80C3-F3779677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303CD-BDBE-4213-A9E0-13BB1C70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CFCA8-7069-447E-9AC3-11ACA231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5B22-E347-4343-B060-73C03B32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F5A11-9FD0-4BC8-ABFA-38AFB2E3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4B0DC-FDE4-4FF6-BA69-DD777A6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9093-94E7-4DA0-AEB0-006788F8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A4C9-40B1-4592-B16E-0299BBFE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07E45-BF06-4959-A0DD-AD8F67C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0B1CB-3437-4C42-ABDF-F17BE26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3016-77DF-4773-A1BE-B5D32A0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ACD-28C7-43A2-B503-B04F0C9E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0F656-382B-4DC8-85BB-6FD5DEF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7544-36C9-46D6-BBF6-A1F4C59B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845A-7AA9-44D1-9F14-8DF4275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19EDC-FD71-42E9-9E99-1FA66782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89CE-7C2E-4FCB-83C4-48CC3CD5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27BF5-6C79-478B-A3DB-7F148BE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1625B-87DE-47C3-8E56-B4584912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1B5A7A-725C-4CEC-AE28-A0065D1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82B1F9-0553-4C3D-9DBA-1825CFB0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0FBCA-0411-4200-AE65-8289A8A5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154-0E13-4DFE-9748-F42E158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BB181-476C-4CCA-AADE-BED1F47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D676E-496A-4A59-9B52-6E630D1F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6A627-2FE1-4BEB-8290-CBFD978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32D88-FBBF-4D3F-AB4D-7DA04352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ECE28F-2208-421F-8F53-AA2D7A30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8613C4-25D3-45B1-A02B-789D1AF7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D118E-14EE-430F-925D-DFF77F73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DE24EA-3D82-4151-A492-A11EF1ED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E666AD-1E4E-412F-8567-40FCFA9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9D7DE-1AB9-4108-A060-49B2103D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7D7-3979-4B34-9169-8577CDDDA5D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BFA8-9B64-463F-810F-F23CB33A821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9203-A9DB-4288-8D3C-91DCFB3E235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3D34-2471-46A3-A441-154EFFFA362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AD62-B43A-469E-A743-C8E2A72014B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39D-6D7F-4597-9983-CEC7C1B96E8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8E84-D296-48A5-B2E6-5B78020CBD6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9ACB-4DAD-4C56-9B8B-C4840CF8BDB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FEC-9F5F-44F5-8D9D-C21D7EF0392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24000" y="749160"/>
            <a:ext cx="8229600" cy="2024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68360" y="2708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mbria"/>
              </a:rPr>
              <a:t>8 класс</a:t>
            </a:r>
            <a:endParaRPr b="0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573120" y="2755800"/>
            <a:ext cx="7961400" cy="1670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571680" y="4168800"/>
            <a:ext cx="1612800" cy="2016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6"/>
          <p:cNvSpPr/>
          <p:nvPr/>
        </p:nvSpPr>
        <p:spPr>
          <a:xfrm>
            <a:off x="2462400" y="993600"/>
            <a:ext cx="318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Тем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-109440" y="476280"/>
            <a:ext cx="8229600" cy="1431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6840" y="1599840"/>
            <a:ext cx="454356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mbria"/>
                <a:ea typeface="Arial"/>
              </a:rPr>
              <a:t>В этой драме история не была для Есенина самоцелью, он не стремился детализировать события крестьянские войны. В стихах больше просматривается современная Россия, нежели времена Екатерины Второй. Романтический цвет, в который окрашены фигуры Пугачева и его сподвижников, несет в себе кровавый оттенок двадцатых годов двадцатого века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5340240" y="1844640"/>
            <a:ext cx="3510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62080" y="-244440"/>
            <a:ext cx="8474040" cy="150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0" y="78588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каком произведении русской литературы автор прибегает к образу Емельяна Пугачёв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Если сравнивать произведение А.Пушкина и С.Есенина,  каким предстаёт предводитель восстания в этих произведениях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О чём говорит Пугачёв у Есенина? К чему призывает? О чём горюет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Как вы понимаете строки: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Я положил себе зарок молчать до срока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Ржет дорога в жуткое пространство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Луна, как желтый медведь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мокрой траве ворочается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Яик, Яик, ты меня звал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04000" indent="-504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Стоном придавленной черни!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 rot="315600">
            <a:off x="7389720" y="4781160"/>
            <a:ext cx="13003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8442360" cy="1341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0" y="12855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Ржет дорога в жуткое пространство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Мне нравится степей твоих медь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Луна, как желтый медведь»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Яик, Яик, ты меня звал стоном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придавленной черни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ловно яблоко тяжелое виснет с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шеи твоя голова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лышен прялки ровны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разговор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Стонет Русь от цепких лапищ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«Колокол луны скатился ниже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7591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82520" y="-139680"/>
            <a:ext cx="8474040" cy="15048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5712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Летом 1922 года Есенин читал поэму М.Горькому в Берлине. Горький вспоминал об этом так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«Взволновал он меня до спазмы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в   горле, рыдать хотелось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Помнится, я не мог сказать ему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никаких похвал, да он – я думаю –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и не нуждался в  них»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mbria"/>
                <a:ea typeface="Arial"/>
              </a:rPr>
              <a:t>Какое настроение вызвала у вас поэм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7572240" y="2286000"/>
            <a:ext cx="1285920" cy="1860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3"/>
          <a:stretch/>
        </p:blipFill>
        <p:spPr>
          <a:xfrm>
            <a:off x="0" y="2571840"/>
            <a:ext cx="1428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95280" y="227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Arial"/>
              </a:rPr>
              <a:t>Ответить на вопросы на стр. 130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Arial"/>
              </a:rPr>
              <a:t>Подготовить выразительное чтение отрывка из поэмы «Пугачев»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11:18Z</dcterms:created>
  <dc:creator>Admin</dc:creator>
  <dc:description/>
  <dc:language>en-US</dc:language>
  <cp:lastModifiedBy>Dima</cp:lastModifiedBy>
  <dcterms:modified xsi:type="dcterms:W3CDTF">2021-04-18T09:29:11Z</dcterms:modified>
  <cp:revision>28</cp:revision>
  <dc:subject/>
  <dc:title>С.А.Есенин. Слово о поэте. «Пугачёв» - поэма на историческую тему. </dc:title>
</cp:coreProperties>
</file>