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F45-A9D1-4F99-ABE7-6DA64FA2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908-5FA4-4DC4-9E3A-ADAF672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AA5-623E-4475-93EF-B076469A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44E-D98B-4AAE-B8DD-042F6608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729-04FB-4D23-A1CB-5492954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FAA-61CB-4FCE-A35E-BD1BAC3F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ABE-5AFE-4FD2-A707-6974549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536-044A-4525-AE12-534AD93E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54E-325D-4065-9E9A-3817443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5E5-39D4-43F1-A0FA-19F79D6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BB3-A85A-4B18-8908-05B29DC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94A-C44E-4DD4-8747-67654D2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7CE-C66C-48A8-81C1-4D78EF738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вук 5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90640" y="2793960"/>
            <a:ext cx="103633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 Light"/>
              </a:rPr>
              <a:t>Тема урока: </a:t>
            </a:r>
            <a:r>
              <a:rPr b="0" lang="fr-FR" sz="3600" spc="-1" strike="noStrike">
                <a:solidFill>
                  <a:srgbClr val="002060"/>
                </a:solidFill>
                <a:latin typeface="Calibri Light"/>
              </a:rPr>
              <a:t>Le sport. L’histoire des Jeux Olymp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1500120" y="564516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: Зотова Ксения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92160" y="263520"/>
            <a:ext cx="120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БОУ Гимназия №271 Красносельского рай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а имени П.И. Феду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3843360" y="1579680"/>
            <a:ext cx="445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2624040" y="30636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12760" y="1360440"/>
            <a:ext cx="10745640" cy="9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emps et lieu des Jeux Olympiqu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plus de 2500 an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lympi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è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urée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jours,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us les quatre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Jeux ont été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ganisé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 l’honneur de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в честь)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 Ze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La Trêve Sacrée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вященное перемирие)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dant la période des Jeu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arrêtait toutes les guer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ticipant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hommes libres d’origine grecque, les esclav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абы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les étrangers étaient exc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8548560" y="2019240"/>
            <a:ext cx="3283200" cy="2084400"/>
          </a:xfrm>
          <a:prstGeom prst="rect">
            <a:avLst/>
          </a:prstGeom>
          <a:ln w="0">
            <a:noFill/>
          </a:ln>
        </p:spPr>
      </p:pic>
      <p:pic>
        <p:nvPicPr>
          <p:cNvPr id="100" name="Звук 7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2624040" y="30636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85760" y="1090440"/>
            <a:ext cx="7748640" cy="9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s épreuv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épreuves hippiques: chars à deux ou quatre chevaux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épreuves athlétiqu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rse à pied sur plusieurs di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cer du dis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ut en longu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8037360" y="3198960"/>
            <a:ext cx="2513160" cy="1611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8037360" y="1344600"/>
            <a:ext cx="3284640" cy="1722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5557680" y="4108320"/>
            <a:ext cx="1292400" cy="1846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"/>
          <p:cNvPicPr/>
          <p:nvPr/>
        </p:nvPicPr>
        <p:blipFill>
          <a:blip r:embed="rId4"/>
          <a:stretch/>
        </p:blipFill>
        <p:spPr>
          <a:xfrm>
            <a:off x="7284960" y="4941720"/>
            <a:ext cx="2735280" cy="1697040"/>
          </a:xfrm>
          <a:prstGeom prst="rect">
            <a:avLst/>
          </a:prstGeom>
          <a:ln w="0">
            <a:noFill/>
          </a:ln>
        </p:spPr>
      </p:pic>
      <p:pic>
        <p:nvPicPr>
          <p:cNvPr id="107" name="Звук 5" descr=""/>
          <p:cNvPicPr/>
          <p:nvPr/>
        </p:nvPicPr>
        <p:blipFill>
          <a:blip r:embed="rId5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2624040" y="8424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85760" y="1090440"/>
            <a:ext cx="7748640" cy="90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s épreuv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cer du javel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tath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u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chaque catégorie des jeux, le gagnant recevai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une couronne d’olivie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9" descr=""/>
          <p:cNvPicPr/>
          <p:nvPr/>
        </p:nvPicPr>
        <p:blipFill>
          <a:blip r:embed="rId1"/>
          <a:stretch/>
        </p:blipFill>
        <p:spPr>
          <a:xfrm>
            <a:off x="4460760" y="94788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7365960" y="933480"/>
            <a:ext cx="2914560" cy="2079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3"/>
          <a:stretch/>
        </p:blipFill>
        <p:spPr>
          <a:xfrm>
            <a:off x="4460760" y="3157560"/>
            <a:ext cx="2892600" cy="1915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" descr=""/>
          <p:cNvPicPr/>
          <p:nvPr/>
        </p:nvPicPr>
        <p:blipFill>
          <a:blip r:embed="rId4"/>
          <a:stretch/>
        </p:blipFill>
        <p:spPr>
          <a:xfrm>
            <a:off x="7812000" y="4114800"/>
            <a:ext cx="3699000" cy="2017800"/>
          </a:xfrm>
          <a:prstGeom prst="rect">
            <a:avLst/>
          </a:prstGeom>
          <a:ln w="0">
            <a:noFill/>
          </a:ln>
        </p:spPr>
      </p:pic>
      <p:pic>
        <p:nvPicPr>
          <p:cNvPr id="114" name="Звук 6" descr=""/>
          <p:cNvPicPr/>
          <p:nvPr/>
        </p:nvPicPr>
        <p:blipFill>
          <a:blip r:embed="rId5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073960" y="45720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236600" y="57657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e baron Pierre de Coubert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360360" y="1833480"/>
            <a:ext cx="5052960" cy="3789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819760" y="1833480"/>
            <a:ext cx="609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Les premiers Jeux Olympiques modernes ont eu lieu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en 1896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à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Athèn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241 athlète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14 nations ont pris part à ces Je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a devise des Je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itius, altius, forti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– «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lus vite, plus haut, plus for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Звук 7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073960" y="45720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893880" y="1693800"/>
            <a:ext cx="1083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Calibri"/>
              </a:rPr>
              <a:t>Le drapeau olympiqu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bleu, c’est l’Europe, le jaune – l’Asie, le noir – l’Afrique, le rouge – l’Amérique, le vert – l’Austral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6" descr=""/>
          <p:cNvPicPr/>
          <p:nvPr/>
        </p:nvPicPr>
        <p:blipFill>
          <a:blip r:embed="rId1"/>
          <a:stretch/>
        </p:blipFill>
        <p:spPr>
          <a:xfrm>
            <a:off x="3790800" y="3198960"/>
            <a:ext cx="4869000" cy="2727000"/>
          </a:xfrm>
          <a:prstGeom prst="rect">
            <a:avLst/>
          </a:prstGeom>
          <a:ln w="0">
            <a:noFill/>
          </a:ln>
        </p:spPr>
      </p:pic>
      <p:pic>
        <p:nvPicPr>
          <p:cNvPr id="123" name="Звук 3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073960" y="6048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2360" y="1073160"/>
            <a:ext cx="1162224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’est un événement international, regroupant les sports d’été et d’hi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Duré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tous les quatre ans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 de deux sema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s 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 programme olympique mode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y a beaucoup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velles disciplines et nouvelles caté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252360" y="3382920"/>
            <a:ext cx="411480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"/>
          <p:cNvPicPr/>
          <p:nvPr/>
        </p:nvPicPr>
        <p:blipFill>
          <a:blip r:embed="rId2"/>
          <a:stretch/>
        </p:blipFill>
        <p:spPr>
          <a:xfrm>
            <a:off x="4702320" y="3114720"/>
            <a:ext cx="3686040" cy="2442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3"/>
          <a:stretch/>
        </p:blipFill>
        <p:spPr>
          <a:xfrm>
            <a:off x="8723160" y="3736800"/>
            <a:ext cx="3151440" cy="20955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8720640" y="600228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’arrivée de la flamme olymp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834840" y="598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a cérémonie d’ouver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des jeux Olympiq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5301000" y="59198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a parade des athlè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Звук 15" descr=""/>
          <p:cNvPicPr/>
          <p:nvPr/>
        </p:nvPicPr>
        <p:blipFill>
          <a:blip r:embed="rId4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273320" y="0"/>
            <a:ext cx="96343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(Пассивная форма глагол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384120" y="1427040"/>
            <a:ext cx="1180800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. DÉ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 la voix active, le suje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одлежащее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accompli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совершает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l'action exprimée par le ver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Exemple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Le Comit</a:t>
            </a: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Calibri"/>
              </a:rPr>
              <a:t>é National Olympique organise les Jeux Olympiques.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(Национальный Олимпийский Комитет организует Олимпийски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 la voix passive, le sujet subi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испытывает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ction exprimée par le ver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Les Jeux Olympiques sont organisés par le Comité National Olympique.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(Олимпийские Игры организованы Национальным Олимпийским Комитет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вук 5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60520" y="-8892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641520"/>
            <a:ext cx="1219680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II. FORMATIO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 LA VOIX </a:t>
            </a: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PASSIVE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la voix passive le participe passé du verbe conjugué s'accord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огласуется)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ec le suj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4120" y="2720880"/>
          <a:ext cx="11649240" cy="3895920"/>
        </p:xfrm>
        <a:graphic>
          <a:graphicData uri="http://schemas.openxmlformats.org/drawingml/2006/table">
            <a:tbl>
              <a:tblPr/>
              <a:tblGrid>
                <a:gridCol w="5824440"/>
                <a:gridCol w="582480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rases à la voix acti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rases à la voix 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e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résent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so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résent)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era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futur simple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sero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futur simple)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ai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’imparfait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étaie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’imparfait)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a organisé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assé composé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nt été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assé composé)</a:t>
                      </a: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par le CNO.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07800" y="1265400"/>
          <a:ext cx="10599840" cy="679320"/>
        </p:xfrm>
        <a:graphic>
          <a:graphicData uri="http://schemas.openxmlformats.org/drawingml/2006/table">
            <a:tbl>
              <a:tblPr/>
              <a:tblGrid>
                <a:gridCol w="1059984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être (au temps du verbe de la forme active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e passé du verb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gu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Стрелка вправо 10"/>
          <p:cNvSpPr/>
          <p:nvPr/>
        </p:nvSpPr>
        <p:spPr>
          <a:xfrm>
            <a:off x="5299200" y="3503520"/>
            <a:ext cx="796680" cy="376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трелка вправо 11"/>
          <p:cNvSpPr/>
          <p:nvPr/>
        </p:nvSpPr>
        <p:spPr>
          <a:xfrm>
            <a:off x="5299200" y="4532400"/>
            <a:ext cx="796680" cy="376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трелка вправо 12"/>
          <p:cNvSpPr/>
          <p:nvPr/>
        </p:nvSpPr>
        <p:spPr>
          <a:xfrm>
            <a:off x="5294160" y="5346720"/>
            <a:ext cx="795600" cy="3762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трелка вправо 13"/>
          <p:cNvSpPr/>
          <p:nvPr/>
        </p:nvSpPr>
        <p:spPr>
          <a:xfrm>
            <a:off x="5294160" y="6215040"/>
            <a:ext cx="795600" cy="3762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Звук 17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258920" y="17316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173160" y="1231920"/>
            <a:ext cx="11806200" cy="68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II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</a:t>
            </a: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. TRANSFORMATION PASSIVE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'on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ransforme une phrase de la voix active à la voix pass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erbe doit avoir un COD (complément d’objet direct) qui devient suje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ujet devient complément d’ag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ополнение агенса действия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erbe prend une forme composée avec l'auxiliair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êt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 complément d'agent est souvent introduit par la pré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3160" y="5105520"/>
          <a:ext cx="11899800" cy="1920600"/>
        </p:xfrm>
        <a:graphic>
          <a:graphicData uri="http://schemas.openxmlformats.org/drawingml/2006/table">
            <a:tbl>
              <a:tblPr/>
              <a:tblGrid>
                <a:gridCol w="2974680"/>
                <a:gridCol w="2975040"/>
                <a:gridCol w="2975040"/>
                <a:gridCol w="29750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o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uj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Jeux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er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 été rénové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mplément d’ag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ar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e baron Pierre de Coubert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3160" y="3776760"/>
          <a:ext cx="11806200" cy="1396800"/>
        </p:xfrm>
        <a:graphic>
          <a:graphicData uri="http://schemas.openxmlformats.org/drawingml/2006/table">
            <a:tbl>
              <a:tblPr/>
              <a:tblGrid>
                <a:gridCol w="2950920"/>
                <a:gridCol w="2951280"/>
                <a:gridCol w="2952720"/>
                <a:gridCol w="295128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oix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uj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baron Pierre de Couber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er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no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Jeux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9" name="Прямая со стрелкой 7"/>
          <p:cNvCxnSpPr/>
          <p:nvPr/>
        </p:nvCxnSpPr>
        <p:spPr>
          <a:xfrm>
            <a:off x="4068360" y="4876560"/>
            <a:ext cx="560628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Прямая со стрелкой 11"/>
          <p:cNvCxnSpPr/>
          <p:nvPr/>
        </p:nvCxnSpPr>
        <p:spPr>
          <a:xfrm flipH="1">
            <a:off x="3577680" y="4452480"/>
            <a:ext cx="5578920" cy="1445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1" name="Звук 18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258920" y="11736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87200" y="946080"/>
            <a:ext cx="11777760" cy="65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TTENTION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fois, il n’y a pas de complément d’agent dans la phrase. C’est le cas lors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mplément d’agent est évi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es jeux athlétiques ont été organisés en l’honneur de Zeu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ar les Gre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locuteur ne veut pas ou ne peut pas le d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es esclaves et les étrangers «les barbares» étaient exclu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 On ne sait pas par qui. Qui a pris cette dec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est un indéf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Tous les quatre ans, la flamme olympique est portée depuis Olympie jusqu’à la ville qui organise les jeux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On la porte, quelqu’un la po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Звук 6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49068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Les sports d’hiv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81160" y="1200240"/>
            <a:ext cx="28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patinage artist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155040" y="256392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ki alp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567720" y="37591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now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"/>
          <p:cNvPicPr/>
          <p:nvPr/>
        </p:nvPicPr>
        <p:blipFill>
          <a:blip r:embed="rId1"/>
          <a:stretch/>
        </p:blipFill>
        <p:spPr>
          <a:xfrm>
            <a:off x="525600" y="1698480"/>
            <a:ext cx="1815840" cy="1935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2709720" y="3025800"/>
            <a:ext cx="2481480" cy="175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"/>
          <p:cNvPicPr/>
          <p:nvPr/>
        </p:nvPicPr>
        <p:blipFill>
          <a:blip r:embed="rId3"/>
          <a:stretch/>
        </p:blipFill>
        <p:spPr>
          <a:xfrm>
            <a:off x="560520" y="4400640"/>
            <a:ext cx="2307960" cy="208260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7458120" y="262080"/>
            <a:ext cx="4906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Les sports d’é</a:t>
            </a:r>
            <a:r>
              <a:rPr b="0" lang="en-US" sz="4300" spc="-1" strike="noStrike">
                <a:solidFill>
                  <a:srgbClr val="002060"/>
                </a:solidFill>
                <a:latin typeface="Calibri Light"/>
              </a:rPr>
              <a:t>t</a:t>
            </a: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é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5850000" y="252720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lpinis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7710840" y="12524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yclis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3" descr=""/>
          <p:cNvPicPr/>
          <p:nvPr/>
        </p:nvPicPr>
        <p:blipFill>
          <a:blip r:embed="rId4"/>
          <a:stretch/>
        </p:blipFill>
        <p:spPr>
          <a:xfrm>
            <a:off x="5942160" y="2989440"/>
            <a:ext cx="1363680" cy="2463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4" descr=""/>
          <p:cNvPicPr/>
          <p:nvPr/>
        </p:nvPicPr>
        <p:blipFill>
          <a:blip r:embed="rId5"/>
          <a:stretch/>
        </p:blipFill>
        <p:spPr>
          <a:xfrm>
            <a:off x="7496280" y="1946160"/>
            <a:ext cx="2022480" cy="20242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5"/>
          <p:cNvSpPr/>
          <p:nvPr/>
        </p:nvSpPr>
        <p:spPr>
          <a:xfrm>
            <a:off x="10045800" y="2106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6"/>
          <p:cNvSpPr/>
          <p:nvPr/>
        </p:nvSpPr>
        <p:spPr>
          <a:xfrm>
            <a:off x="7736040" y="53103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u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7" descr=""/>
          <p:cNvPicPr/>
          <p:nvPr/>
        </p:nvPicPr>
        <p:blipFill>
          <a:blip r:embed="rId6"/>
          <a:stretch/>
        </p:blipFill>
        <p:spPr>
          <a:xfrm>
            <a:off x="9890280" y="2681280"/>
            <a:ext cx="1915920" cy="1479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8" descr=""/>
          <p:cNvPicPr/>
          <p:nvPr/>
        </p:nvPicPr>
        <p:blipFill>
          <a:blip r:embed="rId7"/>
          <a:stretch/>
        </p:blipFill>
        <p:spPr>
          <a:xfrm>
            <a:off x="8744040" y="4678200"/>
            <a:ext cx="1614240" cy="1614600"/>
          </a:xfrm>
          <a:prstGeom prst="rect">
            <a:avLst/>
          </a:prstGeom>
          <a:ln w="0">
            <a:noFill/>
          </a:ln>
        </p:spPr>
      </p:pic>
      <p:pic>
        <p:nvPicPr>
          <p:cNvPr id="62" name="Звук 22" descr=""/>
          <p:cNvPicPr/>
          <p:nvPr/>
        </p:nvPicPr>
        <p:blipFill>
          <a:blip r:embed="rId8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258920" y="23328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87200" y="1251000"/>
            <a:ext cx="11777760" cy="65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TTENTION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 complément d'agent est souvent introduit par la préposition "par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n utilise DE à la place de PAR avec les verbes suiva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imer, estimer, apprécier, détester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naître, savoir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oublier, précéder, suivre, accompagner, entou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ette femme est aimé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de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t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ette histoire est connu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de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t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Звук 4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"/>
          <p:cNvPicPr/>
          <p:nvPr/>
        </p:nvPicPr>
        <p:blipFill>
          <a:blip r:embed="rId1"/>
          <a:stretch/>
        </p:blipFill>
        <p:spPr>
          <a:xfrm>
            <a:off x="3424320" y="576360"/>
            <a:ext cx="439236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3826800" y="5499000"/>
            <a:ext cx="415368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Merci pour votre atten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Звук 6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4520" y="328320"/>
            <a:ext cx="456696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Les sports d’é</a:t>
            </a:r>
            <a:r>
              <a:rPr b="0" lang="en-US" sz="4400" spc="-1" strike="noStrike">
                <a:solidFill>
                  <a:srgbClr val="002060"/>
                </a:solidFill>
                <a:latin typeface="Calibri Light"/>
              </a:rPr>
              <a:t>quip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507960" y="133344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olley-b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771480" y="50324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basket-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3233880" y="17953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nn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03040" y="1893960"/>
            <a:ext cx="2459160" cy="1820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2"/>
          <a:stretch/>
        </p:blipFill>
        <p:spPr>
          <a:xfrm>
            <a:off x="2900520" y="2340000"/>
            <a:ext cx="1887480" cy="1787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3"/>
          <a:stretch/>
        </p:blipFill>
        <p:spPr>
          <a:xfrm>
            <a:off x="2725560" y="4486320"/>
            <a:ext cx="1803600" cy="20160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727680" y="328680"/>
            <a:ext cx="6573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Les sports </a:t>
            </a:r>
            <a:r>
              <a:rPr b="0" lang="en-US" sz="4300" spc="-1" strike="noStrike">
                <a:solidFill>
                  <a:srgbClr val="002060"/>
                </a:solidFill>
                <a:latin typeface="Calibri Light"/>
              </a:rPr>
              <a:t>nautiqu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8288280" y="11383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na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6463440" y="36082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lanche à voi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9712800" y="365904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v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4" descr=""/>
          <p:cNvPicPr/>
          <p:nvPr/>
        </p:nvPicPr>
        <p:blipFill>
          <a:blip r:embed="rId4"/>
          <a:stretch/>
        </p:blipFill>
        <p:spPr>
          <a:xfrm>
            <a:off x="7719840" y="1695600"/>
            <a:ext cx="269892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"/>
          <p:cNvPicPr/>
          <p:nvPr/>
        </p:nvPicPr>
        <p:blipFill>
          <a:blip r:embed="rId5"/>
          <a:stretch/>
        </p:blipFill>
        <p:spPr>
          <a:xfrm>
            <a:off x="6723000" y="4140360"/>
            <a:ext cx="1816200" cy="2568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"/>
          <p:cNvPicPr/>
          <p:nvPr/>
        </p:nvPicPr>
        <p:blipFill>
          <a:blip r:embed="rId6"/>
          <a:stretch/>
        </p:blipFill>
        <p:spPr>
          <a:xfrm>
            <a:off x="9510840" y="4300560"/>
            <a:ext cx="181440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Звук 19" descr=""/>
          <p:cNvPicPr/>
          <p:nvPr/>
        </p:nvPicPr>
        <p:blipFill>
          <a:blip r:embed="rId7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09480" y="816120"/>
            <a:ext cx="11079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’e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ano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2. C’es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volley-ba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basket-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na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course à pi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yclis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7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aut en longueur et en haut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8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k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patin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gymnast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1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box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2. C’es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joue au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119320" y="83016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ram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933560" y="129708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  <a:ea typeface="Calibri"/>
              </a:rPr>
              <a:t>un volley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542680" y="12600"/>
            <a:ext cx="65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Qui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pratique</a:t>
            </a:r>
            <a:r>
              <a:rPr b="1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 ce spor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Звук 9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09480" y="436680"/>
            <a:ext cx="11079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’est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nag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ano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2. C’es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volley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volley-ba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C’est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un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basketteu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basket-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nag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na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cour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course à pi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cycli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yclis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7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saut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aut en longueur et en haut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8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ski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k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patin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patin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gymna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gymnast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1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box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box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2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football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joue au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Звук 4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1139760"/>
            <a:ext cx="12252600" cy="5542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106720" y="131760"/>
            <a:ext cx="10085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Pour devenir un bon sportif il faut</a:t>
            </a:r>
            <a:r>
              <a:rPr b="0" lang="ru-RU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Звук 3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-666720" y="547560"/>
            <a:ext cx="137746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Quelles qualités faut-il avoir pour devenir un bon sporti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12640" y="2297160"/>
            <a:ext cx="4973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ur devenir un bon footballeu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, il faut s’entraîner beaucoup, avoir l’esprit d’équipe, savoir courir, avoir les jambes muscl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958000" y="1774800"/>
            <a:ext cx="6316560" cy="3614760"/>
          </a:xfrm>
          <a:prstGeom prst="rect">
            <a:avLst/>
          </a:prstGeom>
          <a:ln w="0">
            <a:noFill/>
          </a:ln>
        </p:spPr>
      </p:pic>
      <p:pic>
        <p:nvPicPr>
          <p:cNvPr id="91" name="Звук 8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200320" y="911160"/>
            <a:ext cx="9369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  <a:ea typeface="Calibri"/>
              </a:rPr>
              <a:t>Continuez d’après ce modèle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alpiniste, 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gymnaste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nageu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joueur de tennis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cavalie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boxeu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вук 9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643040" y="606600"/>
            <a:ext cx="948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e l‘Antiquité à </a:t>
            </a:r>
            <a:r>
              <a:rPr b="0" lang="en-US" sz="4400" spc="-1" strike="noStrike">
                <a:solidFill>
                  <a:srgbClr val="002060"/>
                </a:solidFill>
                <a:latin typeface="Calibri Light"/>
              </a:rPr>
              <a:t>nos j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3689280" y="2565360"/>
            <a:ext cx="5715000" cy="3819600"/>
          </a:xfrm>
          <a:prstGeom prst="rect">
            <a:avLst/>
          </a:prstGeom>
          <a:ln w="0">
            <a:noFill/>
          </a:ln>
        </p:spPr>
      </p:pic>
      <p:pic>
        <p:nvPicPr>
          <p:cNvPr id="96" name="Звук 9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4T21:41:10Z</dcterms:created>
  <dc:creator>Ксения Зотова</dc:creator>
  <dc:description/>
  <dc:language>en-US</dc:language>
  <cp:lastModifiedBy>Ксения Зотова</cp:lastModifiedBy>
  <dcterms:modified xsi:type="dcterms:W3CDTF">2021-04-18T09:51:09Z</dcterms:modified>
  <cp:revision>288</cp:revision>
  <dc:subject/>
  <dc:title>Le sport. L’histoire des Jeux Olympiques</dc:title>
</cp:coreProperties>
</file>