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6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3.gif" ContentType="image/gif"/>
  <Override PartName="/ppt/media/image6.png" ContentType="image/png"/>
  <Override PartName="/ppt/media/image14.wmf" ContentType="image/x-wmf"/>
  <Override PartName="/ppt/media/image7.wmf" ContentType="image/x-wmf"/>
  <Override PartName="/ppt/media/image8.png" ContentType="image/png"/>
  <Override PartName="/ppt/media/image30.gif" ContentType="image/gif"/>
  <Override PartName="/ppt/media/image33.png" ContentType="image/png"/>
  <Override PartName="/ppt/media/image11.jpeg" ContentType="image/jpeg"/>
  <Override PartName="/ppt/media/image9.wmf" ContentType="image/x-wmf"/>
  <Override PartName="/ppt/media/image12.jpeg" ContentType="image/jpeg"/>
  <Override PartName="/ppt/media/image34.png" ContentType="image/png"/>
  <Override PartName="/ppt/media/image31.jpeg" ContentType="image/jpeg"/>
  <Override PartName="/ppt/media/image4.jpeg" ContentType="image/jpeg"/>
  <Override PartName="/ppt/media/image13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22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4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B5460-F241-43D1-8C81-B1274BC4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AA739-6058-4889-88CB-E801EFFC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157B2-9A36-4388-B236-A4A95C36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8A56B-8633-4A70-B856-12BA51B1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BBCD-7E97-45E3-97A6-E67D8ECF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FBD5-F2FD-4D87-B444-1AA8B22B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35E2-A277-4818-8941-80BB30F7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0396-5C38-4676-AFD6-B05B99B5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9F4E-A7F8-4F74-8F76-D2697923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091B-EB80-4411-9AF5-14085EF2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ACDF-59C6-4699-81EF-A2BC0424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C6425-3809-44EC-8165-627A482E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FF94-A7BB-4C01-827D-DA1DB87F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5262-C616-4408-A048-CB531F3A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3183-CD67-40F3-9279-630C3D21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DCA7-4A58-4815-A8E5-85E41B9D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67D6-00AD-41EC-8BA1-5B0DB06F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50F92-8C93-4DA6-ABC9-2DB284C1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5C932-CE81-4833-80F9-B606EFB4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3BAEF-C4CA-4FE3-943D-D925A0D5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1C0A8-AFED-4AD2-9F73-BF8FD85F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09D5E-6DB2-4AE1-A3BC-9727CEA0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352D7-9D01-4B11-A84C-6F715F42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24658-6BB4-4A02-9E5C-AA5FC6C9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6C3B1-5E1D-4B8F-8C02-A9A28C08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5568F-A6C7-4802-8B44-2D27DC97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DD877-25D3-44F8-8215-5DDCD5CF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6BDE6-6A14-41FB-8470-8A711DEF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91CF3-927D-460B-A6E5-05F9D0C9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E1159-2F7F-4270-AEB2-A4FE22CB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7C2FB-8E7C-4286-A2C0-C0249ACD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B39DE-E584-413F-ADC1-AFA6FEEC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EA998-F24E-443C-8AA6-6D306990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0C600-B003-49C6-9210-132A5A5B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8C96B-2240-4699-9ABB-8C4E2856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BC764-B938-407A-995D-DDBEE707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000B1-1512-443D-900C-905CE769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408DF-89C5-49B5-B174-3DF4CCDE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9987D-B459-4F32-9262-9F3F1594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DC501-AEB2-4D7D-80A1-63C8E3D0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D5EB8-E9EC-474E-A1E9-9CA71E8C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71F9D-B684-4BFA-9425-170437BC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C641D-C233-4A00-A669-A5A52F0F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D98D9-A993-417C-BED2-9D06F842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7596-0A9C-43EE-8455-238561B0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6B198-FC5D-4E58-9A32-C6F196C5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18BE2-D537-4851-AAC0-0E78175D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5C9CA-53A2-4ED8-B9A8-C3101A12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7F339-F562-41CF-940A-5287406F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667F0-3763-43C4-BD15-39E319D7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CD2B1-59FF-4C9E-956C-C5551030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0208A-3AB2-4DCB-8292-3534E709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C8CF4-2AA7-4637-BFFF-E7C8EBB8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51299-7F42-4F86-977A-051DD4A0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75CEF-FFB6-4359-852B-5D3288A5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115B6-47A0-4CE6-B362-91CCD2F0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01C2A-F17A-4489-BCB8-DEDEFB9E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03A2D-3DF7-46A8-A0EB-26BBAC0D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EF051-CB37-4913-A658-10A00E4C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D37A-AC7D-471A-8364-04C855E2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8DA4-8157-4DBE-9A3E-B9D9D667C7C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BAE9-AB0B-48DD-960A-6DBB6583B0CF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3A31-41DD-4F37-A5B1-0375B565E2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5C8A-E8BC-47EF-894F-6FBB181152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EC1E-3890-4F97-BA57-309B5461F85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3.gif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3.gif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3.gif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gi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gi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амилия: Пономаренк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мя: Екатери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чество: Михайлов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лжность: педагог-психолог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тегория: первая квалификационная категор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аж работы: с 2005 го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 работы: МБДОУ №15 «Золотой петушок» и МБДОУ №32 «Лесная сказка» г. Пролетарска Ростовской обла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55" descr="SDC11265"/>
          <p:cNvPicPr/>
          <p:nvPr/>
        </p:nvPicPr>
        <p:blipFill>
          <a:blip r:embed="rId1"/>
          <a:stretch/>
        </p:blipFill>
        <p:spPr>
          <a:xfrm>
            <a:off x="395280" y="1700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52" name="WordArt 56"/>
          <p:cNvSpPr txBox="1"/>
          <p:nvPr/>
        </p:nvSpPr>
        <p:spPr>
          <a:xfrm>
            <a:off x="2411280" y="620640"/>
            <a:ext cx="4681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дагог-психоло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3" name="Рисунок 6" descr="736216910.gif"/>
          <p:cNvPicPr/>
          <p:nvPr/>
        </p:nvPicPr>
        <p:blipFill>
          <a:blip r:embed="rId2"/>
          <a:stretch/>
        </p:blipFill>
        <p:spPr>
          <a:xfrm>
            <a:off x="7236000" y="5589720"/>
            <a:ext cx="137628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81bd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4762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ндовые консуль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овые консультации                  ( родительские собрания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ирование по результатам скрининговой диагностики, углубленной диагнос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ирование по результатам и ходу коррекционного проце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ирование по вопросам дальнейшего обучения ребен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6054840" y="2627280"/>
            <a:ext cx="2468520" cy="801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1230968822_tarasova"/>
          <p:cNvPicPr/>
          <p:nvPr/>
        </p:nvPicPr>
        <p:blipFill>
          <a:blip r:embed="rId2"/>
          <a:stretch/>
        </p:blipFill>
        <p:spPr>
          <a:xfrm>
            <a:off x="6300720" y="4632480"/>
            <a:ext cx="1511280" cy="1388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D:\леха\катя\Фото\100SSCAM\SDC11376.JPG"/>
          <p:cNvPicPr/>
          <p:nvPr/>
        </p:nvPicPr>
        <p:blipFill>
          <a:blip r:embed="rId3"/>
          <a:stretch/>
        </p:blipFill>
        <p:spPr>
          <a:xfrm>
            <a:off x="5427720" y="1268280"/>
            <a:ext cx="3457440" cy="259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D:\леха\катя\Фото\100SSCAM\SDC11372.JPG"/>
          <p:cNvPicPr/>
          <p:nvPr/>
        </p:nvPicPr>
        <p:blipFill>
          <a:blip r:embed="rId4"/>
          <a:stretch/>
        </p:blipFill>
        <p:spPr>
          <a:xfrm>
            <a:off x="5427720" y="3973680"/>
            <a:ext cx="361008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с администраци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Консультирование по результатам всех видов психологической деятельности (аналитические справ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Консультирование по организационным вопросам психологического сопровождения развития детей в ДО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Участие в заседаниях ПМП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Участие в оформлении медицинской карты ребенка (психологический бло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Рисунок 3" descr="1899247.jpg"/>
          <p:cNvPicPr/>
          <p:nvPr/>
        </p:nvPicPr>
        <p:blipFill>
          <a:blip r:embed="rId1"/>
          <a:stretch/>
        </p:blipFill>
        <p:spPr>
          <a:xfrm>
            <a:off x="971640" y="3716280"/>
            <a:ext cx="3905280" cy="293076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4" descr="611750989.gif"/>
          <p:cNvPicPr/>
          <p:nvPr/>
        </p:nvPicPr>
        <p:blipFill>
          <a:blip r:embed="rId2"/>
          <a:stretch/>
        </p:blipFill>
        <p:spPr>
          <a:xfrm>
            <a:off x="7308720" y="5575320"/>
            <a:ext cx="1306800" cy="1071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D:\леха\катя\Фото\100SSCAM\SDC11369.JPG"/>
          <p:cNvPicPr/>
          <p:nvPr/>
        </p:nvPicPr>
        <p:blipFill>
          <a:blip r:embed="rId3"/>
          <a:stretch/>
        </p:blipFill>
        <p:spPr>
          <a:xfrm>
            <a:off x="992160" y="3716280"/>
            <a:ext cx="395460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87640" y="62064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теперь-о самом важн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Box 4"/>
          <p:cNvSpPr/>
          <p:nvPr/>
        </p:nvSpPr>
        <p:spPr>
          <a:xfrm>
            <a:off x="2411280" y="134136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сихологической практике нуж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6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1536840" y="2328840"/>
            <a:ext cx="1388880" cy="1298520"/>
          </a:xfrm>
          <a:prstGeom prst="rect">
            <a:avLst/>
          </a:prstGeom>
          <a:ln w="0">
            <a:noFill/>
          </a:ln>
        </p:spPr>
      </p:pic>
      <p:pic>
        <p:nvPicPr>
          <p:cNvPr id="337" name="Скругленный прямоугольник 6" descr=""/>
          <p:cNvPicPr/>
          <p:nvPr/>
        </p:nvPicPr>
        <p:blipFill>
          <a:blip r:embed="rId2"/>
          <a:stretch/>
        </p:blipFill>
        <p:spPr>
          <a:xfrm>
            <a:off x="6016680" y="2335320"/>
            <a:ext cx="1395360" cy="1292040"/>
          </a:xfrm>
          <a:prstGeom prst="rect">
            <a:avLst/>
          </a:prstGeom>
          <a:ln w="0">
            <a:noFill/>
          </a:ln>
        </p:spPr>
      </p:pic>
      <p:sp>
        <p:nvSpPr>
          <p:cNvPr id="338" name="TextBox 7"/>
          <p:cNvSpPr/>
          <p:nvPr/>
        </p:nvSpPr>
        <p:spPr>
          <a:xfrm>
            <a:off x="2411280" y="494172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ые, как известно дело нажив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Box 8"/>
          <p:cNvSpPr/>
          <p:nvPr/>
        </p:nvSpPr>
        <p:spPr>
          <a:xfrm>
            <a:off x="3132000" y="57326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выше всего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Овал 2" descr=""/>
          <p:cNvPicPr/>
          <p:nvPr/>
        </p:nvPicPr>
        <p:blipFill>
          <a:blip r:embed="rId1"/>
          <a:stretch/>
        </p:blipFill>
        <p:spPr>
          <a:xfrm>
            <a:off x="2468520" y="969840"/>
            <a:ext cx="3987720" cy="16812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3"/>
          <p:cNvSpPr/>
          <p:nvPr/>
        </p:nvSpPr>
        <p:spPr>
          <a:xfrm>
            <a:off x="1332000" y="3141720"/>
            <a:ext cx="62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ишь с ней можно помочь личности не только решить проблему, но и способствовать развитию. Ведь главная цель психологии, как раз в том и заключается, чтобы содействовать гармонизации лич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4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WordArt 26"/>
          <p:cNvSpPr txBox="1"/>
          <p:nvPr/>
        </p:nvSpPr>
        <p:spPr>
          <a:xfrm>
            <a:off x="990720" y="762120"/>
            <a:ext cx="7467480" cy="1523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80"/>
                  </a:solidFill>
                  <a:miter/>
                </a:ln>
                <a:solidFill>
                  <a:srgbClr val="cc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Благодарю за внимание!</a:t>
            </a:r>
            <a:endParaRPr b="0" lang="en-US" sz="1800" spc="1" strike="noStrike">
              <a:ln w="31680">
                <a:solidFill>
                  <a:srgbClr val="000080"/>
                </a:solidFill>
                <a:miter/>
              </a:ln>
              <a:solidFill>
                <a:srgbClr val="cc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44" name="WordArt 27"/>
          <p:cNvSpPr txBox="1"/>
          <p:nvPr/>
        </p:nvSpPr>
        <p:spPr>
          <a:xfrm>
            <a:off x="609480" y="3733920"/>
            <a:ext cx="8001000" cy="1828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66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</a:t>
            </a:r>
            <a:endParaRPr b="0" lang="en-US" sz="1800" spc="1" strike="noStrike">
              <a:ln w="22320">
                <a:solidFill>
                  <a:srgbClr val="ff0066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45" name="Rectangle 31"/>
          <p:cNvSpPr/>
          <p:nvPr/>
        </p:nvSpPr>
        <p:spPr>
          <a:xfrm>
            <a:off x="304920" y="6095880"/>
            <a:ext cx="853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Автор: Пономаренко Е.М., педагог – психол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ятельность педагога-психолога в детском са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дагог-психоло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номаренко Екатерина Михайл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2124000" y="1844640"/>
            <a:ext cx="4848480" cy="12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СИХОЛОГиЯ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Рисунок 6" descr="736216910.gif"/>
          <p:cNvPicPr/>
          <p:nvPr/>
        </p:nvPicPr>
        <p:blipFill>
          <a:blip r:embed="rId1"/>
          <a:stretch/>
        </p:blipFill>
        <p:spPr>
          <a:xfrm>
            <a:off x="7093080" y="5589720"/>
            <a:ext cx="137628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5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Oval 3"/>
          <p:cNvSpPr/>
          <p:nvPr/>
        </p:nvSpPr>
        <p:spPr>
          <a:xfrm>
            <a:off x="1143000" y="3657600"/>
            <a:ext cx="3200400" cy="2743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Как он реагиру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а те или и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события в жизн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WordArt 4"/>
          <p:cNvSpPr txBox="1"/>
          <p:nvPr/>
        </p:nvSpPr>
        <p:spPr>
          <a:xfrm>
            <a:off x="1219320" y="0"/>
            <a:ext cx="7619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Главные вопросы в моей деятельности</a:t>
            </a:r>
            <a:endParaRPr b="1" lang="en-US" sz="4000" spc="1" strike="noStrike">
              <a:ln w="1908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61" name="Picture 5" descr="11"/>
          <p:cNvPicPr/>
          <p:nvPr/>
        </p:nvPicPr>
        <p:blipFill>
          <a:blip r:embed="rId2"/>
          <a:stretch/>
        </p:blipFill>
        <p:spPr>
          <a:xfrm rot="17545200">
            <a:off x="6730200" y="4699440"/>
            <a:ext cx="1724040" cy="2230200"/>
          </a:xfrm>
          <a:prstGeom prst="rect">
            <a:avLst/>
          </a:prstGeom>
          <a:ln w="0">
            <a:noFill/>
          </a:ln>
        </p:spPr>
      </p:pic>
      <p:sp>
        <p:nvSpPr>
          <p:cNvPr id="262" name="Oval 6"/>
          <p:cNvSpPr/>
          <p:nvPr/>
        </p:nvSpPr>
        <p:spPr>
          <a:xfrm>
            <a:off x="4876920" y="2286000"/>
            <a:ext cx="3352680" cy="2743200"/>
          </a:xfrm>
          <a:prstGeom prst="ellipse">
            <a:avLst/>
          </a:prstGeom>
          <a:solidFill>
            <a:srgbClr val="e7759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  <a:ea typeface="Arial"/>
              </a:rPr>
              <a:t>Как понять, ч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  <a:ea typeface="Arial"/>
              </a:rPr>
              <a:t>его беспокоит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Oval 7"/>
          <p:cNvSpPr/>
          <p:nvPr/>
        </p:nvSpPr>
        <p:spPr>
          <a:xfrm>
            <a:off x="609480" y="1295280"/>
            <a:ext cx="2362320" cy="19051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Как загляну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в м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ребенк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Oval 8"/>
          <p:cNvSpPr/>
          <p:nvPr/>
        </p:nvSpPr>
        <p:spPr>
          <a:xfrm>
            <a:off x="5486400" y="5105520"/>
            <a:ext cx="380880" cy="3808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Oval 9"/>
          <p:cNvSpPr/>
          <p:nvPr/>
        </p:nvSpPr>
        <p:spPr>
          <a:xfrm>
            <a:off x="6095880" y="5410080"/>
            <a:ext cx="22860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Oval 10"/>
          <p:cNvSpPr/>
          <p:nvPr/>
        </p:nvSpPr>
        <p:spPr>
          <a:xfrm>
            <a:off x="2743200" y="3200400"/>
            <a:ext cx="304920" cy="2286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3352680" y="3581280"/>
            <a:ext cx="152640" cy="763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Рисунок 6" descr="736216910.gif"/>
          <p:cNvPicPr/>
          <p:nvPr/>
        </p:nvPicPr>
        <p:blipFill>
          <a:blip r:embed="rId3"/>
          <a:stretch/>
        </p:blipFill>
        <p:spPr>
          <a:xfrm>
            <a:off x="7380360" y="1484280"/>
            <a:ext cx="137628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cea06d4c2e74t"/>
          <p:cNvPicPr/>
          <p:nvPr/>
        </p:nvPicPr>
        <p:blipFill>
          <a:blip r:embed="rId1"/>
          <a:stretch/>
        </p:blipFill>
        <p:spPr>
          <a:xfrm rot="21103800">
            <a:off x="-252360" y="3943080"/>
            <a:ext cx="2805120" cy="2914560"/>
          </a:xfrm>
          <a:prstGeom prst="rect">
            <a:avLst/>
          </a:prstGeom>
          <a:ln w="0">
            <a:noFill/>
          </a:ln>
        </p:spPr>
      </p:pic>
      <p:sp>
        <p:nvSpPr>
          <p:cNvPr id="270" name="WordArt 3"/>
          <p:cNvSpPr txBox="1"/>
          <p:nvPr/>
        </p:nvSpPr>
        <p:spPr>
          <a:xfrm>
            <a:off x="1619280" y="0"/>
            <a:ext cx="6172200" cy="17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риоритетные задачи работы 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едагога-психолога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50920" y="1413000"/>
            <a:ext cx="7345440" cy="576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Содействие формированию личности ребе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755640" y="2060640"/>
            <a:ext cx="6983280" cy="5763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Определение причин нарушения личностного и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познавательного развития ребе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1476360" y="2924280"/>
            <a:ext cx="7343640" cy="576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Преодоление нарушений в развитии ребе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195640" y="3645000"/>
            <a:ext cx="6553080" cy="504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Создание психолого-педагогических услов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преемственности в процессе непрерывн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      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образова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2951280" y="4437000"/>
            <a:ext cx="6192720" cy="5763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0" y="5300640"/>
            <a:ext cx="539640" cy="12240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835280" y="5805360"/>
            <a:ext cx="792000" cy="692280"/>
          </a:xfrm>
          <a:prstGeom prst="ellipse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Picture 11" descr="BUMBLBEE"/>
          <p:cNvPicPr/>
          <p:nvPr/>
        </p:nvPicPr>
        <p:blipFill>
          <a:blip r:embed="rId2"/>
          <a:stretch/>
        </p:blipFill>
        <p:spPr>
          <a:xfrm>
            <a:off x="7596360" y="5589720"/>
            <a:ext cx="1223640" cy="1030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2" descr="cea06d4c2e74t"/>
          <p:cNvPicPr/>
          <p:nvPr/>
        </p:nvPicPr>
        <p:blipFill>
          <a:blip r:embed="rId3"/>
          <a:stretch/>
        </p:blipFill>
        <p:spPr>
          <a:xfrm rot="424800">
            <a:off x="971640" y="4653000"/>
            <a:ext cx="2122560" cy="2205000"/>
          </a:xfrm>
          <a:prstGeom prst="rect">
            <a:avLst/>
          </a:prstGeom>
          <a:ln w="0">
            <a:noFill/>
          </a:ln>
        </p:spPr>
      </p:pic>
      <p:sp>
        <p:nvSpPr>
          <p:cNvPr id="280" name="Oval 13"/>
          <p:cNvSpPr/>
          <p:nvPr/>
        </p:nvSpPr>
        <p:spPr>
          <a:xfrm>
            <a:off x="2484360" y="6237360"/>
            <a:ext cx="432000" cy="404640"/>
          </a:xfrm>
          <a:prstGeom prst="ellipse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826920" y="6597720"/>
            <a:ext cx="576360" cy="260280"/>
          </a:xfrm>
          <a:prstGeom prst="ellipse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Рисунок 6" descr="736216910.gif"/>
          <p:cNvPicPr/>
          <p:nvPr/>
        </p:nvPicPr>
        <p:blipFill>
          <a:blip r:embed="rId4"/>
          <a:stretch/>
        </p:blipFill>
        <p:spPr>
          <a:xfrm>
            <a:off x="7451640" y="1197000"/>
            <a:ext cx="1376280" cy="1000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J03978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WordArt 3"/>
          <p:cNvSpPr txBox="1"/>
          <p:nvPr/>
        </p:nvSpPr>
        <p:spPr>
          <a:xfrm>
            <a:off x="457200" y="228600"/>
            <a:ext cx="8305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6ff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сихологическое сопровождени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66ff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66ff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цесса адаптации детей раннего возрас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66ff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380880" y="1143000"/>
            <a:ext cx="54104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6" name="Picture 5" descr="COMPTR4"/>
          <p:cNvPicPr/>
          <p:nvPr/>
        </p:nvPicPr>
        <p:blipFill>
          <a:blip r:embed="rId2"/>
          <a:stretch/>
        </p:blipFill>
        <p:spPr>
          <a:xfrm>
            <a:off x="5029200" y="15238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PB240065"/>
          <p:cNvPicPr/>
          <p:nvPr/>
        </p:nvPicPr>
        <p:blipFill>
          <a:blip r:embed="rId3"/>
          <a:stretch/>
        </p:blipFill>
        <p:spPr>
          <a:xfrm>
            <a:off x="380880" y="2819520"/>
            <a:ext cx="1871640" cy="26668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288" name="Rectangle 7"/>
          <p:cNvSpPr/>
          <p:nvPr/>
        </p:nvSpPr>
        <p:spPr>
          <a:xfrm>
            <a:off x="3708360" y="4343400"/>
            <a:ext cx="5130720" cy="1749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блюдение за детьми в групп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Заполнение адаптационных лис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нкетирование р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9" name="Picture 8" descr="SDC11274"/>
          <p:cNvPicPr/>
          <p:nvPr/>
        </p:nvPicPr>
        <p:blipFill>
          <a:blip r:embed="rId4"/>
          <a:stretch/>
        </p:blipFill>
        <p:spPr>
          <a:xfrm>
            <a:off x="152280" y="2743200"/>
            <a:ext cx="3505320" cy="313200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6" descr="736216910.gif"/>
          <p:cNvPicPr/>
          <p:nvPr/>
        </p:nvPicPr>
        <p:blipFill>
          <a:blip r:embed="rId5"/>
          <a:stretch/>
        </p:blipFill>
        <p:spPr>
          <a:xfrm>
            <a:off x="684360" y="1413000"/>
            <a:ext cx="1376280" cy="1000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D:\леха\катя\Фото\100SSCAM\SDC11249.JPG"/>
          <p:cNvPicPr/>
          <p:nvPr/>
        </p:nvPicPr>
        <p:blipFill>
          <a:blip r:embed="rId6"/>
          <a:stretch/>
        </p:blipFill>
        <p:spPr>
          <a:xfrm>
            <a:off x="4427640" y="1247760"/>
            <a:ext cx="3889440" cy="2916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J03978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месяц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294" name="WordArt 4"/>
          <p:cNvSpPr txBox="1"/>
          <p:nvPr/>
        </p:nvSpPr>
        <p:spPr>
          <a:xfrm>
            <a:off x="0" y="0"/>
            <a:ext cx="8763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крининговая диагностика 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ждой возрастной групп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AutoShape 5"/>
          <p:cNvSpPr/>
          <p:nvPr/>
        </p:nvSpPr>
        <p:spPr>
          <a:xfrm rot="19972200">
            <a:off x="5791320" y="2437920"/>
            <a:ext cx="3124080" cy="3048120"/>
          </a:xfrm>
          <a:custGeom>
            <a:avLst/>
            <a:gdLst>
              <a:gd name="textAreaLeft" fmla="*/ 1145880 w 3124080"/>
              <a:gd name="textAreaRight" fmla="*/ 1978200 w 3124080"/>
              <a:gd name="textAreaTop" fmla="*/ 1118160 h 3048120"/>
              <a:gd name="textAreaBottom" fmla="*/ 192996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24" y="7924"/>
                </a:lnTo>
                <a:lnTo>
                  <a:pt x="10800" y="0"/>
                </a:lnTo>
                <a:lnTo>
                  <a:pt x="13676" y="7924"/>
                </a:lnTo>
                <a:lnTo>
                  <a:pt x="21600" y="10800"/>
                </a:lnTo>
                <a:lnTo>
                  <a:pt x="13676" y="13676"/>
                </a:lnTo>
                <a:lnTo>
                  <a:pt x="10800" y="21600"/>
                </a:lnTo>
                <a:lnTo>
                  <a:pt x="7924" y="13676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Дыхательны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упраж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179280" y="1523880"/>
            <a:ext cx="4392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Arial"/>
                <a:ea typeface="Arial"/>
              </a:rPr>
              <a:t>Индивидуальная диагностик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каждого ребенка во все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группах детского са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3124080" y="3813120"/>
            <a:ext cx="3052800" cy="3044880"/>
          </a:xfrm>
          <a:custGeom>
            <a:avLst/>
            <a:gdLst>
              <a:gd name="textAreaLeft" fmla="*/ 1022760 w 3052800"/>
              <a:gd name="textAreaRight" fmla="*/ 2030040 w 3052800"/>
              <a:gd name="textAreaTop" fmla="*/ 1019880 h 3044880"/>
              <a:gd name="textAreaBottom" fmla="*/ 2025000 h 304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36" y="7236"/>
                </a:lnTo>
                <a:lnTo>
                  <a:pt x="10800" y="0"/>
                </a:lnTo>
                <a:lnTo>
                  <a:pt x="14364" y="7236"/>
                </a:lnTo>
                <a:lnTo>
                  <a:pt x="21600" y="10800"/>
                </a:lnTo>
                <a:lnTo>
                  <a:pt x="14364" y="14364"/>
                </a:lnTo>
                <a:lnTo>
                  <a:pt x="10800" y="21600"/>
                </a:lnTo>
                <a:lnTo>
                  <a:pt x="7236" y="1436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Мышеч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релаксация п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Джекобсон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AutoShape 8"/>
          <p:cNvSpPr/>
          <p:nvPr/>
        </p:nvSpPr>
        <p:spPr>
          <a:xfrm rot="1506600">
            <a:off x="380880" y="3123720"/>
            <a:ext cx="2895840" cy="2743200"/>
          </a:xfrm>
          <a:custGeom>
            <a:avLst/>
            <a:gdLst>
              <a:gd name="textAreaLeft" fmla="*/ 957240 w 2895840"/>
              <a:gd name="textAreaRight" fmla="*/ 1938600 w 2895840"/>
              <a:gd name="textAreaTop" fmla="*/ 906840 h 2743200"/>
              <a:gd name="textAreaBottom" fmla="*/ 183636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141" y="7141"/>
                </a:lnTo>
                <a:lnTo>
                  <a:pt x="10800" y="0"/>
                </a:lnTo>
                <a:lnTo>
                  <a:pt x="14459" y="7141"/>
                </a:lnTo>
                <a:lnTo>
                  <a:pt x="21600" y="10800"/>
                </a:lnTo>
                <a:lnTo>
                  <a:pt x="14459" y="14459"/>
                </a:lnTo>
                <a:lnTo>
                  <a:pt x="10800" y="21600"/>
                </a:lnTo>
                <a:lnTo>
                  <a:pt x="7141" y="14459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5181480" y="1295280"/>
            <a:ext cx="1447920" cy="1295640"/>
          </a:xfrm>
          <a:prstGeom prst="line">
            <a:avLst/>
          </a:prstGeom>
          <a:ln w="22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10"/>
          <p:cNvSpPr/>
          <p:nvPr/>
        </p:nvSpPr>
        <p:spPr>
          <a:xfrm flipH="1">
            <a:off x="4647960" y="1295280"/>
            <a:ext cx="533160" cy="2514600"/>
          </a:xfrm>
          <a:prstGeom prst="line">
            <a:avLst/>
          </a:prstGeom>
          <a:ln w="22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11"/>
          <p:cNvSpPr/>
          <p:nvPr/>
        </p:nvSpPr>
        <p:spPr>
          <a:xfrm flipH="1">
            <a:off x="2361960" y="1295280"/>
            <a:ext cx="2819160" cy="1981440"/>
          </a:xfrm>
          <a:prstGeom prst="line">
            <a:avLst/>
          </a:prstGeom>
          <a:ln w="22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Рисунок 6" descr="736216910.gif"/>
          <p:cNvPicPr/>
          <p:nvPr/>
        </p:nvPicPr>
        <p:blipFill>
          <a:blip r:embed="rId3"/>
          <a:stretch/>
        </p:blipFill>
        <p:spPr>
          <a:xfrm>
            <a:off x="7524720" y="5661000"/>
            <a:ext cx="1376280" cy="1000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D:\леха\катя\Фото\100SSCAM\SDC11308.JPG"/>
          <p:cNvPicPr/>
          <p:nvPr/>
        </p:nvPicPr>
        <p:blipFill>
          <a:blip r:embed="rId4"/>
          <a:stretch/>
        </p:blipFill>
        <p:spPr>
          <a:xfrm>
            <a:off x="468360" y="3489480"/>
            <a:ext cx="2597040" cy="2181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D:\леха\катя\Фото\100SSCAM\SDC11311.JPG"/>
          <p:cNvPicPr/>
          <p:nvPr/>
        </p:nvPicPr>
        <p:blipFill>
          <a:blip r:embed="rId5"/>
          <a:stretch/>
        </p:blipFill>
        <p:spPr>
          <a:xfrm>
            <a:off x="6176880" y="2997360"/>
            <a:ext cx="2862360" cy="2269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D:\леха\катя\Фото\100SSCAM\SDC11307.JPG"/>
          <p:cNvPicPr/>
          <p:nvPr/>
        </p:nvPicPr>
        <p:blipFill>
          <a:blip r:embed="rId6"/>
          <a:stretch/>
        </p:blipFill>
        <p:spPr>
          <a:xfrm>
            <a:off x="3117960" y="4552920"/>
            <a:ext cx="2966760" cy="2225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вающая группова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9672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познавательных процесс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межличностных 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эмоционально-личностной сферы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мотивационно-потребностной сферы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6012000" y="1484280"/>
            <a:ext cx="2468520" cy="2468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1230968822_tarasova"/>
          <p:cNvPicPr/>
          <p:nvPr/>
        </p:nvPicPr>
        <p:blipFill>
          <a:blip r:embed="rId2"/>
          <a:stretch/>
        </p:blipFill>
        <p:spPr>
          <a:xfrm>
            <a:off x="5651640" y="4005360"/>
            <a:ext cx="2906640" cy="269064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6" descr="736216910.gif"/>
          <p:cNvPicPr/>
          <p:nvPr/>
        </p:nvPicPr>
        <p:blipFill>
          <a:blip r:embed="rId3"/>
          <a:stretch/>
        </p:blipFill>
        <p:spPr>
          <a:xfrm>
            <a:off x="3635280" y="5516640"/>
            <a:ext cx="1376280" cy="1000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D:\леха\катя\Фото\100SSCAM\SDC11309.JPG"/>
          <p:cNvPicPr/>
          <p:nvPr/>
        </p:nvPicPr>
        <p:blipFill>
          <a:blip r:embed="rId4"/>
          <a:stretch/>
        </p:blipFill>
        <p:spPr>
          <a:xfrm>
            <a:off x="5780160" y="1413000"/>
            <a:ext cx="3095640" cy="25398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D:\леха\катя\Фото\100SSCAM\SDC11277.JPG"/>
          <p:cNvPicPr/>
          <p:nvPr/>
        </p:nvPicPr>
        <p:blipFill>
          <a:blip r:embed="rId5"/>
          <a:stretch/>
        </p:blipFill>
        <p:spPr>
          <a:xfrm>
            <a:off x="5580000" y="4005360"/>
            <a:ext cx="349560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Arial"/>
              </a:rPr>
              <a:t>Коррекционная раб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- Дополнительная углубленная диагностика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- Создание индивидуальной коррекционной программы по каждому ребен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Рисунок 4" descr="wash.jpg"/>
          <p:cNvPicPr/>
          <p:nvPr/>
        </p:nvPicPr>
        <p:blipFill>
          <a:blip r:embed="rId1"/>
          <a:stretch/>
        </p:blipFill>
        <p:spPr>
          <a:xfrm>
            <a:off x="2771640" y="3611520"/>
            <a:ext cx="3027600" cy="207180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6" descr="736216910.gif"/>
          <p:cNvPicPr/>
          <p:nvPr/>
        </p:nvPicPr>
        <p:blipFill>
          <a:blip r:embed="rId2"/>
          <a:stretch/>
        </p:blipFill>
        <p:spPr>
          <a:xfrm>
            <a:off x="7451640" y="5738760"/>
            <a:ext cx="1376280" cy="10000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D:\леха\катя\Фото\100SSCAM\SDC11258.JPG"/>
          <p:cNvPicPr/>
          <p:nvPr/>
        </p:nvPicPr>
        <p:blipFill>
          <a:blip r:embed="rId3"/>
          <a:stretch/>
        </p:blipFill>
        <p:spPr>
          <a:xfrm>
            <a:off x="1908000" y="2882880"/>
            <a:ext cx="5256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50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99"/>
                </a:solidFill>
                <a:latin typeface="Calibri"/>
              </a:rPr>
              <a:t>Работа с педагогам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9672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агностика особенностей педагогического общения (обучающие семинары-практикумы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сультирование по результатам скрининговой диагностики, по результатам углубленной диагности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сультирование по проблемам развития детей, а также по результатам и ходу коррекционного проце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6084720" y="2421000"/>
            <a:ext cx="2468880" cy="246852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6" descr="736216910.gif"/>
          <p:cNvPicPr/>
          <p:nvPr/>
        </p:nvPicPr>
        <p:blipFill>
          <a:blip r:embed="rId2"/>
          <a:stretch/>
        </p:blipFill>
        <p:spPr>
          <a:xfrm>
            <a:off x="179280" y="5857920"/>
            <a:ext cx="1376640" cy="1000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D:\леха\катя\Фото\100SSCAM\SDC11371.JPG"/>
          <p:cNvPicPr/>
          <p:nvPr/>
        </p:nvPicPr>
        <p:blipFill>
          <a:blip r:embed="rId3"/>
          <a:stretch/>
        </p:blipFill>
        <p:spPr>
          <a:xfrm>
            <a:off x="5398920" y="2332080"/>
            <a:ext cx="36370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8:02:07Z</dcterms:created>
  <dc:creator>Ket</dc:creator>
  <dc:description/>
  <dc:language>en-US</dc:language>
  <cp:lastModifiedBy>Алексей</cp:lastModifiedBy>
  <dcterms:modified xsi:type="dcterms:W3CDTF">2021-04-18T13:48:35Z</dcterms:modified>
  <cp:revision>37</cp:revision>
  <dc:subject/>
  <dc:title>Слайд 1</dc:title>
</cp:coreProperties>
</file>