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3.gif" ContentType="image/gif"/>
  <Override PartName="/ppt/media/image6.png" ContentType="image/png"/>
  <Override PartName="/ppt/media/image14.wmf" ContentType="image/x-wmf"/>
  <Override PartName="/ppt/media/image7.wmf" ContentType="image/x-wmf"/>
  <Override PartName="/ppt/media/image8.png" ContentType="image/png"/>
  <Override PartName="/ppt/media/image30.gif" ContentType="image/gif"/>
  <Override PartName="/ppt/media/image33.png" ContentType="image/png"/>
  <Override PartName="/ppt/media/image11.jpeg" ContentType="image/jpeg"/>
  <Override PartName="/ppt/media/image9.wmf" ContentType="image/x-wmf"/>
  <Override PartName="/ppt/media/image12.jpeg" ContentType="image/jpeg"/>
  <Override PartName="/ppt/media/image34.png" ContentType="image/png"/>
  <Override PartName="/ppt/media/image31.jpeg" ContentType="image/jpeg"/>
  <Override PartName="/ppt/media/image4.jpeg" ContentType="image/jpeg"/>
  <Override PartName="/ppt/media/image13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0481-62EA-49D5-AD6C-2460A354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6B3B-180D-48C1-AFA5-A06878A8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78CB-3E25-4D9D-B50D-50454EAC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0D4A-CC3D-4716-9B74-C7DF2CC3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E5B8-C09E-4A49-AF51-2974B82C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E49D-E9F4-4767-BC5A-1BC9D1F3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6F57-9885-40AD-A8D9-14873326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BAE7-09CF-4069-A440-8187DD39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D1E4-3131-4772-B15D-B101276F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B3C5-8778-40C5-9144-F0E8BE37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7B95-0641-4C6D-8F02-30E98495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6837-F656-4333-8BD9-0BB3C2BF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39E4-1375-496E-BD86-55193F1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060F-4F34-4E3D-BB04-2BF117C2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BF4B-9121-4751-B7A5-9E668743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10C4-1E06-48F0-B0D1-3961CEFA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7670-0D80-4702-B505-538F2002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2A5A-6696-4109-82B5-B1876BDD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3D1E-2B43-4250-9AD6-8F612F9C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F885-6285-4F7E-A9E8-6324AD6F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A1EB-6321-4CE9-BCDE-D341961D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9F0F-2278-4E8C-8A80-F19F4191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C856-4B9D-4DD7-91AC-FD460CB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D872-6901-4E2D-B4D1-2C49CB3E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C495-5D87-4516-B206-E1FD1B0D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B292-5F95-4DB7-BAA4-81078CD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308A-E124-4F69-96D3-D35FAD4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7298-206B-4617-A1FA-5D4F70D3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2C91-8E23-46A5-95BC-54329461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3197-21C8-4587-86CE-3B6189F1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7283E-AF6A-4704-92E3-03561962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D749-731E-456A-940F-3E73AFC0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0E30-B81E-4926-A4B7-3DFFD40A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6AF3-7A97-4EEA-9589-37E6770E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9A3D-CD9D-42C2-AFA2-74FF27E0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554CC-DDEB-4B01-AD6B-8D4CA73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3382F-2418-46F8-823D-08169977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02E1-281D-45E8-B3E7-A3E03A99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CBF7-8C34-42D2-AA48-E7FE9F49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D56C-5115-4770-9332-95282668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6A00-F433-4F47-A7BA-F6CC1DA4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7043-8419-4A6D-9313-AD441F49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6760-5E30-4C47-890D-45186770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058B-A4D4-480E-87DC-DE7F78E1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EC24-655D-494B-8AE9-069FDB9B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E9C26-063A-4F0C-BEC7-4E0474DB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5A58-8337-4A0F-A362-DEDFB22C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835CB-9913-4964-B107-869FFB88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C5002-ACF1-4F2D-9216-E569CBB0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43B85-9DD6-420A-9337-B04A161C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B9E01-C230-4F5C-8043-B0A831D3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E0FC-A762-4C3A-A855-C5F1625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7F89E-BA55-41F1-95BB-A17ECCCD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7CCE3-8BEC-4D45-8C36-F64E5729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8FCB8-D587-4CBF-9131-EA13DE3C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6A69-DF31-4B33-B863-4B855246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A33BF-DC3C-4D55-A594-6EAD80A7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D1F1-2B2D-4866-9F43-8999A1AF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40CF-41C2-443A-A2C6-239D2A7D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2EDC-2040-4802-9361-7950179C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0E8A-F4C8-4888-92AC-59F477B2D75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594C-889D-463E-B22C-3C7CE80C66D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5846-DC37-41B1-9FE2-FB5516C6C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C747-B3CA-407C-8A50-36BB8EE6B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EC93-BBC9-4002-B1BB-46986E2EA6A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gi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3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милия: Пономаренк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я: Екатер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чество: Михайло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лжность: педагог-психоло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тегория: первая квалификационная категор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ж работы: с 2005 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работы: МБДОУ №15 «Золотой петушок» и МБДОУ №32 «Лесная сказка» г. Пролетарска Ростовской обла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55" descr="SDC11265"/>
          <p:cNvPicPr/>
          <p:nvPr/>
        </p:nvPicPr>
        <p:blipFill>
          <a:blip r:embed="rId1"/>
          <a:stretch/>
        </p:blipFill>
        <p:spPr>
          <a:xfrm>
            <a:off x="39528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6"/>
          <p:cNvSpPr txBox="1"/>
          <p:nvPr/>
        </p:nvSpPr>
        <p:spPr>
          <a:xfrm>
            <a:off x="2411280" y="620640"/>
            <a:ext cx="468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-психол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Рисунок 6" descr="736216910.gif"/>
          <p:cNvPicPr/>
          <p:nvPr/>
        </p:nvPicPr>
        <p:blipFill>
          <a:blip r:embed="rId2"/>
          <a:stretch/>
        </p:blipFill>
        <p:spPr>
          <a:xfrm>
            <a:off x="7236000" y="558972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762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ндов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                 ( родительские собрания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ирование по результатам скрининговой диагностики, углубленной диагнос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ирование по результатам и ходу коррекционного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ирование по вопросам дальнейшего обучения ребен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6054840" y="2627280"/>
            <a:ext cx="2468520" cy="801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1230968822_tarasova"/>
          <p:cNvPicPr/>
          <p:nvPr/>
        </p:nvPicPr>
        <p:blipFill>
          <a:blip r:embed="rId2"/>
          <a:stretch/>
        </p:blipFill>
        <p:spPr>
          <a:xfrm>
            <a:off x="6300720" y="4632480"/>
            <a:ext cx="1511280" cy="1388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D:\леха\катя\Фото\100SSCAM\SDC11376.JPG"/>
          <p:cNvPicPr/>
          <p:nvPr/>
        </p:nvPicPr>
        <p:blipFill>
          <a:blip r:embed="rId3"/>
          <a:stretch/>
        </p:blipFill>
        <p:spPr>
          <a:xfrm>
            <a:off x="5427720" y="126828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D:\леха\катя\Фото\100SSCAM\SDC11372.JPG"/>
          <p:cNvPicPr/>
          <p:nvPr/>
        </p:nvPicPr>
        <p:blipFill>
          <a:blip r:embed="rId4"/>
          <a:stretch/>
        </p:blipFill>
        <p:spPr>
          <a:xfrm>
            <a:off x="5427720" y="3973680"/>
            <a:ext cx="36100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с администраци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Консультирование по результатам всех видов психологической деятельности (аналитические справ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Консультирование по организационным вопросам психологического сопровождения развития детей в ДО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Участие в заседаниях ПМП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Участие в оформлении медицинской карты ребенка (психологический бло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Рисунок 3" descr="1899247.jpg"/>
          <p:cNvPicPr/>
          <p:nvPr/>
        </p:nvPicPr>
        <p:blipFill>
          <a:blip r:embed="rId1"/>
          <a:stretch/>
        </p:blipFill>
        <p:spPr>
          <a:xfrm>
            <a:off x="971640" y="3716280"/>
            <a:ext cx="3905280" cy="29307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611750989.gif"/>
          <p:cNvPicPr/>
          <p:nvPr/>
        </p:nvPicPr>
        <p:blipFill>
          <a:blip r:embed="rId2"/>
          <a:stretch/>
        </p:blipFill>
        <p:spPr>
          <a:xfrm>
            <a:off x="7308720" y="5575320"/>
            <a:ext cx="1306800" cy="107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D:\леха\катя\Фото\100SSCAM\SDC11369.JPG"/>
          <p:cNvPicPr/>
          <p:nvPr/>
        </p:nvPicPr>
        <p:blipFill>
          <a:blip r:embed="rId3"/>
          <a:stretch/>
        </p:blipFill>
        <p:spPr>
          <a:xfrm>
            <a:off x="992160" y="3716280"/>
            <a:ext cx="395460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87640" y="6206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теперь-о самом важн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2411280" y="1341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сихологической практике нуж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1536840" y="2328840"/>
            <a:ext cx="1388880" cy="1298520"/>
          </a:xfrm>
          <a:prstGeom prst="rect">
            <a:avLst/>
          </a:prstGeom>
          <a:ln w="0">
            <a:noFill/>
          </a:ln>
        </p:spPr>
      </p:pic>
      <p:pic>
        <p:nvPicPr>
          <p:cNvPr id="337" name="Скругленный прямоугольник 6" descr=""/>
          <p:cNvPicPr/>
          <p:nvPr/>
        </p:nvPicPr>
        <p:blipFill>
          <a:blip r:embed="rId2"/>
          <a:stretch/>
        </p:blipFill>
        <p:spPr>
          <a:xfrm>
            <a:off x="6016680" y="2335320"/>
            <a:ext cx="1395360" cy="12920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2411280" y="494172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ые, как известно дело нажив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3132000" y="5732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ыше всего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Овал 2" descr=""/>
          <p:cNvPicPr/>
          <p:nvPr/>
        </p:nvPicPr>
        <p:blipFill>
          <a:blip r:embed="rId1"/>
          <a:stretch/>
        </p:blipFill>
        <p:spPr>
          <a:xfrm>
            <a:off x="2468520" y="969840"/>
            <a:ext cx="3987720" cy="1681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"/>
          <p:cNvSpPr/>
          <p:nvPr/>
        </p:nvSpPr>
        <p:spPr>
          <a:xfrm>
            <a:off x="1332000" y="314172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шь с ней можно помочь личности не только решить проблему, но и способствовать развитию. Ведь главная цель психологии, как раз в том и заключается, чтобы содействовать гармонизации лич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4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WordArt 26"/>
          <p:cNvSpPr txBox="1"/>
          <p:nvPr/>
        </p:nvSpPr>
        <p:spPr>
          <a:xfrm>
            <a:off x="990720" y="762120"/>
            <a:ext cx="7467480" cy="1523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cc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Благодарю за внимание!</a:t>
            </a:r>
            <a:endParaRPr b="0" lang="en-US" sz="1800" spc="1" strike="noStrike">
              <a:ln w="31680">
                <a:solidFill>
                  <a:srgbClr val="000080"/>
                </a:solidFill>
                <a:miter/>
              </a:ln>
              <a:solidFill>
                <a:srgbClr val="cc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44" name="WordArt 27"/>
          <p:cNvSpPr txBox="1"/>
          <p:nvPr/>
        </p:nvSpPr>
        <p:spPr>
          <a:xfrm>
            <a:off x="609480" y="37339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6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22320">
                <a:solidFill>
                  <a:srgbClr val="ff006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45" name="Rectangle 31"/>
          <p:cNvSpPr/>
          <p:nvPr/>
        </p:nvSpPr>
        <p:spPr>
          <a:xfrm>
            <a:off x="304920" y="609588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Автор: Пономаренко Е.М., педагог – психо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ятельность педагога-психолога в детском са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агог-психоло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омаренко Екатерина Михайл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2124000" y="1844640"/>
            <a:ext cx="48484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СИХОЛОГиЯ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Рисунок 6" descr="736216910.gif"/>
          <p:cNvPicPr/>
          <p:nvPr/>
        </p:nvPicPr>
        <p:blipFill>
          <a:blip r:embed="rId1"/>
          <a:stretch/>
        </p:blipFill>
        <p:spPr>
          <a:xfrm>
            <a:off x="7093080" y="558972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5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Oval 3"/>
          <p:cNvSpPr/>
          <p:nvPr/>
        </p:nvSpPr>
        <p:spPr>
          <a:xfrm>
            <a:off x="1143000" y="3657600"/>
            <a:ext cx="320040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Как он реагиру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 те или и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обытия в жизн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1219320" y="0"/>
            <a:ext cx="7619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лавные вопросы в моей деятельности</a:t>
            </a:r>
            <a:endParaRPr b="1" lang="en-US" sz="40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61" name="Picture 5" descr="11"/>
          <p:cNvPicPr/>
          <p:nvPr/>
        </p:nvPicPr>
        <p:blipFill>
          <a:blip r:embed="rId2"/>
          <a:stretch/>
        </p:blipFill>
        <p:spPr>
          <a:xfrm rot="17545200">
            <a:off x="6730200" y="4699440"/>
            <a:ext cx="1724040" cy="2230200"/>
          </a:xfrm>
          <a:prstGeom prst="rect">
            <a:avLst/>
          </a:prstGeom>
          <a:ln w="0">
            <a:noFill/>
          </a:ln>
        </p:spPr>
      </p:pic>
      <p:sp>
        <p:nvSpPr>
          <p:cNvPr id="262" name="Oval 6"/>
          <p:cNvSpPr/>
          <p:nvPr/>
        </p:nvSpPr>
        <p:spPr>
          <a:xfrm>
            <a:off x="4876920" y="2286000"/>
            <a:ext cx="3352680" cy="2743200"/>
          </a:xfrm>
          <a:prstGeom prst="ellipse">
            <a:avLst/>
          </a:prstGeom>
          <a:solidFill>
            <a:srgbClr val="e775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  <a:ea typeface="Arial"/>
              </a:rPr>
              <a:t>Как понять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  <a:ea typeface="Arial"/>
              </a:rPr>
              <a:t>его беспокоит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09480" y="1295280"/>
            <a:ext cx="2362320" cy="19051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Как загляну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в м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ребен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5486400" y="5105520"/>
            <a:ext cx="380880" cy="3808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6095880" y="54100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2743200" y="3200400"/>
            <a:ext cx="30492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3352680" y="3581280"/>
            <a:ext cx="15264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Рисунок 6" descr="736216910.gif"/>
          <p:cNvPicPr/>
          <p:nvPr/>
        </p:nvPicPr>
        <p:blipFill>
          <a:blip r:embed="rId3"/>
          <a:stretch/>
        </p:blipFill>
        <p:spPr>
          <a:xfrm>
            <a:off x="7380360" y="148428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ea06d4c2e74t"/>
          <p:cNvPicPr/>
          <p:nvPr/>
        </p:nvPicPr>
        <p:blipFill>
          <a:blip r:embed="rId1"/>
          <a:stretch/>
        </p:blipFill>
        <p:spPr>
          <a:xfrm rot="21103800">
            <a:off x="-252360" y="3943080"/>
            <a:ext cx="2805120" cy="2914560"/>
          </a:xfrm>
          <a:prstGeom prst="rect">
            <a:avLst/>
          </a:prstGeom>
          <a:ln w="0">
            <a:noFill/>
          </a:ln>
        </p:spPr>
      </p:pic>
      <p:sp>
        <p:nvSpPr>
          <p:cNvPr id="270" name="WordArt 3"/>
          <p:cNvSpPr txBox="1"/>
          <p:nvPr/>
        </p:nvSpPr>
        <p:spPr>
          <a:xfrm>
            <a:off x="1619280" y="0"/>
            <a:ext cx="6172200" cy="17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иоритетные задачи работы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едагога-психолога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1413000"/>
            <a:ext cx="7345440" cy="576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одействие формированию личности реб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755640" y="2060640"/>
            <a:ext cx="6983280" cy="576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Определение причин нарушения личностного и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ознавательного развития реб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1476360" y="2924280"/>
            <a:ext cx="7343640" cy="576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реодоление нарушений в развитии реб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195640" y="3645000"/>
            <a:ext cx="6553080" cy="504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психолого-педагогических услов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реемственности в процессе непрерыв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образо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951280" y="4437000"/>
            <a:ext cx="6192720" cy="576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0" y="5300640"/>
            <a:ext cx="539640" cy="1224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835280" y="5805360"/>
            <a:ext cx="792000" cy="69228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11" descr="BUMBLBEE"/>
          <p:cNvPicPr/>
          <p:nvPr/>
        </p:nvPicPr>
        <p:blipFill>
          <a:blip r:embed="rId2"/>
          <a:stretch/>
        </p:blipFill>
        <p:spPr>
          <a:xfrm>
            <a:off x="7596360" y="5589720"/>
            <a:ext cx="1223640" cy="1030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cea06d4c2e74t"/>
          <p:cNvPicPr/>
          <p:nvPr/>
        </p:nvPicPr>
        <p:blipFill>
          <a:blip r:embed="rId3"/>
          <a:stretch/>
        </p:blipFill>
        <p:spPr>
          <a:xfrm rot="424800">
            <a:off x="971640" y="4653000"/>
            <a:ext cx="2122560" cy="2205000"/>
          </a:xfrm>
          <a:prstGeom prst="rect">
            <a:avLst/>
          </a:prstGeom>
          <a:ln w="0">
            <a:noFill/>
          </a:ln>
        </p:spPr>
      </p:pic>
      <p:sp>
        <p:nvSpPr>
          <p:cNvPr id="280" name="Oval 13"/>
          <p:cNvSpPr/>
          <p:nvPr/>
        </p:nvSpPr>
        <p:spPr>
          <a:xfrm>
            <a:off x="2484360" y="6237360"/>
            <a:ext cx="432000" cy="40464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826920" y="6597720"/>
            <a:ext cx="576360" cy="26028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Рисунок 6" descr="736216910.gif"/>
          <p:cNvPicPr/>
          <p:nvPr/>
        </p:nvPicPr>
        <p:blipFill>
          <a:blip r:embed="rId4"/>
          <a:stretch/>
        </p:blipFill>
        <p:spPr>
          <a:xfrm>
            <a:off x="7451640" y="119700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J03978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WordArt 3"/>
          <p:cNvSpPr txBox="1"/>
          <p:nvPr/>
        </p:nvSpPr>
        <p:spPr>
          <a:xfrm>
            <a:off x="457200" y="228600"/>
            <a:ext cx="8305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сихологическое сопровождени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цесса адаптации детей раннего возрас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80880" y="1143000"/>
            <a:ext cx="5410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Picture 5" descr="COMPTR4"/>
          <p:cNvPicPr/>
          <p:nvPr/>
        </p:nvPicPr>
        <p:blipFill>
          <a:blip r:embed="rId2"/>
          <a:stretch/>
        </p:blipFill>
        <p:spPr>
          <a:xfrm>
            <a:off x="5029200" y="15238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PB240065"/>
          <p:cNvPicPr/>
          <p:nvPr/>
        </p:nvPicPr>
        <p:blipFill>
          <a:blip r:embed="rId3"/>
          <a:stretch/>
        </p:blipFill>
        <p:spPr>
          <a:xfrm>
            <a:off x="380880" y="2819520"/>
            <a:ext cx="1871640" cy="26668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288" name="Rectangle 7"/>
          <p:cNvSpPr/>
          <p:nvPr/>
        </p:nvSpPr>
        <p:spPr>
          <a:xfrm>
            <a:off x="3708360" y="4343400"/>
            <a:ext cx="5130720" cy="1749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блюдение за детьми в груп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полнение адаптационных лис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нкетирование р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8" descr="SDC11274"/>
          <p:cNvPicPr/>
          <p:nvPr/>
        </p:nvPicPr>
        <p:blipFill>
          <a:blip r:embed="rId4"/>
          <a:stretch/>
        </p:blipFill>
        <p:spPr>
          <a:xfrm>
            <a:off x="152280" y="2743200"/>
            <a:ext cx="3505320" cy="31320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736216910.gif"/>
          <p:cNvPicPr/>
          <p:nvPr/>
        </p:nvPicPr>
        <p:blipFill>
          <a:blip r:embed="rId5"/>
          <a:stretch/>
        </p:blipFill>
        <p:spPr>
          <a:xfrm>
            <a:off x="684360" y="1413000"/>
            <a:ext cx="1376280" cy="1000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D:\леха\катя\Фото\100SSCAM\SDC11249.JPG"/>
          <p:cNvPicPr/>
          <p:nvPr/>
        </p:nvPicPr>
        <p:blipFill>
          <a:blip r:embed="rId6"/>
          <a:stretch/>
        </p:blipFill>
        <p:spPr>
          <a:xfrm>
            <a:off x="4427640" y="1247760"/>
            <a:ext cx="388944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J03978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месяц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94" name="WordArt 4"/>
          <p:cNvSpPr txBox="1"/>
          <p:nvPr/>
        </p:nvSpPr>
        <p:spPr>
          <a:xfrm>
            <a:off x="0" y="0"/>
            <a:ext cx="8763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рининговая диагностика 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ждой возрастной групп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AutoShape 5"/>
          <p:cNvSpPr/>
          <p:nvPr/>
        </p:nvSpPr>
        <p:spPr>
          <a:xfrm rot="19972200">
            <a:off x="5791320" y="2437920"/>
            <a:ext cx="3124080" cy="3048120"/>
          </a:xfrm>
          <a:custGeom>
            <a:avLst/>
            <a:gdLst>
              <a:gd name="textAreaLeft" fmla="*/ 1145880 w 3124080"/>
              <a:gd name="textAreaRight" fmla="*/ 1978200 w 3124080"/>
              <a:gd name="textAreaTop" fmla="*/ 1118160 h 3048120"/>
              <a:gd name="textAreaBottom" fmla="*/ 192996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24" y="7924"/>
                </a:lnTo>
                <a:lnTo>
                  <a:pt x="10800" y="0"/>
                </a:lnTo>
                <a:lnTo>
                  <a:pt x="13676" y="7924"/>
                </a:lnTo>
                <a:lnTo>
                  <a:pt x="21600" y="10800"/>
                </a:lnTo>
                <a:lnTo>
                  <a:pt x="13676" y="13676"/>
                </a:lnTo>
                <a:lnTo>
                  <a:pt x="10800" y="21600"/>
                </a:lnTo>
                <a:lnTo>
                  <a:pt x="7924" y="136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Дыхатель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79280" y="1523880"/>
            <a:ext cx="4392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Arial"/>
                <a:ea typeface="Arial"/>
              </a:rPr>
              <a:t>Индивидуальная диагностик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каждого ребенка во все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группах детского с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3124080" y="3813120"/>
            <a:ext cx="3052800" cy="3044880"/>
          </a:xfrm>
          <a:custGeom>
            <a:avLst/>
            <a:gdLst>
              <a:gd name="textAreaLeft" fmla="*/ 1022760 w 3052800"/>
              <a:gd name="textAreaRight" fmla="*/ 2030040 w 3052800"/>
              <a:gd name="textAreaTop" fmla="*/ 1019880 h 3044880"/>
              <a:gd name="textAreaBottom" fmla="*/ 2025000 h 304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36" y="7236"/>
                </a:lnTo>
                <a:lnTo>
                  <a:pt x="10800" y="0"/>
                </a:lnTo>
                <a:lnTo>
                  <a:pt x="14364" y="7236"/>
                </a:lnTo>
                <a:lnTo>
                  <a:pt x="21600" y="10800"/>
                </a:lnTo>
                <a:lnTo>
                  <a:pt x="14364" y="14364"/>
                </a:lnTo>
                <a:lnTo>
                  <a:pt x="10800" y="21600"/>
                </a:lnTo>
                <a:lnTo>
                  <a:pt x="7236" y="1436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ышеч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елаксация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Джекобсон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AutoShape 8"/>
          <p:cNvSpPr/>
          <p:nvPr/>
        </p:nvSpPr>
        <p:spPr>
          <a:xfrm rot="1506600">
            <a:off x="380880" y="3123720"/>
            <a:ext cx="2895840" cy="2743200"/>
          </a:xfrm>
          <a:custGeom>
            <a:avLst/>
            <a:gdLst>
              <a:gd name="textAreaLeft" fmla="*/ 957240 w 2895840"/>
              <a:gd name="textAreaRight" fmla="*/ 1938600 w 2895840"/>
              <a:gd name="textAreaTop" fmla="*/ 906840 h 2743200"/>
              <a:gd name="textAreaBottom" fmla="*/ 183636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141" y="7141"/>
                </a:lnTo>
                <a:lnTo>
                  <a:pt x="10800" y="0"/>
                </a:lnTo>
                <a:lnTo>
                  <a:pt x="14459" y="7141"/>
                </a:lnTo>
                <a:lnTo>
                  <a:pt x="21600" y="10800"/>
                </a:lnTo>
                <a:lnTo>
                  <a:pt x="14459" y="14459"/>
                </a:lnTo>
                <a:lnTo>
                  <a:pt x="10800" y="21600"/>
                </a:lnTo>
                <a:lnTo>
                  <a:pt x="7141" y="14459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5181480" y="1295280"/>
            <a:ext cx="1447920" cy="1295640"/>
          </a:xfrm>
          <a:prstGeom prst="line">
            <a:avLst/>
          </a:prstGeom>
          <a:ln w="22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0"/>
          <p:cNvSpPr/>
          <p:nvPr/>
        </p:nvSpPr>
        <p:spPr>
          <a:xfrm flipH="1">
            <a:off x="4647960" y="1295280"/>
            <a:ext cx="533160" cy="2514600"/>
          </a:xfrm>
          <a:prstGeom prst="line">
            <a:avLst/>
          </a:prstGeom>
          <a:ln w="22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1"/>
          <p:cNvSpPr/>
          <p:nvPr/>
        </p:nvSpPr>
        <p:spPr>
          <a:xfrm flipH="1">
            <a:off x="2361960" y="1295280"/>
            <a:ext cx="2819160" cy="1981440"/>
          </a:xfrm>
          <a:prstGeom prst="line">
            <a:avLst/>
          </a:prstGeom>
          <a:ln w="22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Рисунок 6" descr="736216910.gif"/>
          <p:cNvPicPr/>
          <p:nvPr/>
        </p:nvPicPr>
        <p:blipFill>
          <a:blip r:embed="rId3"/>
          <a:stretch/>
        </p:blipFill>
        <p:spPr>
          <a:xfrm>
            <a:off x="7524720" y="5661000"/>
            <a:ext cx="1376280" cy="1000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D:\леха\катя\Фото\100SSCAM\SDC11308.JPG"/>
          <p:cNvPicPr/>
          <p:nvPr/>
        </p:nvPicPr>
        <p:blipFill>
          <a:blip r:embed="rId4"/>
          <a:stretch/>
        </p:blipFill>
        <p:spPr>
          <a:xfrm>
            <a:off x="468360" y="3489480"/>
            <a:ext cx="2597040" cy="2181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D:\леха\катя\Фото\100SSCAM\SDC11311.JPG"/>
          <p:cNvPicPr/>
          <p:nvPr/>
        </p:nvPicPr>
        <p:blipFill>
          <a:blip r:embed="rId5"/>
          <a:stretch/>
        </p:blipFill>
        <p:spPr>
          <a:xfrm>
            <a:off x="6176880" y="2997360"/>
            <a:ext cx="2862360" cy="2269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D:\леха\катя\Фото\100SSCAM\SDC11307.JPG"/>
          <p:cNvPicPr/>
          <p:nvPr/>
        </p:nvPicPr>
        <p:blipFill>
          <a:blip r:embed="rId6"/>
          <a:stretch/>
        </p:blipFill>
        <p:spPr>
          <a:xfrm>
            <a:off x="3117960" y="4552920"/>
            <a:ext cx="2966760" cy="2225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ющая группова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9672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ых процес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ежличност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эмоционально-личностной сферы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отивационно-потребностной сферы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1230968822_tarasova"/>
          <p:cNvPicPr/>
          <p:nvPr/>
        </p:nvPicPr>
        <p:blipFill>
          <a:blip r:embed="rId2"/>
          <a:stretch/>
        </p:blipFill>
        <p:spPr>
          <a:xfrm>
            <a:off x="5651640" y="4005360"/>
            <a:ext cx="2906640" cy="26906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6" descr="736216910.gif"/>
          <p:cNvPicPr/>
          <p:nvPr/>
        </p:nvPicPr>
        <p:blipFill>
          <a:blip r:embed="rId3"/>
          <a:stretch/>
        </p:blipFill>
        <p:spPr>
          <a:xfrm>
            <a:off x="3635280" y="5516640"/>
            <a:ext cx="1376280" cy="1000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D:\леха\катя\Фото\100SSCAM\SDC11309.JPG"/>
          <p:cNvPicPr/>
          <p:nvPr/>
        </p:nvPicPr>
        <p:blipFill>
          <a:blip r:embed="rId4"/>
          <a:stretch/>
        </p:blipFill>
        <p:spPr>
          <a:xfrm>
            <a:off x="5780160" y="1413000"/>
            <a:ext cx="3095640" cy="2539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D:\леха\катя\Фото\100SSCAM\SDC11277.JPG"/>
          <p:cNvPicPr/>
          <p:nvPr/>
        </p:nvPicPr>
        <p:blipFill>
          <a:blip r:embed="rId5"/>
          <a:stretch/>
        </p:blipFill>
        <p:spPr>
          <a:xfrm>
            <a:off x="5580000" y="4005360"/>
            <a:ext cx="34956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Коррекцион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- Дополнительная углубленная диагностика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- Создание индивидуальной коррекционной программы по каждому ребе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Рисунок 4" descr="wash.jpg"/>
          <p:cNvPicPr/>
          <p:nvPr/>
        </p:nvPicPr>
        <p:blipFill>
          <a:blip r:embed="rId1"/>
          <a:stretch/>
        </p:blipFill>
        <p:spPr>
          <a:xfrm>
            <a:off x="2771640" y="3611520"/>
            <a:ext cx="3027600" cy="20718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6" descr="736216910.gif"/>
          <p:cNvPicPr/>
          <p:nvPr/>
        </p:nvPicPr>
        <p:blipFill>
          <a:blip r:embed="rId2"/>
          <a:stretch/>
        </p:blipFill>
        <p:spPr>
          <a:xfrm>
            <a:off x="7451640" y="5738760"/>
            <a:ext cx="1376280" cy="1000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D:\леха\катя\Фото\100SSCAM\SDC11258.JPG"/>
          <p:cNvPicPr/>
          <p:nvPr/>
        </p:nvPicPr>
        <p:blipFill>
          <a:blip r:embed="rId3"/>
          <a:stretch/>
        </p:blipFill>
        <p:spPr>
          <a:xfrm>
            <a:off x="1908000" y="2882880"/>
            <a:ext cx="5256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Calibri"/>
              </a:rPr>
              <a:t>Работа с педагога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9672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гностика особенностей педагогического общения (обучающие семинары-практикумы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ультирование по результатам скрининговой диагностики, по результатам углубленной диагности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ультирование по проблемам развития детей, а также по результатам и ходу коррекционного проце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6084720" y="2421000"/>
            <a:ext cx="2468880" cy="24685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6" descr="736216910.gif"/>
          <p:cNvPicPr/>
          <p:nvPr/>
        </p:nvPicPr>
        <p:blipFill>
          <a:blip r:embed="rId2"/>
          <a:stretch/>
        </p:blipFill>
        <p:spPr>
          <a:xfrm>
            <a:off x="179280" y="5857920"/>
            <a:ext cx="1376640" cy="1000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D:\леха\катя\Фото\100SSCAM\SDC11371.JPG"/>
          <p:cNvPicPr/>
          <p:nvPr/>
        </p:nvPicPr>
        <p:blipFill>
          <a:blip r:embed="rId3"/>
          <a:stretch/>
        </p:blipFill>
        <p:spPr>
          <a:xfrm>
            <a:off x="5398920" y="2332080"/>
            <a:ext cx="36370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8:02:07Z</dcterms:created>
  <dc:creator>Ket</dc:creator>
  <dc:description/>
  <dc:language>en-US</dc:language>
  <cp:lastModifiedBy>Алексей</cp:lastModifiedBy>
  <dcterms:modified xsi:type="dcterms:W3CDTF">2021-04-18T13:48:35Z</dcterms:modified>
  <cp:revision>37</cp:revision>
  <dc:subject/>
  <dc:title>Слайд 1</dc:title>
</cp:coreProperties>
</file>