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E87-A2CC-48F3-AE6D-D5D2D9C0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C46-0BD5-4D8F-BA68-1DA7964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EFA-11C1-4A49-8964-CB633647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4BD-6F0E-47E9-A2B1-A9100C56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E637-FB31-4FBC-A33C-20D318B3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1F643-AD1B-461D-AEEC-9E27040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56DE4-9C9F-4EA3-9902-561E89FD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B584B-8C05-413E-8505-C4C7F7C5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72AC8-A6BF-49D3-A63C-F9BA77C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D9031-952C-4442-AEA9-006C50F5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7A300-2F0C-47CF-9DAC-83E6BB6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690-15DF-4530-91D4-80148AA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F9E8-2CDB-445C-94A1-4CECBF2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6686A-1216-44E4-938B-526E00C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0BDA7-4AAE-4EA8-8E99-46CC1E6E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4532F-67E1-4BC9-B66D-107E9F70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A911A-7D92-4B99-ACD6-B72974E2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3E01-B7E3-48B1-8099-B2135F69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FCF4-24A3-4673-A5CC-98EB9E6A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F8DE-7F4A-47E4-AE2A-3D37CAE2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2943-F320-44F8-8D57-D8E68E46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2EDC-071D-4252-BC27-3D648AD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050-3627-4AC6-954E-06871AD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98E1-AE2E-4867-A4C8-84A12766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AD0C-2AE6-4CA1-BBD8-0D0AC08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6395-E341-44E4-AC69-3AC2F68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9246-C944-4FAB-9E40-46190B7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10C7-634E-433E-8FFD-EEB6B805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5BDB-9528-460B-9D94-45047597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80A8-4972-4F04-B3EB-F44358A3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D7C1D-EE16-4161-A0DE-F518FCBC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09999-2485-4492-837C-F2374779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324D0-57E8-4706-8D40-D5F5F847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A9C-D77C-4BBA-B9A9-3DB6D85E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DAE25-279C-423C-AE17-02DC03FB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C719C-A5F7-4418-9064-481BFABA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129C6-B719-4985-881C-7C90A9F7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3244B-75B3-4A72-B4FC-7C55F1F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FE91B-EB36-4F73-8B16-D770B17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D60B0-A079-41EF-8E00-2DB50C4A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671A5-CF41-4BAD-8AF8-46D774DB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CBA54-5805-4786-8911-86272CD0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2030C-749B-49E5-AC16-EC4EE8C8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751-BF1C-4781-A68C-70380D16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29F-4007-408F-A238-FFDC11AC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8D5-235A-47B9-94E7-DDA20B39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BC0-7E29-429F-85FE-2E50EF9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7DF-3852-461D-8E1B-AF802C3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D41-FE11-47B3-9BE1-35C4C75CEAEF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onexão recta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Conexão recta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587D-7794-4156-B6A0-83D87C394A08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exão recta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769A-2B5A-4FF1-9C22-951731974C4D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exão recta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Conexão recta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3A5E-86B8-4C52-BBCC-B39C8130F8D4}" type="slidenum">
              <a:rPr b="0" lang="pl-PL" sz="1600" spc="-1" strike="noStrike">
                <a:solidFill>
                  <a:srgbClr val="fefac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efac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efac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3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4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5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slide" Target="slide6.xml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1.png"/><Relationship Id="rId3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zaokrąglony 1"/>
          <p:cNvSpPr/>
          <p:nvPr/>
        </p:nvSpPr>
        <p:spPr>
          <a:xfrm>
            <a:off x="431640" y="404640"/>
            <a:ext cx="8244000" cy="1440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rostokąt zaokrąglony 1"/>
          <p:cNvSpPr/>
          <p:nvPr/>
        </p:nvSpPr>
        <p:spPr>
          <a:xfrm>
            <a:off x="3419640" y="2637000"/>
            <a:ext cx="5256000" cy="2087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Cooper Black"/>
              </a:rPr>
              <a:t>DESCRIBING PEOPLE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rostokąt zaokrąglony 1"/>
          <p:cNvSpPr/>
          <p:nvPr/>
        </p:nvSpPr>
        <p:spPr>
          <a:xfrm>
            <a:off x="3419640" y="5516640"/>
            <a:ext cx="5256000" cy="8650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oper Black"/>
              </a:rPr>
              <a:t>Read and match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Imagem 20" descr="smiling_man_face.png"/>
          <p:cNvPicPr/>
          <p:nvPr/>
        </p:nvPicPr>
        <p:blipFill>
          <a:blip r:embed="rId2"/>
          <a:stretch/>
        </p:blipFill>
        <p:spPr>
          <a:xfrm>
            <a:off x="-757080" y="738360"/>
            <a:ext cx="6119640" cy="611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85080" y="134136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’ve got long hair, small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eyes and a big mouth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7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568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569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570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571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572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573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574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575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76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577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578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579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580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581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582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583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84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85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86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87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8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89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0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1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2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93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94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95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96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97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8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169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3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182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9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200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21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5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236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9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290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’ve got an oval face an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medium-length hair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615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616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617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618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619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620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621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622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23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624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625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626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627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628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629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630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1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2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33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34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5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6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7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8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39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40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41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42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43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44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31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0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351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8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387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40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423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7" dur="2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436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’m middle-aged. I’ve got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brown hair and a moustach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1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662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663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664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665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666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667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668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669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70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671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672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673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674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675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676" name="Imagem 52" descr="bTyp7Bzac.png"/>
          <p:cNvPicPr/>
          <p:nvPr/>
        </p:nvPicPr>
        <p:blipFill>
          <a:blip r:embed="rId17"/>
          <a:stretch/>
        </p:blipFill>
        <p:spPr>
          <a:xfrm>
            <a:off x="776304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677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78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79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80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81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2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428472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83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4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5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6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87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688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689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90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91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81200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0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61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9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470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479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7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488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0" dur="250" autoRev="1" fill="hold"/>
                                        <p:tgtEl>
                                          <p:spTgt spid="6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1519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1528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1537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5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1546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670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670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3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564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573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1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582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591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curly black hair, a bi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nose and a small moustach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1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192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193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194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195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196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197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198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199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00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201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202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203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204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05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206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207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08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752472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12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3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4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6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17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8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19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20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21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am old. I have got big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blue eyes and grey hair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8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239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240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241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242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243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244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245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246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47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248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249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250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251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254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5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56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257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8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752472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59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0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1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2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3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4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5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266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268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red spiky hai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and some freckl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5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286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287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288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289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290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291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292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293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296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297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298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99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300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301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02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3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04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05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752472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07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08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09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10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2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13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14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15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25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am young. I have got pigtails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My nose and my eyes are small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2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333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334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335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338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339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340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41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342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343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344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345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346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347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348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49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0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51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4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6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7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58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59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0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361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362" name="Imagem 68" descr="next-button-arrow-559256.png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25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long wavy hair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a round face and red lip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9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381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382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384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385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387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88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390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391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393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394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96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97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0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02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3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4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5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06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07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08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09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big brown ey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and a square fac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6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427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428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429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430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431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432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433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434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35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436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437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438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439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440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441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442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44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45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46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47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48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49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0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1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52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53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54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55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56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731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9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740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758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2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830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3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am bald and wear glasses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a moustach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3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474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475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476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477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478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479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480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481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82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483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484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485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486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488" name="Imagem 52" descr="bTyp7Bzac.png"/>
          <p:cNvPicPr/>
          <p:nvPr/>
        </p:nvPicPr>
        <p:blipFill>
          <a:blip r:embed="rId17"/>
          <a:stretch/>
        </p:blipFill>
        <p:spPr>
          <a:xfrm>
            <a:off x="776304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489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90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91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92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493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4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5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255600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496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7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8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499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00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01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02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81200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4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895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904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1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922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0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931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989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007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rostokąt zaokrąglony 1"/>
          <p:cNvSpPr/>
          <p:nvPr/>
        </p:nvSpPr>
        <p:spPr>
          <a:xfrm>
            <a:off x="179280" y="5229360"/>
            <a:ext cx="8785440" cy="1439640"/>
          </a:xfrm>
          <a:prstGeom prst="roundRect">
            <a:avLst>
              <a:gd name="adj" fmla="val 4602"/>
            </a:avLst>
          </a:prstGeom>
          <a:solidFill>
            <a:srgbClr val="00ff00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My hair is fair and shor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Segoe UI Semibold"/>
              </a:rPr>
              <a:t>I have got a small fring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Rectângulo arredondado 21"/>
          <p:cNvSpPr/>
          <p:nvPr/>
        </p:nvSpPr>
        <p:spPr>
          <a:xfrm>
            <a:off x="53964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Rectângulo arredondado 28"/>
          <p:cNvSpPr/>
          <p:nvPr/>
        </p:nvSpPr>
        <p:spPr>
          <a:xfrm>
            <a:off x="219564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Rectângulo arredondado 29"/>
          <p:cNvSpPr/>
          <p:nvPr/>
        </p:nvSpPr>
        <p:spPr>
          <a:xfrm>
            <a:off x="3851280" y="40464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Rectângulo arredondado 30"/>
          <p:cNvSpPr/>
          <p:nvPr/>
        </p:nvSpPr>
        <p:spPr>
          <a:xfrm>
            <a:off x="550872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Rectângulo arredondado 31"/>
          <p:cNvSpPr/>
          <p:nvPr/>
        </p:nvSpPr>
        <p:spPr>
          <a:xfrm>
            <a:off x="7164360" y="40464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Rectângulo arredondado 32"/>
          <p:cNvSpPr/>
          <p:nvPr/>
        </p:nvSpPr>
        <p:spPr>
          <a:xfrm>
            <a:off x="53964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Rectângulo arredondado 33"/>
          <p:cNvSpPr/>
          <p:nvPr/>
        </p:nvSpPr>
        <p:spPr>
          <a:xfrm>
            <a:off x="219564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Rectângulo arredondado 34"/>
          <p:cNvSpPr/>
          <p:nvPr/>
        </p:nvSpPr>
        <p:spPr>
          <a:xfrm>
            <a:off x="3851280" y="198900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Rectângulo arredondado 35"/>
          <p:cNvSpPr/>
          <p:nvPr/>
        </p:nvSpPr>
        <p:spPr>
          <a:xfrm>
            <a:off x="550872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Rectângulo arredondado 36"/>
          <p:cNvSpPr/>
          <p:nvPr/>
        </p:nvSpPr>
        <p:spPr>
          <a:xfrm>
            <a:off x="7164360" y="198900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Rectângulo arredondado 37"/>
          <p:cNvSpPr/>
          <p:nvPr/>
        </p:nvSpPr>
        <p:spPr>
          <a:xfrm>
            <a:off x="53964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Rectângulo arredondado 38"/>
          <p:cNvSpPr/>
          <p:nvPr/>
        </p:nvSpPr>
        <p:spPr>
          <a:xfrm>
            <a:off x="219564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Rectângulo arredondado 39"/>
          <p:cNvSpPr/>
          <p:nvPr/>
        </p:nvSpPr>
        <p:spPr>
          <a:xfrm>
            <a:off x="3851280" y="3573360"/>
            <a:ext cx="1512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Rectângulo arredondado 40"/>
          <p:cNvSpPr/>
          <p:nvPr/>
        </p:nvSpPr>
        <p:spPr>
          <a:xfrm>
            <a:off x="550872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Rectângulo arredondado 41"/>
          <p:cNvSpPr/>
          <p:nvPr/>
        </p:nvSpPr>
        <p:spPr>
          <a:xfrm>
            <a:off x="7164360" y="3573360"/>
            <a:ext cx="151128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0" name="Imagem 5" descr="ATbKz8eac.png"/>
          <p:cNvPicPr/>
          <p:nvPr/>
        </p:nvPicPr>
        <p:blipFill>
          <a:blip r:embed="rId2"/>
          <a:stretch/>
        </p:blipFill>
        <p:spPr>
          <a:xfrm>
            <a:off x="501480" y="404640"/>
            <a:ext cx="1622520" cy="1295640"/>
          </a:xfrm>
          <a:prstGeom prst="rect">
            <a:avLst/>
          </a:prstGeom>
          <a:ln w="0">
            <a:noFill/>
          </a:ln>
        </p:spPr>
      </p:pic>
      <p:pic>
        <p:nvPicPr>
          <p:cNvPr id="521" name="Imagem 16" descr="Imagem3.png"/>
          <p:cNvPicPr/>
          <p:nvPr/>
        </p:nvPicPr>
        <p:blipFill>
          <a:blip r:embed="rId3"/>
          <a:stretch/>
        </p:blipFill>
        <p:spPr>
          <a:xfrm>
            <a:off x="5651640" y="384120"/>
            <a:ext cx="1296720" cy="1460520"/>
          </a:xfrm>
          <a:prstGeom prst="rect">
            <a:avLst/>
          </a:prstGeom>
          <a:ln w="0">
            <a:noFill/>
          </a:ln>
        </p:spPr>
      </p:pic>
      <p:pic>
        <p:nvPicPr>
          <p:cNvPr id="522" name="Imagem 4" descr="1195444732488161860Gerald_G_Man_Face_8_-_World_Label.svg.med.png"/>
          <p:cNvPicPr/>
          <p:nvPr/>
        </p:nvPicPr>
        <p:blipFill>
          <a:blip r:embed="rId4"/>
          <a:stretch/>
        </p:blipFill>
        <p:spPr>
          <a:xfrm>
            <a:off x="684360" y="1989000"/>
            <a:ext cx="1265040" cy="1368720"/>
          </a:xfrm>
          <a:prstGeom prst="rect">
            <a:avLst/>
          </a:prstGeom>
          <a:ln w="0">
            <a:noFill/>
          </a:ln>
        </p:spPr>
      </p:pic>
      <p:pic>
        <p:nvPicPr>
          <p:cNvPr id="523" name="Imagem 15" descr="Imagem1.png"/>
          <p:cNvPicPr/>
          <p:nvPr/>
        </p:nvPicPr>
        <p:blipFill>
          <a:blip r:embed="rId5"/>
          <a:stretch/>
        </p:blipFill>
        <p:spPr>
          <a:xfrm>
            <a:off x="3924360" y="1901880"/>
            <a:ext cx="1368360" cy="1509480"/>
          </a:xfrm>
          <a:prstGeom prst="rect">
            <a:avLst/>
          </a:prstGeom>
          <a:ln w="0">
            <a:noFill/>
          </a:ln>
        </p:spPr>
      </p:pic>
      <p:pic>
        <p:nvPicPr>
          <p:cNvPr id="524" name="Imagem 14" descr="Imagem2.png"/>
          <p:cNvPicPr/>
          <p:nvPr/>
        </p:nvPicPr>
        <p:blipFill>
          <a:blip r:embed="rId6"/>
          <a:stretch/>
        </p:blipFill>
        <p:spPr>
          <a:xfrm>
            <a:off x="7236000" y="2023920"/>
            <a:ext cx="1390320" cy="1405080"/>
          </a:xfrm>
          <a:prstGeom prst="rect">
            <a:avLst/>
          </a:prstGeom>
          <a:ln w="0">
            <a:noFill/>
          </a:ln>
        </p:spPr>
      </p:pic>
      <p:pic>
        <p:nvPicPr>
          <p:cNvPr id="525" name="Imagem 51" descr="stock-vector-cartoon-smiling-boy-with-red-hair-and-freckles-isolated-on-white-78748435.jpg"/>
          <p:cNvPicPr/>
          <p:nvPr/>
        </p:nvPicPr>
        <p:blipFill>
          <a:blip r:embed="rId7"/>
          <a:srcRect l="0" t="0" r="30526" b="58758"/>
          <a:stretch/>
        </p:blipFill>
        <p:spPr>
          <a:xfrm>
            <a:off x="5651640" y="3675240"/>
            <a:ext cx="1296720" cy="1266480"/>
          </a:xfrm>
          <a:prstGeom prst="rect">
            <a:avLst/>
          </a:prstGeom>
          <a:ln w="0">
            <a:noFill/>
          </a:ln>
        </p:spPr>
      </p:pic>
      <p:pic>
        <p:nvPicPr>
          <p:cNvPr id="526" name="Imagem 56" descr="woman-face-clip-art-656896.gif"/>
          <p:cNvPicPr/>
          <p:nvPr/>
        </p:nvPicPr>
        <p:blipFill>
          <a:blip r:embed="rId8"/>
          <a:srcRect l="0" t="0" r="0" b="19252"/>
          <a:stretch/>
        </p:blipFill>
        <p:spPr>
          <a:xfrm>
            <a:off x="2268360" y="1946160"/>
            <a:ext cx="1440000" cy="1411560"/>
          </a:xfrm>
          <a:prstGeom prst="rect">
            <a:avLst/>
          </a:prstGeom>
          <a:ln w="0">
            <a:noFill/>
          </a:ln>
        </p:spPr>
      </p:pic>
      <p:pic>
        <p:nvPicPr>
          <p:cNvPr id="527" name="Imagem 57" descr="xcgLa5zcA.png"/>
          <p:cNvPicPr/>
          <p:nvPr/>
        </p:nvPicPr>
        <p:blipFill>
          <a:blip r:embed="rId9"/>
          <a:stretch/>
        </p:blipFill>
        <p:spPr>
          <a:xfrm>
            <a:off x="5580000" y="1989000"/>
            <a:ext cx="1513080" cy="1406520"/>
          </a:xfrm>
          <a:prstGeom prst="rect">
            <a:avLst/>
          </a:prstGeom>
          <a:ln w="0">
            <a:noFill/>
          </a:ln>
        </p:spPr>
      </p:pic>
      <p:pic>
        <p:nvPicPr>
          <p:cNvPr id="528" name="Imagem 58" descr="images.jpg"/>
          <p:cNvPicPr/>
          <p:nvPr/>
        </p:nvPicPr>
        <p:blipFill>
          <a:blip r:embed="rId10"/>
          <a:srcRect l="0" t="0" r="10936" b="9449"/>
          <a:stretch/>
        </p:blipFill>
        <p:spPr>
          <a:xfrm>
            <a:off x="2340000" y="476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29" name="Imagem 60" descr="cartoon-girl-face-clip-art-28165.png"/>
          <p:cNvPicPr/>
          <p:nvPr/>
        </p:nvPicPr>
        <p:blipFill>
          <a:blip r:embed="rId11"/>
          <a:srcRect l="0" t="0" r="0" b="10542"/>
          <a:stretch/>
        </p:blipFill>
        <p:spPr>
          <a:xfrm>
            <a:off x="684360" y="3538440"/>
            <a:ext cx="1295280" cy="1446480"/>
          </a:xfrm>
          <a:prstGeom prst="rect">
            <a:avLst/>
          </a:prstGeom>
          <a:ln w="0">
            <a:noFill/>
          </a:ln>
        </p:spPr>
      </p:pic>
      <p:pic>
        <p:nvPicPr>
          <p:cNvPr id="530" name="Imagem 61" descr="woman20.png"/>
          <p:cNvPicPr/>
          <p:nvPr/>
        </p:nvPicPr>
        <p:blipFill>
          <a:blip r:embed="rId12"/>
          <a:srcRect l="0" t="0" r="0" b="24805"/>
          <a:stretch/>
        </p:blipFill>
        <p:spPr>
          <a:xfrm>
            <a:off x="3995640" y="3573360"/>
            <a:ext cx="1365480" cy="1422360"/>
          </a:xfrm>
          <a:prstGeom prst="rect">
            <a:avLst/>
          </a:prstGeom>
          <a:ln w="0">
            <a:noFill/>
          </a:ln>
        </p:spPr>
      </p:pic>
      <p:pic>
        <p:nvPicPr>
          <p:cNvPr id="531" name="Imagem 42" descr="girl-scout.png"/>
          <p:cNvPicPr/>
          <p:nvPr/>
        </p:nvPicPr>
        <p:blipFill>
          <a:blip r:embed="rId13"/>
          <a:srcRect l="20260" t="7107" r="15304" b="52966"/>
          <a:stretch/>
        </p:blipFill>
        <p:spPr>
          <a:xfrm>
            <a:off x="7308720" y="423720"/>
            <a:ext cx="1366920" cy="1420920"/>
          </a:xfrm>
          <a:prstGeom prst="rect">
            <a:avLst/>
          </a:prstGeom>
          <a:ln w="0">
            <a:noFill/>
          </a:ln>
        </p:spPr>
      </p:pic>
      <p:pic>
        <p:nvPicPr>
          <p:cNvPr id="532" name="Imagem 45" descr="clipart-pretty-woman-blonde-hair-256x256-c1e7.png"/>
          <p:cNvPicPr/>
          <p:nvPr/>
        </p:nvPicPr>
        <p:blipFill>
          <a:blip r:embed="rId14"/>
          <a:stretch/>
        </p:blipFill>
        <p:spPr>
          <a:xfrm>
            <a:off x="3851280" y="404640"/>
            <a:ext cx="1521000" cy="1471680"/>
          </a:xfrm>
          <a:prstGeom prst="rect">
            <a:avLst/>
          </a:prstGeom>
          <a:ln w="0">
            <a:noFill/>
          </a:ln>
        </p:spPr>
      </p:pic>
      <p:pic>
        <p:nvPicPr>
          <p:cNvPr id="533" name="Imagem 46" descr="boy-head-clip-art-72405.png"/>
          <p:cNvPicPr/>
          <p:nvPr/>
        </p:nvPicPr>
        <p:blipFill>
          <a:blip r:embed="rId15"/>
          <a:stretch/>
        </p:blipFill>
        <p:spPr>
          <a:xfrm>
            <a:off x="2268360" y="34923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534" name="Imagem 48" descr="entity-clipart-boy2.png"/>
          <p:cNvPicPr/>
          <p:nvPr/>
        </p:nvPicPr>
        <p:blipFill>
          <a:blip r:embed="rId16"/>
          <a:srcRect l="18132" t="0" r="14546" b="24917"/>
          <a:stretch/>
        </p:blipFill>
        <p:spPr>
          <a:xfrm>
            <a:off x="7308720" y="3470400"/>
            <a:ext cx="1317600" cy="1471320"/>
          </a:xfrm>
          <a:prstGeom prst="rect">
            <a:avLst/>
          </a:prstGeom>
          <a:ln w="0">
            <a:noFill/>
          </a:ln>
        </p:spPr>
      </p:pic>
      <p:pic>
        <p:nvPicPr>
          <p:cNvPr id="535" name="Imagem 52" descr="bTyp7Bzac.png"/>
          <p:cNvPicPr/>
          <p:nvPr/>
        </p:nvPicPr>
        <p:blipFill>
          <a:blip r:embed="rId17"/>
          <a:stretch/>
        </p:blipFill>
        <p:spPr>
          <a:xfrm>
            <a:off x="7596360" y="5373720"/>
            <a:ext cx="1201680" cy="1200240"/>
          </a:xfrm>
          <a:prstGeom prst="rect">
            <a:avLst/>
          </a:prstGeom>
          <a:ln w="0">
            <a:noFill/>
          </a:ln>
        </p:spPr>
      </p:pic>
      <p:pic>
        <p:nvPicPr>
          <p:cNvPr id="536" name="Imagem 53" descr="TzeenieWheenie_red_green_OK_not_OK_Icons_1.png"/>
          <p:cNvPicPr/>
          <p:nvPr/>
        </p:nvPicPr>
        <p:blipFill>
          <a:blip r:embed="rId18"/>
          <a:stretch/>
        </p:blipFill>
        <p:spPr>
          <a:xfrm>
            <a:off x="90000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37" name="Imagem 55" descr="TzeenieWheenie_red_green_OK_not_OK_Icons_1.png"/>
          <p:cNvPicPr/>
          <p:nvPr/>
        </p:nvPicPr>
        <p:blipFill>
          <a:blip r:embed="rId19"/>
          <a:stretch/>
        </p:blipFill>
        <p:spPr>
          <a:xfrm>
            <a:off x="4211640" y="2349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8" name="Imagem 56" descr="TzeenieWheenie_red_green_OK_not_OK_Icons_1.png"/>
          <p:cNvPicPr/>
          <p:nvPr/>
        </p:nvPicPr>
        <p:blipFill>
          <a:blip r:embed="rId20"/>
          <a:stretch/>
        </p:blipFill>
        <p:spPr>
          <a:xfrm>
            <a:off x="7596360" y="76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9" name="Imagem 57" descr="TzeenieWheenie_red_green_OK_not_OK_Icons_1.png"/>
          <p:cNvPicPr/>
          <p:nvPr/>
        </p:nvPicPr>
        <p:blipFill>
          <a:blip r:embed="rId21"/>
          <a:stretch/>
        </p:blipFill>
        <p:spPr>
          <a:xfrm>
            <a:off x="5867280" y="692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40" name="Imagem 58" descr="TzeenieWheenie_red_green_OK_not_OK_Icons_1.png"/>
          <p:cNvPicPr/>
          <p:nvPr/>
        </p:nvPicPr>
        <p:blipFill>
          <a:blip r:embed="rId22"/>
          <a:stretch/>
        </p:blipFill>
        <p:spPr>
          <a:xfrm>
            <a:off x="586728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1" name="Imagem 59" descr="TzeenieWheenie_red_green_OK_not_OK_Icons_1.png"/>
          <p:cNvPicPr/>
          <p:nvPr/>
        </p:nvPicPr>
        <p:blipFill>
          <a:blip r:embed="rId23"/>
          <a:stretch/>
        </p:blipFill>
        <p:spPr>
          <a:xfrm>
            <a:off x="90000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2" name="Imagem 60" descr="TzeenieWheenie_red_green_OK_not_OK_Icons_1.png"/>
          <p:cNvPicPr/>
          <p:nvPr/>
        </p:nvPicPr>
        <p:blipFill>
          <a:blip r:embed="rId24"/>
          <a:stretch/>
        </p:blipFill>
        <p:spPr>
          <a:xfrm>
            <a:off x="752472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3" name="Imagem 61" descr="TzeenieWheenie_red_green_OK_not_OK_Icons_1.png"/>
          <p:cNvPicPr/>
          <p:nvPr/>
        </p:nvPicPr>
        <p:blipFill>
          <a:blip r:embed="rId25"/>
          <a:stretch/>
        </p:blipFill>
        <p:spPr>
          <a:xfrm>
            <a:off x="5867280" y="2349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4" name="Imagem 62" descr="TzeenieWheenie_red_green_OK_not_OK_Icons_1.png"/>
          <p:cNvPicPr/>
          <p:nvPr/>
        </p:nvPicPr>
        <p:blipFill>
          <a:blip r:embed="rId26"/>
          <a:stretch/>
        </p:blipFill>
        <p:spPr>
          <a:xfrm>
            <a:off x="752472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5" name="Imagem 63" descr="TzeenieWheenie_red_green_OK_not_OK_Icons_1.png"/>
          <p:cNvPicPr/>
          <p:nvPr/>
        </p:nvPicPr>
        <p:blipFill>
          <a:blip r:embed="rId27"/>
          <a:stretch/>
        </p:blipFill>
        <p:spPr>
          <a:xfrm>
            <a:off x="90000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546" name="Imagem 64" descr="TzeenieWheenie_red_green_OK_not_OK_Icons_1.png"/>
          <p:cNvPicPr/>
          <p:nvPr/>
        </p:nvPicPr>
        <p:blipFill>
          <a:blip r:embed="rId28"/>
          <a:stretch/>
        </p:blipFill>
        <p:spPr>
          <a:xfrm>
            <a:off x="2556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47" name="Imagem 65" descr="TzeenieWheenie_red_green_OK_not_OK_Icons_1.png"/>
          <p:cNvPicPr/>
          <p:nvPr/>
        </p:nvPicPr>
        <p:blipFill>
          <a:blip r:embed="rId29"/>
          <a:stretch/>
        </p:blipFill>
        <p:spPr>
          <a:xfrm>
            <a:off x="421164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48" name="Imagem 66" descr="TzeenieWheenie_red_green_OK_not_OK_Icons_1.png"/>
          <p:cNvPicPr/>
          <p:nvPr/>
        </p:nvPicPr>
        <p:blipFill>
          <a:blip r:embed="rId30"/>
          <a:stretch/>
        </p:blipFill>
        <p:spPr>
          <a:xfrm>
            <a:off x="255600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49" name="Imagem 67" descr="TzeenieWheenie_red_green_OK_not_OK_Icons_1.png"/>
          <p:cNvPicPr/>
          <p:nvPr/>
        </p:nvPicPr>
        <p:blipFill>
          <a:blip r:embed="rId31"/>
          <a:stretch/>
        </p:blipFill>
        <p:spPr>
          <a:xfrm>
            <a:off x="4211640" y="69228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50" name="Imagem 68" descr="next-button-arrow-559256.png"/>
          <p:cNvPicPr/>
          <p:nvPr/>
        </p:nvPicPr>
        <p:blipFill>
          <a:blip r:embed="rId32"/>
          <a:stretch/>
        </p:blipFill>
        <p:spPr>
          <a:xfrm>
            <a:off x="7667640" y="5445000"/>
            <a:ext cx="10810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1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032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9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1050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9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90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09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10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153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8:13:48Z</dcterms:created>
  <dc:creator/>
  <dc:description/>
  <dc:language>en-US</dc:language>
  <cp:lastModifiedBy>Admin</cp:lastModifiedBy>
  <dcterms:modified xsi:type="dcterms:W3CDTF">2021-04-18T12:19:00Z</dcterms:modified>
  <cp:revision>82</cp:revision>
  <dc:subject/>
  <dc:title>Слайд 1</dc:title>
</cp:coreProperties>
</file>