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96C-E820-4FBD-84E9-6FE7D855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65E-BADB-4985-86E4-C79FB1A9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AA7-300E-4569-A274-E1953432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6E4-36FB-4967-B47E-7E0F0435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2B61F-088A-4DAF-90AC-CB451C49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D9942-D8DA-4F00-B153-A4FEE4DD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8F75F-1EFE-4C2F-986A-00F0B757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B98E5-39C7-4583-AB30-A737CF6B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186F2-CBC2-4E0A-AD46-EDA3B16E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B9DF1-F8F8-41A4-A394-EA8760AC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D23FE-11DA-4ED5-8101-9CD93FFB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437-0075-42A8-A5DF-0D4CFBBA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479B0-8D93-4666-A11C-68DB99A5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B556F-905E-4901-9BEB-1B13A813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D8B7E-EE78-4EE7-A691-7CF848DB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78DC9-C8DA-4419-81F1-F89D2057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FA839-EA61-4093-A65F-0E1C8DDC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001B5-5C10-478E-903F-56A6FF00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7B82-3D3C-4AFA-B6D7-0CF749DC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B072E-87A4-45C5-A57D-8D5C15C9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57E4-36FB-4731-9EFD-88EB5CAD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56469-2528-4932-8E0C-02E53F01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4FE-0969-44DA-A6F3-5C49E38F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11E3-96FA-49C6-8EE0-CE4558C8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08154-BFD4-409B-B767-0459404A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4C6DB-F9A8-4DA9-B6CF-9A529DEA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972E-5A6B-49D8-9CA2-7640055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69862-5E16-4E3B-8093-836EFA85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EE337-9B35-4A0C-8A9E-CD4D8728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93DB2-B685-40AA-AFA5-62EF129C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5B0C3-9EB1-42B3-BE41-F6E35D7B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05CE4-D9B7-4C04-9BA1-74D9A26F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14E9B0-29E7-4B73-A4AF-807A0B0D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A51-F9B6-41CF-91E6-37A6AD13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243347-1860-4A96-9A34-EBC1D93E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77897-5E01-47D7-B677-6284E346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801BE-4214-4796-812A-46E15455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CF1605-1942-476F-8200-C5DF76CE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0256F-9E82-4F22-AD6C-8029779D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1FDF3-E8F4-42AA-AAB0-8840DFF5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36CA2D-0E26-4177-BDAC-FA6924A5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597EE-B055-4533-A824-243E1138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9460E5-6CD2-4A49-966C-CB461556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B55-F632-417E-9DBF-0AED18AF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BE8-4F70-47AA-8365-44654A29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E71-26E2-43F9-90A2-B40F3120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AF2-08F6-4905-A2A7-61839309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170-BA7B-4F36-AC8A-1B25DCA0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20C1-2B2C-42F5-BE6D-E87288A0EBCF}" type="slidenum">
              <a:rPr b="0" lang="pl-PL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onexão recta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Conexão recta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56C2-3130-4001-984D-40C11545A3BD}" type="slidenum">
              <a:rPr b="0" lang="pl-PL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exão recta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6BFC-3BEC-486C-A5FD-BCB529C1FAFD}" type="slidenum">
              <a:rPr b="0" lang="pl-PL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exão recta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Conexão recta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E8C6-C363-48C2-B41C-184319AF523F}" type="slidenum">
              <a:rPr b="0" lang="pl-PL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slide" Target="slide3.xml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slide" Target="slide4.xml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slide" Target="slide5.xml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slide" Target="slide6.xml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ostokąt zaokrąglony 1"/>
          <p:cNvSpPr/>
          <p:nvPr/>
        </p:nvSpPr>
        <p:spPr>
          <a:xfrm>
            <a:off x="431640" y="404640"/>
            <a:ext cx="8244000" cy="1440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rostokąt zaokrąglony 1"/>
          <p:cNvSpPr/>
          <p:nvPr/>
        </p:nvSpPr>
        <p:spPr>
          <a:xfrm>
            <a:off x="3419640" y="2637000"/>
            <a:ext cx="5256000" cy="2087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Cooper Black"/>
              </a:rPr>
              <a:t>DESCRIBING PEOPL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rostokąt zaokrąglony 1"/>
          <p:cNvSpPr/>
          <p:nvPr/>
        </p:nvSpPr>
        <p:spPr>
          <a:xfrm>
            <a:off x="3419640" y="5516640"/>
            <a:ext cx="5256000" cy="8650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oper Black"/>
              </a:rPr>
              <a:t>Read and match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Imagem 20" descr="smiling_man_face.png"/>
          <p:cNvPicPr/>
          <p:nvPr/>
        </p:nvPicPr>
        <p:blipFill>
          <a:blip r:embed="rId2"/>
          <a:stretch/>
        </p:blipFill>
        <p:spPr>
          <a:xfrm>
            <a:off x="-757080" y="738360"/>
            <a:ext cx="6119640" cy="611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85080" y="134136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’ve got long hair, small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eyes and a big mouth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7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568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569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570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571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572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573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574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575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76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577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578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579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580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581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582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583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84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85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86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87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88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89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90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91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92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93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94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95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96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97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8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169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3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182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218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254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263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1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0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281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9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290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’ve got an oval face and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medium-length hair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4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615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616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617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618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619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620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621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622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23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624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625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626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627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628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629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630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1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2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3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34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35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36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37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38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39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40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41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42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43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44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4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315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324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342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36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8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369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387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4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405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414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2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423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7" dur="250" autoRev="1" fill="hold"/>
                                        <p:tgtEl>
                                          <p:spTgt spid="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5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436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4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445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’m middle-aged. I’ve got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brown hair and a moustach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1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662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663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664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665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666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667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668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669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70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671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672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673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674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675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676" name="Imagem 52" descr="bTyp7Bzac.png"/>
          <p:cNvPicPr/>
          <p:nvPr/>
        </p:nvPicPr>
        <p:blipFill>
          <a:blip r:embed="rId17"/>
          <a:stretch/>
        </p:blipFill>
        <p:spPr>
          <a:xfrm>
            <a:off x="776304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677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78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79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80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81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82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428472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83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84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85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86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87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88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89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90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91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81200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0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461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9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1470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8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1479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7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488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0" dur="250" autoRev="1" fill="hold"/>
                                        <p:tgtEl>
                                          <p:spTgt spid="6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15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1519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7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1528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5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1546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4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3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564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2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573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0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1591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have got curly black hair, a bi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nose and a small moustach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192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193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194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195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196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197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198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199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00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201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202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203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204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205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206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207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08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10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11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752472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12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4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15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17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8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9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20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Imagem 68" descr="next-button-arrow-559256.png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am old. I have got big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blue eyes and grey hair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239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240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241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242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243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244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245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246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47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248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249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250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251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252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253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254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55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6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57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752472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59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60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1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62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63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64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6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68" name="Imagem 68" descr="next-button-arrow-559256.png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have got red spiky hai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and some freckle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5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286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287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288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289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290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291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292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293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94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295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296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297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298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299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300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301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02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3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304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05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752472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06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07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8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09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10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2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314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15" name="Imagem 68" descr="next-button-arrow-559256.png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25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am young. I have got pigtails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My nose and my eyes are small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2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333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334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335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336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337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338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339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340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41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342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343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344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345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346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347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348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49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0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351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52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53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54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56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57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9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0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361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62" name="Imagem 68" descr="next-button-arrow-559256.png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25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have got long wavy hair,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a round face and red lip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9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381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382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384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385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387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88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390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391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393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394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96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97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02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03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04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05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06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07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408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09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have got big brown ey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and a square fac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6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427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428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429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430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431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432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433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434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35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436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437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438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439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440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441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442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44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45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46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47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48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49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0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1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2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53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54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455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456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776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2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9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830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6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1" dur="250" autoRev="1" fill="hold"/>
                                        <p:tgtEl>
                                          <p:spTgt spid="4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am bald and wear glasses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have a moustach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3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474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475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476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477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478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479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480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481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82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483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485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486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488" name="Imagem 52" descr="bTyp7Bzac.png"/>
          <p:cNvPicPr/>
          <p:nvPr/>
        </p:nvPicPr>
        <p:blipFill>
          <a:blip r:embed="rId17"/>
          <a:stretch/>
        </p:blipFill>
        <p:spPr>
          <a:xfrm>
            <a:off x="776304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489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90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91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92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93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94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95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96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97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98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99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00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01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02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03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81200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895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922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8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949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9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980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998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6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007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My hair is fair and shor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have got a small fring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0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521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522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523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524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525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526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527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528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29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530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531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532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533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534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535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536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37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38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39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40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41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42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43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44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45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46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47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48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49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50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9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050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6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077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1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090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099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7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108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126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8:13:48Z</dcterms:created>
  <dc:creator/>
  <dc:description/>
  <dc:language>en-US</dc:language>
  <cp:lastModifiedBy>Admin</cp:lastModifiedBy>
  <dcterms:modified xsi:type="dcterms:W3CDTF">2021-04-18T12:19:00Z</dcterms:modified>
  <cp:revision>82</cp:revision>
  <dc:subject/>
  <dc:title>Слайд 1</dc:title>
</cp:coreProperties>
</file>