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7AD-36CF-4BBF-A1E7-8BBE3B87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840-0C27-41C3-AF23-6D5DB038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496-E763-49EC-8DD1-54D2B090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CC5-0C18-413A-A309-459ADAF6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BE29-ED59-420F-BC27-E1022B63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83FA-3662-4C09-97AF-FC27C02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9054-D83F-41D3-B915-60BF4B5F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4903-73AA-45B2-BF77-774A6039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DEA1-B27D-49D5-9124-DB4381A8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6B0A-6317-4AE3-A620-FB1835EC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2664-5721-41CA-A362-7BB6C9A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86B-8777-4845-B081-74FBD1FC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FB6B-1C10-4D98-B35C-AD100461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944B-7DA9-4D70-A3C9-098E8B6B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2CC7-3D47-48BD-8ECA-F984C380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EB22-0E5D-4C2F-B210-D5E4655F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0CC7-A352-4EA7-A5DA-377B5ACA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151-4B91-4BD8-B2B0-D1D60F6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CBD-18C8-47AB-AC61-2CD8582E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F3A-11C4-4A78-B360-4E9CCA06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165-1959-4B48-861F-E97F417F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1AB-0FBA-40FE-80CE-0B27BC5B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323-EA38-4275-86CD-8249EFA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B44-922A-4157-938E-71F94E1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4016-512E-402E-9B20-C7C2F9643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CC4-FDB9-4931-91DB-974F315A2BD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British cuisine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0"/>
          <p:cNvSpPr txBox="1"/>
          <p:nvPr/>
        </p:nvSpPr>
        <p:spPr>
          <a:xfrm>
            <a:off x="324000" y="476280"/>
            <a:ext cx="2808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itish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259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hepherd's Pi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756000" y="5443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nced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eat covered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ith mashed potato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Picture 16" descr="shepherds-pie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Cornish Past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6" descr="Culinarie1_2"/>
          <p:cNvPicPr/>
          <p:nvPr/>
        </p:nvPicPr>
        <p:blipFill>
          <a:blip r:embed="rId1"/>
          <a:stretch/>
        </p:blipFill>
        <p:spPr>
          <a:xfrm>
            <a:off x="468360" y="1717560"/>
            <a:ext cx="4554360" cy="3151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cornish"/>
          <p:cNvPicPr/>
          <p:nvPr/>
        </p:nvPicPr>
        <p:blipFill>
          <a:blip r:embed="rId2"/>
          <a:stretch/>
        </p:blipFill>
        <p:spPr>
          <a:xfrm>
            <a:off x="4356000" y="3573360"/>
            <a:ext cx="4392720" cy="29275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1"/>
          <p:cNvSpPr/>
          <p:nvPr/>
        </p:nvSpPr>
        <p:spPr>
          <a:xfrm>
            <a:off x="755640" y="10868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minced beef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and 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vegetables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topped with mashed potato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Roat beef and Yorkshire pudding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3624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-108000" y="320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99"/>
                </a:solidFill>
                <a:uFillTx/>
                <a:latin typeface="Arial"/>
                <a:ea typeface="굴림"/>
              </a:rPr>
              <a:t>Roast Beef and Yorkshire Pudding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30800" y="5805000"/>
            <a:ext cx="562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Verdana"/>
                <a:ea typeface="굴림"/>
              </a:rPr>
              <a:t>beef with gravy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굴림"/>
              </a:rPr>
              <a:t>round baked food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made from flour, eggs and milk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Picture 9" descr="955085-22W2YPB"/>
          <p:cNvPicPr/>
          <p:nvPr/>
        </p:nvPicPr>
        <p:blipFill>
          <a:blip r:embed="rId2"/>
          <a:stretch/>
        </p:blipFill>
        <p:spPr>
          <a:xfrm>
            <a:off x="4140360" y="3357720"/>
            <a:ext cx="4608360" cy="307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traditionalgravy_1283_16x9"/>
          <p:cNvPicPr/>
          <p:nvPr/>
        </p:nvPicPr>
        <p:blipFill>
          <a:blip r:embed="rId3"/>
          <a:stretch/>
        </p:blipFill>
        <p:spPr>
          <a:xfrm>
            <a:off x="108000" y="1351080"/>
            <a:ext cx="4627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steakandkidneypie"/>
          <p:cNvPicPr/>
          <p:nvPr/>
        </p:nvPicPr>
        <p:blipFill>
          <a:blip r:embed="rId1"/>
          <a:stretch/>
        </p:blipFill>
        <p:spPr>
          <a:xfrm>
            <a:off x="0" y="3240"/>
            <a:ext cx="4896000" cy="38829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276720" y="-7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teak and Kidney Pie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784800" y="6165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chunks of beef and kidney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baked in a pastry crust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Picture 7" descr="ngbbs51c49a8aeb84d"/>
          <p:cNvPicPr/>
          <p:nvPr/>
        </p:nvPicPr>
        <p:blipFill>
          <a:blip r:embed="rId2"/>
          <a:stretch/>
        </p:blipFill>
        <p:spPr>
          <a:xfrm>
            <a:off x="3419640" y="2133720"/>
            <a:ext cx="5545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99"/>
                </a:solidFill>
                <a:uFillTx/>
                <a:latin typeface="Arial"/>
              </a:rPr>
              <a:t>Bubble &amp; Squea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6" name="Picture 7" descr="bubble-and-squeak-done-1024x680"/>
          <p:cNvPicPr/>
          <p:nvPr/>
        </p:nvPicPr>
        <p:blipFill>
          <a:blip r:embed="rId1"/>
          <a:stretch/>
        </p:blipFill>
        <p:spPr>
          <a:xfrm>
            <a:off x="4211640" y="2084400"/>
            <a:ext cx="4789440" cy="320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Bubble-and-squeak-008"/>
          <p:cNvPicPr/>
          <p:nvPr/>
        </p:nvPicPr>
        <p:blipFill>
          <a:blip r:embed="rId2"/>
          <a:stretch/>
        </p:blipFill>
        <p:spPr>
          <a:xfrm>
            <a:off x="179280" y="3645000"/>
            <a:ext cx="5651640" cy="30589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679680" y="1196280"/>
            <a:ext cx="56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  <a:ea typeface="굴림"/>
              </a:rPr>
              <a:t>cold vegetables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fried in a pan with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mashed potato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sausage-and-mash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Bangers &amp; Mas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-324000" y="623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  <a:ea typeface="굴림"/>
              </a:rPr>
              <a:t>sausages and mashed potato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8" descr="02ab9ef16d3d1735bbebd5a573821e1ec28f8b88523139"/>
          <p:cNvPicPr/>
          <p:nvPr/>
        </p:nvPicPr>
        <p:blipFill>
          <a:blip r:embed="rId1"/>
          <a:stretch/>
        </p:blipFill>
        <p:spPr>
          <a:xfrm>
            <a:off x="0" y="0"/>
            <a:ext cx="4716360" cy="3149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0" y="229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99"/>
                </a:solidFill>
                <a:uFillTx/>
                <a:latin typeface="Arial"/>
              </a:rPr>
              <a:t>Tea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6" descr="Ngr8OotsOvg"/>
          <p:cNvPicPr/>
          <p:nvPr/>
        </p:nvPicPr>
        <p:blipFill>
          <a:blip r:embed="rId2"/>
          <a:stretch/>
        </p:blipFill>
        <p:spPr>
          <a:xfrm>
            <a:off x="1042920" y="3573360"/>
            <a:ext cx="3959280" cy="2959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Union%20Jack%20Tea%20Pot"/>
          <p:cNvPicPr/>
          <p:nvPr/>
        </p:nvPicPr>
        <p:blipFill>
          <a:blip r:embed="rId3"/>
          <a:stretch/>
        </p:blipFill>
        <p:spPr>
          <a:xfrm>
            <a:off x="5580000" y="0"/>
            <a:ext cx="1800360" cy="1565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i?id=339036635-58-72&amp;n=21"/>
          <p:cNvPicPr/>
          <p:nvPr/>
        </p:nvPicPr>
        <p:blipFill>
          <a:blip r:embed="rId4"/>
          <a:stretch/>
        </p:blipFill>
        <p:spPr>
          <a:xfrm>
            <a:off x="4356000" y="1773360"/>
            <a:ext cx="460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2" descr="eda"/>
          <p:cNvPicPr/>
          <p:nvPr/>
        </p:nvPicPr>
        <p:blipFill>
          <a:blip r:embed="rId1"/>
          <a:stretch/>
        </p:blipFill>
        <p:spPr>
          <a:xfrm>
            <a:off x="0" y="0"/>
            <a:ext cx="3348000" cy="234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8" descr="ml0083"/>
          <p:cNvPicPr/>
          <p:nvPr/>
        </p:nvPicPr>
        <p:blipFill>
          <a:blip r:embed="rId2"/>
          <a:stretch/>
        </p:blipFill>
        <p:spPr>
          <a:xfrm>
            <a:off x="3276720" y="0"/>
            <a:ext cx="2590560" cy="190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prazdniki-ebdfccc29178"/>
          <p:cNvPicPr/>
          <p:nvPr/>
        </p:nvPicPr>
        <p:blipFill>
          <a:blip r:embed="rId3"/>
          <a:stretch/>
        </p:blipFill>
        <p:spPr>
          <a:xfrm>
            <a:off x="5003640" y="4268880"/>
            <a:ext cx="4140360" cy="2589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2" descr="file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1866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480x320_EmvhTt1IYhHsehFA4bpOEtnY88RBuGtY"/>
          <p:cNvPicPr/>
          <p:nvPr/>
        </p:nvPicPr>
        <p:blipFill>
          <a:blip r:embed="rId5"/>
          <a:stretch/>
        </p:blipFill>
        <p:spPr>
          <a:xfrm>
            <a:off x="5867280" y="1628640"/>
            <a:ext cx="3276720" cy="2722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8" descr="355422-01"/>
          <p:cNvPicPr/>
          <p:nvPr/>
        </p:nvPicPr>
        <p:blipFill>
          <a:blip r:embed="rId6"/>
          <a:stretch/>
        </p:blipFill>
        <p:spPr>
          <a:xfrm>
            <a:off x="0" y="2349360"/>
            <a:ext cx="2556000" cy="2217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0" descr="images-of-christmas-cakes-539"/>
          <p:cNvPicPr/>
          <p:nvPr/>
        </p:nvPicPr>
        <p:blipFill>
          <a:blip r:embed="rId7"/>
          <a:stretch/>
        </p:blipFill>
        <p:spPr>
          <a:xfrm>
            <a:off x="2484360" y="4836960"/>
            <a:ext cx="2519280" cy="2021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christmas_tree_2004"/>
          <p:cNvPicPr/>
          <p:nvPr/>
        </p:nvPicPr>
        <p:blipFill>
          <a:blip r:embed="rId8"/>
          <a:stretch/>
        </p:blipFill>
        <p:spPr>
          <a:xfrm>
            <a:off x="2484360" y="1760400"/>
            <a:ext cx="3959280" cy="330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2" descr="Christmas%20food%206"/>
          <p:cNvPicPr/>
          <p:nvPr/>
        </p:nvPicPr>
        <p:blipFill>
          <a:blip r:embed="rId9"/>
          <a:stretch/>
        </p:blipFill>
        <p:spPr>
          <a:xfrm>
            <a:off x="0" y="4600440"/>
            <a:ext cx="2484360" cy="22575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34"/>
          <p:cNvSpPr txBox="1"/>
          <p:nvPr/>
        </p:nvSpPr>
        <p:spPr>
          <a:xfrm>
            <a:off x="2411280" y="1916280"/>
            <a:ext cx="410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m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slide-23-728"/>
          <p:cNvPicPr/>
          <p:nvPr/>
        </p:nvPicPr>
        <p:blipFill>
          <a:blip r:embed="rId1"/>
          <a:stretch/>
        </p:blipFill>
        <p:spPr>
          <a:xfrm>
            <a:off x="468360" y="404640"/>
            <a:ext cx="8353440" cy="62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Welsh Cawl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346400" y="6092280"/>
            <a:ext cx="46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straightforward 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  <a:ea typeface="굴림"/>
              </a:rPr>
              <a:t>lamb and vegetable stew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7" descr="Cawl_Cymreig"/>
          <p:cNvPicPr/>
          <p:nvPr/>
        </p:nvPicPr>
        <p:blipFill>
          <a:blip r:embed="rId1"/>
          <a:stretch/>
        </p:blipFill>
        <p:spPr>
          <a:xfrm>
            <a:off x="250920" y="747720"/>
            <a:ext cx="6481800" cy="5091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awl"/>
          <p:cNvPicPr/>
          <p:nvPr/>
        </p:nvPicPr>
        <p:blipFill>
          <a:blip r:embed="rId2"/>
          <a:stretch/>
        </p:blipFill>
        <p:spPr>
          <a:xfrm>
            <a:off x="6095880" y="1268280"/>
            <a:ext cx="3048120" cy="2038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Wintereintopf-mit-Mettenden-F4670404jpg_img_308x0"/>
          <p:cNvPicPr/>
          <p:nvPr/>
        </p:nvPicPr>
        <p:blipFill>
          <a:blip r:embed="rId3"/>
          <a:stretch/>
        </p:blipFill>
        <p:spPr>
          <a:xfrm>
            <a:off x="5940360" y="3213000"/>
            <a:ext cx="320364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3" descr="0020-020-Limonnyj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187560"/>
            <a:ext cx="7775640" cy="109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Main Meals of the Day in Brita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753080" y="1051920"/>
            <a:ext cx="4390920" cy="92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Traditional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glish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0" y="1772280"/>
            <a:ext cx="6408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Food Connected With Holidays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276720" y="2780280"/>
            <a:ext cx="6011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 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Welsh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Scottish and Irish cuisine 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35"/>
          <p:cNvSpPr/>
          <p:nvPr/>
        </p:nvSpPr>
        <p:spPr>
          <a:xfrm>
            <a:off x="2124000" y="436572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Rectangle 36"/>
          <p:cNvSpPr/>
          <p:nvPr/>
        </p:nvSpPr>
        <p:spPr>
          <a:xfrm>
            <a:off x="1908000" y="59500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38" descr="royalcake_2174491b"/>
          <p:cNvPicPr/>
          <p:nvPr/>
        </p:nvPicPr>
        <p:blipFill>
          <a:blip r:embed="rId2"/>
          <a:stretch/>
        </p:blipFill>
        <p:spPr>
          <a:xfrm>
            <a:off x="1547640" y="3648240"/>
            <a:ext cx="6337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0" y="259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Bara Brith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4" name="Picture 6" descr="bara-brith-1000"/>
          <p:cNvPicPr/>
          <p:nvPr/>
        </p:nvPicPr>
        <p:blipFill>
          <a:blip r:embed="rId1"/>
          <a:stretch/>
        </p:blipFill>
        <p:spPr>
          <a:xfrm>
            <a:off x="1042920" y="907920"/>
            <a:ext cx="7129440" cy="50580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7"/>
          <p:cNvSpPr/>
          <p:nvPr/>
        </p:nvSpPr>
        <p:spPr>
          <a:xfrm>
            <a:off x="1173600" y="6092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glorious cake-like 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  <a:ea typeface="굴림"/>
              </a:rPr>
              <a:t>fruited bread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laverbrea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-252360" y="-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Laverbread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8" descr="aran-slocain"/>
          <p:cNvPicPr/>
          <p:nvPr/>
        </p:nvPicPr>
        <p:blipFill>
          <a:blip r:embed="rId2"/>
          <a:stretch/>
        </p:blipFill>
        <p:spPr>
          <a:xfrm>
            <a:off x="179280" y="3508200"/>
            <a:ext cx="44640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1" descr="slide-30-728"/>
          <p:cNvPicPr/>
          <p:nvPr/>
        </p:nvPicPr>
        <p:blipFill>
          <a:blip r:embed="rId1"/>
          <a:stretch/>
        </p:blipFill>
        <p:spPr>
          <a:xfrm>
            <a:off x="468360" y="189000"/>
            <a:ext cx="849636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0" y="-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Haggi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1" name="Picture 6" descr="2451d1280902967-9-august-quiz-night-last-one-before-ramadan-haggis"/>
          <p:cNvPicPr/>
          <p:nvPr/>
        </p:nvPicPr>
        <p:blipFill>
          <a:blip r:embed="rId1"/>
          <a:stretch/>
        </p:blipFill>
        <p:spPr>
          <a:xfrm>
            <a:off x="3348000" y="2997360"/>
            <a:ext cx="5796000" cy="3863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1295863642"/>
          <p:cNvPicPr/>
          <p:nvPr/>
        </p:nvPicPr>
        <p:blipFill>
          <a:blip r:embed="rId2"/>
          <a:stretch/>
        </p:blipFill>
        <p:spPr>
          <a:xfrm>
            <a:off x="0" y="692280"/>
            <a:ext cx="4703760" cy="3211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nphoto1296831136"/>
          <p:cNvPicPr/>
          <p:nvPr/>
        </p:nvPicPr>
        <p:blipFill>
          <a:blip r:embed="rId3"/>
          <a:stretch/>
        </p:blipFill>
        <p:spPr>
          <a:xfrm>
            <a:off x="4716360" y="404640"/>
            <a:ext cx="3810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1" descr="s3img_46944326_28776_1"/>
          <p:cNvPicPr/>
          <p:nvPr/>
        </p:nvPicPr>
        <p:blipFill>
          <a:blip r:embed="rId1"/>
          <a:stretch/>
        </p:blipFill>
        <p:spPr>
          <a:xfrm>
            <a:off x="108000" y="3174840"/>
            <a:ext cx="6696000" cy="3530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amendment-21-denver-i7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067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4a6e2d413024"/>
          <p:cNvPicPr/>
          <p:nvPr/>
        </p:nvPicPr>
        <p:blipFill>
          <a:blip r:embed="rId3"/>
          <a:stretch/>
        </p:blipFill>
        <p:spPr>
          <a:xfrm>
            <a:off x="7524720" y="2349360"/>
            <a:ext cx="1298520" cy="4121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b5c80c4db3f4"/>
          <p:cNvPicPr/>
          <p:nvPr/>
        </p:nvPicPr>
        <p:blipFill>
          <a:blip r:embed="rId4"/>
          <a:stretch/>
        </p:blipFill>
        <p:spPr>
          <a:xfrm>
            <a:off x="324000" y="1341360"/>
            <a:ext cx="2708280" cy="3024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2"/>
          <p:cNvSpPr/>
          <p:nvPr/>
        </p:nvSpPr>
        <p:spPr>
          <a:xfrm>
            <a:off x="0" y="43272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cotch whisky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8" descr="slide-37-728"/>
          <p:cNvPicPr/>
          <p:nvPr/>
        </p:nvPicPr>
        <p:blipFill>
          <a:blip r:embed="rId1"/>
          <a:stretch/>
        </p:blipFill>
        <p:spPr>
          <a:xfrm>
            <a:off x="611280" y="458640"/>
            <a:ext cx="7921440" cy="59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irish_beef_stew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11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  <a:ea typeface="굴림"/>
              </a:rPr>
              <a:t>Irish stew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  <a:ea typeface="굴림"/>
              </a:rPr>
              <a:t> 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-181080" y="335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  <a:ea typeface="굴림"/>
              </a:rPr>
              <a:t>Boxty</a:t>
            </a:r>
            <a:r>
              <a:rPr b="1" lang="ru-RU" sz="2800" spc="-1" strike="noStrike" u="sng">
                <a:solidFill>
                  <a:srgbClr val="0066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Picture 6" descr="28172_boxty_irish_potato_pancake_600"/>
          <p:cNvPicPr/>
          <p:nvPr/>
        </p:nvPicPr>
        <p:blipFill>
          <a:blip r:embed="rId1"/>
          <a:stretch/>
        </p:blipFill>
        <p:spPr>
          <a:xfrm>
            <a:off x="0" y="0"/>
            <a:ext cx="5003640" cy="3336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mulligan%20irish%20-%20boxty"/>
          <p:cNvPicPr/>
          <p:nvPr/>
        </p:nvPicPr>
        <p:blipFill>
          <a:blip r:embed="rId2"/>
          <a:stretch/>
        </p:blipFill>
        <p:spPr>
          <a:xfrm>
            <a:off x="5148360" y="3645000"/>
            <a:ext cx="3995640" cy="3195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6a00d8341c95f553ef01310f9eb3ae970c-800wi"/>
          <p:cNvPicPr/>
          <p:nvPr/>
        </p:nvPicPr>
        <p:blipFill>
          <a:blip r:embed="rId3"/>
          <a:stretch/>
        </p:blipFill>
        <p:spPr>
          <a:xfrm>
            <a:off x="5076720" y="476280"/>
            <a:ext cx="4067280" cy="2852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DSCF76451-1024x733"/>
          <p:cNvPicPr/>
          <p:nvPr/>
        </p:nvPicPr>
        <p:blipFill>
          <a:blip r:embed="rId4"/>
          <a:stretch/>
        </p:blipFill>
        <p:spPr>
          <a:xfrm>
            <a:off x="0" y="3843360"/>
            <a:ext cx="39956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  <a:ea typeface="굴림"/>
              </a:rPr>
              <a:t>Colcannon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343160" y="1004760"/>
            <a:ext cx="645768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9" name="Picture 8" descr="ar125677281690101"/>
          <p:cNvPicPr/>
          <p:nvPr/>
        </p:nvPicPr>
        <p:blipFill>
          <a:blip r:embed="rId1"/>
          <a:stretch/>
        </p:blipFill>
        <p:spPr>
          <a:xfrm>
            <a:off x="2484360" y="1341360"/>
            <a:ext cx="6458040" cy="4848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tu1a13_colcannon_lg"/>
          <p:cNvPicPr/>
          <p:nvPr/>
        </p:nvPicPr>
        <p:blipFill>
          <a:blip r:embed="rId2"/>
          <a:stretch/>
        </p:blipFill>
        <p:spPr>
          <a:xfrm>
            <a:off x="-108000" y="90792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colcannon-a"/>
          <p:cNvPicPr/>
          <p:nvPr/>
        </p:nvPicPr>
        <p:blipFill>
          <a:blip r:embed="rId3"/>
          <a:stretch/>
        </p:blipFill>
        <p:spPr>
          <a:xfrm>
            <a:off x="0" y="4048200"/>
            <a:ext cx="4211640" cy="280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01-colcannon-mise-en-place"/>
          <p:cNvPicPr/>
          <p:nvPr/>
        </p:nvPicPr>
        <p:blipFill>
          <a:blip r:embed="rId4"/>
          <a:stretch/>
        </p:blipFill>
        <p:spPr>
          <a:xfrm>
            <a:off x="6118200" y="115920"/>
            <a:ext cx="30258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>
            <a:off x="1332000" y="1916280"/>
            <a:ext cx="662616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14" descr="slide-19-728"/>
          <p:cNvPicPr/>
          <p:nvPr/>
        </p:nvPicPr>
        <p:blipFill>
          <a:blip r:embed="rId1"/>
          <a:stretch/>
        </p:blipFill>
        <p:spPr>
          <a:xfrm>
            <a:off x="1692360" y="2637000"/>
            <a:ext cx="6119640" cy="4035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179280" y="83556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Wide variety of dishes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5466240" y="835920"/>
            <a:ext cx="30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Great dining experience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287280" y="177264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Simple preparation of food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5526720" y="1772640"/>
            <a:ext cx="24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Emphasis on meat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3276720" y="12675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  <a:ea typeface="굴림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굴림"/>
              </a:rPr>
              <a:t>Wonderful taste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0" y="258120"/>
            <a:ext cx="9144000" cy="520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M e a l s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a n d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M e a l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T i m e s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691560" y="1469160"/>
            <a:ext cx="36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a i n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e a l s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d a y :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0" y="2996280"/>
            <a:ext cx="944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B r e a k f a s t -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b e t w e e n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7 : 0 0 &amp; 9 : 0 0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L u n c h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b e t w e e n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1 2 : 0 0 &amp; 1 3 : 3 0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D i n n e r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T h e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a i n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m e a l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b e t w e e 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1 8 : 3 0 &amp; 2 0 : 0 0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455760" y="5083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T e a - t i m e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965840" y="50839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Verdana"/>
              </a:rPr>
              <a:t>1 6 : 0 0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Picture 13" descr="i?id=425874292-13-72&amp;n=21"/>
          <p:cNvPicPr/>
          <p:nvPr/>
        </p:nvPicPr>
        <p:blipFill>
          <a:blip r:embed="rId1"/>
          <a:stretch/>
        </p:blipFill>
        <p:spPr>
          <a:xfrm>
            <a:off x="5707080" y="692280"/>
            <a:ext cx="1724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"/>
          <p:cNvSpPr/>
          <p:nvPr/>
        </p:nvSpPr>
        <p:spPr>
          <a:xfrm>
            <a:off x="1547640" y="-360"/>
            <a:ext cx="78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340000" y="9900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  <a:ea typeface="굴림"/>
              </a:rPr>
              <a:t>Traditional English breakfas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9" descr="slide-004-638"/>
          <p:cNvPicPr/>
          <p:nvPr/>
        </p:nvPicPr>
        <p:blipFill>
          <a:blip r:embed="rId1"/>
          <a:stretch/>
        </p:blipFill>
        <p:spPr>
          <a:xfrm>
            <a:off x="3743280" y="549360"/>
            <a:ext cx="5400720" cy="4319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9" descr="slide-3-728"/>
          <p:cNvPicPr/>
          <p:nvPr/>
        </p:nvPicPr>
        <p:blipFill>
          <a:blip r:embed="rId2"/>
          <a:stretch/>
        </p:blipFill>
        <p:spPr>
          <a:xfrm>
            <a:off x="179280" y="2421000"/>
            <a:ext cx="5724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0" y="12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굴림"/>
              </a:rPr>
              <a:t>Traditional English lun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3" descr="packed-lunch-canada"/>
          <p:cNvPicPr/>
          <p:nvPr/>
        </p:nvPicPr>
        <p:blipFill>
          <a:blip r:embed="rId1"/>
          <a:stretch/>
        </p:blipFill>
        <p:spPr>
          <a:xfrm>
            <a:off x="179280" y="1268280"/>
            <a:ext cx="4025880" cy="2697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packed-lunch"/>
          <p:cNvPicPr/>
          <p:nvPr/>
        </p:nvPicPr>
        <p:blipFill>
          <a:blip r:embed="rId2"/>
          <a:stretch/>
        </p:blipFill>
        <p:spPr>
          <a:xfrm>
            <a:off x="4427640" y="692280"/>
            <a:ext cx="4716360" cy="3251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packed-lunch-accessories"/>
          <p:cNvPicPr/>
          <p:nvPr/>
        </p:nvPicPr>
        <p:blipFill>
          <a:blip r:embed="rId3"/>
          <a:stretch/>
        </p:blipFill>
        <p:spPr>
          <a:xfrm>
            <a:off x="2627280" y="3441600"/>
            <a:ext cx="4043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brusse"/>
          <p:cNvPicPr/>
          <p:nvPr/>
        </p:nvPicPr>
        <p:blipFill>
          <a:blip r:embed="rId1"/>
          <a:stretch/>
        </p:blipFill>
        <p:spPr>
          <a:xfrm>
            <a:off x="179280" y="2060640"/>
            <a:ext cx="3311640" cy="2808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184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Verdana"/>
                <a:ea typeface="굴림"/>
              </a:rPr>
              <a:t>Traditional English dinn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9" descr="carrots"/>
          <p:cNvPicPr/>
          <p:nvPr/>
        </p:nvPicPr>
        <p:blipFill>
          <a:blip r:embed="rId2"/>
          <a:stretch/>
        </p:blipFill>
        <p:spPr>
          <a:xfrm>
            <a:off x="6012000" y="206064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roastpots"/>
          <p:cNvPicPr/>
          <p:nvPr/>
        </p:nvPicPr>
        <p:blipFill>
          <a:blip r:embed="rId3"/>
          <a:stretch/>
        </p:blipFill>
        <p:spPr>
          <a:xfrm>
            <a:off x="3708360" y="2060640"/>
            <a:ext cx="1982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lide-2-728"/>
          <p:cNvPicPr/>
          <p:nvPr/>
        </p:nvPicPr>
        <p:blipFill>
          <a:blip r:embed="rId1"/>
          <a:stretch/>
        </p:blipFill>
        <p:spPr>
          <a:xfrm>
            <a:off x="395280" y="297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Traditional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glish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Dish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691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Fish and Chi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7" descr="Mislabelled-Fish-Prevalent-On-Europe-Menues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51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fish_and_chips_658515"/>
          <p:cNvPicPr/>
          <p:nvPr/>
        </p:nvPicPr>
        <p:blipFill>
          <a:blip r:embed="rId2"/>
          <a:stretch/>
        </p:blipFill>
        <p:spPr>
          <a:xfrm>
            <a:off x="6443640" y="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5" descr="probus-fish-chip-shop"/>
          <p:cNvPicPr/>
          <p:nvPr/>
        </p:nvPicPr>
        <p:blipFill>
          <a:blip r:embed="rId3"/>
          <a:stretch/>
        </p:blipFill>
        <p:spPr>
          <a:xfrm>
            <a:off x="179280" y="836640"/>
            <a:ext cx="2737080" cy="25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NZLC"/>
          <p:cNvPicPr/>
          <p:nvPr/>
        </p:nvPicPr>
        <p:blipFill>
          <a:blip r:embed="rId4"/>
          <a:stretch/>
        </p:blipFill>
        <p:spPr>
          <a:xfrm>
            <a:off x="6262560" y="1700280"/>
            <a:ext cx="2881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3:38:47Z</dcterms:created>
  <dc:creator>User</dc:creator>
  <dc:description/>
  <dc:language>en-US</dc:language>
  <cp:lastModifiedBy>Сергей</cp:lastModifiedBy>
  <dcterms:modified xsi:type="dcterms:W3CDTF">2021-04-17T20:44:18Z</dcterms:modified>
  <cp:revision>14</cp:revision>
  <dc:subject/>
  <dc:title>Слайд 1</dc:title>
</cp:coreProperties>
</file>