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png" ContentType="image/pn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3AB-2760-43AE-AB6A-6F3E3080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431-FDB2-4417-B973-4002C9BD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6F5-D076-4ED2-8F33-BCC49EEA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9DC-DB05-438B-8F51-60257FB3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34F-29B4-4D85-80AD-914E819D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EB3-38F5-4CA9-AC4A-6382FE28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684-9AF5-4DFE-9335-92A8BEB3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1B8-CF15-42F5-B9DB-AE52ABE6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C8A-E1CD-44C5-891A-13C93813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7E4-7906-4B97-97A0-A1ADA440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612-656A-48F7-9CC0-D8F852D2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D4C-C783-4DBA-A4FF-DED18B7E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3DCE-7707-444C-BDCC-8DB322DE17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ический проек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 развитию мелкой моторики</a:t>
            </a: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Песочная фантазия»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500280"/>
            <a:ext cx="687384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ой младше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Ботнарь Алёна 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: Мы играем в пек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2124000" y="15890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пим кули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3440" y="259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: можно ли создать картину из пес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клея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песочной картин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сок можно приклеить на лист бумаг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165240" y="2565360"/>
            <a:ext cx="4752720" cy="3932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3995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859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цветным песком на белом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не в форме сердечко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к можно закрасить любимым цветом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Объект 6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1" name="Объект 4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дим опыт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песок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1483920"/>
            <a:ext cx="83628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ый и мелкий песок: рассматриваем крупин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чинки через л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ряем температуру пе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ёплый и холодный пе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Объект 4" descr=""/>
          <p:cNvPicPr/>
          <p:nvPr/>
        </p:nvPicPr>
        <p:blipFill>
          <a:blip r:embed="rId1"/>
          <a:stretch/>
        </p:blipFill>
        <p:spPr>
          <a:xfrm>
            <a:off x="324000" y="3127320"/>
            <a:ext cx="4549680" cy="3413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/>
          <p:cNvPicPr/>
          <p:nvPr/>
        </p:nvPicPr>
        <p:blipFill>
          <a:blip r:embed="rId2"/>
          <a:stretch/>
        </p:blipFill>
        <p:spPr>
          <a:xfrm>
            <a:off x="5322960" y="2492280"/>
            <a:ext cx="35798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308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: «Оставь свой след, уз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грабельками уз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46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ем следы на песке от колес автомоб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343080" y="3063960"/>
            <a:ext cx="3951000" cy="2963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"/>
          <p:cNvPicPr/>
          <p:nvPr/>
        </p:nvPicPr>
        <p:blipFill>
          <a:blip r:embed="rId3"/>
          <a:stretch/>
        </p:blipFill>
        <p:spPr>
          <a:xfrm>
            <a:off x="4854600" y="3141720"/>
            <a:ext cx="403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к или фасоль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ем на сыпучест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4" descr=""/>
          <p:cNvPicPr/>
          <p:nvPr/>
        </p:nvPicPr>
        <p:blipFill>
          <a:blip r:embed="rId1"/>
          <a:stretch/>
        </p:blipFill>
        <p:spPr>
          <a:xfrm>
            <a:off x="457200" y="2637000"/>
            <a:ext cx="4176720" cy="3133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11280" y="1599840"/>
            <a:ext cx="80755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сок (мелкий) хорошо проходит между пальцами, и через воронку и ситечко. А белая фасоль (крупная) пло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2"/>
          <a:stretch/>
        </p:blipFill>
        <p:spPr>
          <a:xfrm>
            <a:off x="4788000" y="2243160"/>
            <a:ext cx="3736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ем маленький ми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Объект 4" descr=""/>
          <p:cNvPicPr/>
          <p:nvPr/>
        </p:nvPicPr>
        <p:blipFill>
          <a:blip r:embed="rId1"/>
          <a:stretch/>
        </p:blipFill>
        <p:spPr>
          <a:xfrm>
            <a:off x="250920" y="2522520"/>
            <a:ext cx="4151160" cy="35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50560" y="1628280"/>
            <a:ext cx="66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м город на песке деревянным конструк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572000" y="2522520"/>
            <a:ext cx="4262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рисования на пе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Объект 4" descr=""/>
          <p:cNvPicPr/>
          <p:nvPr/>
        </p:nvPicPr>
        <p:blipFill>
          <a:blip r:embed="rId1"/>
          <a:stretch/>
        </p:blipFill>
        <p:spPr>
          <a:xfrm>
            <a:off x="485640" y="213372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Объект 5" descr=""/>
          <p:cNvPicPr/>
          <p:nvPr/>
        </p:nvPicPr>
        <p:blipFill>
          <a:blip r:embed="rId2"/>
          <a:stretch/>
        </p:blipFill>
        <p:spPr>
          <a:xfrm>
            <a:off x="4140360" y="2986200"/>
            <a:ext cx="4703760" cy="3529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140360" y="2492280"/>
            <a:ext cx="43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ем пальчиками на пе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85640" y="1352520"/>
            <a:ext cx="300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адываем рисунок на пе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2764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2"/>
          <a:stretch/>
        </p:blipFill>
        <p:spPr>
          <a:xfrm>
            <a:off x="755640" y="1622520"/>
            <a:ext cx="5616720" cy="4076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004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Песочная фантаз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ип  проекта: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знавательно – исследовательский, здоровье — сберегаю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ключает в себя творческую, познавательную и практическ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080" y="404640"/>
            <a:ext cx="814716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ктуальность проекта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ans"/>
              </a:rPr>
              <a:t>Песок обладает свойством снятия негати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ans"/>
              </a:rPr>
              <a:t>психической энергии и способствует уравновешиванию психоэмоционального состояни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де игр с песком дети ненавязчиво знакомятся с его свойствами: сыпучесть, способность пропускать во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жать фор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с песком (игры, рисование, аппликации, экспериментирование и т.д.) очень важны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это развитие тактильных ощущ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лкой моторики рук, речи и мыш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имаясь такой деятельност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может видеть и оценивать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го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632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комить детей со свойствами песка, научить находить их проявления в повседневной жизни (сочетание экспериментов и наблюдений на прогулках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мелкую моторику рук и тактильные ощущения, а также и речь; обогащать и активизировать словар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фантазию, творчество, во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ять правила безопасности во время игры в песочнице, а также во время проведения экспери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навыки общения и соотносить свои действия с действиями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ь родителей к совмест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РЕДПОЛАГАЕМЫЙ РЕЗУЛЬТ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" y="1052280"/>
            <a:ext cx="6659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 устойчивый интерес к работе с песком: поисковой деятельности, экспериментиро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отражают полученные впечатления в речи и продуктивных видах деятельности, употребляют в речи новые понятия: сыпучий, влажный, песчинк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соблюдают правила игр и работы с песком: убирают на место атрибуты, наводят 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т использовать, знакомые способы исследования, творчество, простейшие опыты с пе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ют коллективную работу, согласовывают свои действия, договариваются в процессе совместных и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есочная терапия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61308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есочная терапия» - это игровой метод, который позволяет рассказать свои проблемы, показать свои страхи, избавиться от них, преодолеть эмоциональное напря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ь игра для ребенка – это необходимая естественная и любим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05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ожно делать с песк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овать на песке пальч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ть работу с помощью рук (посыпание, пересыпание из руки в руку или из емкости в емк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ать в песке спрятанные игр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композиции, используя различные игр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лять следы на песке от разны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овать на песке палочкой, грабельками, цветным песком на песке, на карт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шать и заново стро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: «Кто спрятался в песке?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1760400" y="1565280"/>
            <a:ext cx="81374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чем игруш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ыпая песо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0" y="1565280"/>
            <a:ext cx="44798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щем спрятанных зверей в пе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4819680" y="2347920"/>
            <a:ext cx="4224240" cy="3168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" descr=""/>
          <p:cNvPicPr/>
          <p:nvPr/>
        </p:nvPicPr>
        <p:blipFill>
          <a:blip r:embed="rId3"/>
          <a:stretch/>
        </p:blipFill>
        <p:spPr>
          <a:xfrm>
            <a:off x="506520" y="2347920"/>
            <a:ext cx="32922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47720"/>
            <a:ext cx="8686800" cy="68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: «Сухой и мокрый песок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 песок- сыпучи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ок хорошо впитывает во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5" descr=""/>
          <p:cNvPicPr/>
          <p:nvPr/>
        </p:nvPicPr>
        <p:blipFill>
          <a:blip r:embed="rId1"/>
          <a:stretch/>
        </p:blipFill>
        <p:spPr>
          <a:xfrm>
            <a:off x="250920" y="30970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6" descr=""/>
          <p:cNvPicPr/>
          <p:nvPr/>
        </p:nvPicPr>
        <p:blipFill>
          <a:blip r:embed="rId2"/>
          <a:stretch/>
        </p:blipFill>
        <p:spPr>
          <a:xfrm>
            <a:off x="4648320" y="30970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XX2</cp:lastModifiedBy>
  <dcterms:modified xsi:type="dcterms:W3CDTF">2021-04-18T17:51:29Z</dcterms:modified>
  <cp:revision>33</cp:revision>
  <dc:subject/>
  <dc:title>Title</dc:title>
</cp:coreProperties>
</file>