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B235D-93EA-46BD-B943-51086602A7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4864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058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56760"/>
            <a:ext cx="82058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AB267-9A9A-463F-B1EC-8EF885DA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4864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428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2000" y="1604880"/>
            <a:ext cx="400428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428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2000" y="3956760"/>
            <a:ext cx="400428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209CF-67BE-4546-BA66-0943992D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4864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20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1720" y="1604880"/>
            <a:ext cx="26420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06240" y="1604880"/>
            <a:ext cx="26420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56760"/>
            <a:ext cx="26420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1720" y="3956760"/>
            <a:ext cx="26420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06240" y="3956760"/>
            <a:ext cx="26420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D1890-D231-4217-8CCE-3CA43AED5C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82365E-5254-4AF1-B429-F62D5394D0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4864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058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B47C0-966D-48A1-A873-261E46C0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4864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058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FC75E9-9F17-4C6F-A113-5A6B7CEE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4864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428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2000" y="1604880"/>
            <a:ext cx="400428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D75C3-F7E5-4E56-9706-BFCC1BDE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4864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994574-E595-4831-AEED-960CD04C8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48640" cy="81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50F755-B310-4698-9750-1CD88CBA4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4864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428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2000" y="1604880"/>
            <a:ext cx="400428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428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968EB3-4FFA-47F5-8BD5-D1025EB3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4864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058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99D32-3450-416F-95A9-863A6208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4864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428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2000" y="1604880"/>
            <a:ext cx="400428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62000" y="3956760"/>
            <a:ext cx="400428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A8E92D-2861-44E1-A497-C9809FF0F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4864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428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2000" y="1604880"/>
            <a:ext cx="400428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82058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AF042-99AC-4F89-A50E-E3F09013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4864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058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956760"/>
            <a:ext cx="82058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F0FE6B-7B99-401D-92CB-F33B50F0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4864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428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2000" y="1604880"/>
            <a:ext cx="400428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428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62000" y="3956760"/>
            <a:ext cx="400428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F09A89-2A45-4FD8-9922-3CD8E3B4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4864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20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1720" y="1604880"/>
            <a:ext cx="26420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06240" y="1604880"/>
            <a:ext cx="26420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956760"/>
            <a:ext cx="26420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1720" y="3956760"/>
            <a:ext cx="26420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06240" y="3956760"/>
            <a:ext cx="26420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C9F46-ED8D-4CD3-BA76-FC50334FA5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4864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058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7CC6C-DB42-4396-AAB0-85B53F42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4864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428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2000" y="1604880"/>
            <a:ext cx="400428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EC9A8-78A3-4526-8CFA-3ADA0C24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4864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6E277-9D24-4B87-BDB2-6BB83D840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48640" cy="81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E6A9E-2D09-45B4-8D4E-162CB0973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4864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428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2000" y="1604880"/>
            <a:ext cx="400428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428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FE83B-CB81-484E-BA31-931BA0EC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4864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428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2000" y="1604880"/>
            <a:ext cx="400428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2000" y="3956760"/>
            <a:ext cx="400428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0259C-C193-4982-9F6E-0FF93A26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4864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428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2000" y="1604880"/>
            <a:ext cx="400428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8205840" cy="21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F447B-C625-42B4-8E54-FADA1605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210960" y="1679400"/>
            <a:ext cx="8699760" cy="1306800"/>
            <a:chOff x="210960" y="1679400"/>
            <a:chExt cx="8699760" cy="1306800"/>
          </a:xfrm>
        </p:grpSpPr>
        <p:sp>
          <p:nvSpPr>
            <p:cNvPr id="2" name=""/>
            <p:cNvSpPr/>
            <p:nvPr/>
          </p:nvSpPr>
          <p:spPr>
            <a:xfrm>
              <a:off x="6046920" y="1825560"/>
              <a:ext cx="2852640" cy="69048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619360" y="1697040"/>
              <a:ext cx="5519880" cy="8254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828880" y="1708200"/>
              <a:ext cx="5443560" cy="7509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608800" y="1695600"/>
              <a:ext cx="3284280" cy="6267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10960" y="1679400"/>
              <a:ext cx="8699760" cy="13068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210960" y="5354640"/>
            <a:ext cx="8699760" cy="1306440"/>
            <a:chOff x="210960" y="5354640"/>
            <a:chExt cx="8699760" cy="1306440"/>
          </a:xfrm>
        </p:grpSpPr>
        <p:sp>
          <p:nvSpPr>
            <p:cNvPr id="9" name=""/>
            <p:cNvSpPr/>
            <p:nvPr/>
          </p:nvSpPr>
          <p:spPr>
            <a:xfrm>
              <a:off x="6054840" y="5499000"/>
              <a:ext cx="2855880" cy="6908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622600" y="5370480"/>
              <a:ext cx="5527800" cy="8254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832120" y="5383080"/>
              <a:ext cx="5451480" cy="7509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616720" y="5370480"/>
              <a:ext cx="3287520" cy="62712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10960" y="5354640"/>
              <a:ext cx="8699760" cy="130644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4864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6236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.4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sldNum" idx="2"/>
          </p:nvPr>
        </p:nvSpPr>
        <p:spPr>
          <a:xfrm>
            <a:off x="3990960" y="6249960"/>
            <a:ext cx="11383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EF3202-E3F1-42D4-8593-9AAECDE6690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058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10960" y="1679400"/>
            <a:ext cx="8699760" cy="1306800"/>
            <a:chOff x="210960" y="1679400"/>
            <a:chExt cx="8699760" cy="1306800"/>
          </a:xfrm>
        </p:grpSpPr>
        <p:sp>
          <p:nvSpPr>
            <p:cNvPr id="57" name=""/>
            <p:cNvSpPr/>
            <p:nvPr/>
          </p:nvSpPr>
          <p:spPr>
            <a:xfrm>
              <a:off x="6046920" y="1825560"/>
              <a:ext cx="2852640" cy="69048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619360" y="1697040"/>
              <a:ext cx="5519880" cy="8254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28880" y="1708200"/>
              <a:ext cx="5443560" cy="7509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608800" y="1695600"/>
              <a:ext cx="3284280" cy="6267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0960" y="1679400"/>
              <a:ext cx="8699760" cy="13068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871560" y="2674440"/>
            <a:ext cx="738504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0000"/>
          </a:bodyPr>
          <a:p>
            <a:pPr marL="30852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08520" indent="-3085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308520" indent="-3085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308520" indent="-3085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308520" indent="-3085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308520" indent="-3085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308520" indent="-3085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0584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3"/>
          </p:nvPr>
        </p:nvSpPr>
        <p:spPr>
          <a:xfrm>
            <a:off x="5163840" y="6249960"/>
            <a:ext cx="376236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ndar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Lucida Sans Unicode"/>
              </a:rPr>
              <a:t>13.4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4"/>
          </p:nvPr>
        </p:nvSpPr>
        <p:spPr>
          <a:xfrm>
            <a:off x="3990960" y="6249960"/>
            <a:ext cx="11383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000000"/>
                </a:solidFill>
                <a:latin typeface="Candar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EC6DAA47-F255-4738-AC1F-4BE8BD602EDD}" type="slidenum">
              <a:rPr b="0" lang="ru-RU" sz="1800" spc="-1" strike="noStrike">
                <a:solidFill>
                  <a:srgbClr val="000000"/>
                </a:solidFill>
                <a:latin typeface="Candara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31640" y="-79200"/>
            <a:ext cx="770436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ndara"/>
              </a:rPr>
              <a:t>Самоконтрол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ndara"/>
              </a:rPr>
              <a:t>Функциональные проб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63640" y="3600360"/>
            <a:ext cx="3816360" cy="2421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35640" y="1584360"/>
            <a:ext cx="417672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6840" y="360000"/>
            <a:ext cx="82105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Функциональные пробы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7" name=""/>
          <p:cNvSpPr/>
          <p:nvPr/>
        </p:nvSpPr>
        <p:spPr>
          <a:xfrm>
            <a:off x="287280" y="792000"/>
            <a:ext cx="828036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ункциональные пробы – это один из объективных методов контроля за состоянием организма человека. Обычные исследования в покое не могут вскрыть существенных отклонений от нормы в деятельности сердца и сосудов. Поэтому для этой цели применяют функциональные пробы сердечно-сосудистой системы, которые помогают выявить приспособляемость организма к физическим нагрузк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6000" y="1944720"/>
            <a:ext cx="8280360" cy="20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3333ff"/>
                </a:solidFill>
                <a:uFillTx/>
                <a:latin typeface="Arial"/>
              </a:rPr>
              <a:t>Функциональная проб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это какая-либо нагрузка (или воздействие), которая дается обследуемому с целью определения функционального состояния, возможностей и способностей какого-либо органа, системы или организма в цел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6000" y="2808360"/>
            <a:ext cx="6767280" cy="24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иболее часто используются функциональные пробы с различными по характеру, интенсивности и объему физическими нагрузками, ортостатическая проба, гипоксемические пробы и функциональные пробы дыхательной системы. Это объясняется тем, что нормирование физической нагрузки на занятиях физической культурой и спортом связано прежде всего с функциональным состоянием кардиореспираторного аппара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86440" y="2481120"/>
            <a:ext cx="1897200" cy="2917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511280" y="4464000"/>
            <a:ext cx="3889440" cy="154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6840" y="287280"/>
            <a:ext cx="821196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marL="24336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serif"/>
                <a:ea typeface="Microsoft YaHei"/>
              </a:rPr>
              <a:t>КОНТРОЛЬ ЗА ФУНКЦИОНАЛЬНЫМ СОСТОЯНИЕМ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4336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 u="sng">
                <a:solidFill>
                  <a:srgbClr val="3333ff"/>
                </a:solidFill>
                <a:uFillTx/>
                <a:latin typeface="serif"/>
                <a:ea typeface="Microsoft YaHei"/>
              </a:rPr>
              <a:t>СЕРДЕЧНО-СОСУДИСТОЙ СИСТЕМЫ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"/>
          <p:cNvSpPr/>
          <p:nvPr/>
        </p:nvSpPr>
        <p:spPr>
          <a:xfrm>
            <a:off x="360360" y="1295280"/>
            <a:ext cx="5616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3333ff"/>
                </a:solidFill>
                <a:latin typeface="Arial"/>
              </a:rPr>
              <a:t>Пульсометр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0360" y="2303640"/>
            <a:ext cx="6048360" cy="9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Пульсом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зывается периодическое толчкообразное колебание стенок артерий, вызываемое током крови, выбрасываемой сердцем в аорту при каждом его сокращ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983280" y="1511280"/>
            <a:ext cx="1729080" cy="21556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96720" y="2879640"/>
            <a:ext cx="6012000" cy="19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184720" y="3122640"/>
            <a:ext cx="1728720" cy="2205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274840" y="3672000"/>
            <a:ext cx="413244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0360" y="3029040"/>
            <a:ext cx="48243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ыми распространенными для измерения  пульса являются четыре точки на теле человек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0360" y="3551400"/>
            <a:ext cx="63468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на поверхности запястья над лучевой артерие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0360" y="3816360"/>
            <a:ext cx="553248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на шее над сонной артери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0360" y="4032360"/>
            <a:ext cx="3672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у виска над височной артерие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6720" y="4392720"/>
            <a:ext cx="58262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на груди, непосредственно в области сердц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7280" y="4721400"/>
            <a:ext cx="46800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определения ЧСС пальцы руки накладывают на указанные точки так, чтобы степень контакта позволяла пальцам чувствовать пульсацию артер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20720" y="5472000"/>
            <a:ext cx="770400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ычно ЧСС получают, используя правило математического соотношения, подсчитав число пульсаций за несколько секунд. Если необходимо знать ЧСС в покое, можно использовать для подсчета любой временной диапазон (от 10 с до 1 мин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28720" y="1295280"/>
            <a:ext cx="5184720" cy="17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метод, позволяющий определить адекватность реакции организма на величину выполненной физической нагруз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0360" y="1790640"/>
            <a:ext cx="6407280" cy="19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уть метода заключается в подсчете и анализе частоты сердечных сокращений (ЧСС) у занимающихся в различные периоды занят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92000" y="431640"/>
            <a:ext cx="7775640" cy="5472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535640" y="5184720"/>
            <a:ext cx="32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виска над височной артери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63640" y="5184720"/>
            <a:ext cx="26636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груди, непосредственно в области сердц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40000" y="-598320"/>
            <a:ext cx="6408720" cy="21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serif"/>
                <a:ea typeface="Microsoft YaHei"/>
              </a:rPr>
              <a:t>КОНТРОЛЬ ЗА ФУНКЦИОНАЛЬНЫМ СОСТОЯНИЕМ </a:t>
            </a:r>
            <a:br>
              <a:rPr sz="2600"/>
            </a:br>
            <a:r>
              <a:rPr b="0" lang="ru-RU" sz="2600" spc="-1" strike="noStrike" u="sng">
                <a:solidFill>
                  <a:srgbClr val="3333ff"/>
                </a:solidFill>
                <a:uFillTx/>
                <a:latin typeface="serif"/>
                <a:ea typeface="Microsoft YaHei"/>
              </a:rPr>
              <a:t>СЕРДЕЧНО-СОСУДИСТОЙ СИСТЕМЫ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2" name=""/>
          <p:cNvSpPr/>
          <p:nvPr/>
        </p:nvSpPr>
        <p:spPr>
          <a:xfrm>
            <a:off x="360360" y="1584360"/>
            <a:ext cx="856764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адиционно при самоконтроле и проведении врачебного контроля за функциональным состоянием организма  спортсменов применяют функциональные пробы со стандартными физическими нагрузками (20 приседаний за 30,40 с, 15-секундный бег, трехминутный бег) в качестве критерия оценки текущего состояния организма в динамике. Мы рассмотрим самые простые функциональные проб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7280" y="2847960"/>
            <a:ext cx="540072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СС при этом подсчитывается до нагрузки, непосредственно после ее окончания и ежеминутно на протяжении 3-5 мин восстановительного периода по 10-секундным отрезкам с пересчетом на минуту. Нормальной реакцией на 20 приседаний является учащение пульса на 50-80% по сравнению с исходным, но с восстановлением в течение 3-4 ми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60360" y="2592360"/>
            <a:ext cx="792000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 u="sng">
                <a:solidFill>
                  <a:srgbClr val="3333ff"/>
                </a:solidFill>
                <a:uFillTx/>
                <a:latin typeface="Arial"/>
              </a:rPr>
              <a:t>Проба с дозированной физической нагрузко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20 приседаний в течение 30 секун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0360" y="4248000"/>
            <a:ext cx="540072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 u="sng">
                <a:solidFill>
                  <a:srgbClr val="3333ff"/>
                </a:solidFill>
                <a:uFillTx/>
                <a:latin typeface="Arial"/>
              </a:rPr>
              <a:t>Ортостатическая проб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после 3-5 минутного отдыха в  положении лежа подсчитывается ЧСС за 1 минуту. Потом необходимо встать и сосчитать ЧСС после 1 минуты спокойного стояния. В норме пульс при этом увеличивается на 1-12 уд/мин- это результат хорошей тренированности.  13-18 уд/мин у здорового человека, 18-25 уд/мин- отсутствие тренированности. Выше 25 уд/мин - переутомление или заболев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832360" y="2879640"/>
            <a:ext cx="266400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6840" y="431640"/>
            <a:ext cx="82119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serif"/>
                <a:ea typeface="Microsoft YaHei"/>
              </a:rPr>
              <a:t>ФУНКЦИОНАЛЬНЫЕ ПРОБЫ И ТЕСТЫ ДЛЯ ОЦЕНКИ ФИЗИЧЕСКОЙ РАБОТОСПОСОБНОСТИ </a:t>
            </a:r>
            <a:br>
              <a:rPr sz="2600"/>
            </a:b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"/>
          <p:cNvSpPr/>
          <p:nvPr/>
        </p:nvSpPr>
        <p:spPr>
          <a:xfrm>
            <a:off x="360360" y="1368360"/>
            <a:ext cx="8136000" cy="42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3333ff"/>
                </a:solidFill>
                <a:uFillTx/>
                <a:latin typeface="Arial"/>
              </a:rPr>
              <a:t>Функциональная проба Руфь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д выполнением пробы необходим пятиминутный отдых в положении леж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Затем подсчитывается пульс за 15с и пересчитывается  ЧСС в одну минуту (P1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Испытуемый выполняет 30 приседаний за 45с и вновь ложится, сразу измеряя ЧСС за 15 с (Р2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Затем измеряется ЧСС за последние 15с первой минуты восстановления (Р3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 Проба оценивается по индексу Руфье-Диксона (ИР): ИР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 = (Р</a:t>
            </a:r>
            <a:r>
              <a:rPr b="0" lang="ru-RU" sz="1400" spc="-1" strike="noStrike" baseline="-28000">
                <a:solidFill>
                  <a:srgbClr val="000000"/>
                </a:solidFill>
                <a:latin typeface="Arial"/>
                <a:ea typeface="Microsoft YaHei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 + Р</a:t>
            </a:r>
            <a:r>
              <a:rPr b="0" lang="ru-RU" sz="1400" spc="-1" strike="noStrike" baseline="-28000">
                <a:solidFill>
                  <a:srgbClr val="000000"/>
                </a:solidFill>
                <a:latin typeface="Arial"/>
                <a:ea typeface="Microsoft YaHei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 + Р</a:t>
            </a:r>
            <a:r>
              <a:rPr b="0" lang="ru-RU" sz="1400" spc="-1" strike="noStrike" baseline="-28000">
                <a:solidFill>
                  <a:srgbClr val="000000"/>
                </a:solidFill>
                <a:latin typeface="Arial"/>
                <a:ea typeface="Microsoft YaHei"/>
              </a:rPr>
              <a:t>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 – 200) /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08360" y="4392720"/>
            <a:ext cx="3743640" cy="13683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60360" y="4464000"/>
            <a:ext cx="410364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величине индекса от 0 до 2,9 дается отличная оценка функционального состояния , от 3 до 6 - хорошая, от 6 до 8 - удовлетворительная, выше 8 -плоха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24360" y="1368360"/>
            <a:ext cx="5616360" cy="23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является самым простым косвенным методом определения физической работоспособ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0920" y="0"/>
            <a:ext cx="6480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serif"/>
                <a:ea typeface="Microsoft YaHei"/>
              </a:rPr>
              <a:t>КОНТРОЛЬ ЗА ФУНКЦИОНАЛЬНЫМ СОСТОЯНИЕМ </a:t>
            </a:r>
            <a:br>
              <a:rPr sz="2600"/>
            </a:br>
            <a:r>
              <a:rPr b="0" lang="ru-RU" sz="2600" spc="-1" strike="noStrike" u="sng">
                <a:solidFill>
                  <a:srgbClr val="3333ff"/>
                </a:solidFill>
                <a:uFillTx/>
                <a:latin typeface="serif"/>
                <a:ea typeface="Microsoft YaHei"/>
              </a:rPr>
              <a:t>ДЫХАТЕЛЬНОЙ СИСТЕМЫ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3" name=""/>
          <p:cNvSpPr/>
          <p:nvPr/>
        </p:nvSpPr>
        <p:spPr>
          <a:xfrm>
            <a:off x="287280" y="1584360"/>
            <a:ext cx="856764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самоконтроля за функциональным состоянием дыхательной системы рекомендуются следующие проб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7280" y="2087640"/>
            <a:ext cx="856764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3333ff"/>
                </a:solidFill>
                <a:uFillTx/>
                <a:latin typeface="Arial"/>
              </a:rPr>
              <a:t>Проба Штанге - задержка дыхания на вдохе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5 мин отдыха сидя сделать вдох на 80-90% от максимального и задержать дыхание. Время отмечается от момента задержки дыхания до ее прекращ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7280" y="2849400"/>
            <a:ext cx="44640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редним показателем является способность задерживать дыхание на вдохе для нетренированных людей на 40-50с, для тренированных - на 60-90с и боле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7280" y="3816360"/>
            <a:ext cx="453564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нарастанием тренированности время задержки дыхания возрастает, при снижении или отсутствии тренированности - снижается.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7280" y="4535640"/>
            <a:ext cx="4680000" cy="14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3333ff"/>
                </a:solidFill>
                <a:uFillTx/>
                <a:latin typeface="Arial"/>
              </a:rPr>
              <a:t>Проба Генчи - задержка дыхания на выдохе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ыполняется так же, как и проба Штанге, только задержка дыхания производится после полного выдох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1640" y="5400720"/>
            <a:ext cx="80647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редним показателем является способность задерживать дыхание на выдохе для нетренированных людей на 25-30с, для тренированных - 40-60с и боле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753080" y="2592360"/>
            <a:ext cx="395928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36720" y="234720"/>
            <a:ext cx="741528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ff"/>
                </a:solidFill>
                <a:latin typeface="serif"/>
                <a:ea typeface="Microsoft YaHei"/>
              </a:rPr>
              <a:t>КОНТРОЛЬ ЗА ФУНКЦИОНАЛЬНЫМ СОСТОЯНИЕМ </a:t>
            </a:r>
            <a:br>
              <a:rPr sz="2200"/>
            </a:br>
            <a:r>
              <a:rPr b="0" lang="ru-RU" sz="2200" spc="-1" strike="noStrike" u="sng">
                <a:solidFill>
                  <a:srgbClr val="3333ff"/>
                </a:solidFill>
                <a:uFillTx/>
                <a:latin typeface="serif"/>
                <a:ea typeface="Microsoft YaHei"/>
              </a:rPr>
              <a:t>ЦЕНТРАЛЬНОЙ НЕРВНОЙ  СИСТЕМЫ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1" name=""/>
          <p:cNvSpPr/>
          <p:nvPr/>
        </p:nvSpPr>
        <p:spPr>
          <a:xfrm>
            <a:off x="287280" y="1079640"/>
            <a:ext cx="84232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исследования состояния ЦЕНТРАЛЬНОЙ НЕРВНОЙ  СИСТЕМЫ используют так называемые координационные пробы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Координационные пробы, применяемые до и после физических нагрузок, позволяют установить степень утомления занимающих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7280" y="1800360"/>
            <a:ext cx="842328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 u="sng">
                <a:solidFill>
                  <a:srgbClr val="3333ff"/>
                </a:solidFill>
                <a:uFillTx/>
                <a:latin typeface="Arial"/>
              </a:rPr>
              <a:t>Проба Ромберг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оценивается статическая координация). Бывает простая и усложненная проба Ромберга. Простая проба, когда обследуемый стоит со сдвинутыми стопами, руки вперед, пальцы раздвинуты, глаза закрыты.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 Усложненная проб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более информативна. Обследуемый, сняв обувь, принимает исходное положение стойки на одной ноге, другая нога согнута коленом впереди касается подошвенной поверхностью коленного сустава опорной ноги, руки вперед, пальцы раздвинуты, глаза закры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7280" y="3168720"/>
            <a:ext cx="431964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оценке пробы Ромберга обращается внимание на степень устойчивости (стоит неподвижно, покачивается), дрожание век и пальцев (тремор) и, главное, длительность сохранения равновесия. Сохранение устойчивой позы более 15с без тремора оценивается - хорошо; небольшой тремор век и пальцев при удержании позы в течение 15с - удовлетворительно; поза удерживается менее 15 с - неудовлетворитель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967280" y="2952720"/>
            <a:ext cx="3527280" cy="2087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47640" y="5184720"/>
            <a:ext cx="7991640" cy="13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Пальцево-носовая проба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ценивается динамическая координация). Обследуемый находится в исходном положении стоя, руки в стороны, глаза закрыты. Необходимо, не открывая глаза, быстро коснуться указательным пальцем с начала одной, затем другой рукой кончика своего носа. Промахи, дрожание руки говорит о нарушении динамической координац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75280" y="4967280"/>
            <a:ext cx="1541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 u="sng">
                <a:solidFill>
                  <a:srgbClr val="3333ff"/>
                </a:solidFill>
                <a:uFillTx/>
                <a:latin typeface="Arial"/>
              </a:rPr>
              <a:t>Поза Ромберга</a:t>
            </a:r>
            <a:r>
              <a:rPr b="1" lang="ru-RU" sz="1400" spc="-1" strike="noStrike" u="sng">
                <a:solidFill>
                  <a:srgbClr val="3333ff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6840" y="287280"/>
            <a:ext cx="821196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3333ff"/>
                </a:solidFill>
                <a:latin typeface="serif"/>
                <a:ea typeface="Microsoft YaHei"/>
              </a:rPr>
              <a:t>КОНТРОЛЬ ЗА ФУНКЦИОНАЛЬНЫМ СОСТОЯНИЕМ </a:t>
            </a:r>
            <a:br>
              <a:rPr sz="2200"/>
            </a:br>
            <a:r>
              <a:rPr b="0" lang="ru-RU" sz="2200" spc="-1" strike="noStrike" u="sng">
                <a:solidFill>
                  <a:srgbClr val="3333ff"/>
                </a:solidFill>
                <a:uFillTx/>
                <a:latin typeface="serif"/>
                <a:ea typeface="Microsoft YaHei"/>
              </a:rPr>
              <a:t>ЦЕНТРАЛЬНОЙ НЕРВНОЙ  СИСТЕМЫ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8" name=""/>
          <p:cNvSpPr/>
          <p:nvPr/>
        </p:nvSpPr>
        <p:spPr>
          <a:xfrm>
            <a:off x="287280" y="1008000"/>
            <a:ext cx="828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3333ff"/>
                </a:solidFill>
                <a:uFillTx/>
                <a:latin typeface="Arial"/>
              </a:rPr>
              <a:t>Теппинг – тес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это исследование лабильности (подвижности) нервной систем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7280" y="1295280"/>
            <a:ext cx="856764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абильность (функциональная подвижность) – это скорость протекания процесса возбуждения в нервной и мышечной ткани. Лабильность определяется измерением максимальной частоты движения кисти. Данный тест позволяет выявить устойчивость и выносливость личности к разнообразным продолжительным раздражителя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0040" y="1871640"/>
            <a:ext cx="8891640" cy="18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7000" y="1871640"/>
            <a:ext cx="8423280" cy="21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5840" y="2179800"/>
            <a:ext cx="84232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дя за столом, по команде начинают с максимальной частотой ставить точки (для облегчения подсчета ставят точки, делая концентрические движения рук). Через каждые 5 секунд по команде без паузы переносят руку на следующий прямоугольник, продолжая выполнять движения с максимально доступной частотой. По истечению 30 секунд по команде «Стоп!» работа прекращается. При подсчитывании точек, чтобы не сбиться, ведут карандаш от точки к точке, не отрывая его от бумаг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7280" y="3527280"/>
            <a:ext cx="5256360" cy="58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детей 9-12 лет. 20 точек и меньше - медленный темп.   Заставлять его работать быстрее - значит травмировать психику ребенка, создавать для него стрессовую ситуацию. 20-25 точек - нормальный средний темп работы. 26 точек и выше - высокий темп. Ребенок умеет и может работать в очень быстром темп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детей 12-15 лет: 24 точки и меньше - медленный темп. 25-30 точек- нормальный средний темп работы. 30 точек и больше -ребенок умеет и может работать в очень быстром темп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616720" y="3562200"/>
            <a:ext cx="2808000" cy="2486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ы </cp:lastModifiedBy>
  <dcterms:modified xsi:type="dcterms:W3CDTF">2020-04-11T17:29:25Z</dcterms:modified>
  <cp:revision>1</cp:revision>
  <dc:subject/>
  <dc:title/>
</cp:coreProperties>
</file>