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1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0CF7-9D41-456F-BE0D-1E94D36E32DC}" type="datetime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3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AB2-7519-4D05-B075-F7C9C05B22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C18-C3E1-41B3-A855-12815BFD71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F87-717E-475A-B7B7-C11B00EB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ACB-A485-4F35-86FB-45F4CEA5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FDA-874E-4CCC-8CC7-5D7B9F0E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A92-1491-4A90-8467-1286899B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BC5-7DDA-40F6-9991-FB43AE8B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EFF-F58B-4B25-98EB-14FD375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313-EA1D-4753-B88B-DB0C184C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E229-E148-45E2-8F1D-1F78564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4A43-6D6B-4195-BEDF-F67607C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ACCC-3805-460C-9305-9E9666B2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B7EF-98D2-4A4E-8824-491591B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CC0-1FDB-4FF3-A80C-BACEC54F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8C3C-E957-4597-9706-2335297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E1B-65D1-42F6-97F9-2FDE2A45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F7BE-51C7-48FF-9DA5-4BEB76FA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CA04-0CE9-4C35-9738-5A6764A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9C5-B43C-4C13-87C2-8B4C6777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0D5E-0BF5-48D2-A310-1E3504F3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30D2-CEBF-4212-B76A-ED111ABE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0A3F-5A92-4BE6-BAD0-1E4311AB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53A7C-E98D-4A8E-8242-C68086E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B0AF-AD9B-46AC-9A99-6BE51AC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24B-DFA8-4E1C-9439-B824F0B1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D946-1C3C-47BD-A522-9E1B61A5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68CD-C930-4CC0-A6EF-4DFC117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A9FB-EA16-4BF2-9ACC-D136261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AA761-1F30-48BE-A670-20043EA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2E56-FB3D-45E7-B01F-541FCC86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F4D9-1528-45C0-838B-181D39AD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DC20-F401-40FA-8186-84DEFFC2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FD28-152C-4759-AA53-CCE064F8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2BD7F-4338-4644-A71D-266CE483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627E-A733-47A5-8510-90E84908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47C-AE42-49CF-BCAC-78C8BEA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EFC6F-F188-4AFE-B6B9-6EF73910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10C2-BA09-454D-9B62-A7D41C4D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C0C6-F1C7-42F8-A95C-30DA692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8400-79F5-422C-81B4-0EC7564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2F25-B83C-4ED9-AE19-317B3F3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D181D-B7E7-4676-B70E-90A9552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87CF-2C68-482D-A10E-8677CD2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00070-98C8-404C-98DD-9A83B7D2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B8323-3F18-48AE-8601-9CF32722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D89C-FC46-46B0-966D-3B0559F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919-C86A-47A4-9636-77CC6F60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705D2-F53F-4DBE-B328-2F6D32EA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BA13-7FFB-431E-8A61-98D39F5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93FC-CE97-4685-8504-5C96220A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6A18C-7B66-4EB1-A490-920AE68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2D1D-1B2C-4523-BEA6-5FA01098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AC4EF-96C0-4BF1-9432-99B9AB5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A7CCF-B386-476E-B3B2-01804E5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CE869-5915-429E-B042-E6F23B7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16884-D7A4-485C-9D26-21FF084C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C444-2ED0-4635-8E51-19F5EE7F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920-2AB9-4851-950E-D543136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13C2-6740-4095-B85D-D9FA30F7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66A8B-43BE-43CA-A479-32404B7A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4748C-3DD1-475D-B956-2CE7EBC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66E95-49E9-4F18-92D0-C3275EAA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884C5-641D-4C74-92E7-34D2FF9F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29F77-355B-4B6C-BAF6-BED43DE7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0649A-8173-4342-81B7-9AB317E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08ECA-FFD8-4E24-88AC-863FFEF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0ECB6-5F95-4048-A616-122FF22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E7F88-ADC7-49A4-BAD2-D474586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E64-C9D1-4606-9F7E-83CC294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3A92CB-A787-41F1-84AA-FF6CFC1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2E6C9-E0AC-46A8-85BB-D1ABD465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93649-C50C-4F44-BB7D-5C2CAC00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82E3-C543-4CCA-8573-3BC65487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33C4C-4976-4916-BB39-DC0B5AC0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0A77-2916-4739-B9B9-D9E79C04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5AD03-148C-4761-A8C5-F2F6BB5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068E-DBE2-4CA9-AC0F-1C371C59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99E0-D550-4B75-95B5-48C125A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E677-291C-4950-8622-22B7B99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2FE-0F74-4D40-9B25-0DDC5D8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21419-5ACE-44FA-8B64-7494CC9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5295-473B-4C90-B448-BDB9DB9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C9A26-26EC-4B65-9311-AE2307EC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BEEB1-FADB-4023-9941-C0A022C3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5388-76D7-460D-ACA2-4CA8C59D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83EC-FAEE-4E5E-8DF8-C747B39D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C4C9-B9C9-49C5-8C3C-631DD7F6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0B21-DF6A-4268-BF30-D4A947D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3486-AA0E-4195-8573-F1FC45B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EA03D-652C-464C-B6D3-506C20E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6C0-6641-4602-AB04-4AA1435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71400" y="634680"/>
            <a:ext cx="78091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9198-BF45-4F70-BBD6-41312E35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B311-2089-4370-8952-A113228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B80BB-867E-4768-9FD2-523B129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D2572-87B8-4307-B434-F6AB0D1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46280" y="4195440"/>
            <a:ext cx="76356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3F8AD-2E24-440E-8C6E-A7A90657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59120" y="19382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4628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59120" y="4195440"/>
            <a:ext cx="372600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BACE8-86F7-42A0-B1F3-EBABE1FF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2820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09760" y="19382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4628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2820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09760" y="4195440"/>
            <a:ext cx="24584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E4EC-6776-4A3C-8812-5CEF7817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F65-C6C0-4735-8A6B-6A3C7191BAD7}" type="slidenum">
              <a:rPr b="0" lang="ru-RU" sz="1200" spc="-1" strike="noStrike">
                <a:solidFill>
                  <a:srgbClr val="1f2123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Полилиния 9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520"/>
              <a:ext cx="7140240" cy="24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Полилиния 5"/>
            <p:cNvSpPr/>
            <p:nvPr/>
          </p:nvSpPr>
          <p:spPr>
            <a:xfrm>
              <a:off x="347760" y="2944800"/>
              <a:ext cx="7143480" cy="2462400"/>
            </a:xfrm>
            <a:custGeom>
              <a:avLst/>
              <a:gdLst>
                <a:gd name="textAreaLeft" fmla="*/ 0 w 7143480"/>
                <a:gd name="textAreaRight" fmla="*/ 7143840 w 7143480"/>
                <a:gd name="textAreaTop" fmla="*/ 0 h 2462400"/>
                <a:gd name="textAreaBottom" fmla="*/ 2462760 h 246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Полилиния 8"/>
            <p:cNvSpPr/>
            <p:nvPr/>
          </p:nvSpPr>
          <p:spPr>
            <a:xfrm>
              <a:off x="7572240" y="2944800"/>
              <a:ext cx="1190520" cy="245952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459520"/>
                <a:gd name="textAreaBottom" fmla="*/ 2459880 h 245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custGeom>
            <a:avLst/>
            <a:gdLst>
              <a:gd name="textAreaLeft" fmla="*/ 0 w 911520"/>
              <a:gd name="textAreaRight" fmla="*/ 911880 w 911520"/>
              <a:gd name="textAreaTop" fmla="*/ 0 h 2074680"/>
              <a:gd name="textAreaBottom" fmla="*/ 2075040 h 20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a6a60">
              <a:alpha val="70000"/>
            </a:srgbClr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custGeom>
            <a:avLst/>
            <a:gdLst>
              <a:gd name="textAreaLeft" fmla="*/ 0 w 6946920"/>
              <a:gd name="textAreaRight" fmla="*/ 6947280 w 694692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custGeom>
            <a:avLst/>
            <a:gdLst>
              <a:gd name="textAreaLeft" fmla="*/ 0 w 6756120"/>
              <a:gd name="textAreaRight" fmla="*/ 6756480 w 67561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custGeom>
            <a:avLst/>
            <a:gdLst>
              <a:gd name="textAreaLeft" fmla="*/ 0 w 6759720"/>
              <a:gd name="textAreaRight" fmla="*/ 6760080 w 6759720"/>
              <a:gd name="textAreaTop" fmla="*/ 0 h 2076480"/>
              <a:gd name="textAreaBottom" fmla="*/ 2076840 h 20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594320"/>
            <a:ext cx="761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6E5C-864B-4662-959C-635406270647}" type="slidenum">
              <a:rPr b="0" lang="ru-RU" sz="2800" spc="-1" strike="noStrike">
                <a:solidFill>
                  <a:srgbClr val="3a4c5b"/>
                </a:solidFill>
                <a:latin typeface="Times New Roman"/>
                <a:ea typeface="Lucida Sans Unicode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олилиния 5"/>
            <p:cNvSpPr/>
            <p:nvPr/>
          </p:nvSpPr>
          <p:spPr>
            <a:xfrm>
              <a:off x="452160" y="2946240"/>
              <a:ext cx="8264880" cy="2463840"/>
            </a:xfrm>
            <a:custGeom>
              <a:avLst/>
              <a:gdLst>
                <a:gd name="textAreaLeft" fmla="*/ 0 w 8264880"/>
                <a:gd name="textAreaRight" fmla="*/ 8265240 w 8264880"/>
                <a:gd name="textAreaTop" fmla="*/ 0 h 2463840"/>
                <a:gd name="textAreaBottom" fmla="*/ 2464200 h 24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custGeom>
            <a:avLst/>
            <a:gdLst>
              <a:gd name="textAreaLeft" fmla="*/ 0 w 8032680"/>
              <a:gd name="textAreaRight" fmla="*/ 8033040 w 8032680"/>
              <a:gd name="textAreaTop" fmla="*/ 0 h 2244600"/>
              <a:gd name="textAreaBottom" fmla="*/ 2244960 h 22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custGeom>
            <a:avLst/>
            <a:gdLst>
              <a:gd name="textAreaLeft" fmla="*/ 0 w 7816680"/>
              <a:gd name="textAreaRight" fmla="*/ 7817040 w 7816680"/>
              <a:gd name="textAreaTop" fmla="*/ 0 h 2078280"/>
              <a:gd name="textAreaBottom" fmla="*/ 2078640 h 207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5CC-3231-40EF-BC77-2A4E36AC271C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84E0-E927-4470-8947-A0878C056C40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Полилиния 5"/>
            <p:cNvSpPr/>
            <p:nvPr/>
          </p:nvSpPr>
          <p:spPr>
            <a:xfrm>
              <a:off x="560520" y="1504800"/>
              <a:ext cx="2716200" cy="3524400"/>
            </a:xfrm>
            <a:custGeom>
              <a:avLst/>
              <a:gdLst>
                <a:gd name="textAreaLeft" fmla="*/ 0 w 2716200"/>
                <a:gd name="textAreaRight" fmla="*/ 2716560 w 2716200"/>
                <a:gd name="textAreaTop" fmla="*/ 0 h 3524400"/>
                <a:gd name="textAreaBottom" fmla="*/ 3524760 h 35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3233880"/>
              <a:gd name="textAreaBottom" fmla="*/ 3234240 h 323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577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4E9E-580A-4B1C-BA1E-AA7F235D1868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400" cy="1371600"/>
            <a:chOff x="689040" y="4956120"/>
            <a:chExt cx="7772400" cy="137160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5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Полилиния 5"/>
            <p:cNvSpPr/>
            <p:nvPr/>
          </p:nvSpPr>
          <p:spPr>
            <a:xfrm>
              <a:off x="689040" y="4956120"/>
              <a:ext cx="7769520" cy="136872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1368720"/>
                <a:gd name="textAreaBottom" fmla="*/ 1369080 h 13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custGeom>
            <a:avLst/>
            <a:gdLst>
              <a:gd name="textAreaLeft" fmla="*/ 0 w 7600680"/>
              <a:gd name="textAreaRight" fmla="*/ 7601040 w 760068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custGeom>
            <a:avLst/>
            <a:gdLst>
              <a:gd name="textAreaLeft" fmla="*/ 0 w 7327800"/>
              <a:gd name="textAreaRight" fmla="*/ 7328160 w 73278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7e97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custGeom>
            <a:avLst/>
            <a:gdLst>
              <a:gd name="textAreaLeft" fmla="*/ 0 w 7947000"/>
              <a:gd name="textAreaRight" fmla="*/ 7947360 w 794700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E6A0-8D29-4905-BD53-D6B28D98ADFF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6122880"/>
              <a:gd name="textAreaBottom" fmla="*/ 6123240 h 612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876640"/>
              <a:gd name="textAreaBottom" fmla="*/ 5877000 h 587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08280"/>
            <a:ext cx="2133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0828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7C02-FD60-42C8-B60B-6580E47E44BF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custGeom>
            <a:avLst/>
            <a:gdLst>
              <a:gd name="textAreaLeft" fmla="*/ 33840 w 8959680"/>
              <a:gd name="textAreaRight" fmla="*/ 8925840 w 8959680"/>
              <a:gd name="textAreaTop" fmla="*/ 33840 h 6664320"/>
              <a:gd name="textAreaBottom" fmla="*/ 6630480 h 6664320"/>
            </a:gdLst>
            <a:ahLst/>
            <a:rect l="textAreaLeft" t="textAreaTop" r="textAreaRight" b="textAreaBottom"/>
            <a:pathLst>
              <a:path w="8959850" h="6664325">
                <a:moveTo>
                  <a:pt x="115700" y="0"/>
                </a:moveTo>
                <a:lnTo>
                  <a:pt x="115700" y="0"/>
                </a:lnTo>
                <a:arcTo wR="115700" hR="115700" stAng="-5400000" swAng="-5400000"/>
                <a:lnTo>
                  <a:pt x="0" y="6548625"/>
                </a:lnTo>
                <a:lnTo>
                  <a:pt x="0" y="6548625"/>
                </a:lnTo>
                <a:arcTo wR="115700" hR="115700" stAng="10800000" swAng="-5400000"/>
                <a:lnTo>
                  <a:pt x="8844150" y="6664325"/>
                </a:lnTo>
                <a:lnTo>
                  <a:pt x="8844150" y="6664325"/>
                </a:lnTo>
                <a:arcTo wR="115700" hR="115700" stAng="5400000" swAng="-5400000"/>
                <a:lnTo>
                  <a:pt x="8959850" y="115700"/>
                </a:lnTo>
                <a:lnTo>
                  <a:pt x="8959850" y="115700"/>
                </a:lnTo>
                <a:arcTo wR="115700" hR="115700" stAng="0" swAng="-5400000"/>
                <a:lnTo>
                  <a:pt x="1157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Полилиния 5"/>
            <p:cNvSpPr/>
            <p:nvPr/>
          </p:nvSpPr>
          <p:spPr>
            <a:xfrm>
              <a:off x="274680" y="281160"/>
              <a:ext cx="8594640" cy="1322280"/>
            </a:xfrm>
            <a:custGeom>
              <a:avLst/>
              <a:gdLst>
                <a:gd name="textAreaLeft" fmla="*/ 0 w 8594640"/>
                <a:gd name="textAreaRight" fmla="*/ 8595000 w 8594640"/>
                <a:gd name="textAreaTop" fmla="*/ 0 h 1322280"/>
                <a:gd name="textAreaBottom" fmla="*/ 1322640 h 13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custGeom>
            <a:avLst/>
            <a:gdLst>
              <a:gd name="textAreaLeft" fmla="*/ 0 w 8380440"/>
              <a:gd name="textAreaRight" fmla="*/ 8380800 w 8380440"/>
              <a:gd name="textAreaTop" fmla="*/ 0 h 1117800"/>
              <a:gd name="textAreaBottom" fmla="*/ 1117800 h 11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228600">
              <a:spcBef>
                <a:spcPts val="601"/>
              </a:spcBef>
              <a:buClr>
                <a:srgbClr val="7e97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1" marL="638280" indent="-228600">
              <a:spcBef>
                <a:spcPts val="601"/>
              </a:spcBef>
              <a:buClr>
                <a:srgbClr val="cc8e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7a6a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3" marL="1278000" indent="-228600">
              <a:spcBef>
                <a:spcPts val="601"/>
              </a:spcBef>
              <a:buClr>
                <a:srgbClr val="b493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4" marL="1552680" indent="-228600">
              <a:spcBef>
                <a:spcPts val="601"/>
              </a:spcBef>
              <a:buClr>
                <a:srgbClr val="6778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5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  <a:p>
            <a:pPr lvl="6" marL="15526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2123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2123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6128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7289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77289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4EC-80C4-42E5-8E9B-CC0107F9B92F}" type="slidenum">
              <a:rPr b="0" lang="ru-RU" sz="1200" spc="-1" strike="noStrike">
                <a:solidFill>
                  <a:srgbClr val="1f2123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560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image.slidesharecdn.com/germaneducationsystem2-140814234613-phpapp01/95/german-education-system-2-11-638.jpg?cb=1408060103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https://pp.vk.me/c627616/v627616208/29ad0/4S7I33PJG_8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5" descr="img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4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German education system (2)"/>
          <p:cNvPicPr/>
          <p:nvPr/>
        </p:nvPicPr>
        <p:blipFill>
          <a:blip r:embed="rId2"/>
          <a:stretch/>
        </p:blipFill>
        <p:spPr>
          <a:xfrm>
            <a:off x="0" y="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German education system (2)"/>
          <p:cNvPicPr/>
          <p:nvPr/>
        </p:nvPicPr>
        <p:blipFill>
          <a:blip r:embed="rId3"/>
          <a:stretch/>
        </p:blipFill>
        <p:spPr>
          <a:xfrm>
            <a:off x="3635280" y="2060640"/>
            <a:ext cx="5508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germany-600x300"/>
          <p:cNvPicPr/>
          <p:nvPr/>
        </p:nvPicPr>
        <p:blipFill>
          <a:blip r:embed="rId1"/>
          <a:stretch/>
        </p:blipFill>
        <p:spPr>
          <a:xfrm>
            <a:off x="324000" y="2565360"/>
            <a:ext cx="8532720" cy="408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Bafoeg-Erhoehung-endgueltig-beschlossen_ArtikelQuer"/>
          <p:cNvPicPr/>
          <p:nvPr/>
        </p:nvPicPr>
        <p:blipFill>
          <a:blip r:embed="rId2"/>
          <a:stretch/>
        </p:blipFill>
        <p:spPr>
          <a:xfrm>
            <a:off x="0" y="0"/>
            <a:ext cx="4427640" cy="2717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Universitaet%20Marburg"/>
          <p:cNvPicPr/>
          <p:nvPr/>
        </p:nvPicPr>
        <p:blipFill>
          <a:blip r:embed="rId3"/>
          <a:stretch/>
        </p:blipFill>
        <p:spPr>
          <a:xfrm>
            <a:off x="5280120" y="0"/>
            <a:ext cx="3863880" cy="28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136000" cy="645336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7086600" cy="398160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3" descr=""/>
          <p:cNvPicPr/>
          <p:nvPr/>
        </p:nvPicPr>
        <p:blipFill>
          <a:blip r:embed="rId3"/>
          <a:stretch/>
        </p:blipFill>
        <p:spPr>
          <a:xfrm>
            <a:off x="6284880" y="0"/>
            <a:ext cx="2859120" cy="2292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-252360" y="0"/>
            <a:ext cx="511164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8481960" cy="5654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http://www.ec.kharkiv.edu/img/picture.gif"/>
          <p:cNvPicPr/>
          <p:nvPr/>
        </p:nvPicPr>
        <p:blipFill>
          <a:blip r:embed="rId2"/>
          <a:stretch/>
        </p:blipFill>
        <p:spPr>
          <a:xfrm>
            <a:off x="4788000" y="620640"/>
            <a:ext cx="349092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3" descr="onlineImage.jpg"/>
          <p:cNvPicPr/>
          <p:nvPr/>
        </p:nvPicPr>
        <p:blipFill>
          <a:blip r:embed="rId1"/>
          <a:stretch/>
        </p:blipFill>
        <p:spPr>
          <a:xfrm>
            <a:off x="0" y="907920"/>
            <a:ext cx="5238720" cy="37339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SzPct val="45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Berufsschule (professional school)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5286240" y="121428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combine part-time practical and theoretic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Hauptschule\Realschule -&gt; Vocational Training -&gt; Berufssch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Students are required to study at minimum one foreign language for at least five yea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9284c"/>
              </a:buClr>
              <a:buSzPct val="7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5" descr="german-education-system-2-25-638 копия"/>
          <p:cNvPicPr/>
          <p:nvPr/>
        </p:nvPicPr>
        <p:blipFill>
          <a:blip r:embed="rId2"/>
          <a:stretch/>
        </p:blipFill>
        <p:spPr>
          <a:xfrm>
            <a:off x="826920" y="3141720"/>
            <a:ext cx="28353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Рисунок 2"/>
          <p:cNvSpPr/>
          <p:nvPr/>
        </p:nvSpPr>
        <p:spPr>
          <a:xfrm>
            <a:off x="539640" y="1197000"/>
            <a:ext cx="809964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" descr="https://pp.vk.me/c627616/v627616208/29aab/lxt0USiCHxw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0" y="302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Germany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chool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 pecula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830520" y="1124640"/>
            <a:ext cx="39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The Grading Syste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-10800" y="1988280"/>
            <a:ext cx="62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ale runs from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best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A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to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e wor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830880" y="2923560"/>
            <a:ext cx="43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굴림"/>
              </a:rPr>
              <a:t>School Vacation Dat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-12240" y="3788280"/>
            <a:ext cx="67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ggered vacatio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eri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schedule (rotates each year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12" descr="iuuq_NV_00wfsevo3_SL_gjmft_SL_xpseqsftt_SL_dpn031230160cu_NK_2544_NK_lbttfmis_SL_kqh"/>
          <p:cNvPicPr/>
          <p:nvPr/>
        </p:nvPicPr>
        <p:blipFill>
          <a:blip r:embed="rId1"/>
          <a:stretch/>
        </p:blipFill>
        <p:spPr>
          <a:xfrm>
            <a:off x="6300720" y="692280"/>
            <a:ext cx="2700360" cy="25430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5"/>
          <p:cNvSpPr/>
          <p:nvPr/>
        </p:nvSpPr>
        <p:spPr>
          <a:xfrm>
            <a:off x="970920" y="4651920"/>
            <a:ext cx="27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굴림"/>
              </a:rPr>
              <a:t>No School B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https://pp.vk.me/c627616/v627616208/29abe/nrC5lpopbK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43411035555380"/>
          <p:cNvPicPr/>
          <p:nvPr/>
        </p:nvPicPr>
        <p:blipFill>
          <a:blip r:embed="rId1"/>
          <a:stretch/>
        </p:blipFill>
        <p:spPr>
          <a:xfrm>
            <a:off x="0" y="0"/>
            <a:ext cx="5238720" cy="34862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schule-schloss-salem"/>
          <p:cNvPicPr/>
          <p:nvPr/>
        </p:nvPicPr>
        <p:blipFill>
          <a:blip r:embed="rId2"/>
          <a:stretch/>
        </p:blipFill>
        <p:spPr>
          <a:xfrm>
            <a:off x="4254480" y="0"/>
            <a:ext cx="4889520" cy="3666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original_5d51ec38c89f12c7f0ecf1fd03ec6c3a"/>
          <p:cNvPicPr/>
          <p:nvPr/>
        </p:nvPicPr>
        <p:blipFill>
          <a:blip r:embed="rId3"/>
          <a:stretch/>
        </p:blipFill>
        <p:spPr>
          <a:xfrm>
            <a:off x="1763640" y="3070080"/>
            <a:ext cx="5435640" cy="37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German education system (2)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9" descr="41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german-education-system-2-34-638 копия"/>
          <p:cNvPicPr/>
          <p:nvPr/>
        </p:nvPicPr>
        <p:blipFill>
          <a:blip r:embed="rId2"/>
          <a:stretch/>
        </p:blipFill>
        <p:spPr>
          <a:xfrm>
            <a:off x="0" y="2349360"/>
            <a:ext cx="3346560" cy="45086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>
            <a:hlinkClick r:id="rId3"/>
          </p:cNvPr>
          <p:cNvSpPr/>
          <p:nvPr/>
        </p:nvSpPr>
        <p:spPr>
          <a:xfrm>
            <a:off x="0" y="257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Universitä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8" descr="22"/>
          <p:cNvPicPr/>
          <p:nvPr/>
        </p:nvPicPr>
        <p:blipFill>
          <a:blip r:embed="rId4"/>
          <a:stretch/>
        </p:blipFill>
        <p:spPr>
          <a:xfrm>
            <a:off x="3419640" y="1628640"/>
            <a:ext cx="5724360" cy="429264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0"/>
          <p:cNvSpPr/>
          <p:nvPr/>
        </p:nvSpPr>
        <p:spPr>
          <a:xfrm>
            <a:off x="183600" y="126720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ublic institutio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1:53:06Z</dcterms:created>
  <dc:creator>лариса</dc:creator>
  <dc:description/>
  <dc:language>en-US</dc:language>
  <cp:lastModifiedBy>Admin</cp:lastModifiedBy>
  <dcterms:modified xsi:type="dcterms:W3CDTF">2021-04-18T11:02:34Z</dcterms:modified>
  <cp:revision>19</cp:revision>
  <dc:subject/>
  <dc:title>Слайд 1</dc:title>
</cp:coreProperties>
</file>