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1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24CF-C506-44F3-9579-0B48FD6172F8}" type="datetime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6"/>
          </p:nvPr>
        </p:nvSpPr>
        <p:spPr>
          <a:xfrm>
            <a:off x="-360" y="868320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EC77-9F9F-4F05-A4D6-AD311ADD9E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F45E-66E9-4A8C-9266-45251BF3979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A52-5142-4F01-8103-6994A72A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F13D-04BD-424C-8764-E412937C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8CF-9952-4A29-9583-4075A7A6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932-E11D-445D-91C1-70B249BC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BF32-61D9-4C2B-895F-FA6181B1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888E-BA5B-4102-9A8E-3334A7CE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76D7-ABD2-47DA-81C7-3AAB91EE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C7F7-499A-4804-A516-889810BA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F1DD-0E6E-4DB4-AE10-F8C94E72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24C6-19B5-4860-BECB-C6A1A213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BCB9-3723-4609-B674-7370BC9B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B87-DDAA-4F71-90DF-86AD2E09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1DDB-2218-471F-A150-D4039DBE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F9CD-00E4-4069-84E9-37AFF87D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359A-4B61-4266-AAD8-7721B4D1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952A-BA57-4C83-85E4-C877302B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AD73-D364-4194-BD44-91690855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44BE-D25B-410D-82B6-6503D4A6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79A8-88F8-45DF-9519-E2F866FA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EB8DE-1227-4646-9287-A97B3D6A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939D-FCF3-4DE1-8D41-D163E8D4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16778-E409-4359-A7DB-AF58671F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FA9-10E6-4D43-806A-FDC17130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F3863-9ABF-4BEC-A73F-194DDBC3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FCDD-E45F-4DF6-A91B-46E4C499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5A477-323B-44A3-B665-07E69326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555DE-78FA-4A78-BE32-2C41C285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C3F8C-389B-4DC7-AD16-366561C6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0466B-1FBD-4DA3-8B6C-1C1DA7F8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4FF18-A9F2-405C-BC98-CF6E8FFB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ACCB1-08EF-49CE-A1B6-6004077E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828EB-CD21-425F-843C-5000D927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B6DB0-6BE9-4585-951F-740DBB5B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AC9-4BFE-4EFC-B3F4-FAE8789A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3790C-22EE-4950-9125-AEF82F49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BE422-F202-483F-A726-634F3FDE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6670F-D5DB-40E1-BFBA-26A892B0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A8D61-87CE-4883-9907-01602560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C141D-FC07-41AD-B78F-DB1802E1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9C32-218A-4D6E-971C-24353686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7C8CB-1E4E-4A33-A4C3-E8818FCC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BC10E-45A4-447A-AC7C-1018983F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E2726-9214-4144-939B-D525E403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40F3D-1A89-40E6-B2A5-DD70F0F6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D75-5AF1-4C19-B536-87F17B4D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C8B70-4D8E-42A6-BD6A-F9F52C07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3E8DE-2EE9-4AE4-B407-47CE72D7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62B54-A585-4B75-947B-0A246C16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7AA1D-4F4C-402D-8047-F465C5AB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2AE86-B23B-4855-8A33-7780286E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6085D-54C3-45F4-BD6F-7A29F7FD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C6E96-6229-44CD-9767-534E6AAF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33489-10DF-45CB-95AC-DAC7F5FB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047F9-E5B2-4A70-A915-8D960133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C9162-B147-4E3D-B365-2718FE7B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F1D5-60CA-489E-9A9B-7B3B9E13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EAEB9-D583-496C-B348-5A49C2F9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D8936-4D18-4164-9C37-2CBA050F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AE23D1-1960-4ED9-9DB4-40D8F3AB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F1AE27-AF95-4070-87FB-73FE2E81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357D9-74C1-4302-A4F1-9605B50C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BA89C-A1C3-4E5A-9AF6-6EF22594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C78A4-CD93-45DD-B920-A626EF90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5E627-5636-4678-B138-CC227D7A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22A49-BC97-4117-B651-0A95CC8A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7CA5D8-7458-450D-BC03-B552E215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0DA-130C-4073-8C33-97996638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6F44FC-024D-4AB9-A110-BD18CDB9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0F051-A354-4DEF-87A9-0AA174C6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D87DE-60D1-4F37-B1D9-D4B3CB32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DC0AC-FD9B-4F2E-B7F6-3E182FCE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9C9E7-1A03-41BB-A995-20E76867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82340-9646-4500-9B0C-CC208439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452D5-8EF8-433C-9A78-D132DF85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5B297-9744-42B1-949C-68B0DE97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88C9A-6623-426D-8045-EC18F2E3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CCC31-CCA9-42BB-8E59-F64AC8B4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C32-589A-4AAE-861E-AAD1AF53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48D2F-DE92-4CA2-ACFF-EF98C0B8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AF411-B041-4341-91D0-49BB7BE0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F633A-ED39-498D-816A-01E85613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7B5CA-F92F-4F3B-B077-B96543EF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4BD95-7DC0-4E08-9BC4-02F8B634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A6645-579A-405C-838D-8D3F626B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D6490-DAC7-4D65-A61C-2D62F97D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C3F13-DE5F-419E-A4FC-2FB84908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BF63B-2AF4-49D6-961B-6BE7AC20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71A5D-D414-4A83-B7DE-64714454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2C7-D226-456D-9384-4F595A9C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6FCF1-1551-472C-B9AD-2353F697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D4E4C-F2C8-47D9-8176-2CF0780F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78BE1-3111-4441-92B3-756D9293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2E607-DD06-4E9B-9A79-A5187ECD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7A8FB-DF15-464E-B039-AE645C31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0A414-A58D-40BC-96A5-8EE32E44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2DCC8-A479-4221-9E8E-5C344C50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081D-50FB-463B-B1E3-3982D060ECEA}" type="slidenum">
              <a:rPr b="0" lang="ru-RU" sz="1200" spc="-1" strike="noStrike">
                <a:solidFill>
                  <a:srgbClr val="1f2123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Полилиния 9"/>
            <p:cNvSpPr/>
            <p:nvPr/>
          </p:nvSpPr>
          <p:spPr>
            <a:xfrm>
              <a:off x="274680" y="281160"/>
              <a:ext cx="8594640" cy="1322280"/>
            </a:xfrm>
            <a:custGeom>
              <a:avLst/>
              <a:gdLst>
                <a:gd name="textAreaLeft" fmla="*/ 0 w 8594640"/>
                <a:gd name="textAreaRight" fmla="*/ 8595000 w 859464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custGeom>
            <a:avLst/>
            <a:gdLst>
              <a:gd name="textAreaLeft" fmla="*/ 0 w 8380440"/>
              <a:gd name="textAreaRight" fmla="*/ 8380800 w 8380440"/>
              <a:gd name="textAreaTop" fmla="*/ 0 h 1117800"/>
              <a:gd name="textAreaBottom" fmla="*/ 1117800 h 11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520"/>
              <a:ext cx="7140240" cy="24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Полилиния 5"/>
            <p:cNvSpPr/>
            <p:nvPr/>
          </p:nvSpPr>
          <p:spPr>
            <a:xfrm>
              <a:off x="347760" y="2944800"/>
              <a:ext cx="7143480" cy="2462400"/>
            </a:xfrm>
            <a:custGeom>
              <a:avLst/>
              <a:gdLst>
                <a:gd name="textAreaLeft" fmla="*/ 0 w 7143480"/>
                <a:gd name="textAreaRight" fmla="*/ 7143840 w 7143480"/>
                <a:gd name="textAreaTop" fmla="*/ 0 h 2462400"/>
                <a:gd name="textAreaBottom" fmla="*/ 2462760 h 246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Полилиния 8"/>
            <p:cNvSpPr/>
            <p:nvPr/>
          </p:nvSpPr>
          <p:spPr>
            <a:xfrm>
              <a:off x="7572240" y="2944800"/>
              <a:ext cx="1190520" cy="24595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2459520"/>
                <a:gd name="textAreaBottom" fmla="*/ 2459880 h 245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custGeom>
            <a:avLst/>
            <a:gdLst>
              <a:gd name="textAreaLeft" fmla="*/ 0 w 911520"/>
              <a:gd name="textAreaRight" fmla="*/ 911880 w 911520"/>
              <a:gd name="textAreaTop" fmla="*/ 0 h 2074680"/>
              <a:gd name="textAreaBottom" fmla="*/ 2075040 h 20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a6a60">
              <a:alpha val="70000"/>
            </a:srgbClr>
          </a:solidFill>
          <a:ln w="6480">
            <a:solidFill>
              <a:srgbClr val="577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custGeom>
            <a:avLst/>
            <a:gdLst>
              <a:gd name="textAreaLeft" fmla="*/ 0 w 6946920"/>
              <a:gd name="textAreaRight" fmla="*/ 6947280 w 6946920"/>
              <a:gd name="textAreaTop" fmla="*/ 0 h 2244600"/>
              <a:gd name="textAreaBottom" fmla="*/ 2244960 h 22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custGeom>
            <a:avLst/>
            <a:gdLst>
              <a:gd name="textAreaLeft" fmla="*/ 0 w 6756120"/>
              <a:gd name="textAreaRight" fmla="*/ 6756480 w 675612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e9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custGeom>
            <a:avLst/>
            <a:gdLst>
              <a:gd name="textAreaLeft" fmla="*/ 0 w 6759720"/>
              <a:gd name="textAreaRight" fmla="*/ 6760080 w 6759720"/>
              <a:gd name="textAreaTop" fmla="*/ 0 h 2076480"/>
              <a:gd name="textAreaBottom" fmla="*/ 2076840 h 20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6480">
            <a:solidFill>
              <a:srgbClr val="577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594320"/>
            <a:ext cx="761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3a4c5b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A4C0-2AD9-4B4E-8A41-EDB07937BEAB}" type="slidenum">
              <a:rPr b="0" lang="ru-RU" sz="2800" spc="-1" strike="noStrike">
                <a:solidFill>
                  <a:srgbClr val="3a4c5b"/>
                </a:solidFill>
                <a:latin typeface="Times New Roman"/>
                <a:ea typeface="Lucida Sans Unicode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Полилиния 5"/>
            <p:cNvSpPr/>
            <p:nvPr/>
          </p:nvSpPr>
          <p:spPr>
            <a:xfrm>
              <a:off x="452160" y="2946240"/>
              <a:ext cx="8264880" cy="2463840"/>
            </a:xfrm>
            <a:custGeom>
              <a:avLst/>
              <a:gdLst>
                <a:gd name="textAreaLeft" fmla="*/ 0 w 8264880"/>
                <a:gd name="textAreaRight" fmla="*/ 8265240 w 8264880"/>
                <a:gd name="textAreaTop" fmla="*/ 0 h 2463840"/>
                <a:gd name="textAreaBottom" fmla="*/ 2464200 h 246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custGeom>
            <a:avLst/>
            <a:gdLst>
              <a:gd name="textAreaLeft" fmla="*/ 0 w 8032680"/>
              <a:gd name="textAreaRight" fmla="*/ 8033040 w 8032680"/>
              <a:gd name="textAreaTop" fmla="*/ 0 h 2244600"/>
              <a:gd name="textAreaBottom" fmla="*/ 2244960 h 22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custGeom>
            <a:avLst/>
            <a:gdLst>
              <a:gd name="textAreaLeft" fmla="*/ 0 w 7816680"/>
              <a:gd name="textAreaRight" fmla="*/ 7817040 w 781668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e9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custGeom>
            <a:avLst/>
            <a:gdLst>
              <a:gd name="textAreaLeft" fmla="*/ 0 w 7816680"/>
              <a:gd name="textAreaRight" fmla="*/ 7817040 w 7816680"/>
              <a:gd name="textAreaTop" fmla="*/ 0 h 2078280"/>
              <a:gd name="textAreaBottom" fmla="*/ 2078640 h 207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6480">
            <a:solidFill>
              <a:srgbClr val="577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2B0A-66AB-4D78-9FD9-8A85B5BCC46C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0FDE-2780-400D-A3B5-F45A4BF03747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Полилиния 5"/>
            <p:cNvSpPr/>
            <p:nvPr/>
          </p:nvSpPr>
          <p:spPr>
            <a:xfrm>
              <a:off x="560520" y="1504800"/>
              <a:ext cx="2716200" cy="3524400"/>
            </a:xfrm>
            <a:custGeom>
              <a:avLst/>
              <a:gdLst>
                <a:gd name="textAreaLeft" fmla="*/ 0 w 2716200"/>
                <a:gd name="textAreaRight" fmla="*/ 2716560 w 2716200"/>
                <a:gd name="textAreaTop" fmla="*/ 0 h 3524400"/>
                <a:gd name="textAreaBottom" fmla="*/ 3524760 h 352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custGeom>
            <a:avLst/>
            <a:gdLst>
              <a:gd name="textAreaLeft" fmla="*/ 0 w 2484360"/>
              <a:gd name="textAreaRight" fmla="*/ 2484720 w 2484360"/>
              <a:gd name="textAreaTop" fmla="*/ 0 h 3233880"/>
              <a:gd name="textAreaBottom" fmla="*/ 3234240 h 323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577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E2E9-77A7-4CB4-92F5-9A4F3EE1B9CF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400" cy="1371600"/>
            <a:chOff x="689040" y="4956120"/>
            <a:chExt cx="7772400" cy="137160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5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Полилиния 5"/>
            <p:cNvSpPr/>
            <p:nvPr/>
          </p:nvSpPr>
          <p:spPr>
            <a:xfrm>
              <a:off x="689040" y="4956120"/>
              <a:ext cx="7769520" cy="136872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1368720"/>
                <a:gd name="textAreaBottom" fmla="*/ 1369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custGeom>
            <a:avLst/>
            <a:gdLst>
              <a:gd name="textAreaLeft" fmla="*/ 0 w 7600680"/>
              <a:gd name="textAreaRight" fmla="*/ 7601040 w 760068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custGeom>
            <a:avLst/>
            <a:gdLst>
              <a:gd name="textAreaLeft" fmla="*/ 0 w 7327800"/>
              <a:gd name="textAreaRight" fmla="*/ 7328160 w 732780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e9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custGeom>
            <a:avLst/>
            <a:gdLst>
              <a:gd name="textAreaLeft" fmla="*/ 0 w 7947000"/>
              <a:gd name="textAreaRight" fmla="*/ 7947360 w 794700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21FE-8E30-4C92-BBA3-4DD74C3B19B7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custGeom>
            <a:avLst/>
            <a:gdLst>
              <a:gd name="textAreaLeft" fmla="*/ 0 w 1860480"/>
              <a:gd name="textAreaRight" fmla="*/ 1860840 w 1860480"/>
              <a:gd name="textAreaTop" fmla="*/ 0 h 6122880"/>
              <a:gd name="textAreaBottom" fmla="*/ 6123240 h 612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5876640"/>
              <a:gd name="textAreaBottom" fmla="*/ 5877000 h 587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AD20-46AD-4539-AF69-C03716E92947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Полилиния 5"/>
            <p:cNvSpPr/>
            <p:nvPr/>
          </p:nvSpPr>
          <p:spPr>
            <a:xfrm>
              <a:off x="274680" y="281160"/>
              <a:ext cx="8594640" cy="1322280"/>
            </a:xfrm>
            <a:custGeom>
              <a:avLst/>
              <a:gdLst>
                <a:gd name="textAreaLeft" fmla="*/ 0 w 8594640"/>
                <a:gd name="textAreaRight" fmla="*/ 8595000 w 859464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custGeom>
            <a:avLst/>
            <a:gdLst>
              <a:gd name="textAreaLeft" fmla="*/ 0 w 8380440"/>
              <a:gd name="textAreaRight" fmla="*/ 8380800 w 8380440"/>
              <a:gd name="textAreaTop" fmla="*/ 0 h 1117800"/>
              <a:gd name="textAreaBottom" fmla="*/ 1117800 h 11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3005-C74B-4A50-9EFF-7BCB0753A321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964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692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5640" indent="-4316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5640" indent="-43164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5640" indent="-43164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image.slidesharecdn.com/germaneducationsystem2-140814234613-phpapp01/95/german-education-system-2-11-638.jpg?cb=1408060103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https://pp.vk.me/c627616/v627616208/29ad0/4S7I33PJG_8.jpg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5" descr="img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1" descr="41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erman education system (2)"/>
          <p:cNvPicPr/>
          <p:nvPr/>
        </p:nvPicPr>
        <p:blipFill>
          <a:blip r:embed="rId2"/>
          <a:stretch/>
        </p:blipFill>
        <p:spPr>
          <a:xfrm>
            <a:off x="0" y="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German education system (2)"/>
          <p:cNvPicPr/>
          <p:nvPr/>
        </p:nvPicPr>
        <p:blipFill>
          <a:blip r:embed="rId3"/>
          <a:stretch/>
        </p:blipFill>
        <p:spPr>
          <a:xfrm>
            <a:off x="3635280" y="2060640"/>
            <a:ext cx="55087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5" descr="germany-600x300"/>
          <p:cNvPicPr/>
          <p:nvPr/>
        </p:nvPicPr>
        <p:blipFill>
          <a:blip r:embed="rId1"/>
          <a:stretch/>
        </p:blipFill>
        <p:spPr>
          <a:xfrm>
            <a:off x="324000" y="2565360"/>
            <a:ext cx="8532720" cy="40816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Bafoeg-Erhoehung-endgueltig-beschlossen_ArtikelQuer"/>
          <p:cNvPicPr/>
          <p:nvPr/>
        </p:nvPicPr>
        <p:blipFill>
          <a:blip r:embed="rId2"/>
          <a:stretch/>
        </p:blipFill>
        <p:spPr>
          <a:xfrm>
            <a:off x="0" y="0"/>
            <a:ext cx="4427640" cy="2717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1" descr="Universitaet%20Marburg"/>
          <p:cNvPicPr/>
          <p:nvPr/>
        </p:nvPicPr>
        <p:blipFill>
          <a:blip r:embed="rId3"/>
          <a:stretch/>
        </p:blipFill>
        <p:spPr>
          <a:xfrm>
            <a:off x="5280120" y="0"/>
            <a:ext cx="3863880" cy="28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136000" cy="645336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1476360" y="2492280"/>
            <a:ext cx="7086600" cy="398160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3" descr=""/>
          <p:cNvPicPr/>
          <p:nvPr/>
        </p:nvPicPr>
        <p:blipFill>
          <a:blip r:embed="rId3"/>
          <a:stretch/>
        </p:blipFill>
        <p:spPr>
          <a:xfrm>
            <a:off x="6284880" y="0"/>
            <a:ext cx="2859120" cy="22924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4"/>
          <a:stretch/>
        </p:blipFill>
        <p:spPr>
          <a:xfrm>
            <a:off x="-252360" y="0"/>
            <a:ext cx="511164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8481960" cy="5654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http://www.ec.kharkiv.edu/img/picture.gif"/>
          <p:cNvPicPr/>
          <p:nvPr/>
        </p:nvPicPr>
        <p:blipFill>
          <a:blip r:embed="rId2"/>
          <a:stretch/>
        </p:blipFill>
        <p:spPr>
          <a:xfrm>
            <a:off x="4788000" y="620640"/>
            <a:ext cx="349092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Содержимое 3" descr="onlineImage.jpg"/>
          <p:cNvPicPr/>
          <p:nvPr/>
        </p:nvPicPr>
        <p:blipFill>
          <a:blip r:embed="rId1"/>
          <a:stretch/>
        </p:blipFill>
        <p:spPr>
          <a:xfrm>
            <a:off x="0" y="907920"/>
            <a:ext cx="5238720" cy="37339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erufsschule (professional school)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5286240" y="1214280"/>
            <a:ext cx="3857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combine part-time practical and theoretical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Hauptschule\Realschule -&gt; Vocational Training -&gt; Berufssch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Students are required to study at minimum one foreign language for at least five yea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5" descr="german-education-system-2-25-638 копия"/>
          <p:cNvPicPr/>
          <p:nvPr/>
        </p:nvPicPr>
        <p:blipFill>
          <a:blip r:embed="rId2"/>
          <a:stretch/>
        </p:blipFill>
        <p:spPr>
          <a:xfrm>
            <a:off x="826920" y="3141720"/>
            <a:ext cx="283536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Рисунок 2"/>
          <p:cNvSpPr/>
          <p:nvPr/>
        </p:nvSpPr>
        <p:spPr>
          <a:xfrm>
            <a:off x="539640" y="1197000"/>
            <a:ext cx="809964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" descr="https://pp.vk.me/c627616/v627616208/29aab/lxt0USiCHxw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4"/>
          <p:cNvSpPr/>
          <p:nvPr/>
        </p:nvSpPr>
        <p:spPr>
          <a:xfrm>
            <a:off x="0" y="302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Germany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chool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 pecular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830520" y="1124640"/>
            <a:ext cx="39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The Grading Syste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-10800" y="1988280"/>
            <a:ext cx="62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ale runs from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e best g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A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to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e wor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830880" y="2923560"/>
            <a:ext cx="43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굴림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굴림"/>
              </a:rPr>
              <a:t>School Vacation Dat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-12240" y="3788280"/>
            <a:ext cx="67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aggered vaca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eri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schedule (rotates each year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12" descr="iuuq_NV_00wfsevo3_SL_gjmft_SL_xpseqsftt_SL_dpn031230160cu_NK_2544_NK_lbttfmis_SL_kqh"/>
          <p:cNvPicPr/>
          <p:nvPr/>
        </p:nvPicPr>
        <p:blipFill>
          <a:blip r:embed="rId1"/>
          <a:stretch/>
        </p:blipFill>
        <p:spPr>
          <a:xfrm>
            <a:off x="6300720" y="692280"/>
            <a:ext cx="2700360" cy="254304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15"/>
          <p:cNvSpPr/>
          <p:nvPr/>
        </p:nvSpPr>
        <p:spPr>
          <a:xfrm>
            <a:off x="970920" y="4651920"/>
            <a:ext cx="27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No School B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https://pp.vk.me/c627616/v627616208/29abe/nrC5lpopbK4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43411035555380"/>
          <p:cNvPicPr/>
          <p:nvPr/>
        </p:nvPicPr>
        <p:blipFill>
          <a:blip r:embed="rId1"/>
          <a:stretch/>
        </p:blipFill>
        <p:spPr>
          <a:xfrm>
            <a:off x="0" y="0"/>
            <a:ext cx="5238720" cy="34862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schule-schloss-salem"/>
          <p:cNvPicPr/>
          <p:nvPr/>
        </p:nvPicPr>
        <p:blipFill>
          <a:blip r:embed="rId2"/>
          <a:stretch/>
        </p:blipFill>
        <p:spPr>
          <a:xfrm>
            <a:off x="4254480" y="0"/>
            <a:ext cx="4889520" cy="3666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original_5d51ec38c89f12c7f0ecf1fd03ec6c3a"/>
          <p:cNvPicPr/>
          <p:nvPr/>
        </p:nvPicPr>
        <p:blipFill>
          <a:blip r:embed="rId3"/>
          <a:stretch/>
        </p:blipFill>
        <p:spPr>
          <a:xfrm>
            <a:off x="1763640" y="3070080"/>
            <a:ext cx="5435640" cy="37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5" descr="German education system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German education system (2)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9" descr="41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german-education-system-2-34-638 копия"/>
          <p:cNvPicPr/>
          <p:nvPr/>
        </p:nvPicPr>
        <p:blipFill>
          <a:blip r:embed="rId2"/>
          <a:stretch/>
        </p:blipFill>
        <p:spPr>
          <a:xfrm>
            <a:off x="0" y="2349360"/>
            <a:ext cx="3346560" cy="450864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6">
            <a:hlinkClick r:id="rId3"/>
          </p:cNvPr>
          <p:cNvSpPr/>
          <p:nvPr/>
        </p:nvSpPr>
        <p:spPr>
          <a:xfrm>
            <a:off x="0" y="257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Universitä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8" descr="22"/>
          <p:cNvPicPr/>
          <p:nvPr/>
        </p:nvPicPr>
        <p:blipFill>
          <a:blip r:embed="rId4"/>
          <a:stretch/>
        </p:blipFill>
        <p:spPr>
          <a:xfrm>
            <a:off x="3419640" y="1628640"/>
            <a:ext cx="5724360" cy="429264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0"/>
          <p:cNvSpPr/>
          <p:nvPr/>
        </p:nvSpPr>
        <p:spPr>
          <a:xfrm>
            <a:off x="183600" y="126720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ublic institutio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1:53:06Z</dcterms:created>
  <dc:creator>лариса</dc:creator>
  <dc:description/>
  <dc:language>en-US</dc:language>
  <cp:lastModifiedBy>Admin</cp:lastModifiedBy>
  <dcterms:modified xsi:type="dcterms:W3CDTF">2021-04-18T11:02:34Z</dcterms:modified>
  <cp:revision>19</cp:revision>
  <dc:subject/>
  <dc:title>Слайд 1</dc:title>
</cp:coreProperties>
</file>