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3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9001-D470-4256-B294-6DC3916D7778}" type="datetime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34C-5AEC-4B72-8B68-FD4FE7FF36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D35-C1C9-45DC-ABCA-D6EAE2BFBB7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84A-5899-42F9-BF1F-294CB738F6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CC30-DBAF-487B-A253-1C553E21CA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F1D-A6F1-4455-B1FA-728BFC956F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84C-261C-4266-A618-3534EA1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42E-9EC9-47AC-85DC-1A42A16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737-6896-43F2-9BF1-798B5873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035-93BA-4D24-83BA-83E94616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A676-FB3E-48ED-849E-E7D900C6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14E-E544-4C42-BB84-8D49B6E1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DEA3-CB3B-4AA6-BAE6-B14AF67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051C-26F7-4C77-8A6F-84B5477D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B6E2-22F7-4062-87CF-9FF5492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305F-FA33-40E4-90DE-F9A60A3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3F70-B0FD-4E3C-AD53-ECFAAFA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B14-A4D4-4D6E-8893-73E4730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84A-BB11-460F-BDD4-5F877F7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E1D3-7884-45C3-B093-6941289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6DD-BA68-4EC2-8588-20BE7898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D4E4-ACF6-4934-822C-F778DB37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EA4-E7C8-4F3F-9677-C25D5C61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E1D5-BEE4-433E-B40C-111EF287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2C2A-91BF-465C-83EE-2606EA3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135E-19A6-4568-A8E8-57059CA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7ECF-6534-45E8-8FC7-43CF413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FDD4-CE7C-48A4-8764-74B55884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35C-2315-4378-BA7A-152D4AC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303B-CD17-4A56-AA6A-1AEF209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0BB5-E5B4-4803-8606-743D295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6CD6-E72E-4AA0-8FF5-3A72004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B0ED-25E9-46EE-B0BF-1FE6BED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547F-89B3-40B8-8E50-702C047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1291-0EA3-4AC6-BFA6-D6D272B1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E125-5D6F-4C99-B3CA-6B803849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8076-C622-4347-B386-81399036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4971-F59C-48AC-B28B-4BE98BB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35C4-B96D-45CA-BA8F-A25E4EA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520-9A7A-4337-86E3-3ABDD3A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DA19-EA26-4C4E-BA0C-A533286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B6A7-E20F-4087-841F-2165EFFD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B650-0ED7-49B2-BF16-C9F250D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27805-3FBC-4963-834F-CA3D303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5BA4-0695-4F21-8B8E-C7B66EB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348E-F2C6-4895-935D-B82ED98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5113-C61F-4774-8E46-16CE61F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0D25-8F19-457F-B482-2B25600B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46F2-E664-431F-8812-795966F8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8C695-6C2E-4F52-8CB1-A3B38B54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FB6-A6B9-463E-BCC5-831BC53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1C7F-DA8A-4DD8-8CFF-BBB631D0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9C3F-431F-43CB-BFEC-1E0DE5B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10CA6-A088-435E-882E-E0A99301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A72C-B68C-4DD1-9F8A-6E979C53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A1DD-A0F5-464B-B874-B9C820B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FE374-3F69-42A3-A8FA-520A827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B5B5-6D08-4237-9F7A-3CA8EA4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5A3B-53AC-47C5-8B5C-4F1773C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9F58-A2BF-47E3-A0E8-4F50E8D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810B-CAB4-46E2-89D3-FDEA213D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849-5E4A-49A7-9119-1A64CB24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A409-C88F-48CF-9761-9F16DC3A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63A3A-266E-4EB9-949D-F660EA44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EF25F-49AB-4BF9-8B0E-FF1C5D99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8D49B-CB2E-43A5-97A2-4921872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C4098-5B8B-4774-8DFE-0F6566BF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8CA8A-235B-47E7-9EBB-F991BDE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11CBA-BD91-4FB7-8997-E0CF0124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5D146-0610-46A2-A581-D6CA4AF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11D24-1F79-4729-8D0A-B5FBA6E6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51C32-841A-463D-845C-B3279E0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10A-DEB2-489B-A0AD-C2D7C5D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9E4A1-4C84-43C1-96C4-9ADDBC3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02E8B-7E34-4AE1-8C68-1857C6B0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56F2F-527E-4678-8F74-3AEEEFB4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88D9-B93F-4214-9409-EEDBEA3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3C82-F0BD-467A-B054-E7F6D9E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4A3ED-6F1E-4BEE-8D40-CD770E8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F2E5-D78F-4DC9-AD36-BF8FA19C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375F-89E3-4ACB-A4E1-88AD357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12E5-DEC3-46D0-BF10-7FEC555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B384-6D64-4E5C-B263-02C393B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074-98EE-4087-A2EA-D708AFA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6CCF-9F08-4704-9685-59C50F7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20A84-B106-4347-BFA6-2B8FB42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3863-5EE9-49C8-83F3-3D738C5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CD48-33C1-48D0-BDA9-02F1D422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B78A-6477-4E73-9544-DB2CF6AC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238C2-38D9-4E38-840C-3D2A3FC7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46C2-24C7-4ED0-A114-8E2EFB0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3467-498F-45D0-9187-113BF47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8DFC-19EA-42F4-9266-98FD368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2F51-51DA-46F7-A5EF-E37153B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B29-7B2B-46B4-8C88-093CCAE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4E92-3D99-4E16-BD51-84D1259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E8BB-96DE-411B-B048-27AA993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7334A-6466-4C6E-A12A-C2B6441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365F0-DBBA-461E-83C6-B551163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7353-6C2D-4452-92B2-A9A8607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4F3D-47A9-4430-BB91-56C24D0A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8A80-EDCD-42BC-99B4-7C2BB276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CF7B-7F2D-4E8D-AA78-DD5242C83BB7}" type="slidenum">
              <a: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Полилиния 9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520"/>
              <a:ext cx="7140240" cy="24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олилиния 5"/>
            <p:cNvSpPr/>
            <p:nvPr/>
          </p:nvSpPr>
          <p:spPr>
            <a:xfrm>
              <a:off x="347760" y="2944800"/>
              <a:ext cx="7143480" cy="2462400"/>
            </a:xfrm>
            <a:custGeom>
              <a:avLst/>
              <a:gdLst>
                <a:gd name="textAreaLeft" fmla="*/ 0 w 7143480"/>
                <a:gd name="textAreaRight" fmla="*/ 7143840 w 7143480"/>
                <a:gd name="textAreaTop" fmla="*/ 0 h 2462400"/>
                <a:gd name="textAreaBottom" fmla="*/ 2462760 h 246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Полилиния 8"/>
            <p:cNvSpPr/>
            <p:nvPr/>
          </p:nvSpPr>
          <p:spPr>
            <a:xfrm>
              <a:off x="7572240" y="2944800"/>
              <a:ext cx="1190520" cy="2459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custGeom>
            <a:avLst/>
            <a:gdLst>
              <a:gd name="textAreaLeft" fmla="*/ 0 w 911520"/>
              <a:gd name="textAreaRight" fmla="*/ 911880 w 911520"/>
              <a:gd name="textAreaTop" fmla="*/ 0 h 2074680"/>
              <a:gd name="textAreaBottom" fmla="*/ 2075040 h 20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a6a60">
              <a:alpha val="70000"/>
            </a:srgbClr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custGeom>
            <a:avLst/>
            <a:gdLst>
              <a:gd name="textAreaLeft" fmla="*/ 0 w 6756120"/>
              <a:gd name="textAreaRight" fmla="*/ 6756480 w 67561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custGeom>
            <a:avLst/>
            <a:gdLst>
              <a:gd name="textAreaLeft" fmla="*/ 0 w 6759720"/>
              <a:gd name="textAreaRight" fmla="*/ 6760080 w 675972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594320"/>
            <a:ext cx="761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2A9-346B-4C39-8BC7-4EB8D03EC73E}" type="slidenum">
              <a: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олилиния 5"/>
            <p:cNvSpPr/>
            <p:nvPr/>
          </p:nvSpPr>
          <p:spPr>
            <a:xfrm>
              <a:off x="452160" y="2946240"/>
              <a:ext cx="8264880" cy="2463840"/>
            </a:xfrm>
            <a:custGeom>
              <a:avLst/>
              <a:gdLst>
                <a:gd name="textAreaLeft" fmla="*/ 0 w 8264880"/>
                <a:gd name="textAreaRight" fmla="*/ 8265240 w 8264880"/>
                <a:gd name="textAreaTop" fmla="*/ 0 h 2463840"/>
                <a:gd name="textAreaBottom" fmla="*/ 2464200 h 24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custGeom>
            <a:avLst/>
            <a:gdLst>
              <a:gd name="textAreaLeft" fmla="*/ 0 w 8032680"/>
              <a:gd name="textAreaRight" fmla="*/ 8033040 w 803268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2078280"/>
              <a:gd name="textAreaBottom" fmla="*/ 2078640 h 207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CD2-A52B-4A68-842F-4B0D896EA020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6904-92FE-4170-A02E-172B7F4180E9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Полилиния 5"/>
            <p:cNvSpPr/>
            <p:nvPr/>
          </p:nvSpPr>
          <p:spPr>
            <a:xfrm>
              <a:off x="560520" y="1504800"/>
              <a:ext cx="2716200" cy="352440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3233880"/>
              <a:gd name="textAreaBottom" fmla="*/ 3234240 h 32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08BE-3D76-43A3-8F01-A58196815416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400" cy="1371600"/>
            <a:chOff x="689040" y="4956120"/>
            <a:chExt cx="7772400" cy="13716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5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Полилиния 5"/>
            <p:cNvSpPr/>
            <p:nvPr/>
          </p:nvSpPr>
          <p:spPr>
            <a:xfrm>
              <a:off x="689040" y="4956120"/>
              <a:ext cx="7769520" cy="136872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1368720"/>
                <a:gd name="textAreaBottom" fmla="*/ 1369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custGeom>
            <a:avLst/>
            <a:gdLst>
              <a:gd name="textAreaLeft" fmla="*/ 0 w 7600680"/>
              <a:gd name="textAreaRight" fmla="*/ 7601040 w 76006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custGeom>
            <a:avLst/>
            <a:gdLst>
              <a:gd name="textAreaLeft" fmla="*/ 0 w 7327800"/>
              <a:gd name="textAreaRight" fmla="*/ 7328160 w 73278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custGeom>
            <a:avLst/>
            <a:gdLst>
              <a:gd name="textAreaLeft" fmla="*/ 0 w 7947000"/>
              <a:gd name="textAreaRight" fmla="*/ 7947360 w 794700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FB0-137A-4205-A034-A7CC2BD95F28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6122880"/>
              <a:gd name="textAreaBottom" fmla="*/ 6123240 h 61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876640"/>
              <a:gd name="textAreaBottom" fmla="*/ 5877000 h 58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5C73-1DB2-4233-82B3-A35CCA90BC4F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Полилиния 5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3218-343E-4EBA-92D2-BDA655228800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hyperlink" Target="http://www.alexandra-velten.net/luxor/Indices/indexd.html" TargetMode="External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6.jpeg"/><Relationship Id="rId3" Type="http://schemas.openxmlformats.org/officeDocument/2006/relationships/image" Target="../media/image2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26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58800" y="26028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Система образования в Герма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https://pp.vk.me/c627616/v627616208/29ac7/Z__cGnWfHcw.jpg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Содержимое 3" descr="img_1408-550x400.jpg"/>
          <p:cNvPicPr/>
          <p:nvPr/>
        </p:nvPicPr>
        <p:blipFill>
          <a:blip r:embed="rId1"/>
          <a:stretch/>
        </p:blipFill>
        <p:spPr>
          <a:xfrm>
            <a:off x="4552920" y="189000"/>
            <a:ext cx="4591080" cy="380988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284c"/>
                </a:solidFill>
                <a:latin typeface="Arial"/>
              </a:rPr>
              <a:t>Elementary </a:t>
            </a:r>
            <a:br>
              <a:rPr sz="3600"/>
            </a:br>
            <a:r>
              <a:rPr b="0" i="1" lang="en-US" sz="3600" spc="-1" strike="noStrike">
                <a:solidFill>
                  <a:srgbClr val="99284c"/>
                </a:solidFill>
                <a:latin typeface="Arial"/>
              </a:rPr>
              <a:t>school</a:t>
            </a: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 (</a:t>
            </a:r>
            <a:r>
              <a:rPr b="1" lang="ru-RU" sz="3600" spc="-1" strike="noStrike">
                <a:solidFill>
                  <a:srgbClr val="99284c"/>
                </a:solidFill>
                <a:latin typeface="Arial"/>
              </a:rPr>
              <a:t>Grundschule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)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468360" y="170028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ges 6 to 9  (grades 1-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fter the 4th grade children are separated: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Hauptschul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Realschule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 o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ymna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econdary school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german-education-system-2-9-638 копия"/>
          <p:cNvPicPr/>
          <p:nvPr/>
        </p:nvPicPr>
        <p:blipFill>
          <a:blip r:embed="rId2"/>
          <a:stretch/>
        </p:blipFill>
        <p:spPr>
          <a:xfrm>
            <a:off x="5003640" y="2924280"/>
            <a:ext cx="3527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19520" y="1484280"/>
            <a:ext cx="4524480" cy="3019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&amp;Scy;&amp;icy;&amp;scy;&amp;tcy;&amp;iecy;&amp;mcy;&amp;acy; &amp;ocy;&amp;bcy;&amp;rcy;&amp;acy;&amp;zcy;&amp;ocy;&amp;vcy;&amp;acy;&amp;ncy;&amp;icy;&amp;yacy; &amp;Gcy;&amp;iecy;&amp;rcy;&amp;mcy;&amp;acy;&amp;ncy;&amp;icy;&amp;icy;"/>
          <p:cNvPicPr/>
          <p:nvPr/>
        </p:nvPicPr>
        <p:blipFill>
          <a:blip r:embed="rId3"/>
          <a:stretch/>
        </p:blipFill>
        <p:spPr>
          <a:xfrm>
            <a:off x="0" y="3789360"/>
            <a:ext cx="9144000" cy="3083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0"/>
            <a:ext cx="2143080" cy="140976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13"/>
          <p:cNvSpPr/>
          <p:nvPr/>
        </p:nvSpPr>
        <p:spPr>
          <a:xfrm>
            <a:off x="2627280" y="333360"/>
            <a:ext cx="6048360" cy="107964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ая  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4790160" y="9799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Grundsch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933720"/>
            <a:ext cx="1908000" cy="15112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/>
          <p:nvPr/>
        </p:nvSpPr>
        <p:spPr>
          <a:xfrm>
            <a:off x="636120" y="1772280"/>
            <a:ext cx="13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/>
          <p:nvPr/>
        </p:nvSpPr>
        <p:spPr>
          <a:xfrm>
            <a:off x="734400" y="2153520"/>
            <a:ext cx="361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тся чит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ать, счит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ют природо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кон Бож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https://pp.vk.me/c627616/v627616208/29aa4/-WiGPztgIDY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5" descr="german-education-system-2-14-638 копия"/>
          <p:cNvPicPr/>
          <p:nvPr/>
        </p:nvPicPr>
        <p:blipFill>
          <a:blip r:embed="rId1"/>
          <a:stretch/>
        </p:blipFill>
        <p:spPr>
          <a:xfrm>
            <a:off x="0" y="1916280"/>
            <a:ext cx="3571920" cy="49417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Hauptschul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76" name="Рисунок 3" descr="4harmannsdorf_1.jpg"/>
          <p:cNvPicPr/>
          <p:nvPr/>
        </p:nvPicPr>
        <p:blipFill>
          <a:blip r:embed="rId2"/>
          <a:stretch/>
        </p:blipFill>
        <p:spPr>
          <a:xfrm>
            <a:off x="3456000" y="2801880"/>
            <a:ext cx="5688000" cy="40561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284360" y="907920"/>
            <a:ext cx="42591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52880" indent="-388800">
              <a:buClr>
                <a:srgbClr val="99284c"/>
              </a:buClr>
              <a:buSzPct val="75000"/>
              <a:buFont typeface="Alban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ges 10-14 (grades 5-9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52880" indent="-388800">
              <a:buClr>
                <a:srgbClr val="99284c"/>
              </a:buClr>
              <a:buSzPct val="75000"/>
              <a:buFont typeface="Alban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leads to part-time enrollment in a vocational school until the age of 18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6"/>
          <p:cNvSpPr/>
          <p:nvPr/>
        </p:nvSpPr>
        <p:spPr>
          <a:xfrm>
            <a:off x="324000" y="0"/>
            <a:ext cx="3024000" cy="110484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Средня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241560" y="1048680"/>
            <a:ext cx="40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лная народная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/>
          <p:nvPr/>
        </p:nvSpPr>
        <p:spPr>
          <a:xfrm>
            <a:off x="542520" y="16286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Hauptsch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Рисунок 3" descr="4harmannsdorf_1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09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"/>
          <p:cNvPicPr/>
          <p:nvPr/>
        </p:nvPicPr>
        <p:blipFill>
          <a:blip r:embed="rId3"/>
          <a:stretch/>
        </p:blipFill>
        <p:spPr>
          <a:xfrm>
            <a:off x="0" y="2673360"/>
            <a:ext cx="4643280" cy="39132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4152960" y="3213000"/>
            <a:ext cx="4991040" cy="34718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619280" y="4292640"/>
            <a:ext cx="2303280" cy="7905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68360" y="0"/>
            <a:ext cx="3348000" cy="136836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Средня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/>
          <p:nvPr/>
        </p:nvSpPr>
        <p:spPr>
          <a:xfrm>
            <a:off x="973440" y="184464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80"/>
                </a:solidFill>
                <a:uFillTx/>
                <a:latin typeface="Calibri"/>
              </a:rPr>
              <a:t>Realsch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/>
          <p:nvPr/>
        </p:nvSpPr>
        <p:spPr>
          <a:xfrm>
            <a:off x="507960" y="13406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Реальная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0" y="2944800"/>
            <a:ext cx="4643280" cy="3913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195640" y="4005360"/>
            <a:ext cx="2016000" cy="64584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751280" y="3284640"/>
            <a:ext cx="4392720" cy="33638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427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Realschul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0920" y="1052640"/>
            <a:ext cx="33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3280" indent="-432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grades 5-10 in most sta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6" name="Рисунок 3" descr="schuhkarton2012.jpg"/>
          <p:cNvPicPr/>
          <p:nvPr/>
        </p:nvPicPr>
        <p:blipFill>
          <a:blip r:embed="rId1"/>
          <a:stretch/>
        </p:blipFill>
        <p:spPr>
          <a:xfrm>
            <a:off x="2771640" y="2262240"/>
            <a:ext cx="6372360" cy="4595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erman-education-system-2-18-638 копия"/>
          <p:cNvPicPr/>
          <p:nvPr/>
        </p:nvPicPr>
        <p:blipFill>
          <a:blip r:embed="rId2"/>
          <a:stretch/>
        </p:blipFill>
        <p:spPr>
          <a:xfrm>
            <a:off x="0" y="2276640"/>
            <a:ext cx="27655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/>
          <p:cNvSpPr/>
          <p:nvPr/>
        </p:nvSpPr>
        <p:spPr>
          <a:xfrm>
            <a:off x="5076720" y="2133720"/>
            <a:ext cx="4067280" cy="100800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Сред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/>
          <p:nvPr/>
        </p:nvSpPr>
        <p:spPr>
          <a:xfrm>
            <a:off x="1403280" y="3716280"/>
            <a:ext cx="2016360" cy="6462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419640" y="3500280"/>
            <a:ext cx="5724360" cy="3357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4"/>
          <a:stretch/>
        </p:blipFill>
        <p:spPr>
          <a:xfrm>
            <a:off x="0" y="3500280"/>
            <a:ext cx="4392720" cy="335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50560" y="-72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Gymnasium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19670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403280" y="3860640"/>
            <a:ext cx="2016360" cy="6462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ymnasium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8" name="Прямоугольник 4"/>
          <p:cNvSpPr/>
          <p:nvPr/>
        </p:nvSpPr>
        <p:spPr>
          <a:xfrm>
            <a:off x="250920" y="1052640"/>
            <a:ext cx="35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 diploma called the 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bitur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4572000" y="981000"/>
            <a:ext cx="4406760" cy="330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german-education-system-2-21-638 копия"/>
          <p:cNvPicPr/>
          <p:nvPr/>
        </p:nvPicPr>
        <p:blipFill>
          <a:blip r:embed="rId2"/>
          <a:stretch/>
        </p:blipFill>
        <p:spPr>
          <a:xfrm>
            <a:off x="0" y="2521080"/>
            <a:ext cx="2662200" cy="433692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3" descr="botschafterschule.jpg"/>
          <p:cNvPicPr/>
          <p:nvPr/>
        </p:nvPicPr>
        <p:blipFill>
          <a:blip r:embed="rId3"/>
          <a:stretch/>
        </p:blipFill>
        <p:spPr>
          <a:xfrm>
            <a:off x="2556000" y="3390840"/>
            <a:ext cx="5251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Содержимое 3" descr="landkartebrd.gif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454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250920" y="83448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284c"/>
              </a:buClr>
              <a:buSzPct val="75000"/>
              <a:buFont typeface="Arial"/>
              <a:buChar char="-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5"/>
                </a:solidFill>
                <a:latin typeface="Arial"/>
                <a:ea typeface="Calibri"/>
              </a:rPr>
              <a:t>One educational system doesn'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539640">
              <a:lnSpc>
                <a:spcPct val="100000"/>
              </a:lnSpc>
              <a:buClr>
                <a:srgbClr val="99284c"/>
              </a:buClr>
              <a:buSzPct val="75000"/>
              <a:buFont typeface="Arial"/>
              <a:buChar char="-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esamtschule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(comprehensive school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13" name="Содержимое 3" descr="Klare-Aussagen-der-Bezirksregierung-zur-Gesamtschule-Zahlen-geben-regulaere-Fuenfzuegigkeit-nicht-her-Fuenfte-Klasse-bleibt-Ausnahme1_image_630_420f_wn.jpg"/>
          <p:cNvPicPr/>
          <p:nvPr/>
        </p:nvPicPr>
        <p:blipFill>
          <a:blip r:embed="rId1"/>
          <a:stretch/>
        </p:blipFill>
        <p:spPr>
          <a:xfrm>
            <a:off x="1763640" y="3429000"/>
            <a:ext cx="5740560" cy="314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1143000" y="157176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-mixture of the 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Real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 and 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ymnas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tudents of all academic levels learn together until the 10th grade is completed. After 10th grade all students achieve the so-called ‘mittlere Reife’. They have got the choice either to quit school and start an apprenticeship or to stay at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esamt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to complete either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bitur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or the so-called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Fachabitur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which gives access to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Fachhoch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.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2479680" cy="2239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775800" y="1843560"/>
            <a:ext cx="6270120" cy="4597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тарейшая в мире образовательная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1005120" y="62244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Система образования в Герм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2139840" y="2673360"/>
            <a:ext cx="6183360" cy="825480"/>
          </a:xfrm>
          <a:prstGeom prst="rect">
            <a:avLst/>
          </a:prstGeom>
          <a:solidFill>
            <a:srgbClr val="ffcc9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очетание вековых традиций с новейш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направл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551520" y="3932640"/>
            <a:ext cx="6602400" cy="459720"/>
          </a:xfrm>
          <a:prstGeom prst="rect">
            <a:avLst/>
          </a:prstGeom>
          <a:solidFill>
            <a:srgbClr val="ffcc9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ретье место по кол-ву иностранных студ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4763160"/>
            <a:ext cx="7081920" cy="734040"/>
          </a:xfrm>
          <a:prstGeom prst="rect">
            <a:avLst/>
          </a:prstGeom>
          <a:solidFill>
            <a:srgbClr val="ffcc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Разные системы образования до 199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5" descr="school_chart"/>
          <p:cNvPicPr/>
          <p:nvPr/>
        </p:nvPicPr>
        <p:blipFill>
          <a:blip r:embed="rId1"/>
          <a:stretch/>
        </p:blipFill>
        <p:spPr>
          <a:xfrm>
            <a:off x="1835280" y="333360"/>
            <a:ext cx="5025960" cy="63817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0" y="-31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German Schools Ch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7" descr="[ Map of Germany ]"/>
          <p:cNvPicPr/>
          <p:nvPr/>
        </p:nvPicPr>
        <p:blipFill>
          <a:blip r:embed="rId2"/>
          <a:stretch/>
        </p:blipFill>
        <p:spPr>
          <a:xfrm>
            <a:off x="250920" y="189000"/>
            <a:ext cx="12268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029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724360" cy="39546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8000" y="1195200"/>
            <a:ext cx="5488920" cy="119124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уссия, XVIII - принцип обяза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коль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360960" y="4721760"/>
            <a:ext cx="5377680" cy="1922760"/>
          </a:xfrm>
          <a:prstGeom prst="rect">
            <a:avLst/>
          </a:prstGeom>
          <a:solidFill>
            <a:srgbClr val="ffff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вные особенности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формировались во время Веймарс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спублики в начале XX-го 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360360" y="503640"/>
            <a:ext cx="39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ИСТОРИЯ ВОЗНИКНОВ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114200" y="187920"/>
            <a:ext cx="68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alibri"/>
              </a:rPr>
              <a:t>ОБЗОР ОБРАЗОВАТЕЛЬНОЙ СИСТЕМЫ ГЕРМАНИИ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340240" y="4149720"/>
            <a:ext cx="3803760" cy="25304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6320" y="119592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сплатное обучение для всех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6546960" cy="4724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651672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Grundschule&#13;&#10;(Elementary School)&#13;&#10; 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german-education-system-2-5-638 копия"/>
          <p:cNvPicPr/>
          <p:nvPr/>
        </p:nvPicPr>
        <p:blipFill>
          <a:blip r:embed="rId1"/>
          <a:stretch/>
        </p:blipFill>
        <p:spPr>
          <a:xfrm>
            <a:off x="0" y="2286000"/>
            <a:ext cx="3822840" cy="4572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Kindergarte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52" name="Содержимое 3" descr="NORDENHAM_STADLAND_2_03267c7d-5ff9-4421-b2d4-7061541a367f--586x337.jpg"/>
          <p:cNvPicPr/>
          <p:nvPr/>
        </p:nvPicPr>
        <p:blipFill>
          <a:blip r:embed="rId2"/>
          <a:stretch/>
        </p:blipFill>
        <p:spPr>
          <a:xfrm>
            <a:off x="2808360" y="1700280"/>
            <a:ext cx="6335640" cy="36432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4"/>
          <p:cNvSpPr/>
          <p:nvPr/>
        </p:nvSpPr>
        <p:spPr>
          <a:xfrm>
            <a:off x="288720" y="836640"/>
            <a:ext cx="24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ge 3 to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not oblig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76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5651640" y="4221000"/>
            <a:ext cx="3095640" cy="2140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309840" y="333360"/>
            <a:ext cx="5834160" cy="3936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4"/>
          <a:stretch/>
        </p:blipFill>
        <p:spPr>
          <a:xfrm>
            <a:off x="0" y="2673360"/>
            <a:ext cx="4643280" cy="39132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484360" y="5661000"/>
            <a:ext cx="2303640" cy="7905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1:53:06Z</dcterms:created>
  <dc:creator>лариса</dc:creator>
  <dc:description/>
  <dc:language>en-US</dc:language>
  <cp:lastModifiedBy>Admin</cp:lastModifiedBy>
  <dcterms:modified xsi:type="dcterms:W3CDTF">2021-04-18T11:01:33Z</dcterms:modified>
  <cp:revision>21</cp:revision>
  <dc:subject/>
  <dc:title>Слайд 1</dc:title>
</cp:coreProperties>
</file>