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33.gif" ContentType="image/gif"/>
  <Override PartName="/ppt/media/image17.jpeg" ContentType="image/jpeg"/>
  <Override PartName="/ppt/media/image3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1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B187-0411-4134-B6C3-D312DC7E2247}" type="datetime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3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D042-3BAE-4279-AF7D-EFA87B60749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587A-F0EB-4390-A25D-6D62FEDF442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8E54-CA85-42B0-B7C6-1FD24A81652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3AD3-C03A-4E60-8DBF-FCBE8C4B162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A7B8-5662-4A36-B42A-1A185B695E5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1D9-1399-4A57-991B-92AB36D6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0F8-CFC3-4FB2-AE6F-0325B358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015-4C97-4723-B735-81A7F66B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423-25C0-4CDD-A9E2-20CD5DE2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F1A3-19D9-4CDE-88D8-1E4F670B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A412-6C02-4C4A-8D7D-6DC8D9A0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469-89DD-473F-BD23-58660D36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E462-8F10-4245-AF63-BBC9EC26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10DC-80D4-409B-A699-ABAA8B84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F974-9F5E-4B7B-A4CE-F22D1577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1E77-8E08-4BA8-BF4F-C3BE23EA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D5A-8D2C-424B-8E2A-3F2623A5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E1D2-7878-4220-B55E-06CF6965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5985-3088-480A-A8B4-82C3908A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8C5C-76AB-43E9-BFA1-AC2A8AFC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DE04-D550-4E6E-8ECE-90BFAD23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409C-07FC-4614-A942-EC62A599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79D5-B65C-438F-8826-7AF74D9A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63F06-3D78-42EA-B230-6DECCC20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26CA9-9841-4230-941D-E95221CB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C176-66A7-4F9E-A430-D4AD1882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B60F0-9C36-4BEB-BC08-C61D1546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72B-C564-41C8-9CD6-7B9A458F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79F8-B04F-491C-97D8-30AF8348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D8D5-A33B-46B7-92A5-E1FAC745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45E7C-5D9C-41F5-BBEB-69981D9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0718-E1E6-4FC4-B232-8E6F4B96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54FB-AC6D-47AB-B250-3CB4A456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9A5B-0BAA-4E23-AD41-1DF2018B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339B-58A4-40DE-897E-1AA13CA1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EAF4-34B1-43A3-B76D-1B52603B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4A47-384C-4581-B759-20F6CE56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DADB-BD41-4200-B0FB-AF8C2429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28A-F8C8-4E5B-A539-940D5A8D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8566-E5DC-4589-B0E2-BCAD5221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F9F8-8C9F-4333-A46E-98A1E7A6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44EF-9EDC-4FC1-9640-8D66714C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0A70-BE9C-478B-887E-FA32E31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70DC-955E-4496-A590-B7591D98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ACAF2-F60B-448E-9FEC-F977DC6A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4D16-C75A-43C1-9AB4-DFD0592D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05DAC-8345-466D-A238-699B1ADB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1136-84B6-4460-B221-CD9F6CD8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A54ED-E5B2-484A-A90D-7A03178E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039-DDC8-44DC-8FE6-BE686477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80898-48D5-4B37-A6E4-CEA3FFF4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F09F7-97AD-4E7B-8C6A-D97C5827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ECEF8-98D1-47C6-839F-13ADF99B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C273B-64EB-4F65-8E80-C36B11A4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C2720-07C7-45C6-A12A-5BE7BFC9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3FE0F-7105-450A-ACC4-6035CE35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1A96F-B037-4E0E-839F-C08A01E8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F5E2D-72DF-4AF6-A927-57992D98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3EAE0-03BF-4A13-B179-DE6DF04F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8E252-9BDE-4F0D-A4CD-F856BA43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A1D-CAB6-4712-9857-BCF7C10E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683B-EE16-4A37-B198-3CF57D67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71AE02-1A52-436C-AE8E-16F6C980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1D411-031C-47FB-8367-FCA27411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2851D4-CCA9-4D06-8433-081F8608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45782-14EE-4BDF-A739-B6B854F1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15014-0E84-4B8A-A85D-28D1421E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6846D-AAD6-47C2-966B-AD1AD622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5455E-73FB-45A5-8085-8F10FFB2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FF26C-D96C-4341-8D25-F3CFE9DC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DEF3E-A28D-4C93-98A2-6B2AA8FC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BF5-5D76-4989-8BFD-7BF87EA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58462-24BC-4789-9DFA-8830C0CF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CEF43-4F76-4C02-8648-A4DC8BA9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768FA-8D82-4357-80B6-AB9CCCC8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58C94-982D-4293-B254-A115B3A5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396D-EBB9-4AC4-B346-35901CBC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AD3A1-006D-4262-AEB3-8AD8DDA8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959BB-724C-4AEF-841F-EEF783BF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F4603-F100-4094-A142-2E59B81B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A4208-4790-4A6E-B26C-C11AB7D0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EB45-C6FD-4312-886F-2A53D90C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803-60E4-4F0A-A38C-7DD0DCC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724E-1411-431B-97BF-C3BE7B14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04877-DEDE-48FD-AC1B-F45038E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BD156-CCE4-4AE3-A94B-07EEA4F7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6EF42-4315-4B05-8749-B4AA1A81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EE5B3-7F2B-46D1-9B57-2DC75CB0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6A2B3-D848-4490-B877-CDCC7AE9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A4F77-E138-4E45-9064-4C281877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9F8FF-FDB4-470C-9940-7D1273A3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26022-E404-444F-9546-AD4EA607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D7BD0-F127-4012-997A-6C41B810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59E-6EDC-4599-ABFB-39D02BDD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EFE4D-FCCF-4697-A151-395C49EB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6B109-3A5D-437F-B306-E89BDA86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51DA5-E058-4FFC-9DB0-C7F910A8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49F10-90AA-4962-9AF7-A1289EE8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B78FA-1055-4EB1-BA52-62AC741D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D5B73-2B55-465F-94D6-2967D3DE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466A9-41BB-49FF-809E-69C2B5CA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5B5F-DDC6-4EDA-8FE2-B4CD74E0B36D}" type="slidenum">
              <a:rPr b="0" lang="ru-RU" sz="1200" spc="-1" strike="noStrike">
                <a:solidFill>
                  <a:srgbClr val="1f2123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Полилиния 9"/>
            <p:cNvSpPr/>
            <p:nvPr/>
          </p:nvSpPr>
          <p:spPr>
            <a:xfrm>
              <a:off x="274680" y="281160"/>
              <a:ext cx="8594640" cy="1322280"/>
            </a:xfrm>
            <a:custGeom>
              <a:avLst/>
              <a:gdLst>
                <a:gd name="textAreaLeft" fmla="*/ 0 w 8594640"/>
                <a:gd name="textAreaRight" fmla="*/ 8595000 w 859464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custGeom>
            <a:avLst/>
            <a:gdLst>
              <a:gd name="textAreaLeft" fmla="*/ 0 w 8380440"/>
              <a:gd name="textAreaRight" fmla="*/ 8380800 w 838044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520"/>
              <a:ext cx="7140240" cy="24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Полилиния 5"/>
            <p:cNvSpPr/>
            <p:nvPr/>
          </p:nvSpPr>
          <p:spPr>
            <a:xfrm>
              <a:off x="347760" y="2944800"/>
              <a:ext cx="7143480" cy="2462400"/>
            </a:xfrm>
            <a:custGeom>
              <a:avLst/>
              <a:gdLst>
                <a:gd name="textAreaLeft" fmla="*/ 0 w 7143480"/>
                <a:gd name="textAreaRight" fmla="*/ 7143840 w 7143480"/>
                <a:gd name="textAreaTop" fmla="*/ 0 h 2462400"/>
                <a:gd name="textAreaBottom" fmla="*/ 2462760 h 246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Полилиния 8"/>
            <p:cNvSpPr/>
            <p:nvPr/>
          </p:nvSpPr>
          <p:spPr>
            <a:xfrm>
              <a:off x="7572240" y="2944800"/>
              <a:ext cx="1190520" cy="2459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459520"/>
                <a:gd name="textAreaBottom" fmla="*/ 2459880 h 245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custGeom>
            <a:avLst/>
            <a:gdLst>
              <a:gd name="textAreaLeft" fmla="*/ 0 w 911520"/>
              <a:gd name="textAreaRight" fmla="*/ 911880 w 911520"/>
              <a:gd name="textAreaTop" fmla="*/ 0 h 2074680"/>
              <a:gd name="textAreaBottom" fmla="*/ 2075040 h 20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a6a60">
              <a:alpha val="70000"/>
            </a:srgbClr>
          </a:solidFill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custGeom>
            <a:avLst/>
            <a:gdLst>
              <a:gd name="textAreaLeft" fmla="*/ 0 w 6946920"/>
              <a:gd name="textAreaRight" fmla="*/ 6947280 w 6946920"/>
              <a:gd name="textAreaTop" fmla="*/ 0 h 2244600"/>
              <a:gd name="textAreaBottom" fmla="*/ 2244960 h 22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custGeom>
            <a:avLst/>
            <a:gdLst>
              <a:gd name="textAreaLeft" fmla="*/ 0 w 6756120"/>
              <a:gd name="textAreaRight" fmla="*/ 6756480 w 67561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custGeom>
            <a:avLst/>
            <a:gdLst>
              <a:gd name="textAreaLeft" fmla="*/ 0 w 6759720"/>
              <a:gd name="textAreaRight" fmla="*/ 6760080 w 675972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594320"/>
            <a:ext cx="761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a4c5b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FCA3-2815-4C65-BD29-8F1B4B1C424A}" type="slidenum">
              <a:rPr b="0" lang="ru-RU" sz="2800" spc="-1" strike="noStrike">
                <a:solidFill>
                  <a:srgbClr val="3a4c5b"/>
                </a:solidFill>
                <a:latin typeface="Times New Roman"/>
                <a:ea typeface="Lucida Sans Unicode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олилиния 5"/>
            <p:cNvSpPr/>
            <p:nvPr/>
          </p:nvSpPr>
          <p:spPr>
            <a:xfrm>
              <a:off x="452160" y="2946240"/>
              <a:ext cx="8264880" cy="2463840"/>
            </a:xfrm>
            <a:custGeom>
              <a:avLst/>
              <a:gdLst>
                <a:gd name="textAreaLeft" fmla="*/ 0 w 8264880"/>
                <a:gd name="textAreaRight" fmla="*/ 8265240 w 8264880"/>
                <a:gd name="textAreaTop" fmla="*/ 0 h 2463840"/>
                <a:gd name="textAreaBottom" fmla="*/ 2464200 h 24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custGeom>
            <a:avLst/>
            <a:gdLst>
              <a:gd name="textAreaLeft" fmla="*/ 0 w 8032680"/>
              <a:gd name="textAreaRight" fmla="*/ 8033040 w 8032680"/>
              <a:gd name="textAreaTop" fmla="*/ 0 h 2244600"/>
              <a:gd name="textAreaBottom" fmla="*/ 2244960 h 22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custGeom>
            <a:avLst/>
            <a:gdLst>
              <a:gd name="textAreaLeft" fmla="*/ 0 w 7816680"/>
              <a:gd name="textAreaRight" fmla="*/ 7817040 w 78166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custGeom>
            <a:avLst/>
            <a:gdLst>
              <a:gd name="textAreaLeft" fmla="*/ 0 w 7816680"/>
              <a:gd name="textAreaRight" fmla="*/ 7817040 w 7816680"/>
              <a:gd name="textAreaTop" fmla="*/ 0 h 2078280"/>
              <a:gd name="textAreaBottom" fmla="*/ 2078640 h 207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94C7-F0BB-413C-8278-3E9D38C23079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54D6-7256-4B01-904E-2714FE83B371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Полилиния 5"/>
            <p:cNvSpPr/>
            <p:nvPr/>
          </p:nvSpPr>
          <p:spPr>
            <a:xfrm>
              <a:off x="560520" y="1504800"/>
              <a:ext cx="2716200" cy="3524400"/>
            </a:xfrm>
            <a:custGeom>
              <a:avLst/>
              <a:gdLst>
                <a:gd name="textAreaLeft" fmla="*/ 0 w 2716200"/>
                <a:gd name="textAreaRight" fmla="*/ 2716560 w 2716200"/>
                <a:gd name="textAreaTop" fmla="*/ 0 h 3524400"/>
                <a:gd name="textAreaBottom" fmla="*/ 3524760 h 352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3233880"/>
              <a:gd name="textAreaBottom" fmla="*/ 3234240 h 323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6BD6-24C6-4D14-96A2-618DEFC0CF24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400" cy="1371600"/>
            <a:chOff x="689040" y="4956120"/>
            <a:chExt cx="7772400" cy="137160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5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Полилиния 5"/>
            <p:cNvSpPr/>
            <p:nvPr/>
          </p:nvSpPr>
          <p:spPr>
            <a:xfrm>
              <a:off x="689040" y="4956120"/>
              <a:ext cx="7769520" cy="136872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1368720"/>
                <a:gd name="textAreaBottom" fmla="*/ 1369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custGeom>
            <a:avLst/>
            <a:gdLst>
              <a:gd name="textAreaLeft" fmla="*/ 0 w 7600680"/>
              <a:gd name="textAreaRight" fmla="*/ 7601040 w 76006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custGeom>
            <a:avLst/>
            <a:gdLst>
              <a:gd name="textAreaLeft" fmla="*/ 0 w 7327800"/>
              <a:gd name="textAreaRight" fmla="*/ 7328160 w 73278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custGeom>
            <a:avLst/>
            <a:gdLst>
              <a:gd name="textAreaLeft" fmla="*/ 0 w 7947000"/>
              <a:gd name="textAreaRight" fmla="*/ 7947360 w 794700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2E5B-1A66-4DC8-8046-6AE634ED6AC1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6122880"/>
              <a:gd name="textAreaBottom" fmla="*/ 6123240 h 612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876640"/>
              <a:gd name="textAreaBottom" fmla="*/ 5877000 h 587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95B-57AD-4EC9-BCEC-84BE4E54671D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Полилиния 5"/>
            <p:cNvSpPr/>
            <p:nvPr/>
          </p:nvSpPr>
          <p:spPr>
            <a:xfrm>
              <a:off x="274680" y="281160"/>
              <a:ext cx="8594640" cy="1322280"/>
            </a:xfrm>
            <a:custGeom>
              <a:avLst/>
              <a:gdLst>
                <a:gd name="textAreaLeft" fmla="*/ 0 w 8594640"/>
                <a:gd name="textAreaRight" fmla="*/ 8595000 w 859464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custGeom>
            <a:avLst/>
            <a:gdLst>
              <a:gd name="textAreaLeft" fmla="*/ 0 w 8380440"/>
              <a:gd name="textAreaRight" fmla="*/ 8380800 w 838044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74A6-7402-4942-ACE8-D15150EA74D8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hyperlink" Target="http://www.alexandra-velten.net/luxor/Indices/indexd.html" TargetMode="External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6.jpeg"/><Relationship Id="rId3" Type="http://schemas.openxmlformats.org/officeDocument/2006/relationships/image" Target="../media/image2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6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26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58800" y="260280"/>
            <a:ext cx="69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Система образования в Герман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https://pp.vk.me/c627616/v627616208/29ac7/Z__cGnWfHcw.jpg"/>
          <p:cNvPicPr/>
          <p:nvPr/>
        </p:nvPicPr>
        <p:blipFill>
          <a:blip r:embed="rId1"/>
          <a:stretch/>
        </p:blipFill>
        <p:spPr>
          <a:xfrm>
            <a:off x="324000" y="476280"/>
            <a:ext cx="84247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Содержимое 3" descr="img_1408-550x400.jpg"/>
          <p:cNvPicPr/>
          <p:nvPr/>
        </p:nvPicPr>
        <p:blipFill>
          <a:blip r:embed="rId1"/>
          <a:stretch/>
        </p:blipFill>
        <p:spPr>
          <a:xfrm>
            <a:off x="4552920" y="189000"/>
            <a:ext cx="4591080" cy="380988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284c"/>
                </a:solidFill>
                <a:latin typeface="Arial"/>
              </a:rPr>
              <a:t>Elementary </a:t>
            </a:r>
            <a:br>
              <a:rPr sz="3600"/>
            </a:br>
            <a:r>
              <a:rPr b="0" i="1" lang="en-US" sz="3600" spc="-1" strike="noStrike">
                <a:solidFill>
                  <a:srgbClr val="99284c"/>
                </a:solidFill>
                <a:latin typeface="Arial"/>
              </a:rPr>
              <a:t>school</a:t>
            </a: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 (</a:t>
            </a:r>
            <a:r>
              <a:rPr b="1" lang="ru-RU" sz="3600" spc="-1" strike="noStrike">
                <a:solidFill>
                  <a:srgbClr val="99284c"/>
                </a:solidFill>
                <a:latin typeface="Arial"/>
              </a:rPr>
              <a:t>Grundschule</a:t>
            </a: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)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62" name="TextBox 4"/>
          <p:cNvSpPr/>
          <p:nvPr/>
        </p:nvSpPr>
        <p:spPr>
          <a:xfrm>
            <a:off x="468360" y="1700280"/>
            <a:ext cx="321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ges 6 to 9  (grades 1-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fter the 4th grade children are separated: 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Hauptschul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,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Realschule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 or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Gymnas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(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econdary school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german-education-system-2-9-638 копия"/>
          <p:cNvPicPr/>
          <p:nvPr/>
        </p:nvPicPr>
        <p:blipFill>
          <a:blip r:embed="rId2"/>
          <a:stretch/>
        </p:blipFill>
        <p:spPr>
          <a:xfrm>
            <a:off x="5003640" y="2924280"/>
            <a:ext cx="352764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893080" cy="6670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19520" y="1484280"/>
            <a:ext cx="4524480" cy="3019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&amp;Scy;&amp;icy;&amp;scy;&amp;tcy;&amp;iecy;&amp;mcy;&amp;acy; &amp;ocy;&amp;bcy;&amp;rcy;&amp;acy;&amp;zcy;&amp;ocy;&amp;vcy;&amp;acy;&amp;ncy;&amp;icy;&amp;yacy; &amp;Gcy;&amp;iecy;&amp;rcy;&amp;mcy;&amp;acy;&amp;ncy;&amp;icy;&amp;icy;"/>
          <p:cNvPicPr/>
          <p:nvPr/>
        </p:nvPicPr>
        <p:blipFill>
          <a:blip r:embed="rId3"/>
          <a:stretch/>
        </p:blipFill>
        <p:spPr>
          <a:xfrm>
            <a:off x="0" y="3789360"/>
            <a:ext cx="9144000" cy="30830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0"/>
            <a:ext cx="2143080" cy="140976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13"/>
          <p:cNvSpPr/>
          <p:nvPr/>
        </p:nvSpPr>
        <p:spPr>
          <a:xfrm>
            <a:off x="2627280" y="333360"/>
            <a:ext cx="6048360" cy="1079640"/>
          </a:xfrm>
          <a:prstGeom prst="pie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ая  шко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4790160" y="9799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Grundschu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933720"/>
            <a:ext cx="1908000" cy="15112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/>
          <p:nvPr/>
        </p:nvSpPr>
        <p:spPr>
          <a:xfrm>
            <a:off x="636120" y="1772280"/>
            <a:ext cx="13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г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/>
          <p:nvPr/>
        </p:nvSpPr>
        <p:spPr>
          <a:xfrm>
            <a:off x="734400" y="2153520"/>
            <a:ext cx="361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атся чита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ать, счита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ают природовед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Закон Бож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https://pp.vk.me/c627616/v627616208/29aa4/-WiGPztgIDY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5" descr="german-education-system-2-14-638 копия"/>
          <p:cNvPicPr/>
          <p:nvPr/>
        </p:nvPicPr>
        <p:blipFill>
          <a:blip r:embed="rId1"/>
          <a:stretch/>
        </p:blipFill>
        <p:spPr>
          <a:xfrm>
            <a:off x="0" y="1916280"/>
            <a:ext cx="3571920" cy="49417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Hauptschul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76" name="Рисунок 3" descr="4harmannsdorf_1.jpg"/>
          <p:cNvPicPr/>
          <p:nvPr/>
        </p:nvPicPr>
        <p:blipFill>
          <a:blip r:embed="rId2"/>
          <a:stretch/>
        </p:blipFill>
        <p:spPr>
          <a:xfrm>
            <a:off x="3456000" y="2801880"/>
            <a:ext cx="5688000" cy="40561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4284360" y="907920"/>
            <a:ext cx="42591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52880" indent="-388800">
              <a:buClr>
                <a:srgbClr val="99284c"/>
              </a:buClr>
              <a:buSzPct val="75000"/>
              <a:buFont typeface="Alban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Ages 10-14 (grades 5-9)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  <a:p>
            <a:pPr marL="452880" indent="-388800">
              <a:buClr>
                <a:srgbClr val="99284c"/>
              </a:buClr>
              <a:buSzPct val="75000"/>
              <a:buFont typeface="Alban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leads to part-time enrollment in a vocational school until the age of 18.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445608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6"/>
          <p:cNvSpPr/>
          <p:nvPr/>
        </p:nvSpPr>
        <p:spPr>
          <a:xfrm>
            <a:off x="324000" y="0"/>
            <a:ext cx="3024000" cy="1104840"/>
          </a:xfrm>
          <a:prstGeom prst="pie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Lucida Sans Unicode"/>
              </a:rPr>
              <a:t>Средня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Lucida Sans Unicode"/>
              </a:rPr>
              <a:t>шко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/>
          <p:nvPr/>
        </p:nvSpPr>
        <p:spPr>
          <a:xfrm>
            <a:off x="241560" y="1048680"/>
            <a:ext cx="40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лная народная шко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/>
          <p:nvPr/>
        </p:nvSpPr>
        <p:spPr>
          <a:xfrm>
            <a:off x="542520" y="162864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80"/>
                </a:solidFill>
                <a:uFillTx/>
                <a:latin typeface="Calibri"/>
              </a:rPr>
              <a:t>Hauptsch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2" name="Рисунок 3" descr="4harmannsdorf_1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209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"/>
          <p:cNvPicPr/>
          <p:nvPr/>
        </p:nvPicPr>
        <p:blipFill>
          <a:blip r:embed="rId3"/>
          <a:stretch/>
        </p:blipFill>
        <p:spPr>
          <a:xfrm>
            <a:off x="0" y="2673360"/>
            <a:ext cx="4643280" cy="39132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4152960" y="3213000"/>
            <a:ext cx="4991040" cy="34718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619280" y="4292640"/>
            <a:ext cx="2303280" cy="79056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6"/>
          <p:cNvSpPr/>
          <p:nvPr/>
        </p:nvSpPr>
        <p:spPr>
          <a:xfrm>
            <a:off x="468360" y="0"/>
            <a:ext cx="3348000" cy="1368360"/>
          </a:xfrm>
          <a:prstGeom prst="pie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Lucida Sans Unicode"/>
              </a:rPr>
              <a:t>Средня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81bd"/>
                </a:solidFill>
                <a:latin typeface="Times New Roman"/>
                <a:ea typeface="Lucida Sans Unicode"/>
              </a:rPr>
              <a:t>шко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/>
          <p:nvPr/>
        </p:nvSpPr>
        <p:spPr>
          <a:xfrm>
            <a:off x="973440" y="184464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00080"/>
                </a:solidFill>
                <a:uFillTx/>
                <a:latin typeface="Calibri"/>
              </a:rPr>
              <a:t>Realsch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/>
          <p:nvPr/>
        </p:nvSpPr>
        <p:spPr>
          <a:xfrm>
            <a:off x="507960" y="134064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Реальная шко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2"/>
          <a:stretch/>
        </p:blipFill>
        <p:spPr>
          <a:xfrm>
            <a:off x="0" y="2944800"/>
            <a:ext cx="4643280" cy="39132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195640" y="4005360"/>
            <a:ext cx="2016000" cy="64584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4751280" y="3284640"/>
            <a:ext cx="4392720" cy="33638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44276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Realschul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0920" y="1052640"/>
            <a:ext cx="33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3280" indent="-432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- grades 5-10 in most stat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6" name="Рисунок 3" descr="schuhkarton2012.jpg"/>
          <p:cNvPicPr/>
          <p:nvPr/>
        </p:nvPicPr>
        <p:blipFill>
          <a:blip r:embed="rId1"/>
          <a:stretch/>
        </p:blipFill>
        <p:spPr>
          <a:xfrm>
            <a:off x="2771640" y="2262240"/>
            <a:ext cx="6372360" cy="45957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german-education-system-2-18-638 копия"/>
          <p:cNvPicPr/>
          <p:nvPr/>
        </p:nvPicPr>
        <p:blipFill>
          <a:blip r:embed="rId2"/>
          <a:stretch/>
        </p:blipFill>
        <p:spPr>
          <a:xfrm>
            <a:off x="0" y="2276640"/>
            <a:ext cx="276552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6"/>
          <p:cNvSpPr/>
          <p:nvPr/>
        </p:nvSpPr>
        <p:spPr>
          <a:xfrm>
            <a:off x="5076720" y="2133720"/>
            <a:ext cx="4067280" cy="1008000"/>
          </a:xfrm>
          <a:prstGeom prst="pie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Средня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/>
          <p:nvPr/>
        </p:nvSpPr>
        <p:spPr>
          <a:xfrm>
            <a:off x="1403280" y="3716280"/>
            <a:ext cx="2016360" cy="64620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3419640" y="3500280"/>
            <a:ext cx="5724360" cy="3357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4"/>
          <a:stretch/>
        </p:blipFill>
        <p:spPr>
          <a:xfrm>
            <a:off x="0" y="3500280"/>
            <a:ext cx="4392720" cy="3357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50560" y="-72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80"/>
                </a:solidFill>
                <a:uFillTx/>
                <a:latin typeface="Calibri"/>
              </a:rPr>
              <a:t>Gymnasium</a:t>
            </a: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196704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403280" y="3860640"/>
            <a:ext cx="2016360" cy="64620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Gymnasium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8" name="Прямоугольник 4"/>
          <p:cNvSpPr/>
          <p:nvPr/>
        </p:nvSpPr>
        <p:spPr>
          <a:xfrm>
            <a:off x="250920" y="1052640"/>
            <a:ext cx="350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 diploma called the </a:t>
            </a:r>
            <a:r>
              <a:rPr b="0" i="1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bitur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5" descr="German education system (2)"/>
          <p:cNvPicPr/>
          <p:nvPr/>
        </p:nvPicPr>
        <p:blipFill>
          <a:blip r:embed="rId1"/>
          <a:stretch/>
        </p:blipFill>
        <p:spPr>
          <a:xfrm>
            <a:off x="4572000" y="981000"/>
            <a:ext cx="4406760" cy="3308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german-education-system-2-21-638 копия"/>
          <p:cNvPicPr/>
          <p:nvPr/>
        </p:nvPicPr>
        <p:blipFill>
          <a:blip r:embed="rId2"/>
          <a:stretch/>
        </p:blipFill>
        <p:spPr>
          <a:xfrm>
            <a:off x="0" y="2521080"/>
            <a:ext cx="2662200" cy="4336920"/>
          </a:xfrm>
          <a:prstGeom prst="rect">
            <a:avLst/>
          </a:prstGeom>
          <a:ln w="0">
            <a:noFill/>
          </a:ln>
        </p:spPr>
      </p:pic>
      <p:pic>
        <p:nvPicPr>
          <p:cNvPr id="511" name="Содержимое 3" descr="botschafterschule.jpg"/>
          <p:cNvPicPr/>
          <p:nvPr/>
        </p:nvPicPr>
        <p:blipFill>
          <a:blip r:embed="rId3"/>
          <a:stretch/>
        </p:blipFill>
        <p:spPr>
          <a:xfrm>
            <a:off x="2556000" y="3390840"/>
            <a:ext cx="52513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Содержимое 3" descr="landkartebrd.gif"/>
          <p:cNvPicPr/>
          <p:nvPr/>
        </p:nvPicPr>
        <p:blipFill>
          <a:blip r:embed="rId1"/>
          <a:stretch/>
        </p:blipFill>
        <p:spPr>
          <a:xfrm>
            <a:off x="4071960" y="0"/>
            <a:ext cx="5072040" cy="68454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"/>
          <p:cNvSpPr/>
          <p:nvPr/>
        </p:nvSpPr>
        <p:spPr>
          <a:xfrm>
            <a:off x="250920" y="834480"/>
            <a:ext cx="37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539640">
              <a:lnSpc>
                <a:spcPct val="100000"/>
              </a:lnSpc>
              <a:buClr>
                <a:srgbClr val="99284c"/>
              </a:buClr>
              <a:buSzPct val="75000"/>
              <a:buFont typeface="Arial"/>
              <a:buChar char="-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835"/>
                </a:solidFill>
                <a:latin typeface="Arial"/>
                <a:ea typeface="Calibri"/>
              </a:rPr>
              <a:t>One educational system doesn'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539640">
              <a:lnSpc>
                <a:spcPct val="100000"/>
              </a:lnSpc>
              <a:buClr>
                <a:srgbClr val="99284c"/>
              </a:buClr>
              <a:buSzPct val="75000"/>
              <a:buFont typeface="Arial"/>
              <a:buChar char="-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Gesamtschule </a:t>
            </a:r>
            <a:br>
              <a:rPr sz="4000"/>
            </a:b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(comprehensive school)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13" name="Содержимое 3" descr="Klare-Aussagen-der-Bezirksregierung-zur-Gesamtschule-Zahlen-geben-regulaere-Fuenfzuegigkeit-nicht-her-Fuenfte-Klasse-bleibt-Ausnahme1_image_630_420f_wn.jpg"/>
          <p:cNvPicPr/>
          <p:nvPr/>
        </p:nvPicPr>
        <p:blipFill>
          <a:blip r:embed="rId1"/>
          <a:stretch/>
        </p:blipFill>
        <p:spPr>
          <a:xfrm>
            <a:off x="1763640" y="3429000"/>
            <a:ext cx="5740560" cy="31431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4"/>
          <p:cNvSpPr/>
          <p:nvPr/>
        </p:nvSpPr>
        <p:spPr>
          <a:xfrm>
            <a:off x="1143000" y="1571760"/>
            <a:ext cx="77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-mixture of the 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Realschule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 and 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Gymnas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tudents of all academic levels learn together until the 10th grade is completed. After 10th grade all students achieve the so-called ‘mittlere Reife’. They have got the choice either to quit school and start an apprenticeship or to stay at the ‘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Gesamtschule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’ to complete either the ‘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bitur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’ or the so-called ‘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Fachabitur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’ which gives access to the ‘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Fachhochschule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’.</a:t>
            </a:r>
            <a:r>
              <a:rPr b="0" i="1" lang="en-US" sz="1800" spc="-1" strike="noStrike">
                <a:solidFill>
                  <a:srgbClr val="333333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2479680" cy="22399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775800" y="1843560"/>
            <a:ext cx="6270120" cy="459720"/>
          </a:xfrm>
          <a:prstGeom prst="rect">
            <a:avLst/>
          </a:prstGeom>
          <a:solidFill>
            <a:srgbClr val="ffcc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Старейшая в мире образовательная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1005120" y="62244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Система образования в Герм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2139840" y="2673360"/>
            <a:ext cx="6183360" cy="825480"/>
          </a:xfrm>
          <a:prstGeom prst="rect">
            <a:avLst/>
          </a:prstGeom>
          <a:solidFill>
            <a:srgbClr val="ffcc99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Сочетание вековых традиций с новейши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alibri"/>
              </a:rPr>
              <a:t>направлен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551520" y="3932640"/>
            <a:ext cx="6602400" cy="459720"/>
          </a:xfrm>
          <a:prstGeom prst="rect">
            <a:avLst/>
          </a:prstGeom>
          <a:solidFill>
            <a:srgbClr val="ffcc99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Третье место по кол-ву иностранных студе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1547640" y="4763160"/>
            <a:ext cx="7081920" cy="734040"/>
          </a:xfrm>
          <a:prstGeom prst="rect">
            <a:avLst/>
          </a:prstGeom>
          <a:solidFill>
            <a:srgbClr val="ffcc9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Разные системы образования до 1991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5" descr="school_chart"/>
          <p:cNvPicPr/>
          <p:nvPr/>
        </p:nvPicPr>
        <p:blipFill>
          <a:blip r:embed="rId1"/>
          <a:stretch/>
        </p:blipFill>
        <p:spPr>
          <a:xfrm>
            <a:off x="1835280" y="333360"/>
            <a:ext cx="5025960" cy="638172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0" y="-313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German Schools Ch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7" descr="[ Map of Germany ]"/>
          <p:cNvPicPr/>
          <p:nvPr/>
        </p:nvPicPr>
        <p:blipFill>
          <a:blip r:embed="rId2"/>
          <a:stretch/>
        </p:blipFill>
        <p:spPr>
          <a:xfrm>
            <a:off x="250920" y="189000"/>
            <a:ext cx="122688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0291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5724360" cy="39546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98000" y="1195200"/>
            <a:ext cx="5488920" cy="119124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уссия, XVIII - принцип обяза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школьного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/>
          <p:nvPr/>
        </p:nvSpPr>
        <p:spPr>
          <a:xfrm>
            <a:off x="3360960" y="4721760"/>
            <a:ext cx="5377680" cy="1922760"/>
          </a:xfrm>
          <a:prstGeom prst="rect">
            <a:avLst/>
          </a:prstGeom>
          <a:solidFill>
            <a:srgbClr val="ffff9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авные особенности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формировались во время Веймарск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спублики в начале XX-го в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/>
          <p:nvPr/>
        </p:nvSpPr>
        <p:spPr>
          <a:xfrm>
            <a:off x="360360" y="503640"/>
            <a:ext cx="39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504d"/>
                </a:solidFill>
                <a:latin typeface="Calibri"/>
              </a:rPr>
              <a:t>ИСТОРИЯ ВОЗНИКНОВ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80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114200" y="187920"/>
            <a:ext cx="68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Calibri"/>
              </a:rPr>
              <a:t>ОБЗОР ОБРАЗОВАТЕЛЬНОЙ СИСТЕМЫ ГЕРМАНИИ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340240" y="4149720"/>
            <a:ext cx="3803760" cy="25304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16320" y="1195920"/>
            <a:ext cx="57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сплатное обучение для всех гражд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6546960" cy="4724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2060640"/>
            <a:ext cx="651672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Grundschule&#13;&#10;(Elementary School)&#13;&#10; 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5" descr="german-education-system-2-5-638 копия"/>
          <p:cNvPicPr/>
          <p:nvPr/>
        </p:nvPicPr>
        <p:blipFill>
          <a:blip r:embed="rId1"/>
          <a:stretch/>
        </p:blipFill>
        <p:spPr>
          <a:xfrm>
            <a:off x="0" y="2286000"/>
            <a:ext cx="3822840" cy="4572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99284c"/>
                </a:solidFill>
                <a:latin typeface="Arial"/>
              </a:rPr>
              <a:t>Kindergarte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52" name="Содержимое 3" descr="NORDENHAM_STADLAND_2_03267c7d-5ff9-4421-b2d4-7061541a367f--586x337.jpg"/>
          <p:cNvPicPr/>
          <p:nvPr/>
        </p:nvPicPr>
        <p:blipFill>
          <a:blip r:embed="rId2"/>
          <a:stretch/>
        </p:blipFill>
        <p:spPr>
          <a:xfrm>
            <a:off x="2808360" y="1700280"/>
            <a:ext cx="6335640" cy="364320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4"/>
          <p:cNvSpPr/>
          <p:nvPr/>
        </p:nvSpPr>
        <p:spPr>
          <a:xfrm>
            <a:off x="288720" y="836640"/>
            <a:ext cx="240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Age 3 to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not obliga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76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5651640" y="4221000"/>
            <a:ext cx="3095640" cy="21402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3309840" y="333360"/>
            <a:ext cx="5834160" cy="39369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4"/>
          <a:stretch/>
        </p:blipFill>
        <p:spPr>
          <a:xfrm>
            <a:off x="0" y="2673360"/>
            <a:ext cx="4643280" cy="39132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484360" y="5661000"/>
            <a:ext cx="2303640" cy="790560"/>
          </a:xfrm>
          <a:prstGeom prst="ellipse">
            <a:avLst/>
          </a:pr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1:53:06Z</dcterms:created>
  <dc:creator>лариса</dc:creator>
  <dc:description/>
  <dc:language>en-US</dc:language>
  <cp:lastModifiedBy>Admin</cp:lastModifiedBy>
  <dcterms:modified xsi:type="dcterms:W3CDTF">2021-04-18T11:01:33Z</dcterms:modified>
  <cp:revision>21</cp:revision>
  <dc:subject/>
  <dc:title>Слайд 1</dc:title>
</cp:coreProperties>
</file>