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3.png" ContentType="image/png"/>
  <Override PartName="/ppt/media/image8.jpeg" ContentType="image/jpeg"/>
  <Override PartName="/ppt/media/image33.wmf" ContentType="image/x-wmf"/>
  <Override PartName="/ppt/media/image29.jpeg" ContentType="image/jpeg"/>
  <Override PartName="/ppt/media/image27.jpeg" ContentType="image/jpeg"/>
  <Override PartName="/ppt/media/image30.wmf" ContentType="image/x-wmf"/>
  <Override PartName="/ppt/media/image6.jpeg" ContentType="image/jpeg"/>
  <Override PartName="/ppt/media/image18.png" ContentType="image/png"/>
  <Override PartName="/ppt/media/image28.jpeg" ContentType="image/jpeg"/>
  <Override PartName="/ppt/media/image9.jpeg" ContentType="image/jpeg"/>
  <Override PartName="/ppt/media/image7.jpeg" ContentType="image/jpeg"/>
  <Override PartName="/ppt/media/image31.wmf" ContentType="image/x-wmf"/>
  <Override PartName="/ppt/media/image32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55C-FB02-4DB7-947C-560603BE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9B8-2DCB-4165-9C43-99DF228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D88-B25B-41F4-8777-9BDD1BEE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415-DD08-432C-BDC2-09A9C8FD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14E-07A1-4B61-AF5E-ACF70B3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F2C-B289-4D67-8DF7-4C70CE3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9E8-8755-4F51-BD66-10DA69B7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7A3-7FC8-4FF1-BBD6-4ED273C6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A6A-ED8D-4542-828B-AEE3FF40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820-171D-42F8-B410-D9BA32E7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D14-37B7-4200-B757-D0E24F0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9D9-D475-4AAF-B38B-9838732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B43D-3BA2-4071-96F4-4200E1614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ОУ«Средняя общеобразовательная школа № 3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Times New Roman"/>
              </a:rPr>
              <a:t>Тема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</a:t>
            </a: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Алюминий и его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(урок изучения нового матери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9,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11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«Этому металлу – принадлежит великое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(Н.Г.Черныш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67616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хождение в природе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3309p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429000" y="1371600"/>
            <a:ext cx="2181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сапфир"/>
          <p:cNvPicPr/>
          <p:nvPr/>
        </p:nvPicPr>
        <p:blipFill>
          <a:blip r:embed="rId1"/>
          <a:stretch/>
        </p:blipFill>
        <p:spPr>
          <a:xfrm>
            <a:off x="685800" y="2514600"/>
            <a:ext cx="176832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Рубин"/>
          <p:cNvPicPr/>
          <p:nvPr/>
        </p:nvPicPr>
        <p:blipFill>
          <a:blip r:embed="rId2"/>
          <a:stretch/>
        </p:blipFill>
        <p:spPr>
          <a:xfrm>
            <a:off x="5943600" y="2590920"/>
            <a:ext cx="2303640" cy="1744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 flipV="1" rot="10800000">
            <a:off x="760320" y="76104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хождение в природе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73392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Аметис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838080" y="167652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апфир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(с прим.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Ti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и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e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095880" y="205740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Рубины</a:t>
            </a:r>
            <a:r>
              <a:rPr b="0" lang="ru-RU" sz="2000" spc="-1" strike="noStrike">
                <a:solidFill>
                  <a:srgbClr val="1a25f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a25fa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1a25fa"/>
                </a:solidFill>
                <a:latin typeface="Times New Roman"/>
              </a:rPr>
              <a:t>c </a:t>
            </a:r>
            <a:r>
              <a:rPr b="0" lang="ru-RU" sz="1600" spc="-1" strike="noStrike">
                <a:solidFill>
                  <a:srgbClr val="1a25fa"/>
                </a:solidFill>
                <a:latin typeface="Times New Roman"/>
              </a:rPr>
              <a:t>прим.</a:t>
            </a:r>
            <a:r>
              <a:rPr b="0" lang="en-US" sz="1600" spc="-1" strike="noStrike">
                <a:solidFill>
                  <a:srgbClr val="1a25fa"/>
                </a:solidFill>
                <a:latin typeface="Times New Roman"/>
              </a:rPr>
              <a:t>Cr</a:t>
            </a:r>
            <a:r>
              <a:rPr b="0" lang="ru-RU" sz="1600" spc="-1" strike="noStrike">
                <a:solidFill>
                  <a:srgbClr val="1a25fa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6553080" y="44956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опа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6" descr="Топаз 2"/>
          <p:cNvPicPr/>
          <p:nvPr/>
        </p:nvPicPr>
        <p:blipFill>
          <a:blip r:embed="rId3"/>
          <a:stretch/>
        </p:blipFill>
        <p:spPr>
          <a:xfrm>
            <a:off x="6019920" y="5029200"/>
            <a:ext cx="238104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аметист"/>
          <p:cNvPicPr/>
          <p:nvPr/>
        </p:nvPicPr>
        <p:blipFill>
          <a:blip r:embed="rId4"/>
          <a:stretch/>
        </p:blipFill>
        <p:spPr>
          <a:xfrm>
            <a:off x="3276720" y="25909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biruza"/>
          <p:cNvPicPr/>
          <p:nvPr/>
        </p:nvPicPr>
        <p:blipFill>
          <a:blip r:embed="rId5"/>
          <a:stretch/>
        </p:blipFill>
        <p:spPr>
          <a:xfrm>
            <a:off x="457200" y="502920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1"/>
          <p:cNvSpPr/>
          <p:nvPr/>
        </p:nvSpPr>
        <p:spPr>
          <a:xfrm>
            <a:off x="6094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ирюз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2" descr="korund"/>
          <p:cNvPicPr/>
          <p:nvPr/>
        </p:nvPicPr>
        <p:blipFill>
          <a:blip r:embed="rId6"/>
          <a:stretch/>
        </p:blipFill>
        <p:spPr>
          <a:xfrm>
            <a:off x="3352680" y="50292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3641760" y="4648320"/>
            <a:ext cx="11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орун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Физ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8380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еребристо – белый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легкий металл. Высокие качества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  электропроводность и теплопроводность, пластичность, легкость, стойкость по отношению к химическим веществам – одни эти качества обеспечивали бы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широкую будущность, но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«Металлом будущего »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он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ановится главным образом благодаря способности давать сплавы.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как проводник электрического тока и тепла  занимает 4 - е место посл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u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Ag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и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Au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 С этим связано его применение для изготовления электрических проводов. Особо чистый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хорошо отражает световые лучи. Им покрыто основное зеркало самого большого в мире советского 6 -ти метрового оптического телескопа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/задание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1)  исследуйте, горит ли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на воздухе и ка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легко плавится. Для этого отрежьте полоску фольги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крепите пинцетом один конец, а к другому поднесите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жженную спичку. Опишите, что произойдет?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(вопрос: что мешает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после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того как он расплавится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ечь с нагретой полоски в виде капель?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) поместите по кусочку фольги в воду, в нашатырный спирт, в столовый уксус. Опишите, что произойдет через несколько суток. Опыт закончите, когда в одном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з растворов кусочек фольги превратится в тончайшее «кружево».Сохраните его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176440" y="33037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теплопроводность алюминия.wmv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1. Металл взаимодействуют с простыми веществами: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( при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Г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галогениды)  -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7 групп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, 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Al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т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ксид)         -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6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сульфид)        -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6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нитрид)           -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5 группа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сфи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          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5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би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4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лици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-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4 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реагир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робота по ря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адание:</a:t>
            </a:r>
            <a:r>
              <a:rPr b="1" lang="ru-RU" sz="2000" spc="-1" strike="noStrike">
                <a:solidFill>
                  <a:srgbClr val="ed1bb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ставьте уравнения химических реакций и расставьте коэффициенты с  помощью электронного балан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-й ряд                     2-й ряд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3-й 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Al 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Al 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{8AEEEC2E-CCB9-4761-8367-726866648495}.avi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95264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Line 6"/>
          <p:cNvSpPr/>
          <p:nvPr/>
        </p:nvSpPr>
        <p:spPr>
          <a:xfrm>
            <a:off x="6858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 flipH="1">
            <a:off x="152388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7325640" y="990720"/>
            <a:ext cx="11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v261.mpg" descr=""/>
          <p:cNvPicPr/>
          <p:nvPr/>
        </p:nvPicPr>
        <p:blipFill>
          <a:blip r:embed="rId2"/>
          <a:stretch/>
        </p:blipFill>
        <p:spPr>
          <a:xfrm>
            <a:off x="6781680" y="434340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5"/>
          <p:cNvSpPr/>
          <p:nvPr/>
        </p:nvSpPr>
        <p:spPr>
          <a:xfrm>
            <a:off x="7238880" y="36576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ed1bb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ставьте уравнения химических реакций и расставьте коэффициенты с  помощью электронного баланса ( одного на выб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й ряд                              2-й ряд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й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4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3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осс.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осс.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4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осс.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=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кисл.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4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кисл.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3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кис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286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2004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1722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юминий взаимодействует с бр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 flipV="1" rot="10836000">
            <a:off x="920880" y="2446920"/>
            <a:ext cx="46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80280.mpg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4795200" y="26179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« Зажигание водой »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Ложечку порошк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мешали с  порошком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Смесь пересыпали на асбестовою сетку. Собрали кучкой и прибавили несколько капель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В присутствии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энергично соединяется с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Реакция сопровождается выделением большого количества теплоты, смесь воспламеняется. Выделяются пары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не успевшего вступить в реакцию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акую роль здесь выполняет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80285.mpg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33412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 flipV="1" rot="10798200">
            <a:off x="611280" y="449316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 Металл взаимодействует со сложными веществами: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а)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с Н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О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a25fa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1a25fa"/>
                </a:solidFill>
                <a:latin typeface="Times New Roman"/>
              </a:rPr>
              <a:t>у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необходимо снять   оксидную  пленку, чтобы произошла</a:t>
            </a:r>
            <a:r>
              <a:rPr b="1" lang="ru-RU" sz="2400" spc="-1" strike="noStrike">
                <a:solidFill>
                  <a:srgbClr val="1a25f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реакция с водо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Me(OH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дроксид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б)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кислотами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HC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определенных условиях химические реакции с кислотами окислителями протекают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б.) = со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ли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онц.) = соль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онц.) = со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и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помним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ссивирует при обычных условиях  в конц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V="1">
            <a:off x="541008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17220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4800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 flipV="1">
            <a:off x="5029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 flipV="1">
            <a:off x="51055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410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«Соколиный глаз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ное задание позволит определить у кого острый глаз и пытливый ум. Из  уравнений химических реакций вам следует выбрать практически осуществимые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окомментировать их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lC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N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M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H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Mg(N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S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94360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 flipV="1">
            <a:off x="60958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V="1">
            <a:off x="5029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49528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V="1">
            <a:off x="4191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647712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)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мфотерный металл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Al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заимодействует со щелочами: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OH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едостатк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тетрагидроксоалюминат натрия)</a:t>
            </a: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Na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O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збытке 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гексагидроксоалюминат натрия 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заимодействие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Al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 солями:</a:t>
            </a:r>
            <a:br>
              <a:rPr sz="2400"/>
            </a:b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Более активный металл вытесняет менее активный, например: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сставьте коэффициенты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 напишите полные и сокращенные ионные уравн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5867280" y="1599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 flipV="1">
            <a:off x="67057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 flipV="1">
            <a:off x="-180720" y="147492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30492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 уро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вторить и систематизировать знания учащихся о металлах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руппы главной подгруппы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меть давать характеристику металлам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руппы главной подгруппы исходя из положения в периодической системе и строение атом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меть доказывать химические свойства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юминия и его соединениям. Записывать уравнения реакций в молекулярном, ионном, окислительно-восстановительном виде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меть пользоваться приемами сравнения, обобщения, делать выводы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1840" y="-26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17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872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сставьте коэффициенты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пишите полные и сокращенные ионные уравнения:</a:t>
            </a:r>
            <a:br>
              <a:rPr sz="2400"/>
            </a:b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C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C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1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C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3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C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C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 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3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C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Взаимодействи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 оксидами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алюминотерм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следствие высокой химической активности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используют в качестве восстановителя в металл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Расставьте коэффициенты с помощью электронного баланса для данного уравнения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030360" y="30481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Копия Без имени.wmv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ставьте электронный баланс для данного уравнения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2 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2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- 3е 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 Восстановитель, пр. окисления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en-US" sz="1800" spc="-1" strike="noStrike" baseline="40000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+ 3е 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Fe 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 ( Окислитель, пр. восстановления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2860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чественная реакция на ион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1219320"/>
            <a:ext cx="93726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ние 1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амостоятельно допишите и составьте для данных уравнений реакций полные и сокращенные  ионные уравнения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?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 Белый студенистый осадок, который в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кислотах растворяется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= ?+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+ KOH=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?+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af5"/>
                </a:solidFill>
                <a:latin typeface="Times New Roman"/>
              </a:rPr>
              <a:t>Al(OH)</a:t>
            </a:r>
            <a:r>
              <a:rPr b="1" lang="en-US" sz="1800" spc="-1" strike="noStrike">
                <a:solidFill>
                  <a:srgbClr val="012af5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входит в состав адсорбирующего и обволакивающего средства, применяется при язве желудка, гастритах. Некоторые соли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1" lang="en-US" sz="2400" spc="-1" strike="noStrike" baseline="30000">
                <a:solidFill>
                  <a:srgbClr val="009900"/>
                </a:solidFill>
                <a:latin typeface="Times New Roman"/>
              </a:rPr>
              <a:t>3+</a:t>
            </a:r>
            <a:r>
              <a:rPr b="1" lang="ru-RU" sz="2400" spc="-1" strike="noStrike" baseline="30000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применяются при кожных заболеваниях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2767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{83346825-9E62-41BA-8184-A327E92F54EC}.avi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363480" y="3962520"/>
            <a:ext cx="11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2af5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Na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Na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Белый студенистый осадок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Al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Al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Al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12af5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Белый студенистый осадок</a:t>
            </a:r>
            <a:r>
              <a:rPr b="0" lang="ru-RU" sz="2400" spc="-1" strike="noStrike">
                <a:solidFill>
                  <a:srgbClr val="012af5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кислотах раство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H = 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K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K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12af5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 </a:t>
            </a:r>
            <a:r>
              <a:rPr b="1" lang="ru-RU" sz="2400" spc="-1" strike="noStrike" baseline="30000">
                <a:solidFill>
                  <a:srgbClr val="012af5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Белый студенистый осадок</a:t>
            </a:r>
            <a:r>
              <a:rPr b="0" lang="ru-RU" sz="2400" spc="-1" strike="noStrike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в щелочах раство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5257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4343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3505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1981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6765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16765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лучение алюми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601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vohler0"/>
          <p:cNvPicPr/>
          <p:nvPr/>
        </p:nvPicPr>
        <p:blipFill>
          <a:blip r:embed="rId1"/>
          <a:stretch/>
        </p:blipFill>
        <p:spPr>
          <a:xfrm>
            <a:off x="1295280" y="21337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B105"/>
          <p:cNvPicPr/>
          <p:nvPr/>
        </p:nvPicPr>
        <p:blipFill>
          <a:blip r:embed="rId2"/>
          <a:stretch/>
        </p:blipFill>
        <p:spPr>
          <a:xfrm>
            <a:off x="6248520" y="1905120"/>
            <a:ext cx="1825560" cy="1981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228600" y="1066680"/>
            <a:ext cx="434340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ецкий учёный Ф. Велер (1827 г.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л алюминий при нагре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лорида алюминия со щелочны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ами калий и натри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6920" y="9907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Сент-Клер Девил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получил алюминий промышленным способом (1855г.)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3809880"/>
            <a:ext cx="80010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2800" spc="-1" strike="noStrike">
                <a:solidFill>
                  <a:srgbClr val="ed1bb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лучают электролизом его оксида в расплаве криолит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d1bb6"/>
                </a:solidFill>
                <a:latin typeface="Times New Roman"/>
              </a:rPr>
              <a:t>Задание.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i="1" lang="ru-RU" sz="3200" spc="-1" strike="noStrike">
                <a:solidFill>
                  <a:srgbClr val="990000"/>
                </a:solidFill>
                <a:latin typeface="Times New Roman"/>
              </a:rPr>
              <a:t>оставьте электронный баланс для данного уравнения</a:t>
            </a:r>
            <a:r>
              <a:rPr b="0" i="1" lang="ru-RU" sz="4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Электролиз расплава «глинозем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- A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»: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= 4Al+3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dsc00467.jpg (1584 bytes)"/>
          <p:cNvPicPr/>
          <p:nvPr/>
        </p:nvPicPr>
        <p:blipFill>
          <a:blip r:embed="rId3"/>
          <a:stretch/>
        </p:blipFill>
        <p:spPr>
          <a:xfrm>
            <a:off x="7086600" y="3962520"/>
            <a:ext cx="205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569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d1bb6"/>
                </a:solidFill>
                <a:latin typeface="Times New Roman"/>
              </a:rPr>
              <a:t>Задание.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ставьте электронный баланс для дан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лектролиз расплава «глинозема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- 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»: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4Al + 3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= 4Al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3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-К:)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+3е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Al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 пр. восстановл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4е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3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 пр.окис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6576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3308p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3308p"/>
          <p:cNvPicPr/>
          <p:nvPr/>
        </p:nvPicPr>
        <p:blipFill>
          <a:blip r:embed="rId2"/>
          <a:stretch/>
        </p:blipFill>
        <p:spPr>
          <a:xfrm>
            <a:off x="380880" y="6858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нение металл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g51103"/>
          <p:cNvPicPr/>
          <p:nvPr/>
        </p:nvPicPr>
        <p:blipFill>
          <a:blip r:embed="rId1"/>
          <a:stretch/>
        </p:blipFill>
        <p:spPr>
          <a:xfrm>
            <a:off x="228600" y="2743200"/>
            <a:ext cx="861048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3600" spc="-1" strike="noStrike">
                <a:solidFill>
                  <a:srgbClr val="af67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покрывают чугун и сплавы для защиты от коррозии (алитирование); термит (смесь алюминия и оксидов железа)- для сварки рельсов; получение металлов особой чистоты (алюмотермия)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менение металл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 его соедин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q (199)[1]"/>
          <p:cNvPicPr/>
          <p:nvPr/>
        </p:nvPicPr>
        <p:blipFill>
          <a:blip r:embed="rId1"/>
          <a:stretch/>
        </p:blipFill>
        <p:spPr>
          <a:xfrm>
            <a:off x="228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838080"/>
            <a:ext cx="929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плавы но основе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применяются в ракетной технике, в авиа-, авто-, судо- и вагоностроении. В строительстве (алюминиевые кровли, оконные переплеты.)В электротехнике для изготовления кабелей и проводов. В пищевой промышленности и в быту: фольга, посуда.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«серебряная» краска. В производстве различных предметов воинского снаряжения (котелки, фляги)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в часовых механизмов, ювелирные изделия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Al(SO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в медицине как кровоостанавливающее средство, при дубление кожи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SO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чистка водопроводной воды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Print0002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kwas_azotowy_c"/>
          <p:cNvPicPr/>
          <p:nvPr/>
        </p:nvPicPr>
        <p:blipFill>
          <a:blip r:embed="rId3"/>
          <a:stretch/>
        </p:blipFill>
        <p:spPr>
          <a:xfrm>
            <a:off x="3048120" y="4495680"/>
            <a:ext cx="2361960" cy="213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q (199)[1]"/>
          <p:cNvPicPr/>
          <p:nvPr/>
        </p:nvPicPr>
        <p:blipFill>
          <a:blip r:embed="rId4"/>
          <a:stretch/>
        </p:blipFill>
        <p:spPr>
          <a:xfrm>
            <a:off x="228600" y="44956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орудование  к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7488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бразцы металла алюминия, природных соединений и сплавов, стеклянная посуда (чашка Петри, колба), вода, соли алюминия,  коллекция веществ из алюминия,  мультимедийный проектор, экран, компьютер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чебни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1" descr="kastrulya"/>
          <p:cNvPicPr/>
          <p:nvPr/>
        </p:nvPicPr>
        <p:blipFill>
          <a:blip r:embed="rId1"/>
          <a:stretch/>
        </p:blipFill>
        <p:spPr>
          <a:xfrm>
            <a:off x="1905120" y="1676520"/>
            <a:ext cx="1714320" cy="1371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нение алюминия и его соедине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hainik"/>
          <p:cNvPicPr/>
          <p:nvPr/>
        </p:nvPicPr>
        <p:blipFill>
          <a:blip r:embed="rId2"/>
          <a:stretch/>
        </p:blipFill>
        <p:spPr>
          <a:xfrm>
            <a:off x="0" y="0"/>
            <a:ext cx="2038320" cy="2209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BD07281_"/>
          <p:cNvPicPr/>
          <p:nvPr/>
        </p:nvPicPr>
        <p:blipFill>
          <a:blip r:embed="rId3"/>
          <a:stretch/>
        </p:blipFill>
        <p:spPr>
          <a:xfrm>
            <a:off x="3505320" y="4495680"/>
            <a:ext cx="1752480" cy="2135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TN00561_"/>
          <p:cNvPicPr/>
          <p:nvPr/>
        </p:nvPicPr>
        <p:blipFill>
          <a:blip r:embed="rId4"/>
          <a:stretch/>
        </p:blipFill>
        <p:spPr>
          <a:xfrm>
            <a:off x="6095880" y="4913280"/>
            <a:ext cx="2590920" cy="194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n445"/>
          <p:cNvPicPr/>
          <p:nvPr/>
        </p:nvPicPr>
        <p:blipFill>
          <a:blip r:embed="rId5"/>
          <a:stretch/>
        </p:blipFill>
        <p:spPr>
          <a:xfrm>
            <a:off x="3886200" y="1371600"/>
            <a:ext cx="4876920" cy="3059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иологическая роль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есмотря на наличие громадных количеств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в почвах, растения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ак правило, содержит мало этого элемента. Еще значительно меньше его содержится в животных организмах. У человека оно составляет лишь десятичные доли процента по массе. Накапливается в организме с ежедневным приемом пищи. Играет роль в развитии болезни Альц – Мейера. Токсическая доза 5 г. Не безобиден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он обладает нейротоксическим действием: нарушает двигательную активность, вызывает судороги, снижение памяти, некоторые психические реакции подобие слабоумия. Имеются данные о его мутагенной активност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Закрепление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чему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суда не разрушается кипяченой водой?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 ряд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. Целесообразно ли хранить раствор стиральной соды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a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а также продукты молочнокислого брожения в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посуде? Ответ подтвердите уравнениями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й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3. При хранении в алюминиевой посуде кислые щи приобретают неприятный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«металлический»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вкус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 каким химическим процессом это связано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й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/задание.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Составьте уравнения реакций следующих превращ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AlC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Al(OH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[Al(OH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]         Al(OH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A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Al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838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1905120" y="5562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4290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53341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бладая такими свойствами как лёгкость, прочность, устойчивость к коррозии, устойчивость  к действию сильных химических реагентов - алюминий нашёл большое применение во многих отраслях  народного хозяйства. Особое место алюминий и его сплавы занимают в авиационном и космическом транспорте, электротехнике, а за ними будущее нашей науки и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 flipV="1" rot="10800000">
            <a:off x="1983960" y="187920"/>
            <a:ext cx="41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914400"/>
            <a:ext cx="8839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ложение металла в периодической системе            Д.И.Менделеев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роение атома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Физические свойства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имические свойства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лучение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менение металла и его соединений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421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.Организационный момент (психологический настрой) - 2 мин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. Проверка домашнего задания -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ступительное слово учителя - 1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вторение и обобщение темы - 32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дведение итогов урока - 2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дание на дом (дифференцированное ) - 3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-228600" y="14479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Бор первый в группе третьей,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о алюминию букеты все несут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н плод труда эпохи многолетней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Его теперь и режут и куют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Из истории открытия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endel1"/>
          <p:cNvPicPr/>
          <p:nvPr/>
        </p:nvPicPr>
        <p:blipFill>
          <a:blip r:embed="rId1"/>
          <a:stretch/>
        </p:blipFill>
        <p:spPr>
          <a:xfrm>
            <a:off x="304920" y="16765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590920" y="1523880"/>
            <a:ext cx="624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крыт в 1825 г. Хансом  Кристаном Эрстедом (Копенгаген, Дания).От лат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umen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квасцы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 период открытия алюминия - металл был дороже золота. Англичане хотели почтить богатым подарком великого русского химика Д.И Менделеева, подарили ему химические весы, в которых одна чашка была изготовлена из золота, другая - из алюминия. Чашка из алюминия стала дороже золотой. Полученное «серебро из глины» заинтересовало не только учёных, но и промышленников и даже императора Франци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1a25fa"/>
                </a:solidFill>
                <a:latin typeface="Times New Roman"/>
              </a:rPr>
              <a:t>Строение атомов Ме </a:t>
            </a:r>
            <a:r>
              <a:rPr b="1" lang="en-US" sz="3600" spc="-1" strike="noStrike">
                <a:solidFill>
                  <a:srgbClr val="1a25fa"/>
                </a:solidFill>
                <a:latin typeface="Times New Roman"/>
              </a:rPr>
              <a:t>III </a:t>
            </a:r>
            <a:r>
              <a:rPr b="1" lang="ru-RU" sz="3600" spc="-1" strike="noStrike">
                <a:solidFill>
                  <a:srgbClr val="1a25fa"/>
                </a:solidFill>
                <a:latin typeface="Times New Roman"/>
              </a:rPr>
              <a:t>группы главной подгруппы</a:t>
            </a:r>
            <a:r>
              <a:rPr b="1" lang="en-US" sz="3600" spc="-1" strike="noStrike" u="sng">
                <a:solidFill>
                  <a:srgbClr val="80808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+5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+13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)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3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3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8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3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Ga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))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4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4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Times New Roman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 8  8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49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In )))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5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5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8 18 8 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8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Tl ))))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…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6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6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8 18 18 8 3</a:t>
            </a: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s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p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амфотерный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64000" y="1700280"/>
            <a:ext cx="5254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ed1bb6"/>
                </a:solidFill>
                <a:uFillTx/>
                <a:latin typeface="Times New Roman"/>
              </a:rPr>
              <a:t>Изменение свойств металлов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imes New Roman"/>
              </a:rPr>
              <a:t>Учитель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ак и почему изменяется химическая   активность  металлов с возрастанием порядкового номера?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мерные ответы учащихс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адиус атома увеличивается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величиваются восстановительные свойства (способность отдавать электроны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962520" y="5029200"/>
            <a:ext cx="4495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n5101"/>
          <p:cNvPicPr/>
          <p:nvPr/>
        </p:nvPicPr>
        <p:blipFill>
          <a:blip r:embed="rId1"/>
          <a:stretch/>
        </p:blipFill>
        <p:spPr>
          <a:xfrm>
            <a:off x="304920" y="38862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хождение в природе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нимает 3-е место по распространени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земной коре после кислорода и кремния.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самый распространенный  Ме в природе. Соединения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были известны очень рано: история глин начи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 доисторических времен.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ходит в состав силикатов(шпаты, слюда), а также глин. Из соединений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ибольшее значение имеет минерал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(глинозем) корунд, синий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апфир, фиолетовы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аметист, красны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рубин, непрозрачный- наждак. Ортоклаз, нефелин, боксит, крио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някина О.В.</dc:creator>
  <dc:description/>
  <dc:language>en-US</dc:language>
  <cp:lastModifiedBy>uav</cp:lastModifiedBy>
  <dcterms:modified xsi:type="dcterms:W3CDTF">2013-03-01T04:26:00Z</dcterms:modified>
  <cp:revision>114</cp:revision>
  <dc:subject/>
  <dc:title>МОУ «Средняя общеобразовательная школа № 36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