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3.png" ContentType="image/png"/>
  <Override PartName="/ppt/media/image8.jpeg" ContentType="image/jpeg"/>
  <Override PartName="/ppt/media/image33.wmf" ContentType="image/x-wmf"/>
  <Override PartName="/ppt/media/image29.jpeg" ContentType="image/jpeg"/>
  <Override PartName="/ppt/media/image27.jpeg" ContentType="image/jpeg"/>
  <Override PartName="/ppt/media/image30.wmf" ContentType="image/x-wmf"/>
  <Override PartName="/ppt/media/image6.jpeg" ContentType="image/jpeg"/>
  <Override PartName="/ppt/media/image18.png" ContentType="image/png"/>
  <Override PartName="/ppt/media/image28.jpeg" ContentType="image/jpeg"/>
  <Override PartName="/ppt/media/image9.jpeg" ContentType="image/jpeg"/>
  <Override PartName="/ppt/media/image7.jpeg" ContentType="image/jpeg"/>
  <Override PartName="/ppt/media/image31.wmf" ContentType="image/x-wmf"/>
  <Override PartName="/ppt/media/image32.png" ContentType="image/png"/>
  <Override PartName="/ppt/media/image5.jpeg" ContentType="image/jpeg"/>
  <Override PartName="/ppt/media/image26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42A-7406-41AE-A04F-E4DF2884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234-4F84-4BA1-9A93-4B9D0B72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C20-A5D7-4933-86DB-0E50B785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05A-FB32-4F7C-B439-FDE844FB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5A9-9D79-4B1F-83AE-08D6A988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A85-E0BB-4BA3-82B8-BB56ACC6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5D1-C97C-44F2-92BD-F00D2701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400-E209-4554-AED2-287FF056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840-1439-4B0D-9C46-0E8D6E7F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105-1F0B-4E69-A8F3-9843A4A0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E18-5039-4A5F-8351-249679B9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BDB-7FAE-4945-BA47-1C05CE59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B159-C75F-4E85-B66E-767994221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ОУ«Средняя общеобразовательная школа № 3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Times New Roman"/>
              </a:rPr>
              <a:t>Тема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:</a:t>
            </a: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Алюминий и его соеди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(урок изучения нового материа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9,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11 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«Этому металлу – принадлежит великое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(Н.Г.Черныше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162920" y="990720"/>
            <a:ext cx="167616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ахождение в природе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3309p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4648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3429000" y="1371600"/>
            <a:ext cx="2181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сапфир"/>
          <p:cNvPicPr/>
          <p:nvPr/>
        </p:nvPicPr>
        <p:blipFill>
          <a:blip r:embed="rId1"/>
          <a:stretch/>
        </p:blipFill>
        <p:spPr>
          <a:xfrm>
            <a:off x="685800" y="2514600"/>
            <a:ext cx="1768320" cy="178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Рубин"/>
          <p:cNvPicPr/>
          <p:nvPr/>
        </p:nvPicPr>
        <p:blipFill>
          <a:blip r:embed="rId2"/>
          <a:stretch/>
        </p:blipFill>
        <p:spPr>
          <a:xfrm>
            <a:off x="5943600" y="2590920"/>
            <a:ext cx="2303640" cy="17445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 flipV="1" rot="10800000">
            <a:off x="760320" y="76104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ахождение в природе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73392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Аметис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838080" y="1676520"/>
            <a:ext cx="205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апфир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(с прим.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Ti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и 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Fe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095880" y="205740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25fa"/>
                </a:solidFill>
                <a:latin typeface="Times New Roman"/>
              </a:rPr>
              <a:t>Рубины</a:t>
            </a:r>
            <a:r>
              <a:rPr b="0" lang="ru-RU" sz="2000" spc="-1" strike="noStrike">
                <a:solidFill>
                  <a:srgbClr val="1a25fa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1a25fa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1a25fa"/>
                </a:solidFill>
                <a:latin typeface="Times New Roman"/>
              </a:rPr>
              <a:t>c </a:t>
            </a:r>
            <a:r>
              <a:rPr b="0" lang="ru-RU" sz="1600" spc="-1" strike="noStrike">
                <a:solidFill>
                  <a:srgbClr val="1a25fa"/>
                </a:solidFill>
                <a:latin typeface="Times New Roman"/>
              </a:rPr>
              <a:t>прим.</a:t>
            </a:r>
            <a:r>
              <a:rPr b="0" lang="en-US" sz="1600" spc="-1" strike="noStrike">
                <a:solidFill>
                  <a:srgbClr val="1a25fa"/>
                </a:solidFill>
                <a:latin typeface="Times New Roman"/>
              </a:rPr>
              <a:t>Cr</a:t>
            </a:r>
            <a:r>
              <a:rPr b="0" lang="ru-RU" sz="1600" spc="-1" strike="noStrike">
                <a:solidFill>
                  <a:srgbClr val="1a25fa"/>
                </a:solidFill>
                <a:latin typeface="Times New Roman"/>
              </a:rPr>
              <a:t>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6553080" y="4495680"/>
            <a:ext cx="13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Топаз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6" descr="Топаз 2"/>
          <p:cNvPicPr/>
          <p:nvPr/>
        </p:nvPicPr>
        <p:blipFill>
          <a:blip r:embed="rId3"/>
          <a:stretch/>
        </p:blipFill>
        <p:spPr>
          <a:xfrm>
            <a:off x="6019920" y="5029200"/>
            <a:ext cx="238104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аметист"/>
          <p:cNvPicPr/>
          <p:nvPr/>
        </p:nvPicPr>
        <p:blipFill>
          <a:blip r:embed="rId4"/>
          <a:stretch/>
        </p:blipFill>
        <p:spPr>
          <a:xfrm>
            <a:off x="3276720" y="259092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biruza"/>
          <p:cNvPicPr/>
          <p:nvPr/>
        </p:nvPicPr>
        <p:blipFill>
          <a:blip r:embed="rId5"/>
          <a:stretch/>
        </p:blipFill>
        <p:spPr>
          <a:xfrm>
            <a:off x="457200" y="5029200"/>
            <a:ext cx="2209680" cy="1447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1"/>
          <p:cNvSpPr/>
          <p:nvPr/>
        </p:nvSpPr>
        <p:spPr>
          <a:xfrm>
            <a:off x="6094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ирюз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2" descr="korund"/>
          <p:cNvPicPr/>
          <p:nvPr/>
        </p:nvPicPr>
        <p:blipFill>
          <a:blip r:embed="rId6"/>
          <a:stretch/>
        </p:blipFill>
        <p:spPr>
          <a:xfrm>
            <a:off x="3352680" y="502920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3"/>
          <p:cNvSpPr/>
          <p:nvPr/>
        </p:nvSpPr>
        <p:spPr>
          <a:xfrm>
            <a:off x="3641760" y="4648320"/>
            <a:ext cx="11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Корунд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Физические свойства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83808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Al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еребристо – белый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легкий металл. Высокие качества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:  электропроводность и теплопроводность, пластичность, легкость, стойкость по отношению к химическим веществам – одни эти качества обеспечивали бы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широкую будущность, но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«Металлом будущего »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он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тановится главным образом благодаря способности давать сплавы.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 как проводник электрического тока и тепла  занимает 4 - е место после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u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Ag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и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Au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. С этим связано его применение для изготовления электрических проводов. Особо чистый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Al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хорошо отражает световые лучи. Им покрыто основное зеркало самого большого в мире советского 6 -ти метрового оптического телескопа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Д/задание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1)  исследуйте, горит ли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на воздухе и как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легко плавится. Для этого отрежьте полоску фольги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закрепите пинцетом один конец, а к другому поднесите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зажженную спичку. Опишите, что произойдет?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(вопрос: что мешает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, после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того как он расплавится,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течь с нагретой полоски в виде капель?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) поместите по кусочку фольги в воду, в нашатырный спирт, в столовый уксус. Опишите, что произойдет через несколько суток. Опыт закончите, когда в одном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з растворов кусочек фольги превратится в тончайшее «кружево».Сохраните его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176440" y="330372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1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теплопроводность алюминия.wmv" descr=""/>
          <p:cNvPicPr/>
          <p:nvPr/>
        </p:nvPicPr>
        <p:blipFill>
          <a:blip r:embed="rId1"/>
          <a:stretch/>
        </p:blipFill>
        <p:spPr>
          <a:xfrm>
            <a:off x="6553080" y="3429000"/>
            <a:ext cx="2286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Химические свойства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1. Металл взаимодействуют с простыми веществами: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( при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еГ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галогениды)  -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7 групп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, н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Al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т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ксид)         -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6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сульфид)        -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6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нитрид)           -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5 группа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осфи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           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5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рби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     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4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илици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-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4 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 реагиру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стоятельная робота по ря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Задание:</a:t>
            </a:r>
            <a:r>
              <a:rPr b="1" lang="ru-RU" sz="2000" spc="-1" strike="noStrike">
                <a:solidFill>
                  <a:srgbClr val="ed1bb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оставьте уравнения химических реакций и расставьте коэффициенты с  помощью электронного балан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1-й ряд                     2-й ряд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  3-й 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Al 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Al 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{8AEEEC2E-CCB9-4761-8367-726866648495}.avi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1952640" cy="1728720"/>
          </a:xfrm>
          <a:prstGeom prst="rect">
            <a:avLst/>
          </a:prstGeom>
          <a:ln w="0">
            <a:noFill/>
          </a:ln>
        </p:spPr>
      </p:pic>
      <p:sp>
        <p:nvSpPr>
          <p:cNvPr id="90" name="Line 6"/>
          <p:cNvSpPr/>
          <p:nvPr/>
        </p:nvSpPr>
        <p:spPr>
          <a:xfrm>
            <a:off x="6858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7"/>
          <p:cNvSpPr/>
          <p:nvPr/>
        </p:nvSpPr>
        <p:spPr>
          <a:xfrm flipH="1">
            <a:off x="1523880" y="4343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7325640" y="990720"/>
            <a:ext cx="11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2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v261.mpg" descr=""/>
          <p:cNvPicPr/>
          <p:nvPr/>
        </p:nvPicPr>
        <p:blipFill>
          <a:blip r:embed="rId2"/>
          <a:stretch/>
        </p:blipFill>
        <p:spPr>
          <a:xfrm>
            <a:off x="6781680" y="4343400"/>
            <a:ext cx="2057400" cy="19591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5"/>
          <p:cNvSpPr/>
          <p:nvPr/>
        </p:nvSpPr>
        <p:spPr>
          <a:xfrm>
            <a:off x="7238880" y="365760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3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верка самостоятельной работы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Задание:</a:t>
            </a:r>
            <a:r>
              <a:rPr b="1" lang="ru-RU" sz="2400" spc="-1" strike="noStrike">
                <a:solidFill>
                  <a:srgbClr val="ed1bb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оставьте уравнения химических реакций и расставьте коэффициенты с  помощью электронного баланса ( одного на выбо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-й ряд                              2-й ряд  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-й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C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4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3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осс.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4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осс.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4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осс.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=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кисл.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+ 4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2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2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кисл.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3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кис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22860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>
            <a:off x="320040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"/>
          <p:cNvSpPr/>
          <p:nvPr/>
        </p:nvSpPr>
        <p:spPr>
          <a:xfrm>
            <a:off x="6172200" y="4038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Химические свойства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238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ы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Алюминий взаимодействует с бро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 flipV="1" rot="10836000">
            <a:off x="920880" y="2446920"/>
            <a:ext cx="46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80280.mpg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4795200" y="261792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4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ыт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. 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« Зажигание водой »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Ложечку порошка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мешали с  порошком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 Смесь пересыпали на асбестовою сетку. Собрали кучкой и прибавили несколько капель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 В присутствии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энергично соединяется с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. Реакция сопровождается выделением большого количества теплоты, смесь воспламеняется. Выделяются пары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, не успевшего вступить в реакцию.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?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акую роль здесь выполняет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080285.mpg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5334120" cy="2514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 flipV="1" rot="10798200">
            <a:off x="611280" y="4493160"/>
            <a:ext cx="13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-304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Химические свойства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 Металл взаимодействует со сложными веществами: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а) 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с Н</a:t>
            </a:r>
            <a:r>
              <a:rPr b="1" lang="ru-RU" sz="1800" spc="-1" strike="noStrike" u="sng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О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a25fa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1a25fa"/>
                </a:solidFill>
                <a:latin typeface="Times New Roman"/>
              </a:rPr>
              <a:t>у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a25fa"/>
                </a:solidFill>
                <a:latin typeface="Times New Roman"/>
              </a:rPr>
              <a:t>необходимо снять   оксидную  пленку, чтобы произошла</a:t>
            </a:r>
            <a:r>
              <a:rPr b="1" lang="ru-RU" sz="2400" spc="-1" strike="noStrike">
                <a:solidFill>
                  <a:srgbClr val="1a25f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a25fa"/>
                </a:solidFill>
                <a:latin typeface="Times New Roman"/>
              </a:rPr>
              <a:t>реакция с водо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Me(OH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идроксид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б) </a:t>
            </a: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с </a:t>
            </a:r>
            <a:r>
              <a:rPr b="0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кислотами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HC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 определенных условиях химические реакции с кислотами окислителями протекают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разб.) = со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или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онц.) = соль 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и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онц.) = со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и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ил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помним!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ассивирует при обычных условиях  в конц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 flipV="1">
            <a:off x="541008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7"/>
          <p:cNvSpPr/>
          <p:nvPr/>
        </p:nvSpPr>
        <p:spPr>
          <a:xfrm flipV="1">
            <a:off x="6172200" y="1980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"/>
          <p:cNvSpPr/>
          <p:nvPr/>
        </p:nvSpPr>
        <p:spPr>
          <a:xfrm flipV="1">
            <a:off x="4800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 flipV="1">
            <a:off x="50292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 flipV="1">
            <a:off x="51055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541008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«Соколиный глаз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анное задание позволит определить у кого острый глаз и пытливый ум. Из  уравнений химических реакций вам следует выбрать практически осуществимые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и прокомментировать их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HC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aC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HC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AlC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HN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M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H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Mg(N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S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C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594360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 flipV="1">
            <a:off x="60958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 flipV="1">
            <a:off x="50292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 flipV="1">
            <a:off x="4952880" y="3580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4267080" y="3123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 flipV="1">
            <a:off x="41911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6477120" y="403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Химические свойства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Al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в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)</a:t>
            </a: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амфотерный металл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Al</a:t>
            </a:r>
            <a:r>
              <a:rPr b="0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взаимодействует со щелочами: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aOH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a[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O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недостатк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тетрагидроксоалюминат натрия)</a:t>
            </a:r>
            <a:br>
              <a:rPr sz="24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Na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N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aO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збытке 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гексагидроксоалюминат натрия 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г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заимодействие</a:t>
            </a:r>
            <a:r>
              <a:rPr b="0" lang="ru-RU" sz="2400" spc="-1" strike="noStrike" u="sng">
                <a:solidFill>
                  <a:srgbClr val="ff0066"/>
                </a:solidFill>
                <a:uFillTx/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</a:rPr>
              <a:t>Al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с солями:</a:t>
            </a:r>
            <a:br>
              <a:rPr sz="2400"/>
            </a:br>
            <a:r>
              <a:rPr b="0" lang="ru-RU" sz="2400" spc="-1" strike="noStrike">
                <a:solidFill>
                  <a:srgbClr val="1a25fa"/>
                </a:solidFill>
                <a:latin typeface="Times New Roman"/>
              </a:rPr>
              <a:t>Более активный металл вытесняет менее активный, например: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C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асставьте коэффициенты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 напишите полные и сокращенные ионные уравнения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V="1">
            <a:off x="5867280" y="1599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"/>
          <p:cNvSpPr/>
          <p:nvPr/>
        </p:nvSpPr>
        <p:spPr>
          <a:xfrm flipV="1">
            <a:off x="67057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 flipV="1">
            <a:off x="-180720" y="1474920"/>
            <a:ext cx="15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304920"/>
            <a:ext cx="91440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ь уро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вторить и систематизировать знания учащихся о металлах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группы главной подгруппы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меть давать характеристику металлам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группы главной подгруппы исходя из положения в периодической системе и строение атома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меть доказывать химические свойства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алюминия и его соединениям. Записывать уравнения реакций в молекулярном, ионном, окислительно-восстановительном виде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меть пользоваться приемами сравнения, обобщения, делать выводы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31840" y="-268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174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872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оверка самостоятельной работы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асставьте коэффициенты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апишите полные и сокращенные ионные уравнения:</a:t>
            </a:r>
            <a:br>
              <a:rPr sz="2400"/>
            </a:b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+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Cl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Cl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16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Cl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=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Al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3+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Cl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Cu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 3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2+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Al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3+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Cu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Химические свойства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Взаимодействие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 оксидами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алюминотерм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следствие высокой химической активности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используют в качестве восстановителя в металлу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Times New Roman"/>
              </a:rPr>
              <a:t>Расставьте коэффициенты с помощью электронного баланса для данного уравнения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59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 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030360" y="304812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6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Копия Без имени.wmv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оверка самостоятельн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оставьте электронный баланс для данного уравнения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ru-RU" sz="1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+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-2 </a:t>
            </a:r>
            <a:r>
              <a:rPr b="1" lang="ru-RU" sz="1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+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-2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ru-RU" sz="18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- 3е </a:t>
            </a:r>
            <a:r>
              <a:rPr b="1" lang="ru-RU" sz="1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+3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 Восстановитель, пр. окисления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en-US" sz="1800" spc="-1" strike="noStrike" baseline="40000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+3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+ 3е </a:t>
            </a:r>
            <a:r>
              <a:rPr b="1" lang="ru-RU" sz="1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Fe 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 ( Окислитель, пр. восстановления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228600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ачественная реакция на ион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009900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1219320"/>
            <a:ext cx="93726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адание 1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Самостоятельно допишите и составьте для данных уравнений реакций полные и сокращенные  ионные уравнения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C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?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  Белый студенистый осадок, который в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кислотах растворяется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= ?+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+ KOH=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 ?+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2af5"/>
                </a:solidFill>
                <a:latin typeface="Times New Roman"/>
              </a:rPr>
              <a:t>Al(OH)</a:t>
            </a:r>
            <a:r>
              <a:rPr b="1" lang="en-US" sz="1800" spc="-1" strike="noStrike">
                <a:solidFill>
                  <a:srgbClr val="012af5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 входит в состав адсорбирующего и обволакивающего средства, применяется при язве желудка, гастритах. Некоторые соли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 </a:t>
            </a:r>
            <a:r>
              <a:rPr b="1" lang="en-US" sz="2400" spc="-1" strike="noStrike" baseline="30000">
                <a:solidFill>
                  <a:srgbClr val="009900"/>
                </a:solidFill>
                <a:latin typeface="Times New Roman"/>
              </a:rPr>
              <a:t>3+</a:t>
            </a:r>
            <a:r>
              <a:rPr b="1" lang="ru-RU" sz="2400" spc="-1" strike="noStrike" baseline="30000">
                <a:solidFill>
                  <a:srgbClr val="012af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применяются при кожных заболеваниях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327672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{83346825-9E62-41BA-8184-A327E92F54EC}.avi" descr=""/>
          <p:cNvPicPr/>
          <p:nvPr/>
        </p:nvPicPr>
        <p:blipFill>
          <a:blip r:embed="rId1"/>
          <a:stretch/>
        </p:blipFill>
        <p:spPr>
          <a:xfrm>
            <a:off x="5029200" y="2819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2"/>
          <p:cNvSpPr/>
          <p:nvPr/>
        </p:nvSpPr>
        <p:spPr>
          <a:xfrm>
            <a:off x="3363480" y="3962520"/>
            <a:ext cx="11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льм № 7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оверка самостоятельной работ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2af5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C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Na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</a:t>
            </a:r>
            <a:r>
              <a:rPr b="1" lang="ru-RU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Na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2400" spc="-1" strike="noStrike" baseline="36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OH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Белый студенистый осадок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C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AlC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H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</a:t>
            </a:r>
            <a:r>
              <a:rPr b="1" lang="ru-RU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Al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</a:t>
            </a:r>
            <a:r>
              <a:rPr b="1" lang="ru-RU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3H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Al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12af5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Белый студенистый осадок</a:t>
            </a:r>
            <a:r>
              <a:rPr b="0" lang="ru-RU" sz="2400" spc="-1" strike="noStrike">
                <a:solidFill>
                  <a:srgbClr val="012af5"/>
                </a:solidFill>
                <a:latin typeface="Times New Roman"/>
              </a:rPr>
              <a:t> в 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кислотах раство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H = 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K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K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 baseline="36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12af5"/>
                </a:solidFill>
                <a:latin typeface="Times New Roman"/>
              </a:rPr>
              <a:t>=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  </a:t>
            </a:r>
            <a:r>
              <a:rPr b="1" lang="ru-RU" sz="2400" spc="-1" strike="noStrike" baseline="30000">
                <a:solidFill>
                  <a:srgbClr val="012af5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Белый студенистый осадок</a:t>
            </a:r>
            <a:r>
              <a:rPr b="0" lang="ru-RU" sz="2400" spc="-1" strike="noStrike">
                <a:solidFill>
                  <a:srgbClr val="012af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12af5"/>
                </a:solidFill>
                <a:latin typeface="Times New Roman"/>
              </a:rPr>
              <a:t>в щелочах раство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5257800" y="1371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434340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3505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19810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1676520" y="3200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16765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лучение алюми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601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6" descr="vohler0"/>
          <p:cNvPicPr/>
          <p:nvPr/>
        </p:nvPicPr>
        <p:blipFill>
          <a:blip r:embed="rId1"/>
          <a:stretch/>
        </p:blipFill>
        <p:spPr>
          <a:xfrm>
            <a:off x="1295280" y="21337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B105"/>
          <p:cNvPicPr/>
          <p:nvPr/>
        </p:nvPicPr>
        <p:blipFill>
          <a:blip r:embed="rId2"/>
          <a:stretch/>
        </p:blipFill>
        <p:spPr>
          <a:xfrm>
            <a:off x="6248520" y="1905120"/>
            <a:ext cx="1825560" cy="1981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228600" y="1066680"/>
            <a:ext cx="434340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мецкий учёный Ф. Велер (1827 г.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л алюминий при нагрев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лорида алюминия со щелочны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ллами калий и натрий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876920" y="99072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Сент-Клер Девил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ервые получил алюминий промышленным способом (1855г.)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3809880"/>
            <a:ext cx="80010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en-US" sz="2800" spc="-1" strike="noStrike">
                <a:solidFill>
                  <a:srgbClr val="ed1bb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лучают электролизом его оксида в расплаве криолит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d1bb6"/>
                </a:solidFill>
                <a:latin typeface="Times New Roman"/>
              </a:rPr>
              <a:t>Задание.</a:t>
            </a:r>
            <a:r>
              <a:rPr b="0" i="1" lang="en-US" sz="32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0" i="1" lang="ru-RU" sz="3200" spc="-1" strike="noStrike">
                <a:solidFill>
                  <a:srgbClr val="990000"/>
                </a:solidFill>
                <a:latin typeface="Times New Roman"/>
              </a:rPr>
              <a:t>оставьте электронный баланс для данного уравнения</a:t>
            </a:r>
            <a:r>
              <a:rPr b="0" i="1" lang="ru-RU" sz="4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Электролиз расплава «глинозем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- Al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»: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Al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= 4Al+3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dsc00467.jpg (1584 bytes)"/>
          <p:cNvPicPr/>
          <p:nvPr/>
        </p:nvPicPr>
        <p:blipFill>
          <a:blip r:embed="rId3"/>
          <a:stretch/>
        </p:blipFill>
        <p:spPr>
          <a:xfrm>
            <a:off x="7086600" y="3962520"/>
            <a:ext cx="2057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верка самостоятельной работы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569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d1bb6"/>
                </a:solidFill>
                <a:latin typeface="Times New Roman"/>
              </a:rPr>
              <a:t>Задание. 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оставьте электронный баланс для данного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Электролиз расплава «глинозема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- Al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»: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Al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= 4Al + 3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Al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+3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= 4Al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3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0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-К:)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+3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+3е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= Al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0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 пр. восстановлен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+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ru-RU" sz="1800" spc="-1" strike="noStrike" baseline="40000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- 4е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= O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3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( пр.окис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365760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3308p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3308p"/>
          <p:cNvPicPr/>
          <p:nvPr/>
        </p:nvPicPr>
        <p:blipFill>
          <a:blip r:embed="rId2"/>
          <a:stretch/>
        </p:blipFill>
        <p:spPr>
          <a:xfrm>
            <a:off x="380880" y="6858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именение металла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g51103"/>
          <p:cNvPicPr/>
          <p:nvPr/>
        </p:nvPicPr>
        <p:blipFill>
          <a:blip r:embed="rId1"/>
          <a:stretch/>
        </p:blipFill>
        <p:spPr>
          <a:xfrm>
            <a:off x="228600" y="2743200"/>
            <a:ext cx="861048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0" y="114300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3600" spc="-1" strike="noStrike">
                <a:solidFill>
                  <a:srgbClr val="af67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покрывают чугун и сплавы для защиты от коррозии (алитирование); термит (смесь алюминия и оксидов железа)- для сварки рельсов; получение металлов особой чистоты (алюмотермия)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менение металла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 его соединен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q (199)[1]"/>
          <p:cNvPicPr/>
          <p:nvPr/>
        </p:nvPicPr>
        <p:blipFill>
          <a:blip r:embed="rId1"/>
          <a:stretch/>
        </p:blipFill>
        <p:spPr>
          <a:xfrm>
            <a:off x="22860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0" y="838080"/>
            <a:ext cx="929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плавы но основе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применяются в ракетной технике, в авиа-, авто-, судо- и вагоностроении. В строительстве (алюминиевые кровли, оконные переплеты.)В электротехнике для изготовления кабелей и проводов. В пищевой промышленности и в быту: фольга, посуда.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«серебряная» краска. В производстве различных предметов воинского снаряжения (котелки, фляги).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в часовых механизмов, ювелирные изделия.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KAl(SO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в медицине как кровоостанавливающее средство, при дубление кожи.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SO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чистка водопроводной воды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Print0002"/>
          <p:cNvPicPr/>
          <p:nvPr/>
        </p:nvPicPr>
        <p:blipFill>
          <a:blip r:embed="rId2"/>
          <a:stretch/>
        </p:blipFill>
        <p:spPr>
          <a:xfrm>
            <a:off x="5791320" y="4572000"/>
            <a:ext cx="3047760" cy="198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kwas_azotowy_c"/>
          <p:cNvPicPr/>
          <p:nvPr/>
        </p:nvPicPr>
        <p:blipFill>
          <a:blip r:embed="rId3"/>
          <a:stretch/>
        </p:blipFill>
        <p:spPr>
          <a:xfrm>
            <a:off x="3048120" y="4495680"/>
            <a:ext cx="2361960" cy="213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q (199)[1]"/>
          <p:cNvPicPr/>
          <p:nvPr/>
        </p:nvPicPr>
        <p:blipFill>
          <a:blip r:embed="rId4"/>
          <a:stretch/>
        </p:blipFill>
        <p:spPr>
          <a:xfrm>
            <a:off x="228600" y="449568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орудование  к уро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133360"/>
            <a:ext cx="74883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бразцы металла алюминия, природных соединений и сплавов, стеклянная посуда (чашка Петри, колба), вода, соли алюминия,  коллекция веществ из алюминия,  мультимедийный проектор, экран, компьютер,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чебни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1" descr="kastrulya"/>
          <p:cNvPicPr/>
          <p:nvPr/>
        </p:nvPicPr>
        <p:blipFill>
          <a:blip r:embed="rId1"/>
          <a:stretch/>
        </p:blipFill>
        <p:spPr>
          <a:xfrm>
            <a:off x="1905120" y="1676520"/>
            <a:ext cx="1714320" cy="1371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именение алюминия и его соединени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hainik"/>
          <p:cNvPicPr/>
          <p:nvPr/>
        </p:nvPicPr>
        <p:blipFill>
          <a:blip r:embed="rId2"/>
          <a:stretch/>
        </p:blipFill>
        <p:spPr>
          <a:xfrm>
            <a:off x="0" y="0"/>
            <a:ext cx="2038320" cy="2209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BD07281_"/>
          <p:cNvPicPr/>
          <p:nvPr/>
        </p:nvPicPr>
        <p:blipFill>
          <a:blip r:embed="rId3"/>
          <a:stretch/>
        </p:blipFill>
        <p:spPr>
          <a:xfrm>
            <a:off x="3505320" y="4495680"/>
            <a:ext cx="1752480" cy="2135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TN00561_"/>
          <p:cNvPicPr/>
          <p:nvPr/>
        </p:nvPicPr>
        <p:blipFill>
          <a:blip r:embed="rId4"/>
          <a:stretch/>
        </p:blipFill>
        <p:spPr>
          <a:xfrm>
            <a:off x="6095880" y="4913280"/>
            <a:ext cx="2590920" cy="194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0" descr="n445"/>
          <p:cNvPicPr/>
          <p:nvPr/>
        </p:nvPicPr>
        <p:blipFill>
          <a:blip r:embed="rId5"/>
          <a:stretch/>
        </p:blipFill>
        <p:spPr>
          <a:xfrm>
            <a:off x="3886200" y="1371600"/>
            <a:ext cx="4876920" cy="3059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4" descr=""/>
          <p:cNvPicPr/>
          <p:nvPr/>
        </p:nvPicPr>
        <p:blipFill>
          <a:blip r:embed="rId6"/>
          <a:stretch/>
        </p:blipFill>
        <p:spPr>
          <a:xfrm>
            <a:off x="228600" y="3124080"/>
            <a:ext cx="2819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Биологическая роль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есмотря на наличие громадных количеств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в почвах, растения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ак правило, содержит мало этого элемента. Еще значительно меньше его содержится в животных организмах. У человека оно составляет лишь десятичные доли процента по массе. Накапливается в организме с ежедневным приемом пищи. Играет роль в развитии болезни Альц – Мейера. Токсическая доза 5 г. Не безобиден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- он обладает нейротоксическим действием: нарушает двигательную активность, вызывает судороги, снижение памяти, некоторые психические реакции подобие слабоумия. Имеются данные о его мутагенной активности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Закрепление 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чему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суда не разрушается кипяченой водой?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 ряд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2. Целесообразно ли хранить раствор стиральной соды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a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,а также продукты молочнокислого брожения в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посуде? Ответ подтвердите уравнениями ре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-й 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3. При хранении в алюминиевой посуде кислые щи приобретают неприятный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«металлический»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ивкус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 каким химическим процессом это связано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-й р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/задание.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Составьте уравнения реакций следующих превращ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AlCl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Al(OH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[Al(OH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]         Al(OH)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Al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Al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838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1905120" y="5562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4290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53341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086600" y="5562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Обладая такими свойствами как лёгкость, прочность, устойчивость к коррозии, устойчивость  к действию сильных химических реагентов - алюминий нашёл большое применение во многих отраслях  народного хозяйства. Особое место алюминий и его сплавы занимают в авиационном и космическом транспорте, электротехнике, а за ними будущее нашей науки и тех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15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 flipV="1" rot="10800000">
            <a:off x="1983960" y="187920"/>
            <a:ext cx="41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лан уро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04920" y="914400"/>
            <a:ext cx="8839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ложение металла в периодической системе            Д.И.Менделеева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троение атома металла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Физические свойства металла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Химические свойства металла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лучение металла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именение металла и его соединений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Ход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421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1.Организационный момент (психологический настрой) - 2 мин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2. Проверка домашнего задания - 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ступительное слово учителя - 1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вторение и обобщение темы - 32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дведение итогов урока - 2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Задание на дом (дифференцированное ) - 3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-228600" y="14479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Бор первый в группе третьей,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Но алюминию букеты все несут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Он плод труда эпохи многолетней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Его теперь и режут и куют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Из истории открытия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endel1"/>
          <p:cNvPicPr/>
          <p:nvPr/>
        </p:nvPicPr>
        <p:blipFill>
          <a:blip r:embed="rId1"/>
          <a:stretch/>
        </p:blipFill>
        <p:spPr>
          <a:xfrm>
            <a:off x="304920" y="1676520"/>
            <a:ext cx="213336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2590920" y="1523880"/>
            <a:ext cx="6248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Открыт в 1825 г. Хансом  Кристаном Эрстедом (Копенгаген, Дания).От лат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umen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квасцы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В период открытия алюминия - металл был дороже золота. Англичане хотели почтить богатым подарком великого русского химика Д.И Менделеева, подарили ему химические весы, в которых одна чашка была изготовлена из золота, другая - из алюминия. Чашка из алюминия стала дороже золотой. Полученное «серебро из глины» заинтересовало не только учёных, но и промышленников и даже императора Франции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1a25fa"/>
                </a:solidFill>
                <a:latin typeface="Times New Roman"/>
              </a:rPr>
              <a:t>Строение атомов Ме </a:t>
            </a:r>
            <a:r>
              <a:rPr b="1" lang="en-US" sz="3600" spc="-1" strike="noStrike">
                <a:solidFill>
                  <a:srgbClr val="1a25fa"/>
                </a:solidFill>
                <a:latin typeface="Times New Roman"/>
              </a:rPr>
              <a:t>III </a:t>
            </a:r>
            <a:r>
              <a:rPr b="1" lang="ru-RU" sz="3600" spc="-1" strike="noStrike">
                <a:solidFill>
                  <a:srgbClr val="1a25fa"/>
                </a:solidFill>
                <a:latin typeface="Times New Roman"/>
              </a:rPr>
              <a:t>группы главной подгруппы</a:t>
            </a:r>
            <a:r>
              <a:rPr b="1" lang="en-US" sz="3600" spc="-1" strike="noStrike" u="sng">
                <a:solidFill>
                  <a:srgbClr val="80808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+5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))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1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+13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))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)…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3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1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3 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 8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31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Ga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))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))…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4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1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4 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3cc"/>
                </a:solidFill>
                <a:latin typeface="Times New Roman"/>
              </a:rPr>
              <a:t>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  8  8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49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In )))))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5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1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5 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8 18 8 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81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Tl ))))))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… 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6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2</a:t>
            </a:r>
            <a:r>
              <a:rPr b="1" lang="en-US" sz="1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6 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 u="sng" baseline="30000">
                <a:solidFill>
                  <a:srgbClr val="0033cc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8 18 18 8 3</a:t>
            </a:r>
            <a:r>
              <a:rPr b="1" lang="en-US" sz="10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s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2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p</a:t>
            </a:r>
            <a:r>
              <a:rPr b="1" lang="en-US" sz="2800" spc="-1" strike="noStrike" u="sng" baseline="30000">
                <a:solidFill>
                  <a:srgbClr val="ff0000"/>
                </a:solidFill>
                <a:uFillTx/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</a:rPr>
              <a:t>амфотерный э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564000" y="1700280"/>
            <a:ext cx="52545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ed1bb6"/>
                </a:solidFill>
                <a:uFillTx/>
                <a:latin typeface="Times New Roman"/>
              </a:rPr>
              <a:t>Изменение свойств металлов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Times New Roman"/>
              </a:rPr>
              <a:t>Учитель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: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Как и почему изменяется химическая   активность  металлов с возрастанием порядкового номера?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имерные ответы учащихся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Радиус атома увеличивается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величиваются восстановительные свойства (способность отдавать электроны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962520" y="5029200"/>
            <a:ext cx="4495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n5101"/>
          <p:cNvPicPr/>
          <p:nvPr/>
        </p:nvPicPr>
        <p:blipFill>
          <a:blip r:embed="rId1"/>
          <a:stretch/>
        </p:blipFill>
        <p:spPr>
          <a:xfrm>
            <a:off x="304920" y="3886200"/>
            <a:ext cx="8534160" cy="274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ахождение в природе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4489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занимает 3-е место по распространению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земной коре после кислорода и кремния.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самый распространенный  Ме в природе. Соединения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были известны очень рано: история глин начин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 доисторических времен.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ходит в состав силикатов(шпаты, слюда), а также глин. Из соединений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l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ибольшее значение имеет минерал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-(глинозем) корунд, синий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апфир, фиолетовый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- аметист, красный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- рубин, непрозрачный- наждак. Ортоклаз, нефелин, боксит, криол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някина О.В.</dc:creator>
  <dc:description/>
  <dc:language>en-US</dc:language>
  <cp:lastModifiedBy>uav</cp:lastModifiedBy>
  <dcterms:modified xsi:type="dcterms:W3CDTF">2013-03-01T04:26:00Z</dcterms:modified>
  <cp:revision>114</cp:revision>
  <dc:subject/>
  <dc:title>МОУ «Средняя общеобразовательная школа № 36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