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4C530-8634-4E48-9F55-0F5FCD357B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3E44D-A0CE-4439-8F36-52F55A0D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FE3BB-E7F9-492C-B6E4-460BBC54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88706-19E4-480A-B9BE-201D0BEDB3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3A462-D64F-4A05-9184-6D6B70A8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14D1C-2E1F-4C76-87F5-D928DA37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5057D-53E6-4450-A973-200444BB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90D66-3A90-4F18-B207-97D703A7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0C6FA-8FCB-4D79-9FF6-E5A875B16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C7B09-400A-4D6C-B249-0AC3FE39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1E697-889E-4CE8-8736-07904825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74452-2E52-42C6-88B2-18656F26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7444A9-976D-4779-8AA7-C8571D5F10E8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4240" y="363600"/>
            <a:ext cx="7243920" cy="1200240"/>
          </a:xfrm>
          <a:prstGeom prst="rect">
            <a:avLst/>
          </a:prstGeom>
          <a:noFill/>
          <a:ln cap="rnd" w="9360">
            <a:solidFill>
              <a:srgbClr val="31859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71280" y="720720"/>
            <a:ext cx="9215280" cy="6215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0200" y="571680"/>
            <a:ext cx="5722920" cy="2077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35280" y="2160720"/>
            <a:ext cx="43592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lang="ru-RU" sz="8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льцаЛулл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8820000" cy="623736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0"/>
            <a:ext cx="751824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Образовательная область  </a:t>
            </a:r>
            <a:br>
              <a:rPr sz="2000"/>
            </a:b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«Познавательное развитие"</a:t>
            </a:r>
            <a:br>
              <a:rPr sz="2800"/>
            </a:br>
            <a:r>
              <a:rPr b="1" i="1" lang="ru-RU" sz="2800" spc="-1" strike="noStrike" u="sng">
                <a:solidFill>
                  <a:srgbClr val="953735"/>
                </a:solidFill>
                <a:uFillTx/>
                <a:latin typeface="Calibri"/>
              </a:rPr>
              <a:t>Формирование целостной картины мира</a:t>
            </a:r>
            <a:br>
              <a:rPr sz="2400"/>
            </a:b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428920"/>
            <a:ext cx="46080" cy="13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333080" y="4005360"/>
            <a:ext cx="720720" cy="1365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58920" y="2071800"/>
            <a:ext cx="5905440" cy="2653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дачи</a:t>
            </a:r>
            <a:r>
              <a:rPr b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: Развитие у детей познавательных интересов, интеллектуального развития у детей через формирование целостной картины мира, расширение кругозора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885080" y="4437000"/>
            <a:ext cx="8017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571680" y="200160"/>
            <a:ext cx="9104400" cy="665784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Задачи:</a:t>
            </a: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 формировать элементарные математические представления, упражнять соотносить цифру и количество предметов; развивать мелкую моторику пальцев рук, внимание. </a:t>
            </a: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Закреплять умение различать цвета</a:t>
            </a: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; умение соотносить предмет и цвет; совершенствовать грамматический строй речи; развивать мелкую моторику пальцев рук, вним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45164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Образовательная область</a:t>
            </a:r>
            <a:br>
              <a:rPr sz="2400"/>
            </a:b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 " Познавательное </a:t>
            </a:r>
            <a:br>
              <a:rPr sz="2800"/>
            </a:b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развитие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1428840"/>
            <a:ext cx="525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0070c0"/>
                </a:solidFill>
                <a:uFillTx/>
                <a:latin typeface="Calibri"/>
              </a:rPr>
              <a:t>Развитие элементарных математических представ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214200" y="333360"/>
            <a:ext cx="8531280" cy="590400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214200" y="500040"/>
            <a:ext cx="80262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овательная область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«Социально-личностное развитие» и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 Развитие речи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14960" y="0"/>
            <a:ext cx="32860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32000" y="1857240"/>
            <a:ext cx="4968720" cy="19234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ача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точнить представления детей о труде взрослого, опираясь на «модели тру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 rot="10800000">
            <a:off x="1258920" y="3157560"/>
            <a:ext cx="5022720" cy="16185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креплять умение узнавать отдельные сказки по отдельным признак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ктивизировать речь, обогащать словарный зап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86800" y="272880"/>
            <a:ext cx="20628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1414440"/>
            <a:ext cx="3008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57200" y="1434960"/>
            <a:ext cx="104292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404640"/>
            <a:ext cx="7488000" cy="34455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кажи мне-я забуд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кажи мне- и я запомн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ай попробовать-и я пойму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( китайская пословиц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5840" y="274680"/>
            <a:ext cx="8400960" cy="37260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 XIII веке французский монах Раймонд Луллий создал логическую машину в   виде бумажных кру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560" y="4284720"/>
            <a:ext cx="4019400" cy="2316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071960" y="4286160"/>
            <a:ext cx="4799160" cy="23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03280" y="950760"/>
            <a:ext cx="8186760" cy="33688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льца Луллия – это средство многофункционального характера, его можно применять для воспитания и развития детей по всем разделам программы. С помощью этой игры стало возможным обогатить условия для возрастающей роли интеллектуального развития ребенка и его познавательных интересов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686800" y="1600200"/>
            <a:ext cx="171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43120" y="3929040"/>
            <a:ext cx="5786640" cy="3999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7120" y="3000240"/>
            <a:ext cx="6143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85840"/>
            <a:ext cx="5286240" cy="607212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571680"/>
            <a:ext cx="26859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2960" y="500040"/>
            <a:ext cx="37846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ьца Лул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но из средств развития интеллектуально – творческих способностей детей, предложенное авторами ТРИЗ и РТВ для использования в дошкольных учреждениях. Это пособие  вносит элемент игры в образовательную деятельность, помогает поддерживать интерес к изучаемому материа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3500280"/>
            <a:ext cx="4572000" cy="4003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8000" y="5113440"/>
            <a:ext cx="4141800" cy="18576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61000" y="1123920"/>
            <a:ext cx="3779640" cy="50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5400000">
            <a:off x="3074400" y="-2570040"/>
            <a:ext cx="2928960" cy="80722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571680"/>
            <a:ext cx="26859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85880" y="428760"/>
            <a:ext cx="72864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Для изготовления пособия были взяты две пластинки, фанера, магнит и стерж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646360" y="278136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08000" y="2637000"/>
            <a:ext cx="2538360" cy="3384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389640" y="2941560"/>
            <a:ext cx="302436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 rot="5400000">
            <a:off x="-146880" y="649800"/>
            <a:ext cx="6524640" cy="522432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571680"/>
            <a:ext cx="26859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5880" y="620640"/>
            <a:ext cx="42177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Правила игры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одинаковые  во всех темах)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 :</a:t>
            </a:r>
            <a:br>
              <a:rPr sz="20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1. Установить пособие на столе.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2. Поднять крышку.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3. На круги сверху уложить выбранные картинки.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4. Закрыть крышкой.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5. Прокрутив первый диск в окошечке устанавливается картинка, а прокручивая второй диск, ребенок подбирает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724360" y="1197000"/>
            <a:ext cx="3300480" cy="46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5400000">
            <a:off x="1095120" y="-1192320"/>
            <a:ext cx="7173720" cy="892980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571680"/>
            <a:ext cx="26859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27640" y="404640"/>
            <a:ext cx="388944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Цель использования пособия: 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формирование представлений дошкольников об окружающем мире; обогащение словарного запаса; развитие творческого мышления и воображения; формирование элементарных математических и экологических представ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16000" y="404640"/>
            <a:ext cx="3774960" cy="5531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164360" y="4322880"/>
            <a:ext cx="1522440" cy="18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 rot="5400000">
            <a:off x="1238760" y="-856440"/>
            <a:ext cx="6669000" cy="871524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571680"/>
            <a:ext cx="26859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4200" y="1628640"/>
            <a:ext cx="810288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риантов игр множеств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ё зависит от возраста, поставленных задач , пройденного детьми материа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58120" y="272880"/>
            <a:ext cx="32868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404640"/>
            <a:ext cx="9144000" cy="568836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714240"/>
            <a:ext cx="300816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85880" y="549360"/>
            <a:ext cx="750096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обие позволяет решать 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ачи: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развивать познавательную активность;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совершенствовать грамматический строй речи;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сенсорное развитие (восприятие цвета, формы);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формировать элементарные математические представления;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развивать мелкую моторику и координацию движений р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Развивать креативные способности до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Развивать навыки фантастического преобразования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686800" y="272880"/>
            <a:ext cx="4608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0T12:01:02Z</dcterms:created>
  <dc:creator>Константин</dc:creator>
  <dc:description/>
  <dc:language>en-US</dc:language>
  <cp:lastModifiedBy>Windows User</cp:lastModifiedBy>
  <dcterms:modified xsi:type="dcterms:W3CDTF">2020-01-29T12:13:37Z</dcterms:modified>
  <cp:revision>102</cp:revision>
  <dc:subject/>
  <dc:title>ФЭМП  «НАЗОВИ, СКОЛЬКО» ОО Позновательное развитие»</dc:title>
</cp:coreProperties>
</file>