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01C62-DBBD-4251-8265-BEC648A628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33C70-A460-4A42-B10C-6299C91E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DA292-8688-4C4C-9F4B-46101534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659E1-2953-473C-AD9F-EE614BBAE8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8F3D6-A738-4CCC-9F97-4633610D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71462-AAC1-475D-8191-CA3F4B9D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4B5D4-FA3E-4B54-A6A2-A252F3EF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16815-375E-45DA-A4D0-AD6F3B5E2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4D3CD-03C9-40E3-92D8-A5F1B1456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03F51-F31E-4CF6-B563-472793A1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167E9-0779-4081-9B1C-C5D1010D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43E48-0350-410B-B0D8-09F59860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9E40A36-B22D-4117-8ACC-BD324CB8B275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4240" y="363600"/>
            <a:ext cx="7243920" cy="1200240"/>
          </a:xfrm>
          <a:prstGeom prst="rect">
            <a:avLst/>
          </a:prstGeom>
          <a:noFill/>
          <a:ln cap="rnd" w="9360">
            <a:solidFill>
              <a:srgbClr val="31859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71280" y="720720"/>
            <a:ext cx="9215280" cy="6215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0200" y="571680"/>
            <a:ext cx="5722920" cy="2077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35280" y="2160720"/>
            <a:ext cx="435924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1" lang="ru-RU" sz="8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льцаЛулли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8820000" cy="623736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0"/>
            <a:ext cx="7518240" cy="19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Образовательная область  </a:t>
            </a:r>
            <a:br>
              <a:rPr sz="2000"/>
            </a:b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Calibri"/>
              </a:rPr>
              <a:t>«Познавательное развитие"</a:t>
            </a:r>
            <a:br>
              <a:rPr sz="2800"/>
            </a:br>
            <a:r>
              <a:rPr b="1" i="1" lang="ru-RU" sz="2800" spc="-1" strike="noStrike" u="sng">
                <a:solidFill>
                  <a:srgbClr val="953735"/>
                </a:solidFill>
                <a:uFillTx/>
                <a:latin typeface="Calibri"/>
              </a:rPr>
              <a:t>Формирование целостной картины мира</a:t>
            </a:r>
            <a:br>
              <a:rPr sz="2400"/>
            </a:b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2428920"/>
            <a:ext cx="46080" cy="132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0333080" y="4005360"/>
            <a:ext cx="720720" cy="1365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258920" y="2071800"/>
            <a:ext cx="5905440" cy="26535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Задачи</a:t>
            </a:r>
            <a:r>
              <a:rPr b="1" lang="ru-RU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: Развитие у детей познавательных интересов, интеллектуального развития у детей через формирование целостной картины мира, расширение кругозора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885080" y="4437000"/>
            <a:ext cx="8017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571680" y="200160"/>
            <a:ext cx="9104400" cy="665784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Задачи:</a:t>
            </a:r>
            <a:r>
              <a:rPr b="0" lang="ru-RU" sz="2800" spc="-1" strike="noStrike">
                <a:solidFill>
                  <a:srgbClr val="953735"/>
                </a:solidFill>
                <a:latin typeface="Calibri"/>
              </a:rPr>
              <a:t> формировать элементарные математические представления, упражнять соотносить цифру и количество предметов; развивать мелкую моторику пальцев рук, внимание. </a:t>
            </a: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Закреплять умение различать цвета</a:t>
            </a:r>
            <a:r>
              <a:rPr b="0" lang="ru-RU" sz="2800" spc="-1" strike="noStrike">
                <a:solidFill>
                  <a:srgbClr val="953735"/>
                </a:solidFill>
                <a:latin typeface="Calibri"/>
              </a:rPr>
              <a:t>; умение соотносить предмет и цвет; совершенствовать грамматический строй речи; развивать мелкую моторику пальцев рук, вним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45164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800"/>
            </a:b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Образовательная область</a:t>
            </a:r>
            <a:br>
              <a:rPr sz="2400"/>
            </a:b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Calibri"/>
              </a:rPr>
              <a:t> " Познавательное </a:t>
            </a:r>
            <a:br>
              <a:rPr sz="2800"/>
            </a:br>
            <a:r>
              <a:rPr b="1" lang="ru-RU" sz="2800" spc="-1" strike="noStrike" u="sng">
                <a:solidFill>
                  <a:srgbClr val="c00000"/>
                </a:solidFill>
                <a:uFillTx/>
                <a:latin typeface="Calibri"/>
              </a:rPr>
              <a:t>развитие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58920" y="1428840"/>
            <a:ext cx="5257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 u="sng">
                <a:solidFill>
                  <a:srgbClr val="0070c0"/>
                </a:solidFill>
                <a:uFillTx/>
                <a:latin typeface="Calibri"/>
              </a:rPr>
              <a:t>Развитие элементарных математических представл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-214200" y="333360"/>
            <a:ext cx="8531280" cy="590400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214200" y="500040"/>
            <a:ext cx="802620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азовательная область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«Социально-личностное развитие» и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 Развитие речи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14960" y="0"/>
            <a:ext cx="32860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32000" y="1857240"/>
            <a:ext cx="4968720" cy="19234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Задача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точнить представления детей о труде взрослого, опираясь на «модели труд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 rot="10800000">
            <a:off x="1258920" y="3157560"/>
            <a:ext cx="5022720" cy="161856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креплять умение узнавать отдельные сказки по отдельным признак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ктивизировать речь, обогащать словарный зап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686800" y="272880"/>
            <a:ext cx="20628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1414440"/>
            <a:ext cx="30081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57200" y="1434960"/>
            <a:ext cx="104292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71640" y="404640"/>
            <a:ext cx="7488000" cy="344556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кажи мне-я забуд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окажи мне- и я запомню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ай попробовать-и я пойму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( китайская пословиц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85840" y="274680"/>
            <a:ext cx="8400960" cy="37260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В XIII веке французский монах Раймонд Луллий создал логическую машину в   виде бумажных кру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2560" y="4284720"/>
            <a:ext cx="4019400" cy="2316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071960" y="4286160"/>
            <a:ext cx="4799160" cy="23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03280" y="950760"/>
            <a:ext cx="8186760" cy="336888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льца Луллия – это средство многофункционального характера, его можно применять для воспитания и развития детей по всем разделам программы. С помощью этой игры стало возможным обогатить условия для возрастающей роли интеллектуального развития ребенка и его познавательных интересов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686800" y="1600200"/>
            <a:ext cx="171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43120" y="3929040"/>
            <a:ext cx="5786640" cy="3999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7120" y="3000240"/>
            <a:ext cx="6143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85840"/>
            <a:ext cx="5286240" cy="607212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571680"/>
            <a:ext cx="268596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2960" y="500040"/>
            <a:ext cx="37846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льца Лул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дно из средств развития интеллектуально – творческих способностей детей, предложенное авторами ТРИЗ и РТВ для использования в дошкольных учреждениях. Это пособие  вносит элемент игры в образовательную деятельность, помогает поддерживать интерес к изучаемому материа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3500280"/>
            <a:ext cx="4572000" cy="4003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88000" y="5113440"/>
            <a:ext cx="4141800" cy="18576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75160" y="272880"/>
            <a:ext cx="511164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761000" y="1123920"/>
            <a:ext cx="3779640" cy="50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 rot="5400000">
            <a:off x="3074400" y="-2570040"/>
            <a:ext cx="2928960" cy="807228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571680"/>
            <a:ext cx="268596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85880" y="428760"/>
            <a:ext cx="728640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Для изготовления пособия были взяты две пластинки, фанера, магнит и стерж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646360" y="2781360"/>
            <a:ext cx="3743280" cy="2808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08000" y="2637000"/>
            <a:ext cx="2538360" cy="3384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6389640" y="2941560"/>
            <a:ext cx="3024360" cy="22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 rot="5400000">
            <a:off x="-146880" y="649800"/>
            <a:ext cx="6524640" cy="522432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571680"/>
            <a:ext cx="268596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85880" y="620640"/>
            <a:ext cx="421776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Правила игры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(одинаковые  во всех темах)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 :</a:t>
            </a:r>
            <a:br>
              <a:rPr sz="2000"/>
            </a:b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1. Установить пособие на столе.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2. Поднять крышку.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3. На круги сверху уложить выбранные картинки.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4. Закрыть крышкой.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5. Прокрутив первый диск в окошечке устанавливается картинка, а прокручивая второй диск, ребенок подбирает правильны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724360" y="1197000"/>
            <a:ext cx="3300480" cy="46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 rot="5400000">
            <a:off x="1095120" y="-1192320"/>
            <a:ext cx="7173720" cy="892980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571680"/>
            <a:ext cx="268596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27640" y="404640"/>
            <a:ext cx="388944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Цель использования пособия: </a:t>
            </a: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формирование представлений дошкольников об окружающем мире; обогащение словарного запаса; развитие творческого мышления и воображения; формирование элементарных математических и экологических представл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16000" y="404640"/>
            <a:ext cx="3774960" cy="55310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164360" y="4322880"/>
            <a:ext cx="1522440" cy="18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 rot="5400000">
            <a:off x="1238760" y="-856440"/>
            <a:ext cx="6669000" cy="871524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571680"/>
            <a:ext cx="268596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4200" y="1628640"/>
            <a:ext cx="8102880" cy="30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ариантов игр множество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ё зависит от возраста, поставленных задач , пройденного детьми материал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58120" y="272880"/>
            <a:ext cx="32868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404640"/>
            <a:ext cx="9144000" cy="568836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70000"/>
            </a:blip>
            <a:srcRect/>
            <a:tile tx="0" ty="0" sx="100000" sy="100000" algn="ctr"/>
          </a:blip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714240"/>
            <a:ext cx="300816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85880" y="549360"/>
            <a:ext cx="7500960" cy="59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собие позволяет решать 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задачи: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развивать познавательную активность;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совершенствовать грамматический строй речи;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сенсорное развитие (восприятие цвета, формы);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формировать элементарные математические представления;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развивать мелкую моторику и координацию движений ру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Развивать креативные способности дошколь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Развивать навыки фантастического преобразования объ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686800" y="272880"/>
            <a:ext cx="4608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0T12:01:02Z</dcterms:created>
  <dc:creator>Константин</dc:creator>
  <dc:description/>
  <dc:language>en-US</dc:language>
  <cp:lastModifiedBy>Windows User</cp:lastModifiedBy>
  <dcterms:modified xsi:type="dcterms:W3CDTF">2020-01-29T12:13:37Z</dcterms:modified>
  <cp:revision>102</cp:revision>
  <dc:subject/>
  <dc:title>ФЭМП  «НАЗОВИ, СКОЛЬКО» ОО Позновательное развитие»</dc:title>
</cp:coreProperties>
</file>