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778-3B16-4098-B7EB-76D06462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573-142B-454E-AAD6-48F4AE0D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562-FE44-428F-8062-8B3AA014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877-1DD7-4C0C-924C-96F6D5CF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752-0CA2-499B-953F-0FE86B6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2BB-95FA-49D1-88CF-0D561BFC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71A-AEDE-4EFD-B464-21DC9A09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2D9-0F00-4E40-A194-B27F294F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079-D6B0-4053-8DA6-3414CF1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1BA-34C4-4C97-A92A-8860265A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D35-E53E-4ABB-AF67-1069C45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F32-E140-41F4-97A7-CCF95BD1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e9f4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F6B7-98E0-4CF8-8B4C-7DBB9BE77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890000" y="4419720"/>
            <a:ext cx="721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бы не пришлось нам работать и ж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м здоровьем своим дорож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силой наших лёгких следит стра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носливых и лёгких нас ждёт о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алённый в тренировках, буду сильный, буду ловк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рана здоровья – большое дело, силы ему отдать нужно сме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этой работе любовью горят вся наша группа дружных ребят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5240" y="873000"/>
            <a:ext cx="4209840" cy="34689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4970520" y="2895120"/>
            <a:ext cx="428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 – это одна и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0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ых ценностей жизн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462760" y="-79200"/>
            <a:ext cx="564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Times New Roman"/>
              </a:rPr>
              <a:t>Правила личной гигиен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468240" y="0"/>
            <a:ext cx="221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cc"/>
                </a:solidFill>
                <a:latin typeface="Times New Roman"/>
              </a:rPr>
              <a:t>Загад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753600" y="3886200"/>
            <a:ext cx="290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ёг в карман и карау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ёву, плаксу и грязнул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 утру потоки слёз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забуду и про н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463c25ae2654"/>
          <p:cNvPicPr/>
          <p:nvPr/>
        </p:nvPicPr>
        <p:blipFill>
          <a:blip r:embed="rId1"/>
          <a:stretch/>
        </p:blipFill>
        <p:spPr>
          <a:xfrm>
            <a:off x="6934320" y="1523880"/>
            <a:ext cx="2786040" cy="619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rasch06"/>
          <p:cNvPicPr/>
          <p:nvPr/>
        </p:nvPicPr>
        <p:blipFill>
          <a:blip r:embed="rId2"/>
          <a:stretch/>
        </p:blipFill>
        <p:spPr>
          <a:xfrm>
            <a:off x="165240" y="5334120"/>
            <a:ext cx="1650960" cy="1352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mylo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12920" y="1676520"/>
            <a:ext cx="1815840" cy="1058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101-070-0002"/>
          <p:cNvPicPr/>
          <p:nvPr/>
        </p:nvPicPr>
        <p:blipFill>
          <a:blip r:embed="rId4"/>
          <a:stretch/>
        </p:blipFill>
        <p:spPr>
          <a:xfrm>
            <a:off x="7346880" y="5257800"/>
            <a:ext cx="23115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165600" y="303840"/>
            <a:ext cx="275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кользает, как живо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не выпущу его 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ой пеной пенитс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и мыть не ленит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3219480" y="761040"/>
            <a:ext cx="924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мыла есть за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ло ходит на работу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енится, намыли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дет и ляжет в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-360" y="2818440"/>
            <a:ext cx="309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тираю, я стараюс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бани парень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намокло, всё измяло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 сухого угол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602760" y="151200"/>
            <a:ext cx="290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лосистою голов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от она влезает ловк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читает зубы на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утрам и вечера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66320" y="4570920"/>
            <a:ext cx="25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делаю причёс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огает мне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477520" y="4951800"/>
            <a:ext cx="255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измерил сотню лу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язь смывать бег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6519240" y="2208600"/>
            <a:ext cx="26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ываюсь утром ра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водою из-под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3" descr="15"/>
          <p:cNvPicPr/>
          <p:nvPr/>
        </p:nvPicPr>
        <p:blipFill>
          <a:blip r:embed="rId5"/>
          <a:stretch/>
        </p:blipFill>
        <p:spPr>
          <a:xfrm>
            <a:off x="3384720" y="2133720"/>
            <a:ext cx="1733400" cy="91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871618831125853"/>
          <p:cNvPicPr/>
          <p:nvPr/>
        </p:nvPicPr>
        <p:blipFill>
          <a:blip r:embed="rId6"/>
          <a:stretch/>
        </p:blipFill>
        <p:spPr>
          <a:xfrm>
            <a:off x="3054240" y="3809880"/>
            <a:ext cx="1733760" cy="895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9" descr="e9e0e458c54d"/>
          <p:cNvPicPr/>
          <p:nvPr/>
        </p:nvPicPr>
        <p:blipFill>
          <a:blip r:embed="rId7"/>
          <a:stretch/>
        </p:blipFill>
        <p:spPr>
          <a:xfrm>
            <a:off x="5283360" y="2819520"/>
            <a:ext cx="1444320" cy="158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"/>
          <p:cNvPicPr/>
          <p:nvPr/>
        </p:nvPicPr>
        <p:blipFill>
          <a:blip r:embed="rId8">
            <a:lum contrast="42000"/>
          </a:blip>
          <a:stretch/>
        </p:blipFill>
        <p:spPr>
          <a:xfrm>
            <a:off x="5200560" y="5029200"/>
            <a:ext cx="1513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95360" y="1219320"/>
            <a:ext cx="3705120" cy="521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"/>
          <p:cNvPicPr/>
          <p:nvPr/>
        </p:nvPicPr>
        <p:blipFill>
          <a:blip r:embed="rId2"/>
          <a:stretch/>
        </p:blipFill>
        <p:spPr>
          <a:xfrm>
            <a:off x="6686640" y="1219320"/>
            <a:ext cx="286200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2"/>
          <p:cNvSpPr/>
          <p:nvPr/>
        </p:nvSpPr>
        <p:spPr>
          <a:xfrm>
            <a:off x="973440" y="-31680"/>
            <a:ext cx="626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Times New Roman"/>
              </a:rPr>
              <a:t>Правильно ли ведут себя дети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614052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859200" cy="6427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825480" y="228600"/>
            <a:ext cx="37400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22760" y="3124080"/>
            <a:ext cx="5035680" cy="354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65240" y="152280"/>
            <a:ext cx="4292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655560" y="330120"/>
            <a:ext cx="40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А кто такие микроб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77800" y="99072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кробы – это очень маленькие  живые существа. Они не видны простым глазом. Чтобы их увидеть, надо смотреть в особый прибор, который называется «МИКРОСКОП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5530680" y="990720"/>
            <a:ext cx="4094280" cy="558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/>
          <a:stretch/>
        </p:blipFill>
        <p:spPr>
          <a:xfrm>
            <a:off x="495360" y="3581280"/>
            <a:ext cx="3797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8000" y="1066680"/>
            <a:ext cx="4875120" cy="5581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0" y="1828800"/>
            <a:ext cx="4952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ывайся утром и перед с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й уши, шею каждый ден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ь зубы, после еды полощи ро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й руки перед едой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каждого загряз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и волосы в чисто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й ноги перед с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отко стриги ног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недельно мой всё тел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ри глаза рук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ьзуйся носовым платк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24000" y="231840"/>
            <a:ext cx="70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Ещё несколько правил личной гигие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57880" y="380880"/>
            <a:ext cx="5170320" cy="6257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247680" y="395280"/>
            <a:ext cx="32515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гиену очень стр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о соблюдать всегда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 ногтями грязи мног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ть она и не вид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язь микробами пугае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х, коварные они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ь от них заболеваю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ди в считанные д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уки моешь с мыло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микробы поскор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ячут под ногтями си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глядят из – под ног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бывают же на свет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но выросли в лесу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нятливые де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гти грязные грыз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грызите ногти, де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тяните пальцы в ро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правило, поверьт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шь на пользу вам пойдё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1-04-19T10:48:4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