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895-AADC-47C2-8FC6-835161E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DD7-2F2B-40D5-A9A4-7A63BF22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404-4BF0-44C9-85B1-00A8BDA5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278-C8B4-4A36-8933-5B886689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F1D-7F48-4738-96B8-984C993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BCD-1336-43A8-A6A8-DA5191D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7A7-7AA6-4ED1-A761-C6C29BC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8E3-69B7-4146-A29F-C9B509DD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672-7AB9-4977-B2E3-4E16943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E7B-EAFD-4F21-889B-C8B088D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39F-6220-48A4-8519-1E0B5B3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4D3-E14F-435B-8DB8-02FD0FC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e9f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A1FB-78E3-4FF1-81F6-4BB237A01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890000" y="4419720"/>
            <a:ext cx="721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бы не пришлось нам работать и 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здоровьем своим дорож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силой наших лёгких следит стра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носливых и лёгких нас ждёт 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алённый в тренировках, буду сильный, буду лов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рана здоровья – большое дело, силы ему отдать нужно см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этой работе любовью горят вся наша группа дружных ребя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5240" y="873000"/>
            <a:ext cx="4209840" cy="3468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970520" y="2895120"/>
            <a:ext cx="42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 – это одна и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х ценностей жизн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462760" y="-79200"/>
            <a:ext cx="56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Times New Roman"/>
              </a:rPr>
              <a:t>Правила личной гигие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468240" y="0"/>
            <a:ext cx="221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cc"/>
                </a:solidFill>
                <a:latin typeface="Times New Roman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753600" y="3886200"/>
            <a:ext cx="290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ёг в карман и карау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ёву, плаксу и грязну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 утру потоки слёз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забуду и про н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463c25ae2654"/>
          <p:cNvPicPr/>
          <p:nvPr/>
        </p:nvPicPr>
        <p:blipFill>
          <a:blip r:embed="rId1"/>
          <a:stretch/>
        </p:blipFill>
        <p:spPr>
          <a:xfrm>
            <a:off x="6934320" y="1523880"/>
            <a:ext cx="278604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rasch06"/>
          <p:cNvPicPr/>
          <p:nvPr/>
        </p:nvPicPr>
        <p:blipFill>
          <a:blip r:embed="rId2"/>
          <a:stretch/>
        </p:blipFill>
        <p:spPr>
          <a:xfrm>
            <a:off x="165240" y="5334120"/>
            <a:ext cx="165096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mylo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12920" y="1676520"/>
            <a:ext cx="1815840" cy="105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01-070-0002"/>
          <p:cNvPicPr/>
          <p:nvPr/>
        </p:nvPicPr>
        <p:blipFill>
          <a:blip r:embed="rId4"/>
          <a:stretch/>
        </p:blipFill>
        <p:spPr>
          <a:xfrm>
            <a:off x="7346880" y="5257800"/>
            <a:ext cx="23115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165600" y="303840"/>
            <a:ext cx="27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кользает, как живо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не выпущу его 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ой пеной пенитс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и мыть не ленит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3219480" y="761040"/>
            <a:ext cx="924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ыла есть з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ло ходит на работу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енится, намыл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дет и ляжет в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-360" y="2818440"/>
            <a:ext cx="309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тираю, я стараю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бани парень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намокло, всё измяло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сухого угол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602760" y="151200"/>
            <a:ext cx="290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осистою голов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т она влезает ловк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читает зубы н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утрам и вечер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66320" y="457092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делаю причёс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ет мне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477520" y="4951800"/>
            <a:ext cx="255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измерил сотню лу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язь смывать бе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6519240" y="2208600"/>
            <a:ext cx="26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ываюсь утром ра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водою из-под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3" descr="15"/>
          <p:cNvPicPr/>
          <p:nvPr/>
        </p:nvPicPr>
        <p:blipFill>
          <a:blip r:embed="rId5"/>
          <a:stretch/>
        </p:blipFill>
        <p:spPr>
          <a:xfrm>
            <a:off x="3384720" y="2133720"/>
            <a:ext cx="1733400" cy="91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871618831125853"/>
          <p:cNvPicPr/>
          <p:nvPr/>
        </p:nvPicPr>
        <p:blipFill>
          <a:blip r:embed="rId6"/>
          <a:stretch/>
        </p:blipFill>
        <p:spPr>
          <a:xfrm>
            <a:off x="3054240" y="3809880"/>
            <a:ext cx="173376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e9e0e458c54d"/>
          <p:cNvPicPr/>
          <p:nvPr/>
        </p:nvPicPr>
        <p:blipFill>
          <a:blip r:embed="rId7"/>
          <a:stretch/>
        </p:blipFill>
        <p:spPr>
          <a:xfrm>
            <a:off x="5283360" y="2819520"/>
            <a:ext cx="1444320" cy="15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8">
            <a:lum contrast="42000"/>
          </a:blip>
          <a:stretch/>
        </p:blipFill>
        <p:spPr>
          <a:xfrm>
            <a:off x="5200560" y="502920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3705120" cy="52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"/>
          <p:cNvPicPr/>
          <p:nvPr/>
        </p:nvPicPr>
        <p:blipFill>
          <a:blip r:embed="rId2"/>
          <a:stretch/>
        </p:blipFill>
        <p:spPr>
          <a:xfrm>
            <a:off x="6686640" y="1219320"/>
            <a:ext cx="2862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"/>
          <p:cNvSpPr/>
          <p:nvPr/>
        </p:nvSpPr>
        <p:spPr>
          <a:xfrm>
            <a:off x="973440" y="-31680"/>
            <a:ext cx="62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Правильно ли ведут себя дет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614052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859200" cy="642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825480" y="228600"/>
            <a:ext cx="37400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22760" y="3124080"/>
            <a:ext cx="5035680" cy="354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5240" y="152280"/>
            <a:ext cx="4292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55560" y="3301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А кто такие микроб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7800" y="99072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кробы – это очень маленькие  живые существа. Они не видны простым глазом. Чтобы их увидеть, надо смотреть в особый прибор, который называется «МИКРОСКОП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530680" y="990720"/>
            <a:ext cx="4094280" cy="558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495360" y="3581280"/>
            <a:ext cx="3797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8000" y="1066680"/>
            <a:ext cx="4875120" cy="5581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1828800"/>
            <a:ext cx="495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ывайся утром и перед с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уши, шею каждый д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ь зубы, после еды полощи ро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руки перед едой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каждого загряз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и волосы в чист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ноги перед с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отко стриги ног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недельно мой всё т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ри глаза ру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ьзуйся носовым плат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2318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Ещё несколько правил личной гиги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57880" y="380880"/>
            <a:ext cx="5170320" cy="625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47680" y="395280"/>
            <a:ext cx="32515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гиену очень стр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о соблюдать всегда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ногтями грязи мног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ь она и не вид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язь микробами пуга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, коварные он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от них заболе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 в считанные д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уки моешь с мы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микробы поскор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чут под ногтями си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глядят из – под ног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ывают же на свет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но выросли в лес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нятливые де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гти грязные грыз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грызите ногти, де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яните пальцы в ро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равило, поверьт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ь на пользу вам пойдё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04-19T10:48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