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828F-F9AE-486A-8CCB-B69FB6E1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AD2E-C28B-4A5C-A4AD-E0AA8258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018C-108C-4316-84D4-71A1D82AC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23E-BA7A-4BA0-B1B7-8A05BBCE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8144-52E0-466B-8408-24672E8A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1ABF-844A-4BDF-8C88-530F7F72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8EFF-B641-4F04-A7B8-62445B17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2535-2B5F-410D-8CBA-0D81609B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5763-DDE7-4FEB-BC34-E902C60F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6EB9-D3AC-45D5-B84F-8FA80464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8A4-93B2-4BA9-8B2F-F51C7AD3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E05-0CC3-4B6A-AD68-82565F49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E9A2-5CE4-4B82-84A5-2488601C41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АНКТ-ПЕТЕРБУРГСКОЕ ГОСУДАРСТВЕННОЕ БЮДЖЕТНОЕ ПРОФЕССИОНАЛЬНОЕ 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ИНДУСТРИАЛЬНО-СУДОСТРОИТЕЛЬНЫЙ ЛИЦЕЙ»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2920" y="2133360"/>
            <a:ext cx="676908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работка   поверхности  древесины рез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4211640" y="436572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разработал:  преподаватель  высш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егории спец.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ЕРБАКОВА  А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АНКТ-ПЕТЕРБУРГСКОЕ ГОСУДАРСТВЕННОЕ БЮДЖЕТНОЕ ПРОФЕССИОНАЛЬНОЕ 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ИНДУСТРИАЛЬНО-СУДОСТРОИТЕЛЬНЫЙ ЛИЦЕ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и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БУЧАЮЩ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учить виды и способы обработки древесины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АЗВИВАЮЩ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 Развитие внимания и сосредоточенности, умения анализировать и  обобщать. Формирование  кругозора учащихся и самостоятельности  познавательных интересов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ОСПИТАТЕЛЬНАЯ: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формирования приёмов умственной деятельности    в виде  общения и самостоятель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Введение в материал новой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/Обьяснить значение изучения нового материала и дать краткую характеристику изучаемой темы.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ать  расширенный обзор изучаемой 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/разбор и изучение нового материала по отдельным группам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крепление изучаемой 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/Вопросы учащимся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бработка поверхности нож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жи - один из основных инструментов для ручного резания. В зависимости от назначения ножи имеют специальные формы лезвия и рукоятки, что и определяет их наимен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8" descr="http://skyflex.air.ru/images/technology/tool05.gif"/>
          <p:cNvPicPr/>
          <p:nvPr/>
        </p:nvPicPr>
        <p:blipFill>
          <a:blip r:embed="rId1"/>
          <a:stretch/>
        </p:blipFill>
        <p:spPr>
          <a:xfrm>
            <a:off x="1187280" y="2997360"/>
            <a:ext cx="756144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ельный скальпель - это широко распространенный инструмент, применяемый для выполнения самых тонких модельных работ. Скальпелем прорезают отверстия в нервюрах, пазы для стрингеров, производят подрезку в труднодоступных местах и т. 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ельные ножи наиболее удобны для работы моделиста. Ими удобно обрабатывать винты, вырезать нервюры, прорезать выемки в шпангоутах, стыковать стрингеры "на ус" и выполнять множество самых разнообразных рабо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09:00:17Z</dcterms:created>
  <dc:creator>1</dc:creator>
  <dc:description/>
  <dc:language>en-US</dc:language>
  <cp:lastModifiedBy>2</cp:lastModifiedBy>
  <dcterms:modified xsi:type="dcterms:W3CDTF">2021-04-19T09:09:21Z</dcterms:modified>
  <cp:revision>6</cp:revision>
  <dc:subject/>
  <dc:title>РЕЗАНИЕ  ДРЕВЕСИНЫ</dc:title>
</cp:coreProperties>
</file>