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59C-CC3E-47F8-846C-F2032093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E8A-138E-4ACC-904C-17924D5D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27DF-32AF-496A-9729-26BFEC28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18B-994E-4B57-8813-BB4B8B99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C83-5D4A-4AD9-8408-317C5237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111-6587-49C1-9C1D-0DE0E1CD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091-CA0E-423B-BC76-B330F50F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519-AB58-4297-9351-E5A3B503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944-99E4-47BD-BC30-02258EDF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3111-E9C9-4D55-9FD5-C219FD0E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987-98E3-4FB2-8516-F000F200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D36-D4FF-407B-A795-17C1A2F3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5522-E2A8-405F-B826-B6D66DF45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АНКТ-ПЕТЕРБУРГСКОЕ ГОСУДАРСТВЕННОЕ БЮДЖЕТНОЕ ПРОФЕССИОНАЛЬ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ИНДУСТРИАЛЬНО-СУДОСТРОИТЕЛЬНЫЙ ЛИЦЕЙ»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2920" y="2133360"/>
            <a:ext cx="676908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работка   поверхности  древесины рез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4211640" y="436572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разработал:  преподаватель  высш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егории спец.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ЕРБАКОВА  А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АНКТ-ПЕТЕРБУРГСКОЕ ГОСУДАРСТВЕННОЕ БЮДЖЕТНОЕ ПРОФЕССИОНАЛЬ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ИНДУСТРИАЛЬНО-СУДОСТРОИТЕЛЬНЫЙ ЛИЦ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и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БУЧАЮЩ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учить виды и способы обработки древесины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ЗВИВАЮЩ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Развитие внимания и сосредоточенности, умения анализировать и  обобщать. Формирование  кругозора учащихся и самостоятельности  познавательных интересов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ОСПИТАТЕЛЬНАЯ: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формирования приёмов умственной деятельности    в виде  общения и самостоятель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Введение в материал новой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/Обьяснить значение изучения нового материала и дать краткую характеристику изучаемой темы.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ать  расширенный обзор изучаемой 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/разбор и изучение нового материала по отдельным группам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крепление изучаемой 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/Вопросы учащимся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бработка поверхности нож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жи - один из основных инструментов для ручного резания. В зависимости от назначения ножи имеют специальные формы лезвия и рукоятки, что и определяет их наимен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" descr="http://skyflex.air.ru/images/technology/tool05.gif"/>
          <p:cNvPicPr/>
          <p:nvPr/>
        </p:nvPicPr>
        <p:blipFill>
          <a:blip r:embed="rId1"/>
          <a:stretch/>
        </p:blipFill>
        <p:spPr>
          <a:xfrm>
            <a:off x="1187280" y="2997360"/>
            <a:ext cx="756144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ельный скальпель - это широко распространенный инструмент, применяемый для выполнения самых тонких модельных работ. Скальпелем прорезают отверстия в нервюрах, пазы для стрингеров, производят подрезку в труднодоступных местах и т. 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ельные ножи наиболее удобны для работы моделиста. Ими удобно обрабатывать винты, вырезать нервюры, прорезать выемки в шпангоутах, стыковать стрингеры "на ус" и выполнять множество самых разнообразных раб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09:00:17Z</dcterms:created>
  <dc:creator>1</dc:creator>
  <dc:description/>
  <dc:language>en-US</dc:language>
  <cp:lastModifiedBy>2</cp:lastModifiedBy>
  <dcterms:modified xsi:type="dcterms:W3CDTF">2021-04-19T09:09:21Z</dcterms:modified>
  <cp:revision>6</cp:revision>
  <dc:subject/>
  <dc:title>РЕЗАНИЕ  ДРЕВЕСИНЫ</dc:title>
</cp:coreProperties>
</file>