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981B1-47E0-4756-A9F4-4D6C08535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F9480-865D-4D28-9606-5A14004A9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3F19A-8535-4769-AD8B-FB8EA84F2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36115-D709-4791-852C-96EFEEB4C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E9A19-5D59-4796-B100-55642F541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4B14E-F568-438E-8ADE-B6599E932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A171D-1E33-4FF9-9C91-639C63548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4B174-3901-4996-90B7-275733169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CD906-0579-4E3E-AA63-570FBEEB5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D9FE7-DCB7-46BA-9D2F-05C40E088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9E185-4C4D-4488-9F48-AFE8A38C5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85349-6F65-42E0-AF8B-02C836AE7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F411C-B7B5-419F-968F-4237CD1F0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6497F-0967-4129-9353-911BA03F3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35CB6-A1C9-4887-899B-02F5886A1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8440C-04FF-4E9E-A670-084118E80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D6085-3ED9-4068-B1A8-FB8A7B75F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6049E4-F2C4-4701-8EC7-92CC08223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D688A6-B7B7-482B-BA8F-B5103B905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DDEBD0-F600-4DF8-89A1-2C8047910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A71C51-B34C-4E6D-8782-3A9D8AE38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AA6B78-7879-40C7-83B2-BD1D492E5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95F30-EE38-4422-8003-F2FFF01DE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92C328-9381-44D2-8E1F-9316594A7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14557E-0F69-40A8-A340-94EA94E26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7270D6-DE70-429A-A39C-E1ECFCCF4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E03D7D-BFB3-451F-8B9D-E9A344EF0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763D95-9440-4BAD-A0D2-D0CA09212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D18ADD-9D19-4392-87DE-8E0FC73F9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B3DAA9-2488-4DB9-9667-0E7D748F5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DF9770-65BA-467E-A003-41EE3EA10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5861A7-3A8A-4EE4-B343-173DA88C5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F84EA3-5FDE-49DC-89A9-582124D94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5DE42-42CA-4BA7-9E6A-55AC0FB7A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BDE362-23DC-4D5A-A66B-A3198D08A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4D78EE-9B8C-44D4-B160-3ABB1D3DE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611CCA-E634-4C10-A264-8470A4453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07D95A-BC91-4E9A-873B-9AE613997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CC9BB8-AA32-47C3-AC9B-09412B62D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F1EE0F-76E4-4697-A5E5-7E4E2871E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2EB2F2-7419-4BAE-B669-3E32248CA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B23457-7510-401D-8097-861BEC87F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73C35A-0B34-44F8-9B95-A7A2CE841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62F0F0-1C6F-4344-A329-D1448FB67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22190-39CF-419A-908F-38EAF6691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EE6D54-DCE2-489F-9199-357B98712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37643F-1755-46E0-9A38-85181AC2C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48D3BE-ABF2-4BD7-B97A-A2DC406D4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637074-A7AD-44F4-ACC8-B3AB5605C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C7FEF7-2E72-4656-AF60-A5378A6AD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DFB1F1-B66E-48DA-9078-CCE378257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1DF62C-45C9-4DDC-AEF4-70F4D26F9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6D69C5-0EB6-4C55-9377-A4C8F09A4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0B9D83-4C28-468B-A65F-CB6D90A9E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360468-53C4-4F9E-9EF9-0AA0E4889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AA972-8368-4F50-8358-4D7085CC5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D7B972-8714-4583-A5DC-1E67B101C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93E0D-5CE6-46C6-BB03-95441AFF3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B29A1-0BBE-4B75-94B4-BF9DE5668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61DDB-BEFA-479A-A5C9-FD9EB6D52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A7EB1-02F2-491A-B08D-39C11FB38249}" type="slidenum">
              <a:rPr b="0" lang="ru-RU" sz="1000" spc="-1" strike="noStrike">
                <a:solidFill>
                  <a:srgbClr val="a7a399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0B28A-503E-467E-92F1-2EED6C8F8B47}" type="slidenum">
              <a:rPr b="0" lang="ru-RU" sz="1000" spc="-1" strike="noStrike">
                <a:solidFill>
                  <a:srgbClr val="a7a399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87458-7739-4B10-8522-86356AA49DE7}" type="slidenum">
              <a:rPr b="0" lang="ru-RU" sz="1000" spc="-1" strike="noStrike">
                <a:solidFill>
                  <a:srgbClr val="a7a399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8022E-BA21-4EA1-8CF7-F1634752E585}" type="slidenum">
              <a:rPr b="0" lang="ru-RU" sz="1000" spc="-1" strike="noStrike">
                <a:solidFill>
                  <a:srgbClr val="a7a399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FEF18-0960-4716-880A-2D71A3BECE2A}" type="slidenum">
              <a:rPr b="0" lang="ru-RU" sz="1000" spc="-1" strike="noStrike">
                <a:solidFill>
                  <a:srgbClr val="a7a399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78588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Verdana"/>
              </a:rPr>
              <a:t>Тема: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АСУ различного назначения, примеры их использования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1" name="Picture 5" descr=""/>
          <p:cNvPicPr/>
          <p:nvPr/>
        </p:nvPicPr>
        <p:blipFill>
          <a:blip r:embed="rId1"/>
          <a:stretch/>
        </p:blipFill>
        <p:spPr>
          <a:xfrm>
            <a:off x="4429080" y="3286080"/>
            <a:ext cx="3929040" cy="299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Функции АСУ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28400" y="1714320"/>
            <a:ext cx="5143320" cy="2571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ланирование и (или) прогнозирован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чет, контроль, анализ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оординацию и (или) регулирован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2" name="Picture 4" descr=""/>
          <p:cNvPicPr/>
          <p:nvPr/>
        </p:nvPicPr>
        <p:blipFill>
          <a:blip r:embed="rId1"/>
          <a:stretch/>
        </p:blipFill>
        <p:spPr>
          <a:xfrm>
            <a:off x="5429160" y="3429000"/>
            <a:ext cx="3357720" cy="25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28440" y="499680"/>
            <a:ext cx="779292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8d3e"/>
                </a:solidFill>
                <a:latin typeface="Verdana"/>
              </a:rPr>
              <a:t>Виды АСУ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28400" y="1285560"/>
            <a:ext cx="8272440" cy="4614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Автоматизированная система управления технологическим процессом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или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АСУ ТП–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решает задачи оперативного управления и контроля техническими объектами в промышленности, энергетике, на транспорте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Автоматизированная система управления производством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АСУ П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)– решает задачи организации производства, включая основные производственные процессы, входящую и исходящую логистику. Осуществляет краткосрочное планирование выпуска с учётом производственных мощностей, анализ качества продукции, моделирование производственного процесс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142640" y="428400"/>
            <a:ext cx="779292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Примеры АСУ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1214280" y="1785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Автоматизированная система управления уличным освещением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(«АСУ УО»)– предназначена для организации автоматизации централизованного управления уличным освещением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7" name="Picture 4" descr=""/>
          <p:cNvPicPr/>
          <p:nvPr/>
        </p:nvPicPr>
        <p:blipFill>
          <a:blip r:embed="rId1"/>
          <a:stretch/>
        </p:blipFill>
        <p:spPr>
          <a:xfrm>
            <a:off x="4857840" y="4000680"/>
            <a:ext cx="3571920" cy="154764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5" descr=""/>
          <p:cNvPicPr/>
          <p:nvPr/>
        </p:nvPicPr>
        <p:blipFill>
          <a:blip r:embed="rId2"/>
          <a:stretch/>
        </p:blipFill>
        <p:spPr>
          <a:xfrm>
            <a:off x="1143000" y="3714840"/>
            <a:ext cx="2714760" cy="203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142640" y="642600"/>
            <a:ext cx="779292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Примеры АСУ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03280" y="1643040"/>
            <a:ext cx="8183520" cy="30751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Автоматизированная система управления наружного освещения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(«АСУНО»)– предназначена для организации автоматизации централизованного управления наружным освещением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1" name="Picture 2" descr=""/>
          <p:cNvPicPr/>
          <p:nvPr/>
        </p:nvPicPr>
        <p:blipFill>
          <a:blip r:embed="rId1"/>
          <a:stretch/>
        </p:blipFill>
        <p:spPr>
          <a:xfrm>
            <a:off x="5072040" y="4143240"/>
            <a:ext cx="3359160" cy="150048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3" descr=""/>
          <p:cNvPicPr/>
          <p:nvPr/>
        </p:nvPicPr>
        <p:blipFill>
          <a:blip r:embed="rId2"/>
          <a:stretch/>
        </p:blipFill>
        <p:spPr>
          <a:xfrm>
            <a:off x="1071720" y="4071960"/>
            <a:ext cx="269712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071360" y="571680"/>
            <a:ext cx="7792920" cy="6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Примеры АСУ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503280" y="1714320"/>
            <a:ext cx="8183520" cy="3003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Автоматизированная система управления дорожным движением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или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АСУ ДД–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предназначена для управления транспортных средств и пешеходных потоков на дорожной сети города или автомагистрали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5" name="Picture 2" descr=""/>
          <p:cNvPicPr/>
          <p:nvPr/>
        </p:nvPicPr>
        <p:blipFill>
          <a:blip r:embed="rId1"/>
          <a:stretch/>
        </p:blipFill>
        <p:spPr>
          <a:xfrm>
            <a:off x="1143000" y="4143240"/>
            <a:ext cx="2971800" cy="185760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3" descr=""/>
          <p:cNvPicPr/>
          <p:nvPr/>
        </p:nvPicPr>
        <p:blipFill>
          <a:blip r:embed="rId2"/>
          <a:stretch/>
        </p:blipFill>
        <p:spPr>
          <a:xfrm>
            <a:off x="4857840" y="4071960"/>
            <a:ext cx="380664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142640" y="571320"/>
            <a:ext cx="7792920" cy="89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АСУ Автосервис (фирма)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58" name="Picture 4" descr=""/>
          <p:cNvPicPr/>
          <p:nvPr/>
        </p:nvPicPr>
        <p:blipFill>
          <a:blip r:embed="rId1"/>
          <a:stretch/>
        </p:blipFill>
        <p:spPr>
          <a:xfrm>
            <a:off x="2071800" y="2357280"/>
            <a:ext cx="5238720" cy="39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503280" y="529920"/>
            <a:ext cx="8183520" cy="418788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5" descr=""/>
          <p:cNvPicPr/>
          <p:nvPr/>
        </p:nvPicPr>
        <p:blipFill>
          <a:blip r:embed="rId2"/>
          <a:stretch/>
        </p:blipFill>
        <p:spPr>
          <a:xfrm>
            <a:off x="285840" y="285840"/>
            <a:ext cx="8429400" cy="58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503280" y="529920"/>
            <a:ext cx="8183520" cy="418788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503280" y="529920"/>
            <a:ext cx="8183520" cy="418788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9134640" cy="62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69" name="Picture 5" descr=""/>
          <p:cNvPicPr/>
          <p:nvPr/>
        </p:nvPicPr>
        <p:blipFill>
          <a:blip r:embed="rId1"/>
          <a:stretch/>
        </p:blipFill>
        <p:spPr>
          <a:xfrm>
            <a:off x="428760" y="530280"/>
            <a:ext cx="8286480" cy="58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8d3e"/>
                </a:solidFill>
                <a:uFillTx/>
                <a:latin typeface="Verdana"/>
              </a:rPr>
              <a:t>Цель: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Получить представление об автоматических и автоматизированных системах управления  в различных  сферах деятельности.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503280" y="2571840"/>
            <a:ext cx="8183520" cy="21463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пасибо за вниман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428400" y="499680"/>
            <a:ext cx="8343720" cy="43434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Verdana"/>
              </a:rPr>
              <a:t>АСУ–</a:t>
            </a:r>
            <a:r>
              <a:rPr b="0" lang="ru-RU" sz="2800" spc="-1" strike="noStrike">
                <a:solidFill>
                  <a:srgbClr val="6600cc"/>
                </a:solidFill>
                <a:latin typeface="Verdana"/>
              </a:rPr>
              <a:t> комплекс аппаратных и программных средств, предназначенный для управления различными процессами в рамках технологического процесса, производства, предприятия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cc"/>
                </a:solidFill>
                <a:latin typeface="Verdana"/>
              </a:rPr>
              <a:t>АСУ применяются в различных отраслях промышленности, энергетики, транспорт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5" name="Picture 4" descr=""/>
          <p:cNvPicPr/>
          <p:nvPr/>
        </p:nvPicPr>
        <p:blipFill>
          <a:blip r:embed="rId1"/>
          <a:stretch/>
        </p:blipFill>
        <p:spPr>
          <a:xfrm>
            <a:off x="3286080" y="371484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5" descr=""/>
          <p:cNvPicPr/>
          <p:nvPr/>
        </p:nvPicPr>
        <p:blipFill>
          <a:blip r:embed="rId2"/>
          <a:stretch/>
        </p:blipFill>
        <p:spPr>
          <a:xfrm>
            <a:off x="5929200" y="4071960"/>
            <a:ext cx="257184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428760" y="499680"/>
            <a:ext cx="8315280" cy="50720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здателем первых АСУ является доктор экономических наук, профессор, член-корреспондент Национальной академии наук Белоруссии, Николай Иванович Ведута (1913-1998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н руководил внедрением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ервых в стран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автоматизированных систем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правления производством на машиностроительных предприятиях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8" name="Picture 4" descr=""/>
          <p:cNvPicPr/>
          <p:nvPr/>
        </p:nvPicPr>
        <p:blipFill>
          <a:blip r:embed="rId1"/>
          <a:stretch/>
        </p:blipFill>
        <p:spPr>
          <a:xfrm>
            <a:off x="6429240" y="2214720"/>
            <a:ext cx="2071800" cy="2301840"/>
          </a:xfrm>
          <a:prstGeom prst="rect">
            <a:avLst/>
          </a:prstGeom>
          <a:ln w="9360">
            <a:solidFill>
              <a:srgbClr val="848484">
                <a:alpha val="93000"/>
              </a:srgbClr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642960" y="64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Важнейшая задача АСУ–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повышение эффективности управления объектом на основе роста производительности труда и совершенствования методов планирования процесса управления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0" name="Picture 4" descr=""/>
          <p:cNvPicPr/>
          <p:nvPr/>
        </p:nvPicPr>
        <p:blipFill>
          <a:blip r:embed="rId1"/>
          <a:stretch/>
        </p:blipFill>
        <p:spPr>
          <a:xfrm>
            <a:off x="4500720" y="4357800"/>
            <a:ext cx="3000240" cy="21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18352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Цели автоматизации управления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500040" y="1285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609480" indent="-60948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едоставление лицу, принимающему решение (ЛПР) адекватных данных для принятия решений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скорение выполнения отдельных операций по сбору и обработке данных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нижение количества решений, которые должно принимать ЛПР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Цели автоматизации управления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28760" y="1857240"/>
            <a:ext cx="6643440" cy="41148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Повышение уровня контроля и исполнительской дисциплины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Повышение оперативности управления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Снижение затрат ЛПР на выполнение вспомогательных процессов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Повышение степени обоснованности принимаемых решений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5" name="Picture 4" descr=""/>
          <p:cNvPicPr/>
          <p:nvPr/>
        </p:nvPicPr>
        <p:blipFill>
          <a:blip r:embed="rId1"/>
          <a:stretch/>
        </p:blipFill>
        <p:spPr>
          <a:xfrm>
            <a:off x="7143840" y="2643120"/>
            <a:ext cx="1428840" cy="19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500040" y="642960"/>
            <a:ext cx="8244000" cy="52862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 состав АСУ входят следующие </a:t>
            </a:r>
            <a:r>
              <a:rPr b="1" i="1" lang="ru-RU" sz="2800" spc="-1" strike="noStrike">
                <a:solidFill>
                  <a:srgbClr val="000000"/>
                </a:solidFill>
                <a:latin typeface="Verdana"/>
              </a:rPr>
              <a:t>виды обеспечений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нформационно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граммно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ехническо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рганизационно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метрологическо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авово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лингвистическо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7" name="Picture 5" descr=""/>
          <p:cNvPicPr/>
          <p:nvPr/>
        </p:nvPicPr>
        <p:blipFill>
          <a:blip r:embed="rId1"/>
          <a:stretch/>
        </p:blipFill>
        <p:spPr>
          <a:xfrm>
            <a:off x="5214960" y="2857680"/>
            <a:ext cx="30481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8d3e"/>
                </a:solidFill>
                <a:latin typeface="Verdana"/>
              </a:rPr>
              <a:t>Основными классификационными признаками, определяющие вид АСУ</a:t>
            </a: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 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503280" y="1428480"/>
            <a:ext cx="8183520" cy="45003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сфера функционирования объекта управления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(промышленность, строительство, транспорт, сельское хозяйство, непромышленная сфера и так далее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вид управляемого процесса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(технологический, организационный, экономический и так далее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уровень в системе государственного управления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(всесоюзное объединение, всесоюзное промышленное объединение, научно-производственное объединение, предприятие (организация), производство, цех, участок, технологический агрегат).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5T19:52:12Z</dcterms:created>
  <dc:creator>1</dc:creator>
  <dc:description/>
  <dc:language>en-US</dc:language>
  <cp:lastModifiedBy>Алексей.Дима</cp:lastModifiedBy>
  <dcterms:modified xsi:type="dcterms:W3CDTF">2021-04-19T08:59:40Z</dcterms:modified>
  <cp:revision>11</cp:revision>
  <dc:subject/>
  <dc:title>Автоматизированные  системы управления (АСУ)</dc:title>
</cp:coreProperties>
</file>