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2AD-AF21-4CE5-976C-C2FE840D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960-B867-4CAF-A43F-7AEE16C3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ED9-4B44-4C94-8288-AFC6311A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515-1387-43AA-92BE-93DC0E34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6145-7067-438E-BEE5-AAB5EC39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905-6715-4FC2-ACA6-79B2F7FB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279E-30A4-4EE9-B2D9-89FCC05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B83C-E512-452F-94C3-BEFBAE2F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494A-6A4F-45C2-BC00-6EFCE1C8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2DB-F2C8-4461-A9AE-235A33A9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876-A166-4721-BF02-17E2308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6AD-6F37-4D8B-96AA-398E69F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B917-E47B-4773-A865-4E3F6C5A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ED69-963D-40EF-BBB7-7A321A4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652B-A7FD-4436-B450-3E618C83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892F-15DE-4849-9E74-21079E65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56A6-E02F-4A4D-B290-5F7C92D0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8829A-39F4-474E-8078-12C93A75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F2B0-3AF5-4D5B-A772-22FA6A6F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0823-8C38-490E-80E9-8FA777C8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2CB5-9217-4E70-AF50-9BE17D01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A33E-3B1D-4AFA-A542-62F1BC1F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3B5-EEE1-41BE-83F2-EBAAF34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4C325-D752-49AF-BFCD-49CFE85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388D-BE2C-41BB-872D-2621E49B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4389-A81B-433A-9209-76D224A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2D9B-36FB-417C-8E45-C06C50F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C9E4-D95E-47B2-BE2F-AA915BC3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C5F8-C868-4A4B-80BF-F89175A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FABF-104E-41BE-B132-356F9F8E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81C8C-7AE7-4815-AC77-411EA89E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ACCF-058B-45C1-81AA-06A567C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44A18-EE0E-4B06-8A77-C3E32420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9AA-3CC3-4C61-8DDA-26C017B7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397B-505D-4052-967C-434EEC4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A3F2-50A8-4DB4-8591-350E689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15598-06C6-439A-B86E-775770C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E4F47-1B04-455E-9B7F-2099DE5A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BF043-4BF3-4986-BB61-D529784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BD05-E86C-4C4B-B461-6BD31D7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1068-1FA4-45E2-BB51-156B357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AD3C0-0124-4EF0-A521-ED4C5B84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2226-3CDE-47F4-BC00-6063F099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0FF59-555B-4641-9F6B-7360CB57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A5B-EB7D-4A3C-AFC5-CD5D85DA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2F16-05C8-4D44-853D-E870E64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EF840-751F-4EFF-A9EA-4A2C8DAC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D30A0-18A1-4E56-BB1D-FFB922D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DA55-850B-407B-8199-37F741C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476E-5BA9-4C0F-969B-EF2AF827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D352-65FC-4BDE-A559-F43C95E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73529-0725-46CA-835A-613842F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C966-517C-49BD-B238-4FBB283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FAF9F-FC3B-4A7E-9C59-715726D4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2EEEB-7696-40AC-A5DD-ED0A7E34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69A-E946-47A2-A3F9-9EB03242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32F5-D067-44F6-B77A-D81FD96B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507-5D82-43DD-9D4B-D7A06CC8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E72-3E2A-409C-BC7D-B56B198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FBA-2C60-42A7-B76B-EA31D300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47EC-DF8B-42A5-8B9F-11E3102F0EB7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14C-7979-4A0C-8663-AFD681DB3719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8EFB-8F54-46EB-890C-503F87A1426F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898-4164-45D0-BEF8-CECBBE85695E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E31-3FD8-4832-A880-9F5990B87195}" type="slidenum">
              <a:rPr b="0" lang="ru-RU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858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Тема: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СУ различного назначения, примеры их исполь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429080" y="3286080"/>
            <a:ext cx="392904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нкции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400" y="1714320"/>
            <a:ext cx="51433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е и (или) прогноз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т, контроль,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ординацию и (или) регул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429160" y="342900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Verdana"/>
              </a:rPr>
              <a:t>Вид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00" y="1285560"/>
            <a:ext cx="8272440" cy="4614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технологическим процесс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ТП–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ешает задачи оперативного управления и контроля техническими объектами в промышленности, энергетике, на транспо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производств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П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– решает задачи организации производства, включая основные производственные процессы, входящую и исходящую логистику. Осуществляет краткосрочное планирование выпуска с учётом производственных мощностей, анализ качества продукции, моделирование производстве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42840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428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уличным освещение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«АСУ УО»)– предназначена для организации автоматизации централизованного управления уличным освещ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4857840" y="4000680"/>
            <a:ext cx="3571920" cy="15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27147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642600"/>
            <a:ext cx="7792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1643040"/>
            <a:ext cx="8183520" cy="3075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наружного осв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«АСУНО»)– предназначена для организации автоматизации централизованного управления наружным освещ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5072040" y="4143240"/>
            <a:ext cx="3359160" cy="1500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1071720" y="4071960"/>
            <a:ext cx="2697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571680"/>
            <a:ext cx="77929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меры АС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1714320"/>
            <a:ext cx="8183520" cy="3003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матизированная система управления дорожным движение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СУ ДД–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назначена для управления транспортных средств и пешеходных потоков на дорожной сети города или автомагистра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43000" y="4143240"/>
            <a:ext cx="2971800" cy="1857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857840" y="4071960"/>
            <a:ext cx="3806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571320"/>
            <a:ext cx="77929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СУ Автосервис (фирма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523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8429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428760" y="530280"/>
            <a:ext cx="82864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8d3e"/>
                </a:solidFill>
                <a:uFillTx/>
                <a:latin typeface="Verdana"/>
              </a:rPr>
              <a:t>Цель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лучить представление об автоматических и автоматизированных системах управления  в различных  сферах деятельност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2571840"/>
            <a:ext cx="8183520" cy="2146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28400" y="499680"/>
            <a:ext cx="834372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Verdana"/>
              </a:rPr>
              <a:t>АСУ–</a:t>
            </a: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 комплекс аппаратных и программных средств, предназначенный для управления различными процессами в рамках технологического процесса, производства, предприят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АСУ применяются в различных отраслях промышленности, энергетики, тран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286080" y="3714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929200" y="407196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499680"/>
            <a:ext cx="8315280" cy="5072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телем первых АСУ является доктор экономических наук, профессор, член-корреспондент Национальной академии наук Белоруссии, Николай Иванович Ведута (1913-1998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руководил внедре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х в стра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матизированных сист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авления производством на машиностроительных предприятия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429240" y="2214720"/>
            <a:ext cx="2071800" cy="2301840"/>
          </a:xfrm>
          <a:prstGeom prst="rect">
            <a:avLst/>
          </a:prstGeom>
          <a:ln w="9360">
            <a:solidFill>
              <a:srgbClr val="848484">
                <a:alpha val="93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42960" y="6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жнейшая задача АСУ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вышение эффективности управления объектом на основе роста производительности труда и совершенствования методов планирования процесса управл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4500720" y="4357800"/>
            <a:ext cx="300024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ели автоматизации управл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ление лицу, принимающему решение (ЛПР) адекватных данных для принятия ре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корение выполнения отдельных операций по сбору и обработке дан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количества решений, которые должно принимать ЛП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и автоматизац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1857240"/>
            <a:ext cx="664344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уровня контроля и исполнительской дисциплин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оперативности управл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нижение затрат ЛПР на выполнение вспомогательных процес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вышение степени обоснованности принимаемых решени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7143840" y="2643120"/>
            <a:ext cx="1428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0040" y="642960"/>
            <a:ext cx="8244000" cy="5286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став АСУ входят следующие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виды обеспечен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ролог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ов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нгвистическ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5214960" y="28576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8d3e"/>
                </a:solidFill>
                <a:latin typeface="Verdana"/>
              </a:rPr>
              <a:t>Основными классификационными признаками, определяющие вид АСУ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42848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фера функционирования объекта управлени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ромышленность, строительство, транспорт, сельское хозяйство, непромышленная сфера и так дале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д управляемого процесс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технологический, организационный, экономический и так дале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ровень в системе государственного управлени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всесоюзное объединение, всесоюзное промышленное объединение, научно-производственное объединение, предприятие (организация), производство, цех, участок, технологический агрегат)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9:52:12Z</dcterms:created>
  <dc:creator>1</dc:creator>
  <dc:description/>
  <dc:language>en-US</dc:language>
  <cp:lastModifiedBy>Алексей.Дима</cp:lastModifiedBy>
  <dcterms:modified xsi:type="dcterms:W3CDTF">2021-04-19T08:59:40Z</dcterms:modified>
  <cp:revision>11</cp:revision>
  <dc:subject/>
  <dc:title>Автоматизированные  системы управления (АСУ)</dc:title>
</cp:coreProperties>
</file>