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7E78-E98A-47F5-9808-4E358CD14B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1E7D-DC06-43FF-82D6-24366C7266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68A-6ACC-4A74-AC95-3F8663C7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3494-0147-4C68-B3D3-3C2C5C7E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65C5-56FC-49AD-BC2F-38916079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7C4E-53F9-4038-A34E-6AB3E155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9007-9B5C-4A97-86CC-A106DEFA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789E-7F74-40D2-AF2F-8EAA910B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CF93-6A59-4A32-98FE-5ADCA56D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7B24-4B0D-4C95-B6AA-675B34C7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806B-D1C1-4536-A22F-F0A9251A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2726-12A4-448C-BD9A-E13F8CFE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F6C4-8491-40EB-B453-CD846D22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7EE3-C3A9-40ED-8C5D-D58B009A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9550-1AE8-4E82-9932-14BFC602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A36E-B200-4FB5-A6FD-72CB8590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E477-0755-45C0-BA02-FE8CF2FB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8E80-613B-48C8-A20D-F4834B8C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8FEF-4672-4281-9877-2BE68D5F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E9506-1620-45CC-BF70-DE04392C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AB434-D8EF-42C4-B69B-D37AF5FB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F6977-489B-43D1-97D6-05B8CFEB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B645C-6551-4811-87CF-907F3F6C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080C9-E621-4702-98B9-8EC58F40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33E-1125-44AD-8851-63C41AA3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08579-7D00-44C1-97D2-7E55E71A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A0CAD-29DE-406C-A91F-E9CE2DD1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3A21E-4818-41C9-A0CE-F9395FF6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3C53A-2168-46A1-BE1C-28BBD470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140A3-6D81-4E52-8F51-316D47D1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36579-7E47-4BF9-B01B-CBA5E32E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1A694-25FE-4DF0-B636-5620A794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565-1F9C-49D9-9B4C-3E816181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478F-B5B9-42DC-B39B-E45ABF72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5232-E31F-4A44-AB7D-AD7D9A85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059F-F2CE-4FE0-AF85-5640BB53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D561-B519-48A9-A0D2-7BA43E43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714D-CDE0-493B-94B4-9D223703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01A3-19EA-4C11-8F46-603A1587B47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06E3-24D2-45CB-BADA-8FA39294B2B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C14A-1168-4CF0-8BDF-F5D120792ED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987280" y="692280"/>
            <a:ext cx="569916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Возможности динамических (электронных) таблиц. </a:t>
            </a:r>
            <a:br>
              <a:rPr sz="3200"/>
            </a:b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Лекц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1143000" y="51436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 преподаватель Коробкина В. 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1214280" y="28584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ПОУ ВО «Воронежский индустриальный колледж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3"/>
          <p:cNvSpPr/>
          <p:nvPr/>
        </p:nvSpPr>
        <p:spPr>
          <a:xfrm>
            <a:off x="3214800" y="4691160"/>
            <a:ext cx="32652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826920" y="3573360"/>
            <a:ext cx="66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Характерной особенностью табличного процессора является то, что данные и результаты вычислений представляются в табличной форме. Для наглядности эти данные можно представить в графическом виде — как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иаграм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Без-43-1"/>
          <p:cNvPicPr/>
          <p:nvPr/>
        </p:nvPicPr>
        <p:blipFill>
          <a:blip r:embed="rId2"/>
          <a:stretch/>
        </p:blipFill>
        <p:spPr>
          <a:xfrm>
            <a:off x="1692360" y="404640"/>
            <a:ext cx="5040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3"/>
          <p:cNvSpPr/>
          <p:nvPr/>
        </p:nvSpPr>
        <p:spPr>
          <a:xfrm>
            <a:off x="3214800" y="4691160"/>
            <a:ext cx="32652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2"/>
          <a:stretch/>
        </p:blipFill>
        <p:spPr>
          <a:xfrm>
            <a:off x="1166760" y="52560"/>
            <a:ext cx="6808680" cy="67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3"/>
          <p:cNvSpPr/>
          <p:nvPr/>
        </p:nvSpPr>
        <p:spPr>
          <a:xfrm>
            <a:off x="3214800" y="4691160"/>
            <a:ext cx="32652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755640" y="460440"/>
            <a:ext cx="712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3"/>
          <p:cNvSpPr/>
          <p:nvPr/>
        </p:nvSpPr>
        <p:spPr>
          <a:xfrm>
            <a:off x="3214800" y="4691160"/>
            <a:ext cx="32652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Рисунок 3" descr="Объемная сгруппированная гистограмма"/>
          <p:cNvPicPr/>
          <p:nvPr/>
        </p:nvPicPr>
        <p:blipFill>
          <a:blip r:embed="rId2"/>
          <a:stretch/>
        </p:blipFill>
        <p:spPr>
          <a:xfrm>
            <a:off x="4356000" y="333360"/>
            <a:ext cx="3076560" cy="18003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4" descr="Графики с маркерами данных"/>
          <p:cNvPicPr/>
          <p:nvPr/>
        </p:nvPicPr>
        <p:blipFill>
          <a:blip r:embed="rId3"/>
          <a:stretch/>
        </p:blipFill>
        <p:spPr>
          <a:xfrm>
            <a:off x="4394160" y="2276640"/>
            <a:ext cx="3000240" cy="18000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5" descr="Объемные круговые диаграммы"/>
          <p:cNvPicPr/>
          <p:nvPr/>
        </p:nvPicPr>
        <p:blipFill>
          <a:blip r:embed="rId4"/>
          <a:stretch/>
        </p:blipFill>
        <p:spPr>
          <a:xfrm>
            <a:off x="4106880" y="4508640"/>
            <a:ext cx="3319560" cy="17985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1"/>
          <p:cNvSpPr/>
          <p:nvPr/>
        </p:nvSpPr>
        <p:spPr>
          <a:xfrm>
            <a:off x="755640" y="189000"/>
            <a:ext cx="36385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  <a:ea typeface="Arial"/>
              </a:rPr>
              <a:t>Гистограмм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ются для демонстрации изменений данных за определенный период времени или для иллюстрирования сравнения объек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2"/>
          <p:cNvSpPr/>
          <p:nvPr/>
        </p:nvSpPr>
        <p:spPr>
          <a:xfrm>
            <a:off x="755640" y="1973160"/>
            <a:ext cx="36003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  <a:ea typeface="Arial"/>
              </a:rPr>
              <a:t>Графики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зволяют изображать непрерывное изменение данных с течением времени в едином масштабе; таким образом, они идеально подходят для изображения трендов изменения данных с равными интерва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6"/>
          <p:cNvSpPr/>
          <p:nvPr/>
        </p:nvSpPr>
        <p:spPr>
          <a:xfrm>
            <a:off x="695160" y="4511160"/>
            <a:ext cx="3411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ругова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иаграмма демонстрирует размер элементов одного ряда данных пропорционально сумме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"/>
          <p:cNvSpPr/>
          <p:nvPr/>
        </p:nvSpPr>
        <p:spPr>
          <a:xfrm>
            <a:off x="1116000" y="1773360"/>
            <a:ext cx="626436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Рисунок 3" descr="Объемные линейчатые диаграммы"/>
          <p:cNvPicPr/>
          <p:nvPr/>
        </p:nvPicPr>
        <p:blipFill>
          <a:blip r:embed="rId2"/>
          <a:stretch/>
        </p:blipFill>
        <p:spPr>
          <a:xfrm>
            <a:off x="4356000" y="115920"/>
            <a:ext cx="3214800" cy="180648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5" descr="Диаграмма с областями"/>
          <p:cNvPicPr/>
          <p:nvPr/>
        </p:nvPicPr>
        <p:blipFill>
          <a:blip r:embed="rId3"/>
          <a:stretch/>
        </p:blipFill>
        <p:spPr>
          <a:xfrm>
            <a:off x="4386240" y="2276640"/>
            <a:ext cx="3184560" cy="171432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6" descr="Точечная диаграмма"/>
          <p:cNvPicPr/>
          <p:nvPr/>
        </p:nvPicPr>
        <p:blipFill>
          <a:blip r:embed="rId4"/>
          <a:stretch/>
        </p:blipFill>
        <p:spPr>
          <a:xfrm>
            <a:off x="4375080" y="4221000"/>
            <a:ext cx="3179880" cy="200052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1"/>
          <p:cNvSpPr/>
          <p:nvPr/>
        </p:nvSpPr>
        <p:spPr>
          <a:xfrm>
            <a:off x="755640" y="115920"/>
            <a:ext cx="3600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  <a:ea typeface="Arial"/>
              </a:rPr>
              <a:t>Линейчатые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иаграммы иллюстрируют сравнение отдельных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"/>
          <p:cNvSpPr/>
          <p:nvPr/>
        </p:nvSpPr>
        <p:spPr>
          <a:xfrm>
            <a:off x="755640" y="1922400"/>
            <a:ext cx="36306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  <a:ea typeface="Arial"/>
              </a:rPr>
              <a:t>Диаграммы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 областями иллюстрируют величину изменений в зависимости от времени и могут использоваться для привлечения внимания к суммарному значению в соответствии с трен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7"/>
          <p:cNvSpPr/>
          <p:nvPr/>
        </p:nvSpPr>
        <p:spPr>
          <a:xfrm>
            <a:off x="755640" y="4262400"/>
            <a:ext cx="3600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  <a:ea typeface="Arial"/>
              </a:rPr>
              <a:t>Точечна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иаграмма показывает отношения между численными значениями в нескольких рядах данных или отображает две группы чисел как один ряд координат x и 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3" descr="Поверхностная диаграмма"/>
          <p:cNvPicPr/>
          <p:nvPr/>
        </p:nvPicPr>
        <p:blipFill>
          <a:blip r:embed="rId2"/>
          <a:stretch/>
        </p:blipFill>
        <p:spPr>
          <a:xfrm>
            <a:off x="4788000" y="115920"/>
            <a:ext cx="2763720" cy="202068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5" descr="Кольцевая диаграмма"/>
          <p:cNvPicPr/>
          <p:nvPr/>
        </p:nvPicPr>
        <p:blipFill>
          <a:blip r:embed="rId3"/>
          <a:stretch/>
        </p:blipFill>
        <p:spPr>
          <a:xfrm>
            <a:off x="4911840" y="2276640"/>
            <a:ext cx="2693880" cy="20304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6" descr="Пузырьковая диаграмма"/>
          <p:cNvPicPr/>
          <p:nvPr/>
        </p:nvPicPr>
        <p:blipFill>
          <a:blip r:embed="rId4"/>
          <a:stretch/>
        </p:blipFill>
        <p:spPr>
          <a:xfrm>
            <a:off x="5008680" y="4437000"/>
            <a:ext cx="2597040" cy="232416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1"/>
          <p:cNvSpPr/>
          <p:nvPr/>
        </p:nvSpPr>
        <p:spPr>
          <a:xfrm>
            <a:off x="755640" y="333360"/>
            <a:ext cx="4032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  <a:ea typeface="Arial"/>
              </a:rPr>
              <a:t>Поверхностная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иаграмма используется, когда требуется найти оптимальные комбинации в двух наборах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755640" y="1989000"/>
            <a:ext cx="4032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к и круговая диаграмма, 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  <a:ea typeface="Arial"/>
              </a:rPr>
              <a:t>кольцевая диаграмм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ображает отношение частей к целому, но может содержать более одного ряда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7"/>
          <p:cNvSpPr/>
          <p:nvPr/>
        </p:nvSpPr>
        <p:spPr>
          <a:xfrm>
            <a:off x="755640" y="3497400"/>
            <a:ext cx="42530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  <a:ea typeface="Arial"/>
              </a:rPr>
              <a:t>пузырьковой диаграмм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гут отображаться данные столбцов электронной таблицы, при этом значения по оси X выбираются из первого столбца, а соответствующие значения по оси Y и значения, определяющие размер          пузырьков, выбираются из соседних         столбц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3" descr="Заполненная лепестковая диаграмма"/>
          <p:cNvPicPr/>
          <p:nvPr/>
        </p:nvPicPr>
        <p:blipFill>
          <a:blip r:embed="rId2"/>
          <a:stretch/>
        </p:blipFill>
        <p:spPr>
          <a:xfrm>
            <a:off x="4538520" y="333360"/>
            <a:ext cx="3000600" cy="18763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Смешанная диаграмма с заданным форматом"/>
          <p:cNvPicPr/>
          <p:nvPr/>
        </p:nvPicPr>
        <p:blipFill>
          <a:blip r:embed="rId3"/>
          <a:stretch/>
        </p:blipFill>
        <p:spPr>
          <a:xfrm>
            <a:off x="4681440" y="3068640"/>
            <a:ext cx="2857680" cy="286704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"/>
          <p:cNvSpPr/>
          <p:nvPr/>
        </p:nvSpPr>
        <p:spPr>
          <a:xfrm>
            <a:off x="716040" y="609480"/>
            <a:ext cx="378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  <a:ea typeface="Arial"/>
              </a:rPr>
              <a:t>лепестковой диаграмм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жно сравнить статистические значения нескольких рядов дан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716040" y="3213000"/>
            <a:ext cx="39654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  <a:ea typeface="Arial"/>
              </a:rPr>
              <a:t>Смешанная диаграмм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ется для отображения нескольких рядов данных с использованием разных типов диа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1116000" y="1773360"/>
            <a:ext cx="626436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5" descr="Объемная сгруппированная гистограмма"/>
          <p:cNvPicPr/>
          <p:nvPr/>
        </p:nvPicPr>
        <p:blipFill>
          <a:blip r:embed="rId2"/>
          <a:stretch/>
        </p:blipFill>
        <p:spPr>
          <a:xfrm>
            <a:off x="1116000" y="1778040"/>
            <a:ext cx="6226200" cy="3643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9" name="Выноска-облако 6"/>
          <p:cNvSpPr/>
          <p:nvPr/>
        </p:nvSpPr>
        <p:spPr>
          <a:xfrm>
            <a:off x="971640" y="915840"/>
            <a:ext cx="1785960" cy="785880"/>
          </a:xfrm>
          <a:prstGeom prst="cloudCallout">
            <a:avLst>
              <a:gd name="adj1" fmla="val 2495"/>
              <a:gd name="adj2" fmla="val 10297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диа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Выноска-облако 7"/>
          <p:cNvSpPr/>
          <p:nvPr/>
        </p:nvSpPr>
        <p:spPr>
          <a:xfrm>
            <a:off x="3132000" y="992160"/>
            <a:ext cx="1785960" cy="785880"/>
          </a:xfrm>
          <a:prstGeom prst="cloudCallout">
            <a:avLst>
              <a:gd name="adj1" fmla="val 1986"/>
              <a:gd name="adj2" fmla="val 91342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олов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Выноска-облако 8"/>
          <p:cNvSpPr/>
          <p:nvPr/>
        </p:nvSpPr>
        <p:spPr>
          <a:xfrm>
            <a:off x="5640480" y="952560"/>
            <a:ext cx="1785960" cy="785880"/>
          </a:xfrm>
          <a:prstGeom prst="cloudCallout">
            <a:avLst>
              <a:gd name="adj1" fmla="val -58944"/>
              <a:gd name="adj2" fmla="val 171629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постро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Выноска-облако 9"/>
          <p:cNvSpPr/>
          <p:nvPr/>
        </p:nvSpPr>
        <p:spPr>
          <a:xfrm>
            <a:off x="6300720" y="2133720"/>
            <a:ext cx="1785960" cy="785520"/>
          </a:xfrm>
          <a:prstGeom prst="cloudCallout">
            <a:avLst>
              <a:gd name="adj1" fmla="val -37439"/>
              <a:gd name="adj2" fmla="val 132069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ен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3"/>
          <a:stretch/>
        </p:blipFill>
        <p:spPr>
          <a:xfrm>
            <a:off x="5292720" y="4533840"/>
            <a:ext cx="3041640" cy="1274760"/>
          </a:xfrm>
          <a:prstGeom prst="rect">
            <a:avLst/>
          </a:prstGeom>
          <a:ln w="0">
            <a:noFill/>
          </a:ln>
        </p:spPr>
      </p:pic>
      <p:sp>
        <p:nvSpPr>
          <p:cNvPr id="234" name="Выноска-облако 10"/>
          <p:cNvSpPr/>
          <p:nvPr/>
        </p:nvSpPr>
        <p:spPr>
          <a:xfrm>
            <a:off x="684360" y="5202360"/>
            <a:ext cx="1539720" cy="785520"/>
          </a:xfrm>
          <a:prstGeom prst="cloudCallout">
            <a:avLst>
              <a:gd name="adj1" fmla="val 47550"/>
              <a:gd name="adj2" fmla="val -129749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 диа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  <a:ea typeface="Arial"/>
              </a:rPr>
              <a:t>Основные приемы работы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в Э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76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8000"/>
              </a:lnSpc>
              <a:spcBef>
                <a:spcPts val="700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бота с листами книг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8000"/>
              </a:lnSpc>
              <a:spcBef>
                <a:spcPts val="700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вод данных различными способ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8000"/>
              </a:lnSpc>
              <a:spcBef>
                <a:spcPts val="700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ы форматирования табли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8000"/>
              </a:lnSpc>
              <a:spcBef>
                <a:spcPts val="700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форму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8000"/>
              </a:lnSpc>
              <a:spcBef>
                <a:spcPts val="700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бор формата яче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8000"/>
              </a:lnSpc>
              <a:spcBef>
                <a:spcPts val="700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ртировка дан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8000"/>
              </a:lnSpc>
              <a:spcBef>
                <a:spcPts val="700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ункции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8000"/>
              </a:lnSpc>
              <a:spcBef>
                <a:spcPts val="700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роение диаграмм и граф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143240" y="1214280"/>
            <a:ext cx="42148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8000"/>
              </a:lnSpc>
              <a:spcBef>
                <a:spcPts val="700"/>
              </a:spcBef>
              <a:buClr>
                <a:srgbClr val="feb80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7000"/>
              </a:lnSpc>
              <a:spcBef>
                <a:spcPts val="550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повышение эффективности при работе с любой информаци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7000"/>
              </a:lnSpc>
              <a:spcBef>
                <a:spcPts val="700"/>
              </a:spcBef>
              <a:buClr>
                <a:srgbClr val="feb80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Результ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7000"/>
              </a:lnSpc>
              <a:spcBef>
                <a:spcPts val="550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Экономия времени на работу с информаци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7000"/>
              </a:lnSpc>
              <a:spcBef>
                <a:spcPts val="550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Гибкость в работе с информаци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7000"/>
              </a:lnSpc>
              <a:spcBef>
                <a:spcPts val="550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Овладение приемами рационального конспектирования в форме структурированных данных в табли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6"/>
          <p:cNvSpPr/>
          <p:nvPr/>
        </p:nvSpPr>
        <p:spPr>
          <a:xfrm>
            <a:off x="5072040" y="285840"/>
            <a:ext cx="244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  <a:ea typeface="Arial"/>
              </a:rPr>
              <a:t>Цели и результаты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59770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Вопросы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928800" y="642960"/>
            <a:ext cx="6408720" cy="24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Что такое электронная таблиц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Назначение электронной таблиц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Что такое рабочая книг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 именуются ячей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Какие типы данных могут храниться в ячейк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Какая ячейка является активн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Как ввести формул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Заголовок 1"/>
          <p:cNvSpPr/>
          <p:nvPr/>
        </p:nvSpPr>
        <p:spPr>
          <a:xfrm>
            <a:off x="1428840" y="3214800"/>
            <a:ext cx="59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  <a:ea typeface="Arial"/>
              </a:rPr>
              <a:t>Заключение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4"/>
          <p:cNvSpPr/>
          <p:nvPr/>
        </p:nvSpPr>
        <p:spPr>
          <a:xfrm>
            <a:off x="928800" y="4051440"/>
            <a:ext cx="671508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На этом занятии мы с вами определили, что наиболее удобна в наглядном представлении информационных объектов является прямоугольная таблица, которая состоит из столбцов и строк. Такой вид применяется для описания ряда объектов, обладающих одинаковыми наборами свойст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наглядное представление данных можно визуализировать в виде диаграм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2655720" y="1125360"/>
            <a:ext cx="3410280" cy="2610000"/>
          </a:xfrm>
          <a:prstGeom prst="rect">
            <a:avLst/>
          </a:prstGeom>
          <a:ln w="50760">
            <a:solidFill>
              <a:srgbClr val="ffc000"/>
            </a:solidFill>
            <a:miter/>
          </a:ln>
        </p:spPr>
      </p:pic>
      <p:sp>
        <p:nvSpPr>
          <p:cNvPr id="134" name="Прямоугольник 1"/>
          <p:cNvSpPr/>
          <p:nvPr/>
        </p:nvSpPr>
        <p:spPr>
          <a:xfrm>
            <a:off x="1258920" y="3933720"/>
            <a:ext cx="626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 1979 году Дэн Бриклин и Боб Френкстон разработали программу VisiCalc. Этот табличный редактор для компьютера Apple II превратил персональный компьютер из игрушки в массовый инструмент для бизне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  <a:ea typeface="Arial"/>
              </a:rPr>
              <a:t>Область применения и основное назначение Э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116000" y="1413000"/>
            <a:ext cx="649116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ЭТ используются в различных област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7000"/>
              </a:lnSpc>
              <a:spcBef>
                <a:spcPts val="499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инженерно-технические расче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7000"/>
              </a:lnSpc>
              <a:spcBef>
                <a:spcPts val="499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статистическая обработка больш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массивов информ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7000"/>
              </a:lnSpc>
              <a:spcBef>
                <a:spcPts val="499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бухгалтерский и банковский учет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ое назнач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7000"/>
              </a:lnSpc>
              <a:spcBef>
                <a:spcPts val="499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ввод и редактирование дан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7000"/>
              </a:lnSpc>
              <a:spcBef>
                <a:spcPts val="499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атирование табли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7000"/>
              </a:lnSpc>
              <a:spcBef>
                <a:spcPts val="499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автоматизации вычисл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7000"/>
              </a:lnSpc>
              <a:spcBef>
                <a:spcPts val="499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представления результатов в виде диа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7000"/>
              </a:lnSpc>
              <a:spcBef>
                <a:spcPts val="499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моделирования, когда исследуется влияние одних параметров на други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1042920" y="907920"/>
            <a:ext cx="64818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Arial"/>
                <a:ea typeface="Arial Unicode MS"/>
              </a:rPr>
              <a:t>Электронная таблица-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интерактивная система обработки данных, представляющая собой прямоугольную таблицу, ячейки которой могут содержать числа, строки или формулы, задающие зависимость значения ячейки от других ячеек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2050920" y="2781360"/>
            <a:ext cx="49482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6920" y="274680"/>
            <a:ext cx="59770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Структура окна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116000" y="1052640"/>
            <a:ext cx="64911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рока заголо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видEXCEL"/>
          <p:cNvPicPr/>
          <p:nvPr/>
        </p:nvPicPr>
        <p:blipFill>
          <a:blip r:embed="rId2"/>
          <a:stretch/>
        </p:blipFill>
        <p:spPr>
          <a:xfrm>
            <a:off x="777960" y="1844640"/>
            <a:ext cx="6656400" cy="4913280"/>
          </a:xfrm>
          <a:prstGeom prst="rect">
            <a:avLst/>
          </a:prstGeom>
          <a:ln w="0">
            <a:noFill/>
          </a:ln>
        </p:spPr>
      </p:pic>
      <p:sp>
        <p:nvSpPr>
          <p:cNvPr id="142" name="Line 10"/>
          <p:cNvSpPr/>
          <p:nvPr/>
        </p:nvSpPr>
        <p:spPr>
          <a:xfrm flipV="1">
            <a:off x="4290840" y="1483920"/>
            <a:ext cx="304920" cy="360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4900680" y="1484280"/>
            <a:ext cx="291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нель инстру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V="1">
            <a:off x="4844880" y="1792080"/>
            <a:ext cx="447840" cy="493560"/>
          </a:xfrm>
          <a:prstGeom prst="line">
            <a:avLst/>
          </a:prstGeom>
          <a:ln w="3816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1763640" y="16383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1765080" y="14842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лавное мен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 flipV="1">
            <a:off x="2260440" y="1682280"/>
            <a:ext cx="306720" cy="360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3227400" y="293544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нель формат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7"/>
          <p:cNvSpPr/>
          <p:nvPr/>
        </p:nvSpPr>
        <p:spPr>
          <a:xfrm>
            <a:off x="2843280" y="2705040"/>
            <a:ext cx="936720" cy="230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116000" y="3089160"/>
            <a:ext cx="145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е им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7"/>
          <p:cNvSpPr/>
          <p:nvPr/>
        </p:nvSpPr>
        <p:spPr>
          <a:xfrm>
            <a:off x="1012680" y="2741760"/>
            <a:ext cx="843120" cy="347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5578560" y="472428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бочее п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>
            <a:off x="5580000" y="4282920"/>
            <a:ext cx="776520" cy="441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1433520" y="4129200"/>
            <a:ext cx="23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ктивная ячей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7"/>
          <p:cNvSpPr/>
          <p:nvPr/>
        </p:nvSpPr>
        <p:spPr>
          <a:xfrm>
            <a:off x="1636560" y="3686040"/>
            <a:ext cx="776520" cy="443160"/>
          </a:xfrm>
          <a:prstGeom prst="line">
            <a:avLst/>
          </a:prstGeom>
          <a:ln w="3816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1071720" y="642960"/>
            <a:ext cx="64814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столбец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ет буквенное обозначе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иная с буквы «А». Каждая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стро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меет с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м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"/>
          <p:cNvSpPr/>
          <p:nvPr/>
        </p:nvSpPr>
        <p:spPr>
          <a:xfrm>
            <a:off x="1071720" y="0"/>
            <a:ext cx="613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Термины и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928800" y="1857240"/>
            <a:ext cx="2685960" cy="30099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2"/>
          <p:cNvSpPr/>
          <p:nvPr/>
        </p:nvSpPr>
        <p:spPr>
          <a:xfrm>
            <a:off x="3714840" y="1428840"/>
            <a:ext cx="392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, созданный в электронной таблице называется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рабочей книг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3643200" y="3143160"/>
            <a:ext cx="41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чейка, в которой находится курсор и выделена рамкой, называется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актив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3714840" y="2428920"/>
            <a:ext cx="428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пересечении столбца и строки располагается – </a:t>
            </a:r>
            <a:r>
              <a:rPr b="0" i="1" lang="ru-RU" sz="2000" spc="-1" strike="noStrike">
                <a:solidFill>
                  <a:srgbClr val="006600"/>
                </a:solidFill>
                <a:latin typeface="Arial"/>
                <a:ea typeface="Arial"/>
              </a:rPr>
              <a:t>ячей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143000" y="5143680"/>
            <a:ext cx="3033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целостный объект можно использовать и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диапазон яче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(Например: А1:С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3"/>
          <a:stretch/>
        </p:blipFill>
        <p:spPr>
          <a:xfrm>
            <a:off x="4429080" y="4133880"/>
            <a:ext cx="32958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  <a:ea typeface="Arial"/>
              </a:rPr>
              <a:t>Основные типы данных в Э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1042920" y="1628640"/>
            <a:ext cx="64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3"/>
          <p:cNvSpPr/>
          <p:nvPr/>
        </p:nvSpPr>
        <p:spPr>
          <a:xfrm>
            <a:off x="3214800" y="4691160"/>
            <a:ext cx="32652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Calibri"/>
              </a:rPr>
              <a:t>1. Текст     2. Чис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2"/>
          <a:srcRect l="0" t="0" r="60140" b="72170"/>
          <a:stretch/>
        </p:blipFill>
        <p:spPr>
          <a:xfrm>
            <a:off x="1066680" y="2249640"/>
            <a:ext cx="619308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  <a:ea typeface="Arial"/>
              </a:rPr>
              <a:t>Основные типы данных в Э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1042920" y="1628640"/>
            <a:ext cx="64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3"/>
          <p:cNvSpPr/>
          <p:nvPr/>
        </p:nvSpPr>
        <p:spPr>
          <a:xfrm>
            <a:off x="3214800" y="4691160"/>
            <a:ext cx="32652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55280" y="1197000"/>
            <a:ext cx="6769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Calibri"/>
              </a:rPr>
              <a:t>3. Форму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2"/>
          <a:srcRect l="0" t="13507" r="73423" b="76203"/>
          <a:stretch/>
        </p:blipFill>
        <p:spPr>
          <a:xfrm>
            <a:off x="1774800" y="1773360"/>
            <a:ext cx="5580000" cy="16254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"/>
          <p:cNvSpPr/>
          <p:nvPr/>
        </p:nvSpPr>
        <p:spPr>
          <a:xfrm>
            <a:off x="1476360" y="33829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ожить содержимое ячеек А2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 поместить в ячейку С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 flipH="1" flipV="1">
            <a:off x="3634920" y="2803680"/>
            <a:ext cx="1297080" cy="620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 flipH="1" flipV="1">
            <a:off x="4565520" y="2707920"/>
            <a:ext cx="930240" cy="716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 flipH="1" flipV="1">
            <a:off x="5687640" y="2787480"/>
            <a:ext cx="539640" cy="91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"/>
          <p:cNvPicPr/>
          <p:nvPr/>
        </p:nvPicPr>
        <p:blipFill>
          <a:blip r:embed="rId3"/>
          <a:srcRect l="0" t="10673" r="71962" b="75996"/>
          <a:stretch/>
        </p:blipFill>
        <p:spPr>
          <a:xfrm>
            <a:off x="803160" y="4075200"/>
            <a:ext cx="4824360" cy="18349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4"/>
          <p:cNvSpPr/>
          <p:nvPr/>
        </p:nvSpPr>
        <p:spPr>
          <a:xfrm>
            <a:off x="4565520" y="5054760"/>
            <a:ext cx="38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ока форма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 flipH="1" flipV="1">
            <a:off x="4873680" y="4379400"/>
            <a:ext cx="930240" cy="716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4319640" y="616572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0"/>
          <p:cNvSpPr/>
          <p:nvPr/>
        </p:nvSpPr>
        <p:spPr>
          <a:xfrm flipH="1" flipV="1">
            <a:off x="4278240" y="5390640"/>
            <a:ext cx="540000" cy="91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6600"/>
                </a:solidFill>
                <a:uFillTx/>
                <a:latin typeface="Arial"/>
                <a:ea typeface="Arial"/>
              </a:rPr>
              <a:t>Ссылки на адреса яче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13"/>
          <p:cNvSpPr/>
          <p:nvPr/>
        </p:nvSpPr>
        <p:spPr>
          <a:xfrm>
            <a:off x="3214800" y="4691160"/>
            <a:ext cx="32652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1108080" y="3382920"/>
            <a:ext cx="1303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"/>
          <p:cNvSpPr/>
          <p:nvPr/>
        </p:nvSpPr>
        <p:spPr>
          <a:xfrm flipH="1">
            <a:off x="2195280" y="1125360"/>
            <a:ext cx="1360440" cy="1151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4278240" y="1125360"/>
            <a:ext cx="0" cy="158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881600" y="1125360"/>
            <a:ext cx="1366920" cy="1381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7"/>
          <p:cNvSpPr/>
          <p:nvPr/>
        </p:nvSpPr>
        <p:spPr>
          <a:xfrm>
            <a:off x="611280" y="2276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тнос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8"/>
          <p:cNvSpPr/>
          <p:nvPr/>
        </p:nvSpPr>
        <p:spPr>
          <a:xfrm>
            <a:off x="2874960" y="270828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меш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3"/>
          <p:cNvSpPr/>
          <p:nvPr/>
        </p:nvSpPr>
        <p:spPr>
          <a:xfrm>
            <a:off x="5076720" y="25066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бсолю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9"/>
          <p:cNvSpPr/>
          <p:nvPr/>
        </p:nvSpPr>
        <p:spPr>
          <a:xfrm>
            <a:off x="971640" y="2800440"/>
            <a:ext cx="190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2, С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25, D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20"/>
          <p:cNvSpPr/>
          <p:nvPr/>
        </p:nvSpPr>
        <p:spPr>
          <a:xfrm>
            <a:off x="2987640" y="3276720"/>
            <a:ext cx="25779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A2, A$2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$18, $C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21"/>
          <p:cNvSpPr/>
          <p:nvPr/>
        </p:nvSpPr>
        <p:spPr>
          <a:xfrm>
            <a:off x="5364000" y="2908440"/>
            <a:ext cx="2592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A$2, $D$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C$8, $F$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22"/>
          <p:cNvSpPr/>
          <p:nvPr/>
        </p:nvSpPr>
        <p:spPr>
          <a:xfrm>
            <a:off x="971640" y="4317840"/>
            <a:ext cx="655308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копировании зна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мораживает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мер строки (А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$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номер столбц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$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5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ли то и другое (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$A$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7:36:10Z</dcterms:created>
  <dc:creator>Пользователь</dc:creator>
  <dc:description/>
  <dc:language>en-US</dc:language>
  <cp:lastModifiedBy>Алексей.Дима</cp:lastModifiedBy>
  <dcterms:modified xsi:type="dcterms:W3CDTF">2021-04-19T08:45:35Z</dcterms:modified>
  <cp:revision>244</cp:revision>
  <dc:subject/>
  <dc:title>Муниципальное образовательное учреждение «Средняя»</dc:title>
</cp:coreProperties>
</file>