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F90E-5772-49E1-9530-57DF64F930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878C-0C8D-4300-8575-D030E8717B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928F-C4B7-4196-8271-2E79F8F73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2E32-6E11-485D-9930-FE377D4C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9429-CB26-4714-91B5-4DEB261D2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D538-B590-477A-8C16-EE329E18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3B3E-E091-4B09-B2A2-3157B7E7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0B0C-8C0F-4523-BB67-63C6048E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B097-881B-4F62-A735-715E6B7A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D077-24F7-4C72-8A19-B478501E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50CB-6C39-478B-8499-BF9EC279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8986-7F14-48FA-8E98-49FD3155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F102-C1E5-43C2-B520-EF98119D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135E-45D1-42AF-B03A-54FC5C47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B2A4-D485-40AE-9BC4-589200D8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6FDF-B571-4412-87D1-E218909B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0297-E57C-4C3E-86D2-14934099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89E6-FE92-4239-841E-652EB9A3F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85D9-698C-4571-BF07-69B97D391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9F4A5-BA2D-4CE9-B8A0-9C133039A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EEAB6-79A4-4A18-8ABD-639CE725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C9A7F-235C-4A89-B903-D0D00455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98B6C-4D71-42F4-AC91-A537A6BC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2E00A-1A72-4EE7-B1DD-5E024EF4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E3AB-CAF9-4CCE-9449-D00D6ADA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33C69-EBEC-43D7-B8BD-2506C2B2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FD702-FF35-4A25-83BC-5953FF5E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CF218-270B-4AF3-A7D6-A11AD612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22AC9-6578-4CEC-B7D0-56C35783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D4BBD-F76C-405E-A32D-7248ED8D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1AF6C-C92F-4404-9FB1-F51519EA8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003A8-A4F6-48FC-821E-FF5D6FD8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7257-AED6-4464-92EB-EFA1F0D0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7D81-4D98-4847-8C6D-3ED1447E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1A25-4990-484F-AAF6-35B16F6B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EC92-D73D-4488-9EB3-1ADB6B53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F4B4-A491-43B4-A022-DACA0906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AF50-585C-4DD4-8507-22B86207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966D-81D5-49C9-8734-AE43C7FB0A2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328B-96CB-4D3C-A942-884D08F3D39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FD25-5216-4C85-B172-C89DDA4F2C0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987280" y="692280"/>
            <a:ext cx="5699160" cy="40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Возможности динамических (электронных) таблиц. </a:t>
            </a:r>
            <a:br>
              <a:rPr sz="3200"/>
            </a:b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Лекц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2"/>
          <p:cNvSpPr/>
          <p:nvPr/>
        </p:nvSpPr>
        <p:spPr>
          <a:xfrm>
            <a:off x="1143000" y="51436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а преподаватель Коробкина В. 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3"/>
          <p:cNvSpPr/>
          <p:nvPr/>
        </p:nvSpPr>
        <p:spPr>
          <a:xfrm>
            <a:off x="1214280" y="285840"/>
            <a:ext cx="70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БПОУ ВО «Воронежский индустриальный колледж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13"/>
          <p:cNvSpPr/>
          <p:nvPr/>
        </p:nvSpPr>
        <p:spPr>
          <a:xfrm>
            <a:off x="3214800" y="4691160"/>
            <a:ext cx="326520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826920" y="3573360"/>
            <a:ext cx="662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Характерной особенностью табличного процессора является то, что данные и результаты вычислений представляются в табличной форме. Для наглядности эти данные можно представить в графическом виде — как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иаграм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0" descr="Без-43-1"/>
          <p:cNvPicPr/>
          <p:nvPr/>
        </p:nvPicPr>
        <p:blipFill>
          <a:blip r:embed="rId2"/>
          <a:stretch/>
        </p:blipFill>
        <p:spPr>
          <a:xfrm>
            <a:off x="1692360" y="404640"/>
            <a:ext cx="5040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13"/>
          <p:cNvSpPr/>
          <p:nvPr/>
        </p:nvSpPr>
        <p:spPr>
          <a:xfrm>
            <a:off x="3214800" y="4691160"/>
            <a:ext cx="326520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2"/>
          <a:stretch/>
        </p:blipFill>
        <p:spPr>
          <a:xfrm>
            <a:off x="1166760" y="52560"/>
            <a:ext cx="6808680" cy="67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13"/>
          <p:cNvSpPr/>
          <p:nvPr/>
        </p:nvSpPr>
        <p:spPr>
          <a:xfrm>
            <a:off x="3214800" y="4691160"/>
            <a:ext cx="326520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755640" y="460440"/>
            <a:ext cx="7129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Прямоугольник 13"/>
          <p:cNvSpPr/>
          <p:nvPr/>
        </p:nvSpPr>
        <p:spPr>
          <a:xfrm>
            <a:off x="3214800" y="4691160"/>
            <a:ext cx="326520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Рисунок 3" descr="Объемная сгруппированная гистограмма"/>
          <p:cNvPicPr/>
          <p:nvPr/>
        </p:nvPicPr>
        <p:blipFill>
          <a:blip r:embed="rId2"/>
          <a:stretch/>
        </p:blipFill>
        <p:spPr>
          <a:xfrm>
            <a:off x="4356000" y="333360"/>
            <a:ext cx="3076560" cy="180036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4" descr="Графики с маркерами данных"/>
          <p:cNvPicPr/>
          <p:nvPr/>
        </p:nvPicPr>
        <p:blipFill>
          <a:blip r:embed="rId3"/>
          <a:stretch/>
        </p:blipFill>
        <p:spPr>
          <a:xfrm>
            <a:off x="4394160" y="2276640"/>
            <a:ext cx="3000240" cy="180000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5" descr="Объемные круговые диаграммы"/>
          <p:cNvPicPr/>
          <p:nvPr/>
        </p:nvPicPr>
        <p:blipFill>
          <a:blip r:embed="rId4"/>
          <a:stretch/>
        </p:blipFill>
        <p:spPr>
          <a:xfrm>
            <a:off x="4106880" y="4508640"/>
            <a:ext cx="3319560" cy="179856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1"/>
          <p:cNvSpPr/>
          <p:nvPr/>
        </p:nvSpPr>
        <p:spPr>
          <a:xfrm>
            <a:off x="755640" y="189000"/>
            <a:ext cx="363852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  <a:ea typeface="Arial"/>
              </a:rPr>
              <a:t>Гистограмм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пользуются для демонстрации изменений данных за определенный период времени или для иллюстрирования сравнения объек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2"/>
          <p:cNvSpPr/>
          <p:nvPr/>
        </p:nvSpPr>
        <p:spPr>
          <a:xfrm>
            <a:off x="755640" y="1973160"/>
            <a:ext cx="36003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  <a:ea typeface="Arial"/>
              </a:rPr>
              <a:t>Графики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зволяют изображать непрерывное изменение данных с течением времени в едином масштабе; таким образом, они идеально подходят для изображения трендов изменения данных с равными интервал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6"/>
          <p:cNvSpPr/>
          <p:nvPr/>
        </p:nvSpPr>
        <p:spPr>
          <a:xfrm>
            <a:off x="695160" y="4511160"/>
            <a:ext cx="34117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Кругова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иаграмма демонстрирует размер элементов одного ряда данных пропорционально сумме элем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3"/>
          <p:cNvSpPr/>
          <p:nvPr/>
        </p:nvSpPr>
        <p:spPr>
          <a:xfrm>
            <a:off x="1116000" y="1773360"/>
            <a:ext cx="626436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Рисунок 3" descr="Объемные линейчатые диаграммы"/>
          <p:cNvPicPr/>
          <p:nvPr/>
        </p:nvPicPr>
        <p:blipFill>
          <a:blip r:embed="rId2"/>
          <a:stretch/>
        </p:blipFill>
        <p:spPr>
          <a:xfrm>
            <a:off x="4356000" y="115920"/>
            <a:ext cx="3214800" cy="180648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5" descr="Диаграмма с областями"/>
          <p:cNvPicPr/>
          <p:nvPr/>
        </p:nvPicPr>
        <p:blipFill>
          <a:blip r:embed="rId3"/>
          <a:stretch/>
        </p:blipFill>
        <p:spPr>
          <a:xfrm>
            <a:off x="4386240" y="2276640"/>
            <a:ext cx="3184560" cy="171432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6" descr="Точечная диаграмма"/>
          <p:cNvPicPr/>
          <p:nvPr/>
        </p:nvPicPr>
        <p:blipFill>
          <a:blip r:embed="rId4"/>
          <a:stretch/>
        </p:blipFill>
        <p:spPr>
          <a:xfrm>
            <a:off x="4375080" y="4221000"/>
            <a:ext cx="3179880" cy="200052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1"/>
          <p:cNvSpPr/>
          <p:nvPr/>
        </p:nvSpPr>
        <p:spPr>
          <a:xfrm>
            <a:off x="755640" y="115920"/>
            <a:ext cx="3600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  <a:ea typeface="Arial"/>
              </a:rPr>
              <a:t>Линейчатые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иаграммы иллюстрируют сравнение отдельных элем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"/>
          <p:cNvSpPr/>
          <p:nvPr/>
        </p:nvSpPr>
        <p:spPr>
          <a:xfrm>
            <a:off x="755640" y="1922400"/>
            <a:ext cx="36306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  <a:ea typeface="Arial"/>
              </a:rPr>
              <a:t>Диаграммы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 областями иллюстрируют величину изменений в зависимости от времени и могут использоваться для привлечения внимания к суммарному значению в соответствии с тренд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7"/>
          <p:cNvSpPr/>
          <p:nvPr/>
        </p:nvSpPr>
        <p:spPr>
          <a:xfrm>
            <a:off x="755640" y="4262400"/>
            <a:ext cx="3600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  <a:ea typeface="Arial"/>
              </a:rPr>
              <a:t>Точечна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иаграмма показывает отношения между численными значениями в нескольких рядах данных или отображает две группы чисел как один ряд координат x и 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3" descr="Поверхностная диаграмма"/>
          <p:cNvPicPr/>
          <p:nvPr/>
        </p:nvPicPr>
        <p:blipFill>
          <a:blip r:embed="rId2"/>
          <a:stretch/>
        </p:blipFill>
        <p:spPr>
          <a:xfrm>
            <a:off x="4788000" y="115920"/>
            <a:ext cx="2763720" cy="202068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5" descr="Кольцевая диаграмма"/>
          <p:cNvPicPr/>
          <p:nvPr/>
        </p:nvPicPr>
        <p:blipFill>
          <a:blip r:embed="rId3"/>
          <a:stretch/>
        </p:blipFill>
        <p:spPr>
          <a:xfrm>
            <a:off x="4911840" y="2276640"/>
            <a:ext cx="2693880" cy="203040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6" descr="Пузырьковая диаграмма"/>
          <p:cNvPicPr/>
          <p:nvPr/>
        </p:nvPicPr>
        <p:blipFill>
          <a:blip r:embed="rId4"/>
          <a:stretch/>
        </p:blipFill>
        <p:spPr>
          <a:xfrm>
            <a:off x="5008680" y="4437000"/>
            <a:ext cx="2597040" cy="232416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1"/>
          <p:cNvSpPr/>
          <p:nvPr/>
        </p:nvSpPr>
        <p:spPr>
          <a:xfrm>
            <a:off x="755640" y="333360"/>
            <a:ext cx="40323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  <a:ea typeface="Arial"/>
              </a:rPr>
              <a:t>Поверхностная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иаграмма используется, когда требуется найти оптимальные комбинации в двух наборах да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755640" y="1989000"/>
            <a:ext cx="4032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ак и круговая диаграмма, </a:t>
            </a:r>
            <a:r>
              <a:rPr b="1" i="1" lang="ru-RU" sz="2000" spc="-1" strike="noStrike">
                <a:solidFill>
                  <a:srgbClr val="006600"/>
                </a:solidFill>
                <a:latin typeface="Arial"/>
                <a:ea typeface="Arial"/>
              </a:rPr>
              <a:t>кольцевая диаграмм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ображает отношение частей к целому, но может содержать более одного ряда да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7"/>
          <p:cNvSpPr/>
          <p:nvPr/>
        </p:nvSpPr>
        <p:spPr>
          <a:xfrm>
            <a:off x="755640" y="3497400"/>
            <a:ext cx="42530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</a:t>
            </a:r>
            <a:r>
              <a:rPr b="1" i="1" lang="ru-RU" sz="2000" spc="-1" strike="noStrike">
                <a:solidFill>
                  <a:srgbClr val="006600"/>
                </a:solidFill>
                <a:latin typeface="Arial"/>
                <a:ea typeface="Arial"/>
              </a:rPr>
              <a:t>пузырьковой диаграмм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гут отображаться данные столбцов электронной таблицы, при этом значения по оси X выбираются из первого столбца, а соответствующие значения по оси Y и значения, определяющие размер          пузырьков, выбираются из соседних         столбц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3" descr="Заполненная лепестковая диаграмма"/>
          <p:cNvPicPr/>
          <p:nvPr/>
        </p:nvPicPr>
        <p:blipFill>
          <a:blip r:embed="rId2"/>
          <a:stretch/>
        </p:blipFill>
        <p:spPr>
          <a:xfrm>
            <a:off x="4538520" y="333360"/>
            <a:ext cx="3000600" cy="187632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5" descr="Смешанная диаграмма с заданным форматом"/>
          <p:cNvPicPr/>
          <p:nvPr/>
        </p:nvPicPr>
        <p:blipFill>
          <a:blip r:embed="rId3"/>
          <a:stretch/>
        </p:blipFill>
        <p:spPr>
          <a:xfrm>
            <a:off x="4681440" y="3068640"/>
            <a:ext cx="2857680" cy="286704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1"/>
          <p:cNvSpPr/>
          <p:nvPr/>
        </p:nvSpPr>
        <p:spPr>
          <a:xfrm>
            <a:off x="716040" y="609480"/>
            <a:ext cx="3784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006600"/>
                </a:solidFill>
                <a:latin typeface="Arial"/>
                <a:ea typeface="Arial"/>
              </a:rPr>
              <a:t>лепестковой диаграмм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жно сравнить статистические значения нескольких рядов дан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2"/>
          <p:cNvSpPr/>
          <p:nvPr/>
        </p:nvSpPr>
        <p:spPr>
          <a:xfrm>
            <a:off x="716040" y="3213000"/>
            <a:ext cx="39654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  <a:ea typeface="Arial"/>
              </a:rPr>
              <a:t>Смешанная диаграмм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пользуется для отображения нескольких рядов данных с использованием разных типов диагра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1116000" y="1773360"/>
            <a:ext cx="626436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Рисунок 5" descr="Объемная сгруппированная гистограмма"/>
          <p:cNvPicPr/>
          <p:nvPr/>
        </p:nvPicPr>
        <p:blipFill>
          <a:blip r:embed="rId2"/>
          <a:stretch/>
        </p:blipFill>
        <p:spPr>
          <a:xfrm>
            <a:off x="1116000" y="1778040"/>
            <a:ext cx="6226200" cy="3643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9" name="Выноска-облако 6"/>
          <p:cNvSpPr/>
          <p:nvPr/>
        </p:nvSpPr>
        <p:spPr>
          <a:xfrm>
            <a:off x="971640" y="915840"/>
            <a:ext cx="1785960" cy="785880"/>
          </a:xfrm>
          <a:prstGeom prst="cloudCallout">
            <a:avLst>
              <a:gd name="adj1" fmla="val 2495"/>
              <a:gd name="adj2" fmla="val 10297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ь диаграм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Выноска-облако 7"/>
          <p:cNvSpPr/>
          <p:nvPr/>
        </p:nvSpPr>
        <p:spPr>
          <a:xfrm>
            <a:off x="3132000" y="992160"/>
            <a:ext cx="1785960" cy="785880"/>
          </a:xfrm>
          <a:prstGeom prst="cloudCallout">
            <a:avLst>
              <a:gd name="adj1" fmla="val 1986"/>
              <a:gd name="adj2" fmla="val 91342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олов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Выноска-облако 8"/>
          <p:cNvSpPr/>
          <p:nvPr/>
        </p:nvSpPr>
        <p:spPr>
          <a:xfrm>
            <a:off x="5640480" y="952560"/>
            <a:ext cx="1785960" cy="785880"/>
          </a:xfrm>
          <a:prstGeom prst="cloudCallout">
            <a:avLst>
              <a:gd name="adj1" fmla="val -58944"/>
              <a:gd name="adj2" fmla="val 171629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ь постро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Выноска-облако 9"/>
          <p:cNvSpPr/>
          <p:nvPr/>
        </p:nvSpPr>
        <p:spPr>
          <a:xfrm>
            <a:off x="6300720" y="2133720"/>
            <a:ext cx="1785960" cy="785520"/>
          </a:xfrm>
          <a:prstGeom prst="cloudCallout">
            <a:avLst>
              <a:gd name="adj1" fmla="val -37439"/>
              <a:gd name="adj2" fmla="val 132069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ен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3"/>
          <a:stretch/>
        </p:blipFill>
        <p:spPr>
          <a:xfrm>
            <a:off x="5292720" y="4533840"/>
            <a:ext cx="3041640" cy="1274760"/>
          </a:xfrm>
          <a:prstGeom prst="rect">
            <a:avLst/>
          </a:prstGeom>
          <a:ln w="0">
            <a:noFill/>
          </a:ln>
        </p:spPr>
      </p:pic>
      <p:sp>
        <p:nvSpPr>
          <p:cNvPr id="234" name="Выноска-облако 10"/>
          <p:cNvSpPr/>
          <p:nvPr/>
        </p:nvSpPr>
        <p:spPr>
          <a:xfrm>
            <a:off x="684360" y="5202360"/>
            <a:ext cx="1539720" cy="785520"/>
          </a:xfrm>
          <a:prstGeom prst="cloudCallout">
            <a:avLst>
              <a:gd name="adj1" fmla="val 47550"/>
              <a:gd name="adj2" fmla="val -129749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и диаграм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  <a:ea typeface="Arial"/>
              </a:rPr>
              <a:t>Основные приемы работы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 в Э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28760" y="15717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8000"/>
              </a:lnSpc>
              <a:spcBef>
                <a:spcPts val="700"/>
              </a:spcBef>
              <a:buClr>
                <a:srgbClr val="336600"/>
              </a:buClr>
              <a:buSzPct val="120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бота с листами книг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8000"/>
              </a:lnSpc>
              <a:spcBef>
                <a:spcPts val="700"/>
              </a:spcBef>
              <a:buClr>
                <a:srgbClr val="336600"/>
              </a:buClr>
              <a:buSzPct val="120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вод данных различными способ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8000"/>
              </a:lnSpc>
              <a:spcBef>
                <a:spcPts val="700"/>
              </a:spcBef>
              <a:buClr>
                <a:srgbClr val="336600"/>
              </a:buClr>
              <a:buSzPct val="120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сновы форматирования табли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8000"/>
              </a:lnSpc>
              <a:spcBef>
                <a:spcPts val="700"/>
              </a:spcBef>
              <a:buClr>
                <a:srgbClr val="336600"/>
              </a:buClr>
              <a:buSzPct val="120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форму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8000"/>
              </a:lnSpc>
              <a:spcBef>
                <a:spcPts val="700"/>
              </a:spcBef>
              <a:buClr>
                <a:srgbClr val="336600"/>
              </a:buClr>
              <a:buSzPct val="120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ыбор формата ячее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8000"/>
              </a:lnSpc>
              <a:spcBef>
                <a:spcPts val="700"/>
              </a:spcBef>
              <a:buClr>
                <a:srgbClr val="336600"/>
              </a:buClr>
              <a:buSzPct val="120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ртировка данн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8000"/>
              </a:lnSpc>
              <a:spcBef>
                <a:spcPts val="700"/>
              </a:spcBef>
              <a:buClr>
                <a:srgbClr val="336600"/>
              </a:buClr>
              <a:buSzPct val="120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ункции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l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8000"/>
              </a:lnSpc>
              <a:spcBef>
                <a:spcPts val="700"/>
              </a:spcBef>
              <a:buClr>
                <a:srgbClr val="336600"/>
              </a:buClr>
              <a:buSzPct val="120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троение диаграмм и граф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143240" y="1214280"/>
            <a:ext cx="42148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8000"/>
              </a:lnSpc>
              <a:spcBef>
                <a:spcPts val="700"/>
              </a:spcBef>
              <a:buClr>
                <a:srgbClr val="feb80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Це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7000"/>
              </a:lnSpc>
              <a:spcBef>
                <a:spcPts val="550"/>
              </a:spcBef>
              <a:buClr>
                <a:srgbClr val="336600"/>
              </a:buClr>
              <a:buSzPct val="120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повышение эффективности при работе с любой информаци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7000"/>
              </a:lnSpc>
              <a:spcBef>
                <a:spcPts val="700"/>
              </a:spcBef>
              <a:buClr>
                <a:srgbClr val="feb80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Результа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7000"/>
              </a:lnSpc>
              <a:spcBef>
                <a:spcPts val="550"/>
              </a:spcBef>
              <a:buClr>
                <a:srgbClr val="336600"/>
              </a:buClr>
              <a:buSzPct val="120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Экономия времени на работу с информаци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7000"/>
              </a:lnSpc>
              <a:spcBef>
                <a:spcPts val="550"/>
              </a:spcBef>
              <a:buClr>
                <a:srgbClr val="336600"/>
              </a:buClr>
              <a:buSzPct val="120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Гибкость в работе с информаци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7000"/>
              </a:lnSpc>
              <a:spcBef>
                <a:spcPts val="550"/>
              </a:spcBef>
              <a:buClr>
                <a:srgbClr val="336600"/>
              </a:buClr>
              <a:buSzPct val="120000"/>
              <a:buFont typeface="Wingdings" charset="2"/>
              <a:buChar char="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Овладение приемами рационального конспектирования в форме структурированных данных в табли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Прямоугольник 6"/>
          <p:cNvSpPr/>
          <p:nvPr/>
        </p:nvSpPr>
        <p:spPr>
          <a:xfrm>
            <a:off x="5072040" y="285840"/>
            <a:ext cx="244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Arial"/>
                <a:ea typeface="Arial"/>
              </a:rPr>
              <a:t>Цели и результаты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597708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Вопросы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928800" y="642960"/>
            <a:ext cx="6408720" cy="24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Что такое электронная таблиц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Назначение электронной таблиц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Что такое рабочая книг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Как именуются ячей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Какие типы данных могут храниться в ячейк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Какая ячейка является активн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Как ввести формул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Заголовок 1"/>
          <p:cNvSpPr/>
          <p:nvPr/>
        </p:nvSpPr>
        <p:spPr>
          <a:xfrm>
            <a:off x="1428840" y="3214800"/>
            <a:ext cx="59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  <a:ea typeface="Arial"/>
              </a:rPr>
              <a:t>Заключение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4"/>
          <p:cNvSpPr/>
          <p:nvPr/>
        </p:nvSpPr>
        <p:spPr>
          <a:xfrm>
            <a:off x="928800" y="4051440"/>
            <a:ext cx="6715080" cy="19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На этом занятии мы с вами определили, что наиболее удобна в наглядном представлении информационных объектов является прямоугольная таблица, которая состоит из столбцов и строк. Такой вид применяется для описания ряда объектов, обладающих одинаковыми наборами свойств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 наглядное представление данных можно визуализировать в виде диаграм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2655720" y="1125360"/>
            <a:ext cx="3410280" cy="2610000"/>
          </a:xfrm>
          <a:prstGeom prst="rect">
            <a:avLst/>
          </a:prstGeom>
          <a:ln w="50760">
            <a:solidFill>
              <a:srgbClr val="ffc000"/>
            </a:solidFill>
            <a:miter/>
          </a:ln>
        </p:spPr>
      </p:pic>
      <p:sp>
        <p:nvSpPr>
          <p:cNvPr id="134" name="Прямоугольник 1"/>
          <p:cNvSpPr/>
          <p:nvPr/>
        </p:nvSpPr>
        <p:spPr>
          <a:xfrm>
            <a:off x="1258920" y="3933720"/>
            <a:ext cx="626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 1979 году Дэн Бриклин и Боб Френкстон разработали программу VisiCalc. Этот табличный редактор для компьютера Apple II превратил персональный компьютер из игрушки в массовый инструмент для бизне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  <a:ea typeface="Arial"/>
              </a:rPr>
              <a:t>Область применения и основное назначение Э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1116000" y="1413000"/>
            <a:ext cx="649116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ЭТ используются в различных областя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7000"/>
              </a:lnSpc>
              <a:spcBef>
                <a:spcPts val="499"/>
              </a:spcBef>
              <a:buClr>
                <a:srgbClr val="336600"/>
              </a:buClr>
              <a:buSzPct val="120000"/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инженерно-технические расче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7000"/>
              </a:lnSpc>
              <a:spcBef>
                <a:spcPts val="499"/>
              </a:spcBef>
              <a:buClr>
                <a:srgbClr val="336600"/>
              </a:buClr>
              <a:buSzPct val="120000"/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статистическая обработка больш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массивов информа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7000"/>
              </a:lnSpc>
              <a:spcBef>
                <a:spcPts val="499"/>
              </a:spcBef>
              <a:buClr>
                <a:srgbClr val="336600"/>
              </a:buClr>
              <a:buSzPct val="120000"/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бухгалтерский и банковский учет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Основное назнач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7000"/>
              </a:lnSpc>
              <a:spcBef>
                <a:spcPts val="499"/>
              </a:spcBef>
              <a:buClr>
                <a:srgbClr val="336600"/>
              </a:buClr>
              <a:buSzPct val="120000"/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ввод и редактирование данн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7000"/>
              </a:lnSpc>
              <a:spcBef>
                <a:spcPts val="499"/>
              </a:spcBef>
              <a:buClr>
                <a:srgbClr val="336600"/>
              </a:buClr>
              <a:buSzPct val="120000"/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атирование таблиц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7000"/>
              </a:lnSpc>
              <a:spcBef>
                <a:spcPts val="499"/>
              </a:spcBef>
              <a:buClr>
                <a:srgbClr val="336600"/>
              </a:buClr>
              <a:buSzPct val="120000"/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для автоматизации вычисл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7000"/>
              </a:lnSpc>
              <a:spcBef>
                <a:spcPts val="499"/>
              </a:spcBef>
              <a:buClr>
                <a:srgbClr val="336600"/>
              </a:buClr>
              <a:buSzPct val="120000"/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для представления результатов в виде диагра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7000"/>
              </a:lnSpc>
              <a:spcBef>
                <a:spcPts val="499"/>
              </a:spcBef>
              <a:buClr>
                <a:srgbClr val="336600"/>
              </a:buClr>
              <a:buSzPct val="120000"/>
              <a:buFont typeface="Wingdings" charset="2"/>
              <a:buChar char="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для моделирования, когда исследуется влияние одних параметров на другие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1042920" y="907920"/>
            <a:ext cx="648180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000" spc="-1" strike="noStrike">
                <a:solidFill>
                  <a:srgbClr val="006600"/>
                </a:solidFill>
                <a:latin typeface="Arial"/>
                <a:ea typeface="Arial Unicode MS"/>
              </a:rPr>
              <a:t>Электронная таблица-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это интерактивная система обработки данных, представляющая собой прямоугольную таблицу, ячейки которой могут содержать числа, строки или формулы, задающие зависимость значения ячейки от других ячеек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2050920" y="2781360"/>
            <a:ext cx="49482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6920" y="274680"/>
            <a:ext cx="59770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Структура окна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Arial"/>
              </a:rPr>
              <a:t>Exc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116000" y="1052640"/>
            <a:ext cx="64911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трока заголо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видEXCEL"/>
          <p:cNvPicPr/>
          <p:nvPr/>
        </p:nvPicPr>
        <p:blipFill>
          <a:blip r:embed="rId2"/>
          <a:stretch/>
        </p:blipFill>
        <p:spPr>
          <a:xfrm>
            <a:off x="777960" y="1844640"/>
            <a:ext cx="6656400" cy="4913280"/>
          </a:xfrm>
          <a:prstGeom prst="rect">
            <a:avLst/>
          </a:prstGeom>
          <a:ln w="0">
            <a:noFill/>
          </a:ln>
        </p:spPr>
      </p:pic>
      <p:sp>
        <p:nvSpPr>
          <p:cNvPr id="142" name="Line 10"/>
          <p:cNvSpPr/>
          <p:nvPr/>
        </p:nvSpPr>
        <p:spPr>
          <a:xfrm flipV="1">
            <a:off x="4290840" y="1483920"/>
            <a:ext cx="304920" cy="360360"/>
          </a:xfrm>
          <a:prstGeom prst="line">
            <a:avLst/>
          </a:prstGeom>
          <a:ln w="38160">
            <a:solidFill>
              <a:srgbClr val="cc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"/>
          <p:cNvSpPr/>
          <p:nvPr/>
        </p:nvSpPr>
        <p:spPr>
          <a:xfrm>
            <a:off x="4900680" y="1484280"/>
            <a:ext cx="291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анель инструм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 flipV="1">
            <a:off x="4844880" y="1792080"/>
            <a:ext cx="447840" cy="493560"/>
          </a:xfrm>
          <a:prstGeom prst="line">
            <a:avLst/>
          </a:prstGeom>
          <a:ln w="38160">
            <a:solidFill>
              <a:srgbClr val="cc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"/>
          <p:cNvSpPr/>
          <p:nvPr/>
        </p:nvSpPr>
        <p:spPr>
          <a:xfrm>
            <a:off x="1763640" y="16383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1765080" y="14842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лавное мен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0"/>
          <p:cNvSpPr/>
          <p:nvPr/>
        </p:nvSpPr>
        <p:spPr>
          <a:xfrm flipV="1">
            <a:off x="2260440" y="1682280"/>
            <a:ext cx="306720" cy="360360"/>
          </a:xfrm>
          <a:prstGeom prst="line">
            <a:avLst/>
          </a:prstGeom>
          <a:ln w="38160">
            <a:solidFill>
              <a:srgbClr val="cc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0"/>
          <p:cNvSpPr/>
          <p:nvPr/>
        </p:nvSpPr>
        <p:spPr>
          <a:xfrm>
            <a:off x="3227400" y="2935440"/>
            <a:ext cx="35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анель форматир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7"/>
          <p:cNvSpPr/>
          <p:nvPr/>
        </p:nvSpPr>
        <p:spPr>
          <a:xfrm>
            <a:off x="2843280" y="2705040"/>
            <a:ext cx="936720" cy="230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116000" y="3089160"/>
            <a:ext cx="145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ле им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7"/>
          <p:cNvSpPr/>
          <p:nvPr/>
        </p:nvSpPr>
        <p:spPr>
          <a:xfrm>
            <a:off x="1012680" y="2741760"/>
            <a:ext cx="843120" cy="347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2"/>
          <p:cNvSpPr/>
          <p:nvPr/>
        </p:nvSpPr>
        <p:spPr>
          <a:xfrm>
            <a:off x="5578560" y="4724280"/>
            <a:ext cx="13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бочее по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7"/>
          <p:cNvSpPr/>
          <p:nvPr/>
        </p:nvSpPr>
        <p:spPr>
          <a:xfrm>
            <a:off x="5580000" y="4282920"/>
            <a:ext cx="776520" cy="441360"/>
          </a:xfrm>
          <a:prstGeom prst="line">
            <a:avLst/>
          </a:prstGeom>
          <a:ln w="38160">
            <a:solidFill>
              <a:srgbClr val="cc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1433520" y="4129200"/>
            <a:ext cx="23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ктивная ячей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7"/>
          <p:cNvSpPr/>
          <p:nvPr/>
        </p:nvSpPr>
        <p:spPr>
          <a:xfrm>
            <a:off x="1636560" y="3686040"/>
            <a:ext cx="776520" cy="443160"/>
          </a:xfrm>
          <a:prstGeom prst="line">
            <a:avLst/>
          </a:prstGeom>
          <a:ln w="38160">
            <a:solidFill>
              <a:srgbClr val="cc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1071720" y="642960"/>
            <a:ext cx="648144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ый </a:t>
            </a: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столбец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ет буквенное обозначе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иная с буквы «А». Каждая </a:t>
            </a: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стро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меет с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ме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"/>
          <p:cNvSpPr/>
          <p:nvPr/>
        </p:nvSpPr>
        <p:spPr>
          <a:xfrm>
            <a:off x="1071720" y="0"/>
            <a:ext cx="613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Термины и по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2"/>
          <a:stretch/>
        </p:blipFill>
        <p:spPr>
          <a:xfrm>
            <a:off x="928800" y="1857240"/>
            <a:ext cx="2685960" cy="3009960"/>
          </a:xfrm>
          <a:prstGeom prst="rect">
            <a:avLst/>
          </a:prstGeom>
          <a:ln w="0">
            <a:noFill/>
          </a:ln>
        </p:spPr>
      </p:pic>
      <p:sp>
        <p:nvSpPr>
          <p:cNvPr id="159" name="TextBox 2"/>
          <p:cNvSpPr/>
          <p:nvPr/>
        </p:nvSpPr>
        <p:spPr>
          <a:xfrm>
            <a:off x="3714840" y="1428840"/>
            <a:ext cx="3925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, созданный в электронной таблице называется </a:t>
            </a: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рабочей книг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3643200" y="3143160"/>
            <a:ext cx="414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чейка, в которой находится курсор и выделена рамкой, называется </a:t>
            </a: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актив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3714840" y="2428920"/>
            <a:ext cx="428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 пересечении столбца и строки располагается – </a:t>
            </a:r>
            <a:r>
              <a:rPr b="0" i="1" lang="ru-RU" sz="2000" spc="-1" strike="noStrike">
                <a:solidFill>
                  <a:srgbClr val="006600"/>
                </a:solidFill>
                <a:latin typeface="Arial"/>
                <a:ea typeface="Arial"/>
              </a:rPr>
              <a:t>ячей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1143000" y="5143680"/>
            <a:ext cx="3033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целостный объект можно использовать и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диапазон яче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(Например: А1:С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3"/>
          <a:stretch/>
        </p:blipFill>
        <p:spPr>
          <a:xfrm>
            <a:off x="4429080" y="4133880"/>
            <a:ext cx="329580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  <a:ea typeface="Arial"/>
              </a:rPr>
              <a:t>Основные типы данных в Э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ик 4"/>
          <p:cNvSpPr/>
          <p:nvPr/>
        </p:nvSpPr>
        <p:spPr>
          <a:xfrm>
            <a:off x="1042920" y="1628640"/>
            <a:ext cx="648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3"/>
          <p:cNvSpPr/>
          <p:nvPr/>
        </p:nvSpPr>
        <p:spPr>
          <a:xfrm>
            <a:off x="3214800" y="4691160"/>
            <a:ext cx="326520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55280" y="1600200"/>
            <a:ext cx="67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Calibri"/>
              </a:rPr>
              <a:t>1. Текст     2. Чис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2"/>
          <a:srcRect l="0" t="0" r="60140" b="72170"/>
          <a:stretch/>
        </p:blipFill>
        <p:spPr>
          <a:xfrm>
            <a:off x="1066680" y="2249640"/>
            <a:ext cx="619308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  <a:ea typeface="Arial"/>
              </a:rPr>
              <a:t>Основные типы данных в Э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рямоугольник 4"/>
          <p:cNvSpPr/>
          <p:nvPr/>
        </p:nvSpPr>
        <p:spPr>
          <a:xfrm>
            <a:off x="1042920" y="1628640"/>
            <a:ext cx="648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13"/>
          <p:cNvSpPr/>
          <p:nvPr/>
        </p:nvSpPr>
        <p:spPr>
          <a:xfrm>
            <a:off x="3214800" y="4691160"/>
            <a:ext cx="326520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55280" y="1197000"/>
            <a:ext cx="6769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Calibri"/>
              </a:rPr>
              <a:t>3. Форму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2"/>
          <a:srcRect l="0" t="13507" r="73423" b="76203"/>
          <a:stretch/>
        </p:blipFill>
        <p:spPr>
          <a:xfrm>
            <a:off x="1774800" y="1773360"/>
            <a:ext cx="5580000" cy="16254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2"/>
          <p:cNvSpPr/>
          <p:nvPr/>
        </p:nvSpPr>
        <p:spPr>
          <a:xfrm>
            <a:off x="1476360" y="338292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ожить содержимое ячеек А2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ультат поместить в ячейку С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8"/>
          <p:cNvSpPr/>
          <p:nvPr/>
        </p:nvSpPr>
        <p:spPr>
          <a:xfrm flipH="1" flipV="1">
            <a:off x="3634920" y="2803680"/>
            <a:ext cx="1297080" cy="620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8"/>
          <p:cNvSpPr/>
          <p:nvPr/>
        </p:nvSpPr>
        <p:spPr>
          <a:xfrm flipH="1" flipV="1">
            <a:off x="4565520" y="2707920"/>
            <a:ext cx="930240" cy="716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0"/>
          <p:cNvSpPr/>
          <p:nvPr/>
        </p:nvSpPr>
        <p:spPr>
          <a:xfrm flipH="1" flipV="1">
            <a:off x="5687640" y="2787480"/>
            <a:ext cx="539640" cy="919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1" descr=""/>
          <p:cNvPicPr/>
          <p:nvPr/>
        </p:nvPicPr>
        <p:blipFill>
          <a:blip r:embed="rId3"/>
          <a:srcRect l="0" t="10673" r="71962" b="75996"/>
          <a:stretch/>
        </p:blipFill>
        <p:spPr>
          <a:xfrm>
            <a:off x="803160" y="4075200"/>
            <a:ext cx="4824360" cy="1834920"/>
          </a:xfrm>
          <a:prstGeom prst="rect">
            <a:avLst/>
          </a:prstGeom>
          <a:ln w="0">
            <a:noFill/>
          </a:ln>
        </p:spPr>
      </p:pic>
      <p:sp>
        <p:nvSpPr>
          <p:cNvPr id="179" name="TextBox 4"/>
          <p:cNvSpPr/>
          <p:nvPr/>
        </p:nvSpPr>
        <p:spPr>
          <a:xfrm>
            <a:off x="4565520" y="5054760"/>
            <a:ext cx="38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ока форма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8"/>
          <p:cNvSpPr/>
          <p:nvPr/>
        </p:nvSpPr>
        <p:spPr>
          <a:xfrm flipH="1" flipV="1">
            <a:off x="4873680" y="4379400"/>
            <a:ext cx="930240" cy="716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5"/>
          <p:cNvSpPr/>
          <p:nvPr/>
        </p:nvSpPr>
        <p:spPr>
          <a:xfrm>
            <a:off x="4319640" y="6165720"/>
            <a:ext cx="19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0"/>
          <p:cNvSpPr/>
          <p:nvPr/>
        </p:nvSpPr>
        <p:spPr>
          <a:xfrm flipH="1" flipV="1">
            <a:off x="4278240" y="5390640"/>
            <a:ext cx="540000" cy="91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36600"/>
                </a:solidFill>
                <a:uFillTx/>
                <a:latin typeface="Arial"/>
                <a:ea typeface="Arial"/>
              </a:rPr>
              <a:t>Ссылки на адреса ячее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ик 13"/>
          <p:cNvSpPr/>
          <p:nvPr/>
        </p:nvSpPr>
        <p:spPr>
          <a:xfrm>
            <a:off x="3214800" y="4691160"/>
            <a:ext cx="326520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"/>
          <p:cNvSpPr/>
          <p:nvPr/>
        </p:nvSpPr>
        <p:spPr>
          <a:xfrm>
            <a:off x="1108080" y="3382920"/>
            <a:ext cx="1303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6"/>
          <p:cNvSpPr/>
          <p:nvPr/>
        </p:nvSpPr>
        <p:spPr>
          <a:xfrm flipH="1">
            <a:off x="2195280" y="1125360"/>
            <a:ext cx="1360440" cy="1151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4278240" y="1125360"/>
            <a:ext cx="0" cy="158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4881600" y="1125360"/>
            <a:ext cx="1366920" cy="1381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7"/>
          <p:cNvSpPr/>
          <p:nvPr/>
        </p:nvSpPr>
        <p:spPr>
          <a:xfrm>
            <a:off x="611280" y="227664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тносит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8"/>
          <p:cNvSpPr/>
          <p:nvPr/>
        </p:nvSpPr>
        <p:spPr>
          <a:xfrm>
            <a:off x="2874960" y="2708280"/>
            <a:ext cx="29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меша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3"/>
          <p:cNvSpPr/>
          <p:nvPr/>
        </p:nvSpPr>
        <p:spPr>
          <a:xfrm>
            <a:off x="5076720" y="250668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бсолю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9"/>
          <p:cNvSpPr/>
          <p:nvPr/>
        </p:nvSpPr>
        <p:spPr>
          <a:xfrm>
            <a:off x="971640" y="2800440"/>
            <a:ext cx="190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2, С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25, D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20"/>
          <p:cNvSpPr/>
          <p:nvPr/>
        </p:nvSpPr>
        <p:spPr>
          <a:xfrm>
            <a:off x="2987640" y="3276720"/>
            <a:ext cx="25779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$A2, A$2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$18, $C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21"/>
          <p:cNvSpPr/>
          <p:nvPr/>
        </p:nvSpPr>
        <p:spPr>
          <a:xfrm>
            <a:off x="5364000" y="2908440"/>
            <a:ext cx="25927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$A$2, $D$1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$C$8, $F$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22"/>
          <p:cNvSpPr/>
          <p:nvPr/>
        </p:nvSpPr>
        <p:spPr>
          <a:xfrm>
            <a:off x="971640" y="4317840"/>
            <a:ext cx="655308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 копировании знак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замораживает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омер строки (А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$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номер столбц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$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5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ли то и другое (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$A$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7:36:10Z</dcterms:created>
  <dc:creator>Пользователь</dc:creator>
  <dc:description/>
  <dc:language>en-US</dc:language>
  <cp:lastModifiedBy>Алексей.Дима</cp:lastModifiedBy>
  <dcterms:modified xsi:type="dcterms:W3CDTF">2021-04-19T08:45:35Z</dcterms:modified>
  <cp:revision>244</cp:revision>
  <dc:subject/>
  <dc:title>Муниципальное образовательное учреждение «Средняя»</dc:title>
</cp:coreProperties>
</file>