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43A-E63C-4ADD-BA41-41A40A39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4F5-2445-4D34-8D02-97967910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A93-9CB7-48AF-A7FF-30A2B2F6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530-22F7-49CC-B4F2-17ECDD0C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439-9891-422C-A9B5-DB0EF270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09D-088F-46A2-A42C-8EE720C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2D0-756F-495B-8BD3-2D279411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605-469C-40FF-AB07-5F02D653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1B9-652B-496D-862C-883F702F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E0D-2884-4655-8F9C-D92E809C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55D-5163-4C7E-B7D6-E2E8C88C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6FD-08EF-40AA-BD16-6B01F0DC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078B5-ABF3-46CA-959F-7C95FF65F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033560" y="2401920"/>
            <a:ext cx="7400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WorldSkills Russia развитие движения: в Мире, России, в ГБПОУ 26 КА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6058080" y="5581800"/>
            <a:ext cx="26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: трене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WSR R6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Гуляев Илья Серг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0" y="1058760"/>
            <a:ext cx="389556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DejaVu Sans"/>
              </a:rPr>
              <a:t>WSR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ГБПОУ 26КА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857160" y="2828880"/>
            <a:ext cx="786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21 - Ждем новых успехов наших студен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22 год - определишь 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3"/>
          <a:stretch/>
        </p:blipFill>
        <p:spPr>
          <a:xfrm>
            <a:off x="1270080" y="4429080"/>
            <a:ext cx="6978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Навыки будущих 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752480" y="1892160"/>
          <a:ext cx="6029280" cy="4098960"/>
        </p:xfrm>
        <a:graphic>
          <a:graphicData uri="http://schemas.openxmlformats.org/drawingml/2006/table">
            <a:tbl>
              <a:tblPr/>
              <a:tblGrid>
                <a:gridCol w="3014640"/>
                <a:gridCol w="3014640"/>
              </a:tblGrid>
              <a:tr h="2127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б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фров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20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ое отнош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2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йменеджмен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опаздывать,  выполнять план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27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отивирован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 собственный интерес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67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ссоустойчив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оциональная уравновешен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27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ие слыша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инимать информац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5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дать способностью к  рефлекс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лать правильные выв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3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люб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ая работоспособность , вынослив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20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има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куратность, скрупулез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9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ие концентрировать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ор оптимального решения за короткий промежуток времени исходя из заданных условий и ресурсов , умение действовать и ориентироваться в непредвиденных ситуац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1495440" y="1628640"/>
            <a:ext cx="683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DejaVu Sans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3"/>
          <a:stretch/>
        </p:blipFill>
        <p:spPr>
          <a:xfrm>
            <a:off x="571680" y="3257640"/>
            <a:ext cx="82771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33560" y="2401920"/>
            <a:ext cx="740088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WorldSkills International (WSI) — международная некоммерческая ассоциация, целью которой является повышение статуса и стандартов профессиональной подготовки и квалификации по всему миру, популяризация рабочих профессий через проведение международных соревнований по всему миру. Основана в 1950-1953 году. На сегодняшний день в деятельности организации принимают участие 77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воей миссией WSI называет привлечение внимания к рабочим профессиям и создание условий для развития высоких профессиональных стандартов. Её основная деятельность – организация и проведение профессиональных соревнований различного уровня для молодых людей в возрасте до 25 лет. Раз в два года проходит мировой чемпионат рабочих профессий WorldSkills, который также называют «Олимпиадой для рабочих рук». В настоящее время это крупнейшее соревнование подобного 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1947 году в Испании впервые прошел национальный конкурс по профессионально-технической подготовке. Он был призван поднять популярность рабочих специальностей и способствовать созданию эффективной системы профессионального образования, так как в стране, восстанавливающейся после Второй мировой войны, существовала острая нехватка квалифицированных рабочих. Автором данной идеи был генеральный директор Испанской молодёжной организации Хосе Антонио Элола Олас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2"/>
          <a:stretch/>
        </p:blipFill>
        <p:spPr>
          <a:xfrm>
            <a:off x="693720" y="947880"/>
            <a:ext cx="1925640" cy="14540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2619360" y="1504800"/>
            <a:ext cx="57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РАЗВИТИ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LDSKILLS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52440" y="230508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Основные функции </a:t>
            </a:r>
            <a:r>
              <a:rPr b="1" lang="en-US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WorldSkills</a:t>
            </a: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Формирование мета-стандартов по профессиям, востребованным и прогнозируемым (набор актуальных компетен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Проведение соревнований по заданным стандартам (международные, национальные, отраслевые, корпоративные и п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Формирование экспертных сообществ по всему миру (77 страны-участн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848120" y="209556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Это мировое профессиональное сообщество, объединяюще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Лучшие мировые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Крупнейшие компании-произ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Передовые технологии</a:t>
            </a:r>
            <a:r>
              <a:rPr b="1" i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Движени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DejaVu Sans"/>
              </a:rPr>
              <a:t>WorldSkills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в ми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942840" y="1228680"/>
            <a:ext cx="1476360" cy="107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721480" y="4027320"/>
            <a:ext cx="3103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352440" y="23050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престижа рабочих профессий и развитие профессионального образования путем гармонизации лучших практик и профессиональных стандартов во всем мире посредством организации и проведения конкурсов профессионального мастерства как в каждой отдельной стране, так и во всем мире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048280" y="2306520"/>
            <a:ext cx="409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витие профессиональных компетенций, повышение престижа высококвалифицированных кадров, демонстрация важности компетенций для экономического роста и личного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Цели и мисси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DejaVu Sans"/>
              </a:rPr>
              <a:t>World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tretch/>
        </p:blipFill>
        <p:spPr>
          <a:xfrm>
            <a:off x="5276880" y="4060800"/>
            <a:ext cx="4019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0" y="2305080"/>
            <a:ext cx="5353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 октябре 2011 года проект «Проведение Национального чемпионата рабочих профессий Wor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Skills» был одобрен наблюдательным советом Агентства стратегических инициатив (АСИ) под председательством Президента Российской Федерации Владимира Владимировича Путина, что дало старт движению Wor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Skills в России. По инициативе Агентства стратегических инициатив (АСИ) и Минобрнауки России в апреле 2012 года был организован визит в Россию президента Wor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Skills International (WSI) Саймона Бартли. В результате его визита было принято решение о включении России в состав этой международной ассоц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048280" y="2306520"/>
            <a:ext cx="409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2013 г.-  В 1 раз Россия приняла участие в Международном чемпион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ldSkills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5429160" y="3695760"/>
            <a:ext cx="37148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52440" y="23050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итогам соревнований была сформирована сборная Российской Федерации, которая в июле 2013 года приняла участие в чемпионате мира WorldSkil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International 2013 в Лейпци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Итоги первого Чемпион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3"/>
          <a:stretch/>
        </p:blipFill>
        <p:spPr>
          <a:xfrm>
            <a:off x="1319040" y="4167360"/>
            <a:ext cx="2791080" cy="2465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4"/>
          <a:stretch/>
        </p:blipFill>
        <p:spPr>
          <a:xfrm>
            <a:off x="4848120" y="4041720"/>
            <a:ext cx="374328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5"/>
          <a:stretch/>
        </p:blipFill>
        <p:spPr>
          <a:xfrm>
            <a:off x="4848120" y="1914480"/>
            <a:ext cx="37432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133800" y="140004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Россия в 2017 на международном чемпионате в Абу-Да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0" y="2333520"/>
            <a:ext cx="92962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2895480" y="1400040"/>
            <a:ext cx="43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2019 год Россия проводит международный чемпионат на своей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3"/>
          <a:stretch/>
        </p:blipFill>
        <p:spPr>
          <a:xfrm>
            <a:off x="1228680" y="2428920"/>
            <a:ext cx="6924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DejaVu Sans"/>
              </a:rPr>
              <a:t>WSR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ГБПОУ 26КА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Схема 2" descr=""/>
          <p:cNvPicPr/>
          <p:nvPr/>
        </p:nvPicPr>
        <p:blipFill>
          <a:blip r:embed="rId3"/>
          <a:stretch/>
        </p:blipFill>
        <p:spPr>
          <a:xfrm>
            <a:off x="152280" y="1395360"/>
            <a:ext cx="914400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07:58:11Z</dcterms:created>
  <dc:creator>Lada Alekseeva</dc:creator>
  <dc:description/>
  <dc:language>en-US</dc:language>
  <cp:lastModifiedBy>ASUS</cp:lastModifiedBy>
  <cp:lastPrinted>2018-10-19T11:23:15Z</cp:lastPrinted>
  <dcterms:modified xsi:type="dcterms:W3CDTF">2021-04-18T22:50:01Z</dcterms:modified>
  <cp:revision>389</cp:revision>
  <dc:subject/>
  <dc:title>Презентация PowerPoint</dc:title>
</cp:coreProperties>
</file>