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gif" ContentType="image/gif"/>
  <Override PartName="/ppt/media/image16.jpeg" ContentType="image/jpeg"/>
  <Override PartName="/ppt/media/image26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7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6.gif" ContentType="image/gif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687-E0A2-44EF-A404-E50CD448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37A-3C95-4579-A52B-6224DE3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16C-2923-49DD-84FC-EADC6F7E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C0C-9668-4A98-A445-B2CB8DA3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4D7-4756-46A5-AEBD-FE46DFCB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26C-1163-4E51-B3AC-431972AC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5C5-7EA2-4720-8E78-AD58274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C09-2904-45CB-B243-0D58032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408-4C2B-4C8E-9BBE-37FE06D3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C6A-F323-462A-AC95-DA8894D4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995-6BBB-4E87-89A0-F06E64E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81E-4118-485C-B547-9490C00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C82-BB31-4080-80F1-1F6E76772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image" Target="../media/image6.gif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468360" y="2492280"/>
            <a:ext cx="8353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ивопожарная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сть для де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image112"/>
          <p:cNvPicPr/>
          <p:nvPr/>
        </p:nvPicPr>
        <p:blipFill>
          <a:blip r:embed="rId1"/>
          <a:stretch/>
        </p:blipFill>
        <p:spPr>
          <a:xfrm>
            <a:off x="395280" y="5013360"/>
            <a:ext cx="3214800" cy="1414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пожарная безопасность"/>
          <p:cNvPicPr/>
          <p:nvPr/>
        </p:nvPicPr>
        <p:blipFill>
          <a:blip r:embed="rId2"/>
          <a:stretch/>
        </p:blipFill>
        <p:spPr>
          <a:xfrm>
            <a:off x="5940360" y="189000"/>
            <a:ext cx="2406600" cy="2333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view"/>
          <p:cNvPicPr/>
          <p:nvPr/>
        </p:nvPicPr>
        <p:blipFill>
          <a:blip r:embed="rId1"/>
          <a:stretch/>
        </p:blipFill>
        <p:spPr>
          <a:xfrm>
            <a:off x="4932360" y="328464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395280" y="404640"/>
            <a:ext cx="676764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 огнём бороться мы должны,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 водою мы напарники.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Мы очень людям всем нужны,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тветь скорее, кто же мы?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755640" y="436572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НИК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11" descr="owl"/>
          <p:cNvPicPr/>
          <p:nvPr/>
        </p:nvPicPr>
        <p:blipFill>
          <a:blip r:embed="rId2"/>
          <a:stretch/>
        </p:blipFill>
        <p:spPr>
          <a:xfrm>
            <a:off x="6877080" y="33336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2"/>
          <p:cNvSpPr/>
          <p:nvPr/>
        </p:nvSpPr>
        <p:spPr>
          <a:xfrm>
            <a:off x="179280" y="189000"/>
            <a:ext cx="6985080" cy="2952720"/>
          </a:xfrm>
          <a:prstGeom prst="wedgeRoundRectCallout">
            <a:avLst>
              <a:gd name="adj1" fmla="val 66953"/>
              <a:gd name="adj2" fmla="val -6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8028000" y="6165720"/>
            <a:ext cx="792000" cy="505080"/>
          </a:xfrm>
          <a:custGeom>
            <a:avLst/>
            <a:gdLst>
              <a:gd name="textAreaLeft" fmla="*/ 32760 w 792000"/>
              <a:gd name="textAreaRight" fmla="*/ 759600 w 792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62" h="21600">
                <a:moveTo>
                  <a:pt x="9924" y="3794"/>
                </a:moveTo>
                <a:lnTo>
                  <a:pt x="23937" y="10800"/>
                </a:lnTo>
                <a:lnTo>
                  <a:pt x="992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755640" y="765000"/>
            <a:ext cx="5904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лыхает дом. Кошма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кротит она пож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83" name="Picture 6" descr="acp86"/>
          <p:cNvPicPr/>
          <p:nvPr/>
        </p:nvPicPr>
        <p:blipFill>
          <a:blip r:embed="rId1"/>
          <a:stretch/>
        </p:blipFill>
        <p:spPr>
          <a:xfrm>
            <a:off x="4788000" y="3357720"/>
            <a:ext cx="3609720" cy="2249280"/>
          </a:xfrm>
          <a:prstGeom prst="rect">
            <a:avLst/>
          </a:prstGeom>
          <a:ln w="0">
            <a:noFill/>
          </a:ln>
        </p:spPr>
      </p:pic>
      <p:sp>
        <p:nvSpPr>
          <p:cNvPr id="84" name="WordArt 8"/>
          <p:cNvSpPr txBox="1"/>
          <p:nvPr/>
        </p:nvSpPr>
        <p:spPr>
          <a:xfrm>
            <a:off x="1187280" y="3789360"/>
            <a:ext cx="28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НАЯ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ИН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1" descr="owl"/>
          <p:cNvPicPr/>
          <p:nvPr/>
        </p:nvPicPr>
        <p:blipFill>
          <a:blip r:embed="rId2"/>
          <a:stretch/>
        </p:blipFill>
        <p:spPr>
          <a:xfrm>
            <a:off x="6877080" y="33336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395280" y="549360"/>
            <a:ext cx="6769080" cy="1942920"/>
          </a:xfrm>
          <a:prstGeom prst="wedgeRoundRectCallout">
            <a:avLst>
              <a:gd name="adj1" fmla="val 67708"/>
              <a:gd name="adj2" fmla="val -375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539640" y="907920"/>
            <a:ext cx="8064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должи пословиц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940360" y="3645000"/>
            <a:ext cx="261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ери продолжение пословицы и кликни по нему кнопкой мыш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M006raj2"/>
          <p:cNvPicPr/>
          <p:nvPr/>
        </p:nvPicPr>
        <p:blipFill>
          <a:blip r:embed="rId1"/>
          <a:stretch/>
        </p:blipFill>
        <p:spPr>
          <a:xfrm>
            <a:off x="1908000" y="333360"/>
            <a:ext cx="109080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MG_6787"/>
          <p:cNvPicPr/>
          <p:nvPr/>
        </p:nvPicPr>
        <p:blipFill>
          <a:blip r:embed="rId2"/>
          <a:srcRect l="45868" t="11853" r="0" b="44220"/>
          <a:stretch/>
        </p:blipFill>
        <p:spPr>
          <a:xfrm>
            <a:off x="1692360" y="3141720"/>
            <a:ext cx="299556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907200" y="40392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ам не загорится, 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03200" y="1412280"/>
            <a:ext cx="72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е имей привычки, 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569400" y="573408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сить в кармане спич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834840" y="2204280"/>
            <a:ext cx="72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олома с огнем 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591240" y="501336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дружи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90840" y="3141000"/>
            <a:ext cx="73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аленькая спичка сжигает 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43960" y="587700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ольшой ле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901800" y="494172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де огня н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17040" y="4075920"/>
            <a:ext cx="74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пичка невеличка, _________________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638880" y="5013360"/>
            <a:ext cx="27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гонь велика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9" descr="image933"/>
          <p:cNvPicPr/>
          <p:nvPr/>
        </p:nvPicPr>
        <p:blipFill>
          <a:blip r:embed="rId1"/>
          <a:stretch/>
        </p:blipFill>
        <p:spPr>
          <a:xfrm>
            <a:off x="8101080" y="1844640"/>
            <a:ext cx="80640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526E-006 L 0.40035 -0.65665 E">
                                      <p:cBhvr>
                                        <p:cTn id="1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7168E-006 L 0.10173 -0.13202 E">
                                      <p:cBhvr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7168E-006 L -0.17135 -0.40485 E">
                                      <p:cBhvr>
                                        <p:cTn id="13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53958 -0.39422 E">
                                      <p:cBhvr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36994E-006 L 0.04531 -0.6252 E">
                                      <p:cBhvr>
                                        <p:cTn id="14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32000" y="1773360"/>
            <a:ext cx="676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5" descr="ill_syuzhet_poz_kom"/>
          <p:cNvPicPr/>
          <p:nvPr/>
        </p:nvPicPr>
        <p:blipFill>
          <a:blip r:embed="rId1"/>
          <a:srcRect l="0" t="45177" r="51203" b="6024"/>
          <a:stretch/>
        </p:blipFill>
        <p:spPr>
          <a:xfrm>
            <a:off x="611280" y="375120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ll_syuzhet_poz_kom"/>
          <p:cNvPicPr/>
          <p:nvPr/>
        </p:nvPicPr>
        <p:blipFill>
          <a:blip r:embed="rId2"/>
          <a:srcRect l="52680" t="48484" r="0" b="7028"/>
          <a:stretch/>
        </p:blipFill>
        <p:spPr>
          <a:xfrm>
            <a:off x="2556000" y="260280"/>
            <a:ext cx="3313080" cy="20163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716360" y="4508640"/>
            <a:ext cx="36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кни кнопкой мыши по выбранному варианту. При верном ответе прозвучат колокольчи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91960" y="858960"/>
            <a:ext cx="713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Телефон пожарной охран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334520" y="213372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А)  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34520" y="314172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Б)  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406160" y="422100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В) 0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G_6783"/>
          <p:cNvPicPr/>
          <p:nvPr/>
        </p:nvPicPr>
        <p:blipFill>
          <a:blip r:embed="rId1"/>
          <a:srcRect l="3826" t="36160" r="0" b="0"/>
          <a:stretch/>
        </p:blipFill>
        <p:spPr>
          <a:xfrm>
            <a:off x="3851280" y="2060640"/>
            <a:ext cx="431172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1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02384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39640" y="476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Какой  цвет используется для   покраски предметов пожаротушения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334880" y="2637000"/>
            <a:ext cx="25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)  си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189800" y="364500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)  зелё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190160" y="465300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)  крас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sp-01w1n"/>
          <p:cNvPicPr/>
          <p:nvPr/>
        </p:nvPicPr>
        <p:blipFill>
          <a:blip r:embed="rId1"/>
          <a:stretch/>
        </p:blipFill>
        <p:spPr>
          <a:xfrm>
            <a:off x="5219640" y="2349360"/>
            <a:ext cx="3289320" cy="3856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2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539640" y="692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Что помогает пожарным подняться на верхние этажи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901440" y="227664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А)  лиф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58160" y="328464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Б) раздвижная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лестниц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30160" y="46530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В)  водосточная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труб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k11097"/>
          <p:cNvPicPr/>
          <p:nvPr/>
        </p:nvPicPr>
        <p:blipFill>
          <a:blip r:embed="rId1"/>
          <a:stretch/>
        </p:blipFill>
        <p:spPr>
          <a:xfrm>
            <a:off x="4859280" y="2349360"/>
            <a:ext cx="374004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-396720" y="333360"/>
            <a:ext cx="98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Что не надо делать, если вы заметили пожар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7240" y="1916280"/>
            <a:ext cx="63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)  начинать тушить пожа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57800" y="2637000"/>
            <a:ext cx="44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Б) звать взросл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58880" y="3357720"/>
            <a:ext cx="57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)  вызывать пожар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1445_2"/>
          <p:cNvPicPr/>
          <p:nvPr/>
        </p:nvPicPr>
        <p:blipFill>
          <a:blip r:embed="rId1"/>
          <a:stretch/>
        </p:blipFill>
        <p:spPr>
          <a:xfrm>
            <a:off x="2556000" y="4149720"/>
            <a:ext cx="3492360" cy="2570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4000" y="549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Какой бытовой прибор, оставленный включённым в сеть, становится причиной пожара чаще всего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95595_2"/>
          <p:cNvPicPr/>
          <p:nvPr/>
        </p:nvPicPr>
        <p:blipFill>
          <a:blip r:embed="rId1"/>
          <a:stretch/>
        </p:blipFill>
        <p:spPr>
          <a:xfrm>
            <a:off x="826920" y="2421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amsung-21M20"/>
          <p:cNvPicPr/>
          <p:nvPr/>
        </p:nvPicPr>
        <p:blipFill>
          <a:blip r:embed="rId2"/>
          <a:srcRect l="0" t="0" r="0" b="5935"/>
          <a:stretch/>
        </p:blipFill>
        <p:spPr>
          <a:xfrm>
            <a:off x="6156360" y="2565360"/>
            <a:ext cx="2127240" cy="1751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view"/>
          <p:cNvPicPr/>
          <p:nvPr/>
        </p:nvPicPr>
        <p:blipFill>
          <a:blip r:embed="rId3"/>
          <a:stretch/>
        </p:blipFill>
        <p:spPr>
          <a:xfrm>
            <a:off x="3203640" y="4005360"/>
            <a:ext cx="2546280" cy="1912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685080" y="450864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А)  утю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34040" y="442764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Б) телевиз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554920" y="6093000"/>
            <a:ext cx="39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) радиоприёмни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 rot="401400">
            <a:off x="971280" y="4076640"/>
            <a:ext cx="7345440" cy="25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7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епко помните, друзья,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7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7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с огнем шутить нельзя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7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Рисунок 4" descr="getimage.jpg"/>
          <p:cNvPicPr/>
          <p:nvPr/>
        </p:nvPicPr>
        <p:blipFill>
          <a:blip r:embed="rId1"/>
          <a:stretch/>
        </p:blipFill>
        <p:spPr>
          <a:xfrm>
            <a:off x="2286000" y="500040"/>
            <a:ext cx="480996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24000" y="62064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Какая   из   игр   может   привести   к пожару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22600" y="191628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складывание домика из кубик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897480" y="2637000"/>
            <a:ext cx="71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складывание домика из спиче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51680" y="33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складывание картинки из паз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Image1"/>
          <p:cNvPicPr/>
          <p:nvPr/>
        </p:nvPicPr>
        <p:blipFill>
          <a:blip r:embed="rId1"/>
          <a:stretch/>
        </p:blipFill>
        <p:spPr>
          <a:xfrm>
            <a:off x="3132000" y="4076640"/>
            <a:ext cx="2544840" cy="24796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0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826920" y="549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Что пожарные надевают на голову при тушении пожара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17440" y="242100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) шапк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117080" y="3573360"/>
            <a:ext cx="20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Б) шле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188360" y="472428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) каск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item_2931"/>
          <p:cNvPicPr/>
          <p:nvPr/>
        </p:nvPicPr>
        <p:blipFill>
          <a:blip r:embed="rId1"/>
          <a:stretch/>
        </p:blipFill>
        <p:spPr>
          <a:xfrm>
            <a:off x="3708360" y="2637000"/>
            <a:ext cx="4824360" cy="307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0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-324000" y="479700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) уксус, минеральная во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ющее средст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68360" y="476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Найди группу, в которой перечислены жидкости, которые могут стать причиной пожар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95280" y="2637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) растительное масло, вода,  молок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8880" y="371628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) бензин, керосин, ацето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ddf7b4118f"/>
          <p:cNvPicPr/>
          <p:nvPr/>
        </p:nvPicPr>
        <p:blipFill>
          <a:blip r:embed="rId1"/>
          <a:stretch/>
        </p:blipFill>
        <p:spPr>
          <a:xfrm>
            <a:off x="5580000" y="3573360"/>
            <a:ext cx="3294000" cy="24703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9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210600" y="907200"/>
            <a:ext cx="887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  <a:ea typeface="Times New Roman"/>
              </a:rPr>
              <a:t>Что не вешают на пожарный щит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_PI18OYqJotrsU2ETA7D6amNgcF4jnivz_"/>
          <p:cNvPicPr/>
          <p:nvPr/>
        </p:nvPicPr>
        <p:blipFill>
          <a:blip r:embed="rId1"/>
          <a:stretch/>
        </p:blipFill>
        <p:spPr>
          <a:xfrm>
            <a:off x="900000" y="2060640"/>
            <a:ext cx="2376720" cy="209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eef2e89b3607"/>
          <p:cNvPicPr/>
          <p:nvPr/>
        </p:nvPicPr>
        <p:blipFill>
          <a:blip r:embed="rId2"/>
          <a:stretch/>
        </p:blipFill>
        <p:spPr>
          <a:xfrm>
            <a:off x="6443640" y="2133720"/>
            <a:ext cx="1905120" cy="21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e1243959948"/>
          <p:cNvPicPr/>
          <p:nvPr/>
        </p:nvPicPr>
        <p:blipFill>
          <a:blip r:embed="rId3"/>
          <a:stretch/>
        </p:blipFill>
        <p:spPr>
          <a:xfrm>
            <a:off x="3851280" y="3573360"/>
            <a:ext cx="1952640" cy="2276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443640" y="450864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лопа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824760" y="436572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молото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924000" y="6021360"/>
            <a:ext cx="20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топор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968760" y="2707560"/>
            <a:ext cx="71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набрасывание на пламя шт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692280"/>
            <a:ext cx="83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Какое действие не поможет потушить пожар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969480" y="1916280"/>
            <a:ext cx="60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заливание пламени водо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041480" y="357336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 засыпание пламени пес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1225790305_plamja"/>
          <p:cNvPicPr/>
          <p:nvPr/>
        </p:nvPicPr>
        <p:blipFill>
          <a:blip r:embed="rId1"/>
          <a:stretch/>
        </p:blipFill>
        <p:spPr>
          <a:xfrm>
            <a:off x="2987640" y="4221000"/>
            <a:ext cx="2414520" cy="24148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9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826920" y="932400"/>
            <a:ext cx="7628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ебята,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рошу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вас, не допускайте пожара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ерьте, нет ужасней такого кошмара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6"/>
          <p:cNvSpPr txBox="1"/>
          <p:nvPr/>
        </p:nvSpPr>
        <p:spPr>
          <a:xfrm>
            <a:off x="900000" y="4357800"/>
            <a:ext cx="76327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гонь – опасная штука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н над собой не любит шуток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Рисунок 4" descr="1252926927_26.jpg"/>
          <p:cNvPicPr/>
          <p:nvPr/>
        </p:nvPicPr>
        <p:blipFill>
          <a:blip r:embed="rId1"/>
          <a:srcRect l="5001" t="3590" r="5001" b="22848"/>
          <a:stretch/>
        </p:blipFill>
        <p:spPr>
          <a:xfrm>
            <a:off x="2714760" y="285840"/>
            <a:ext cx="351288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835280" y="501336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гче, чем пожар тушить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ам его предупреди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9" name="Picture 6" descr="IMG_6782"/>
          <p:cNvPicPr/>
          <p:nvPr/>
        </p:nvPicPr>
        <p:blipFill>
          <a:blip r:embed="rId1"/>
          <a:srcRect l="0" t="19644" r="0" b="0"/>
          <a:stretch/>
        </p:blipFill>
        <p:spPr>
          <a:xfrm>
            <a:off x="2577960" y="333360"/>
            <a:ext cx="4098960" cy="4390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>
            <a:hlinkClick r:id="rId1" action="ppaction://hlinksldjump"/>
          </p:cNvPr>
          <p:cNvSpPr/>
          <p:nvPr/>
        </p:nvSpPr>
        <p:spPr>
          <a:xfrm>
            <a:off x="1538280" y="1628640"/>
            <a:ext cx="28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агад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>
            <a:hlinkClick r:id="rId2" action="ppaction://hlinksldjump"/>
          </p:cNvPr>
          <p:cNvSpPr/>
          <p:nvPr/>
        </p:nvSpPr>
        <p:spPr>
          <a:xfrm>
            <a:off x="1396800" y="27082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гра «Поле чудес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3" action="ppaction://hlinksldjump"/>
          </p:cNvPr>
          <p:cNvSpPr/>
          <p:nvPr/>
        </p:nvSpPr>
        <p:spPr>
          <a:xfrm>
            <a:off x="1468440" y="4724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с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ic4623"/>
          <p:cNvPicPr/>
          <p:nvPr/>
        </p:nvPicPr>
        <p:blipFill>
          <a:blip r:embed="rId4"/>
          <a:stretch/>
        </p:blipFill>
        <p:spPr>
          <a:xfrm>
            <a:off x="6012000" y="260280"/>
            <a:ext cx="2449440" cy="2333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>
            <a:hlinkClick r:id="rId5" action="ppaction://hlinksldjump"/>
          </p:cNvPr>
          <p:cNvSpPr/>
          <p:nvPr/>
        </p:nvSpPr>
        <p:spPr>
          <a:xfrm>
            <a:off x="1395720" y="3789360"/>
            <a:ext cx="63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должи пословиц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900000" y="692280"/>
            <a:ext cx="7128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6" descr="1256123464_000"/>
          <p:cNvPicPr/>
          <p:nvPr/>
        </p:nvPicPr>
        <p:blipFill>
          <a:blip r:embed="rId1"/>
          <a:srcRect l="7720" t="24549" r="0" b="0"/>
          <a:stretch/>
        </p:blipFill>
        <p:spPr>
          <a:xfrm>
            <a:off x="2771640" y="2637000"/>
            <a:ext cx="3424320" cy="39081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>
            <a:hlinkClick r:id="rId2" action="ppaction://hlinksldjump"/>
          </p:cNvPr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3"/>
          <p:cNvSpPr txBox="1"/>
          <p:nvPr/>
        </p:nvSpPr>
        <p:spPr>
          <a:xfrm>
            <a:off x="900000" y="907920"/>
            <a:ext cx="60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сё ест, не наестся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 пьёт - умирае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1332000" y="3860640"/>
            <a:ext cx="25398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10" descr="image112"/>
          <p:cNvPicPr/>
          <p:nvPr/>
        </p:nvPicPr>
        <p:blipFill>
          <a:blip r:embed="rId1"/>
          <a:stretch/>
        </p:blipFill>
        <p:spPr>
          <a:xfrm>
            <a:off x="4643280" y="3716280"/>
            <a:ext cx="3732480" cy="1643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owl"/>
          <p:cNvPicPr/>
          <p:nvPr/>
        </p:nvPicPr>
        <p:blipFill>
          <a:blip r:embed="rId2"/>
          <a:stretch/>
        </p:blipFill>
        <p:spPr>
          <a:xfrm>
            <a:off x="6504120" y="260280"/>
            <a:ext cx="2209680" cy="2376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611280" y="692280"/>
            <a:ext cx="6192720" cy="1728720"/>
          </a:xfrm>
          <a:prstGeom prst="wedgeRoundRectCallout">
            <a:avLst>
              <a:gd name="adj1" fmla="val 69560"/>
              <a:gd name="adj2" fmla="val -6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>
            <a:hlinkClick r:id="rId3" action="ppaction://hlinksldjump"/>
          </p:cNvPr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6"/>
          <p:cNvSpPr txBox="1"/>
          <p:nvPr/>
        </p:nvSpPr>
        <p:spPr>
          <a:xfrm>
            <a:off x="395280" y="476280"/>
            <a:ext cx="6337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тала мошка -сосновая ножка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а стог села - всё сен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65" name="Picture 7" descr="fileGcBvDr"/>
          <p:cNvPicPr/>
          <p:nvPr/>
        </p:nvPicPr>
        <p:blipFill>
          <a:blip r:embed="rId1"/>
          <a:stretch/>
        </p:blipFill>
        <p:spPr>
          <a:xfrm>
            <a:off x="4356000" y="2852640"/>
            <a:ext cx="4205520" cy="3154320"/>
          </a:xfrm>
          <a:prstGeom prst="rect">
            <a:avLst/>
          </a:prstGeom>
          <a:ln w="0">
            <a:noFill/>
          </a:ln>
        </p:spPr>
      </p:pic>
      <p:sp>
        <p:nvSpPr>
          <p:cNvPr id="66" name="WordArt 9"/>
          <p:cNvSpPr txBox="1"/>
          <p:nvPr/>
        </p:nvSpPr>
        <p:spPr>
          <a:xfrm>
            <a:off x="611280" y="3933720"/>
            <a:ext cx="316872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Ч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10" descr="owl"/>
          <p:cNvPicPr/>
          <p:nvPr/>
        </p:nvPicPr>
        <p:blipFill>
          <a:blip r:embed="rId2"/>
          <a:stretch/>
        </p:blipFill>
        <p:spPr>
          <a:xfrm>
            <a:off x="6732720" y="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1"/>
          <p:cNvSpPr/>
          <p:nvPr/>
        </p:nvSpPr>
        <p:spPr>
          <a:xfrm>
            <a:off x="250920" y="260280"/>
            <a:ext cx="6842160" cy="2089080"/>
          </a:xfrm>
          <a:prstGeom prst="wedgeRoundRectCallout">
            <a:avLst>
              <a:gd name="adj1" fmla="val 65152"/>
              <a:gd name="adj2" fmla="val -11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>
            <a:hlinkClick r:id="rId3" action="ppaction://hlinksldjump"/>
          </p:cNvPr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6"/>
          <p:cNvSpPr txBox="1"/>
          <p:nvPr/>
        </p:nvSpPr>
        <p:spPr>
          <a:xfrm>
            <a:off x="324000" y="549360"/>
            <a:ext cx="69818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исит - молчит, а перевернешь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шипит, и пена лети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71" name="Picture 7" descr="G9UHwHofqS"/>
          <p:cNvPicPr/>
          <p:nvPr/>
        </p:nvPicPr>
        <p:blipFill>
          <a:blip r:embed="rId1"/>
          <a:stretch/>
        </p:blipFill>
        <p:spPr>
          <a:xfrm>
            <a:off x="5724360" y="2781360"/>
            <a:ext cx="2200320" cy="3460680"/>
          </a:xfrm>
          <a:prstGeom prst="rect">
            <a:avLst/>
          </a:prstGeom>
          <a:ln w="0">
            <a:noFill/>
          </a:ln>
        </p:spPr>
      </p:pic>
      <p:sp>
        <p:nvSpPr>
          <p:cNvPr id="72" name="WordArt 9"/>
          <p:cNvSpPr txBox="1"/>
          <p:nvPr/>
        </p:nvSpPr>
        <p:spPr>
          <a:xfrm>
            <a:off x="755640" y="3573360"/>
            <a:ext cx="43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ТУШИТЕЛ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10" descr="owl"/>
          <p:cNvPicPr/>
          <p:nvPr/>
        </p:nvPicPr>
        <p:blipFill>
          <a:blip r:embed="rId2"/>
          <a:stretch/>
        </p:blipFill>
        <p:spPr>
          <a:xfrm>
            <a:off x="6877080" y="18900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1"/>
          <p:cNvSpPr/>
          <p:nvPr/>
        </p:nvSpPr>
        <p:spPr>
          <a:xfrm flipV="1">
            <a:off x="250920" y="332280"/>
            <a:ext cx="6913440" cy="1871640"/>
          </a:xfrm>
          <a:prstGeom prst="wedgeRoundRectCallout">
            <a:avLst>
              <a:gd name="adj1" fmla="val 65726"/>
              <a:gd name="adj2" fmla="val 88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8028000" y="6165720"/>
            <a:ext cx="792000" cy="505080"/>
          </a:xfrm>
          <a:custGeom>
            <a:avLst/>
            <a:gdLst>
              <a:gd name="textAreaLeft" fmla="*/ 32760 w 792000"/>
              <a:gd name="textAreaRight" fmla="*/ 759600 w 792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62" h="21600">
                <a:moveTo>
                  <a:pt x="9924" y="3794"/>
                </a:moveTo>
                <a:lnTo>
                  <a:pt x="23937" y="10800"/>
                </a:lnTo>
                <a:lnTo>
                  <a:pt x="992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0:28:55Z</dcterms:created>
  <dc:creator>Анжела</dc:creator>
  <dc:description/>
  <dc:language>en-US</dc:language>
  <cp:lastModifiedBy>Нинка</cp:lastModifiedBy>
  <dcterms:modified xsi:type="dcterms:W3CDTF">2021-04-20T20:11:38Z</dcterms:modified>
  <cp:revision>13</cp:revision>
  <dc:subject/>
  <dc:title>Слайд 1</dc:title>
</cp:coreProperties>
</file>