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8B57D51-DB3F-4E85-A0AF-96C9131F4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DF44B98-2157-4D3B-B77C-4A394116D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87BDF82-9151-454B-AD08-297E6A705F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8C882C3-021C-4FD2-9DDB-70C2CE7731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8E151F4-B17B-4FE2-A00B-3EBF427D60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3240949-EF72-49D1-ABFE-C7CE2EF8A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1A38820-571A-411C-B89A-3E17CF9597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711FB87-35A7-4737-A4FE-1391B33AF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FCB2B73-7254-441C-8B8A-04A7E7B894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0265306-2D25-4AF6-BE0D-E5E0001B40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40AA156-CBFA-48D4-A9A4-AA4D35375E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88D57A6-4BC1-4D2E-9C91-E2DEF2B3EA7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3FB5BDF-DAA6-43AA-AF55-63B3B5F68BE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6C87DCC-6178-43F9-B133-60E9B4D383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E77CF9-375E-4FCC-969D-31C99012E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E9C831-2D2C-440B-AD14-B20C03A8D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A3C864-8A16-4CF5-AD70-060F4B366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9EFDF2-70E8-400E-BFCC-D29D7B1B3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4C7F568-7681-45BC-886E-C1C605AEF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44837E-8BA7-4A80-A314-CDF1D99D0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7E070A5-B717-45CE-9721-B67A23ED86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29A61D-EB92-41EB-BB1D-0E3C63D0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BAF5E9-6F9D-4376-9162-AA103CCDE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F9E53C-C4FA-4313-9C01-D2593E138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97589DF-6483-46DB-BEE4-D6B039EDD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5A4BEA-0D4C-4FA4-BF48-DBD6EB6F1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7E8F4-49B6-4648-8919-19341CCF85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9F339-C658-45E0-B5D8-9E2BCB4F6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15726-C800-49FD-9270-4BD3A0E15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A22C9-7077-4609-B19E-A052A1419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D93F2B-0B74-4205-97BD-C7B347379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CD15411-88C7-42AE-BBDE-C6F725204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40863-0FD5-4F6F-A429-84F263C7A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D2C7F-1334-41DF-9188-FCF0A0A6B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31B54-528C-46C8-99C0-26EF1D62E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41613-CE11-46C3-8B5D-939796A75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2731B-755F-40C0-B953-181E1A16F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552A86-93FD-4250-A45E-38C83905EA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2D826C-B06F-4837-864C-D8DF0FDC65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AF1F83-1F1E-4437-A97D-8B241A563D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49C21C-5C51-4599-9DBA-9E7918140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9E6183-A93B-451D-BCC0-3A552BB0A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C54028F-0EB2-453D-9382-FCC483C3C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3314267-056A-46A9-BE3C-78FF9E1AD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90CA146-4F2E-48B7-9679-966CA58BF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DE7D4C-325E-4E09-B731-98408FC9C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B9761E-CCE2-492B-9B3D-4E2864D02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DB37A6-0DA8-4412-987E-06021B147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B9EEA6-EA1C-435F-8E76-1F62785A86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39B623-16FA-444E-93A9-86B64709F0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A25BFA0-A4F2-4B8B-A3CE-D0631E0B49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808E648-FBF8-4093-A4B7-FED256A374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13C577-30C8-44D8-8C21-8F4B1AA16B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E73F565-8559-4AB9-9C15-8DA326CCC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B68C0-30F6-40F1-8EDD-25ADB5BB52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6E04F1-C8A3-4F57-BCCE-3540AD9BC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AC32E-1D5A-403B-B4AB-9D1254DE8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531ED-0F41-456D-B192-4A2E5EC73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7CEAC-ED71-4B23-8BB3-AD6E500E3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FB4A8-220F-4BE2-BC3B-30D3B44D8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EFC05-0344-48A0-8A74-2645AF632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20A70-61C2-453E-B73E-C33FAE00D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4A2DDC-85D6-4C73-A11E-B4A4BABDBB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8FF20C-E36C-420C-9CCE-4221625A3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0DB0746-863E-4BB5-9639-102349B4BF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87B6C6-35FC-42D8-8BD1-C795E5AF91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5FCACB-0243-4EE7-9B7A-C2EE676B3E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DC4247-02EC-400E-9658-63B9B23F02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628CE1-ED59-467C-88D4-ED2DC72C7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7DAF1-659B-4B5B-B05F-59B1FE3EA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B7DC0-FAE4-47D7-9005-38BA82C89D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AE25A-DF48-445E-9E1D-E6602A74CE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FBECC-A496-443B-A592-9327B6A53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1F5EF-A199-4676-B1D6-670CE1AC1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E137C-75EA-432E-A1A6-9E83B443FA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6783BFB-D055-4956-8531-2EB66C83BB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DE49C-131B-48B9-930D-2FBB94A2D8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920CB3-E37A-49A3-ADB2-5596CC30B4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861863-5607-4840-9243-9094862BDC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75C533-E8BA-41E8-AE08-AC2DBED510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54D7CB-6E76-43E4-B6BA-C5CB130BD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6DC15D-D9F3-4126-B3D1-7ECAF6EA9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65C6A-E75D-4ACB-8278-43A86A9BB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9BD1F0-0CA4-45E5-9AD9-A326127AC7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0C2CD1-618B-4F86-849D-CF52AC68A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3DAA5-592B-41DD-B90A-0E2521160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8DE84B5-4E51-4A57-84F2-0BD92845C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D545D-F0C5-4C19-BE1E-C3233F9F50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947054-8EAA-4C88-A5EF-FFA0606D4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4A1D45-6523-448E-A9E0-BF82DE002A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71915D-0E87-4640-AF24-8AD52C91D0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FF11AC-248B-420F-8562-BB7BEC60C9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99F382D-A1F0-4E33-89E9-9DACD5AEC5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8DFCC39-5A0B-43CB-99DB-9EC1656E4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A97EF0C-D33C-40D6-A147-1A28ABAEB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7333F9A-42A2-4D4C-8410-5D60BA53C9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6162B81-873D-432D-A0F4-DA0D202D7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F80CB8B-7FD8-49F0-BCBE-C3BA2D252D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011DCEF-5AF8-4921-ACC9-08631081BE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531C730-D160-4DBC-B3D8-C9475C806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8174996-7595-4FE6-AC49-0B1190666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EC45C86-BCE5-4705-A59C-81B3FA55C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D477382-050B-4C44-9E07-A9C74E42E9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9BE1CD0-8B9E-42D2-9A99-9538057CD9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2AA4BCB0-3DD3-4D8A-A2A5-A272418DFE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FC5BFFE-9D9E-42C4-8C41-34ABC797E1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8BC59C5-F69F-42D0-9935-146ACEAABD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F2C2B73-B05D-4D31-9A7A-6DA6906331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C863-8CD5-4C1F-9AE5-7838447880E9}"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6"/>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6"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C33F-4B87-445D-B7C1-D8C14D1AE1E3}"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6"/>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DA3E-F949-4A5B-B4F2-98402DA6E293}"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6"/>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7D8D-190D-4663-8795-1CED8B840D30}"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9"/>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13A3-6E05-42F3-A632-1331CF6D0961}"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9"/>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10"/>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B290-13F5-4922-B34A-A0668A579C3D}"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6"/>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1998-1960-43D0-B80C-E8AFDD5CB81C}"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573A-0C37-4BD5-8D94-E1562080B61D}"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b9bbb2"/>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b9bbb2"/>
                </a:solidFill>
                <a:latin typeface="Cambria"/>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B785-31F9-42E9-AEE4-55277BB8C01F}" type="slidenum">
              <a:rPr b="0" lang="ru-RU" sz="1600" spc="-1" strike="noStrike">
                <a:solidFill>
                  <a:srgbClr val="dfe0d4"/>
                </a:solidFill>
                <a:latin typeface="Cambria"/>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Заголовок 1" descr=""/>
          <p:cNvPicPr/>
          <p:nvPr/>
        </p:nvPicPr>
        <p:blipFill>
          <a:blip r:embed="rId1"/>
          <a:stretch/>
        </p:blipFill>
        <p:spPr>
          <a:xfrm>
            <a:off x="682560" y="622440"/>
            <a:ext cx="7291440" cy="2444760"/>
          </a:xfrm>
          <a:prstGeom prst="rect">
            <a:avLst/>
          </a:prstGeom>
          <a:ln w="0">
            <a:noFill/>
          </a:ln>
        </p:spPr>
      </p:pic>
      <p:sp>
        <p:nvSpPr>
          <p:cNvPr id="395" name="PlaceHolder 1"/>
          <p:cNvSpPr>
            <a:spLocks noGrp="1"/>
          </p:cNvSpPr>
          <p:nvPr>
            <p:ph type="subTitle"/>
          </p:nvPr>
        </p:nvSpPr>
        <p:spPr>
          <a:xfrm>
            <a:off x="4067280" y="5319720"/>
            <a:ext cx="4984560" cy="1403280"/>
          </a:xfrm>
          <a:prstGeom prst="rect">
            <a:avLst/>
          </a:prstGeom>
          <a:noFill/>
          <a:ln w="0">
            <a:noFill/>
          </a:ln>
        </p:spPr>
        <p:txBody>
          <a:bodyPr lIns="45720" rIns="24696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Выполнил: студент группы 3БС01 Брянсков В.А.</a:t>
            </a:r>
            <a:endParaRPr b="0" lang="en-US" sz="2200" spc="-1" strike="noStrike">
              <a:solidFill>
                <a:srgbClr val="ffffff"/>
              </a:solidFill>
              <a:latin typeface="Cambri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Руководитель: преподаватель Романцова Е.А.</a:t>
            </a:r>
            <a:endParaRPr b="0" lang="en-US" sz="2200" spc="-1" strike="noStrike">
              <a:solidFill>
                <a:srgbClr val="ffffff"/>
              </a:solidFill>
              <a:latin typeface="Cambria"/>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pic>
        <p:nvPicPr>
          <p:cNvPr id="396" name="Рисунок 3" descr="звезда.jpg"/>
          <p:cNvPicPr/>
          <p:nvPr/>
        </p:nvPicPr>
        <p:blipFill>
          <a:blip r:embed="rId2"/>
          <a:stretch/>
        </p:blipFill>
        <p:spPr>
          <a:xfrm>
            <a:off x="468360" y="3500280"/>
            <a:ext cx="2663640" cy="2521080"/>
          </a:xfrm>
          <a:prstGeom prst="rect">
            <a:avLst/>
          </a:prstGeom>
          <a:ln w="28440">
            <a:solidFill>
              <a:srgbClr val="45472b"/>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Прямоугольник 1"/>
          <p:cNvSpPr/>
          <p:nvPr/>
        </p:nvSpPr>
        <p:spPr>
          <a:xfrm>
            <a:off x="4067280" y="21337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Иван Кожедуб</a:t>
            </a:r>
            <a:br>
              <a:rPr sz="1800"/>
            </a:br>
            <a:br>
              <a:rPr sz="1800"/>
            </a:br>
            <a:r>
              <a:rPr b="0" lang="ru-RU" sz="1800" spc="-1" strike="noStrike">
                <a:solidFill>
                  <a:srgbClr val="ffffff"/>
                </a:solidFill>
                <a:latin typeface="Cambria"/>
              </a:rPr>
              <a:t>64 сбитых немецких самолёта на счету у Ивана Кожедуба. Он признан наиболее результативным лётчиком-истребителем. Трижды Герой Советского Союза.</a:t>
            </a:r>
            <a:br>
              <a:rPr sz="1800"/>
            </a:br>
            <a:endParaRPr b="0" lang="en-US" sz="1800" spc="-1" strike="noStrike">
              <a:solidFill>
                <a:srgbClr val="ffffff"/>
              </a:solidFill>
              <a:latin typeface="Arial"/>
            </a:endParaRPr>
          </a:p>
        </p:txBody>
      </p:sp>
      <p:pic>
        <p:nvPicPr>
          <p:cNvPr id="413" name="Рисунок 2" descr="Vn21HSaXTQU.jpg"/>
          <p:cNvPicPr/>
          <p:nvPr/>
        </p:nvPicPr>
        <p:blipFill>
          <a:blip r:embed="rId1"/>
          <a:stretch/>
        </p:blipFill>
        <p:spPr>
          <a:xfrm>
            <a:off x="468360" y="1341360"/>
            <a:ext cx="3286080" cy="405756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Прямоугольник 1"/>
          <p:cNvSpPr/>
          <p:nvPr/>
        </p:nvSpPr>
        <p:spPr>
          <a:xfrm>
            <a:off x="1258920" y="1052640"/>
            <a:ext cx="6913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2021 году – была 80-я годовщина начала Великой Отечественной войны.</a:t>
            </a:r>
            <a:br>
              <a:rPr sz="1800"/>
            </a:br>
            <a:br>
              <a:rPr sz="1800"/>
            </a:br>
            <a:r>
              <a:rPr b="0" lang="ru-RU" sz="1800" spc="-1" strike="noStrike">
                <a:solidFill>
                  <a:srgbClr val="ffffff"/>
                </a:solidFill>
                <a:latin typeface="Cambria"/>
              </a:rPr>
              <a:t>День Победы — праздник победы Красной Армии и советского народа над нацистской Германией в Великой Отечественной войне 1941—1945 годов. Установлен Указом Президиума Верховного Совета СССР от 8 мая 1945 года[2] и отмечается 9 мая каждого года. В 1945—1947 и с 1965 года День Победы — нерабочий праздничный день[3].</a:t>
            </a:r>
            <a:br>
              <a:rPr sz="1800"/>
            </a:br>
            <a:br>
              <a:rPr sz="1800"/>
            </a:br>
            <a:r>
              <a:rPr b="0" lang="ru-RU" sz="1800" spc="-1" strike="noStrike">
                <a:solidFill>
                  <a:srgbClr val="ffffff"/>
                </a:solidFill>
                <a:latin typeface="Cambria"/>
              </a:rPr>
              <a:t>В День Победы во многих городах России проводятся военные парады и праздничные салюты, в Москве производится организованное шествие к Могиле Неизвестного Солдата с церемонией возложения венков, в крупных городах — праздничные шествия и фейервер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Прямоугольник 1"/>
          <p:cNvSpPr/>
          <p:nvPr/>
        </p:nvSpPr>
        <p:spPr>
          <a:xfrm>
            <a:off x="684360" y="549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ез объявления войны Германия вероломно напала на Советский союз. Произошло это 1941 года 22 июня в 2 часа утра.</a:t>
            </a:r>
            <a:endParaRPr b="0" lang="en-US" sz="1800" spc="-1" strike="noStrike">
              <a:solidFill>
                <a:srgbClr val="ffffff"/>
              </a:solidFill>
              <a:latin typeface="Arial"/>
            </a:endParaRPr>
          </a:p>
        </p:txBody>
      </p:sp>
      <p:pic>
        <p:nvPicPr>
          <p:cNvPr id="398" name="Рисунок 2" descr="yTiW9Wc1Bns.jpg"/>
          <p:cNvPicPr/>
          <p:nvPr/>
        </p:nvPicPr>
        <p:blipFill>
          <a:blip r:embed="rId1"/>
          <a:stretch/>
        </p:blipFill>
        <p:spPr>
          <a:xfrm>
            <a:off x="755640" y="1557360"/>
            <a:ext cx="3240000" cy="2303280"/>
          </a:xfrm>
          <a:prstGeom prst="rect">
            <a:avLst/>
          </a:prstGeom>
          <a:ln w="28440">
            <a:solidFill>
              <a:srgbClr val="4d5040"/>
            </a:solidFill>
            <a:miter/>
          </a:ln>
        </p:spPr>
      </p:pic>
      <p:pic>
        <p:nvPicPr>
          <p:cNvPr id="399" name="Рисунок 3" descr="a12KILsGbTE.jpg"/>
          <p:cNvPicPr/>
          <p:nvPr/>
        </p:nvPicPr>
        <p:blipFill>
          <a:blip r:embed="rId2"/>
          <a:stretch/>
        </p:blipFill>
        <p:spPr>
          <a:xfrm>
            <a:off x="1476360" y="4292640"/>
            <a:ext cx="4464000" cy="2187360"/>
          </a:xfrm>
          <a:prstGeom prst="rect">
            <a:avLst/>
          </a:prstGeom>
          <a:ln w="28440">
            <a:solidFill>
              <a:srgbClr val="4d5040"/>
            </a:solidFill>
            <a:miter/>
          </a:ln>
        </p:spPr>
      </p:pic>
      <p:pic>
        <p:nvPicPr>
          <p:cNvPr id="400" name="Рисунок 4" descr="T0xZkl0aSQg.jpg"/>
          <p:cNvPicPr/>
          <p:nvPr/>
        </p:nvPicPr>
        <p:blipFill>
          <a:blip r:embed="rId3"/>
          <a:stretch/>
        </p:blipFill>
        <p:spPr>
          <a:xfrm>
            <a:off x="4643280" y="1557360"/>
            <a:ext cx="3384720" cy="2496960"/>
          </a:xfrm>
          <a:prstGeom prst="rect">
            <a:avLst/>
          </a:prstGeom>
          <a:ln w="28440">
            <a:solidFill>
              <a:srgbClr val="4d504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Прямоугольник 1"/>
          <p:cNvSpPr/>
          <p:nvPr/>
        </p:nvSpPr>
        <p:spPr>
          <a:xfrm>
            <a:off x="826920" y="476280"/>
            <a:ext cx="7490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Первой удар фашистской Германии приняла Брестская крепость. Её защитники держали оборону больше месяца. За ними не было заградотрядов, на которые так любят ссылаться некоторые современные «правдоискатели». Защитники крепости сражались до последнего вздоха. На штукатурке одного из подвалов крепости были выцарапаны слова: «Нас было трое. Нам было трудно. Мы умираем, но не сдаемся. 22. 07. 1941». Не меньшей славы заслуживают участники обороны Смоленска, Севастополя, Одессы, Воронежа, Ленинграда, Москвы. Они задержали, потом остановили, а затем погнали вспять нацистскую нечисть.</a:t>
            </a:r>
            <a:endParaRPr b="0" lang="en-US" sz="1800" spc="-1" strike="noStrike">
              <a:solidFill>
                <a:srgbClr val="ffffff"/>
              </a:solidFill>
              <a:latin typeface="Arial"/>
            </a:endParaRPr>
          </a:p>
        </p:txBody>
      </p:sp>
      <p:pic>
        <p:nvPicPr>
          <p:cNvPr id="402" name="Рисунок 2" descr="koDDFp9ONw4.jpg"/>
          <p:cNvPicPr/>
          <p:nvPr/>
        </p:nvPicPr>
        <p:blipFill>
          <a:blip r:embed="rId1"/>
          <a:stretch/>
        </p:blipFill>
        <p:spPr>
          <a:xfrm>
            <a:off x="1979640" y="3716280"/>
            <a:ext cx="4464000" cy="2340000"/>
          </a:xfrm>
          <a:prstGeom prst="rect">
            <a:avLst/>
          </a:prstGeom>
          <a:ln w="19080">
            <a:solidFill>
              <a:srgbClr val="45472b"/>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Прямоугольник 1"/>
          <p:cNvSpPr/>
          <p:nvPr/>
        </p:nvSpPr>
        <p:spPr>
          <a:xfrm>
            <a:off x="755640" y="1125360"/>
            <a:ext cx="7632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Особо следует высказаться о человеческих потерях воющих сторон. Прежде всего, о советских потерях. Сегодня они стали предметом изощрённых спекуляций, суть которых следующая. СССР завалил вермахт трупами, благодаря чему выиграл войну. Между тем, по данным группы военного историка генерал-полковника Г.Ф. Кривошеева в боевых действиях погибло 8,7 миллиона советских военнослужащих, из них в немецком плену более 3 миллионов. Всего же во время войны погибло 26,6 миллионов советских людей. Напомним, что численность населения в СССР в 1940 году составляла 194 миллионов человек.</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Говоря о Сталинградской битве (июль 1942 г. — февраль 1943 г.), отметим, что в ней суммарные безвозвратные и санитарные потери воюющих сторон (Красной Армии и вермахта) составили почти два миллиона человек (1,12 миллиона советских и 840 тысяч немецки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Прямоугольник 1"/>
          <p:cNvSpPr/>
          <p:nvPr/>
        </p:nvSpPr>
        <p:spPr>
          <a:xfrm>
            <a:off x="900000" y="1125360"/>
            <a:ext cx="77043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Курском сражении (5 июля - 23 августа 1943 г.) советской группировке войск, насчитывающей 1,3 миллиона человек, 3,4 тысячи танков, 19,1 тысяч орудий и миномётов и 2,2 тысячи самолётов (без учёта резервов), противостояла немецкая группировка, насчитывающая 0,9 миллионов человек, 2,7 тысячи танков, около 10,0 тысяч орудий и миномётов и 2,0 тысячи самолётов. Общие потери бронетехники под Курском составили более 7, 5 тысяч танков (6,0 тысяч советских и 1,5 тысячи немецких).</a:t>
            </a:r>
            <a:br>
              <a:rPr sz="1800"/>
            </a:br>
            <a:br>
              <a:rPr sz="1800"/>
            </a:br>
            <a:r>
              <a:rPr b="0" lang="ru-RU" sz="1800" spc="-1" strike="noStrike">
                <a:solidFill>
                  <a:srgbClr val="ffffff"/>
                </a:solidFill>
                <a:latin typeface="Cambria"/>
              </a:rPr>
              <a:t>Заметим, что современные немецкие историки утверждают, что танковые сражения под Курском выиграл Вермахт. Да, советские потери бронетехники были существенно выше немецких. Но они не стали для СССР роковыми. Промышленность их быстро восполнила. А для германских танкистов звезда победы под Курском закатилась окончательн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Прямоугольник 1"/>
          <p:cNvSpPr/>
          <p:nvPr/>
        </p:nvSpPr>
        <p:spPr>
          <a:xfrm>
            <a:off x="1908000" y="2924280"/>
            <a:ext cx="597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Боевые рекорды наших Герое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Прямоугольник 1"/>
          <p:cNvSpPr/>
          <p:nvPr/>
        </p:nvSpPr>
        <p:spPr>
          <a:xfrm>
            <a:off x="4140360" y="1484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лександр Шабалин</a:t>
            </a:r>
            <a:br>
              <a:rPr sz="1800"/>
            </a:br>
            <a:br>
              <a:rPr sz="1800"/>
            </a:br>
            <a:r>
              <a:rPr b="0" lang="ru-RU" sz="1800" spc="-1" strike="noStrike">
                <a:solidFill>
                  <a:srgbClr val="ffffff"/>
                </a:solidFill>
                <a:latin typeface="Cambria"/>
              </a:rPr>
              <a:t>32 уничтоженных вражеских судна на счету контр-адмирала советского флота Александра Шабалина. Это самый невероятный результат в истории войны, потому что воевал Александр Шабалин на обыкновенном торпедном катере. Дважды Герой Советского Союза.</a:t>
            </a:r>
            <a:br>
              <a:rPr sz="1800"/>
            </a:br>
            <a:endParaRPr b="0" lang="en-US" sz="1800" spc="-1" strike="noStrike">
              <a:solidFill>
                <a:srgbClr val="ffffff"/>
              </a:solidFill>
              <a:latin typeface="Arial"/>
            </a:endParaRPr>
          </a:p>
        </p:txBody>
      </p:sp>
      <p:pic>
        <p:nvPicPr>
          <p:cNvPr id="407" name="Рисунок 2" descr="jguIzt0mC2E.jpg"/>
          <p:cNvPicPr/>
          <p:nvPr/>
        </p:nvPicPr>
        <p:blipFill>
          <a:blip r:embed="rId1"/>
          <a:stretch/>
        </p:blipFill>
        <p:spPr>
          <a:xfrm>
            <a:off x="684360" y="907920"/>
            <a:ext cx="3024000" cy="460224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Прямоугольник 1"/>
          <p:cNvSpPr/>
          <p:nvPr/>
        </p:nvSpPr>
        <p:spPr>
          <a:xfrm>
            <a:off x="4211640" y="1413000"/>
            <a:ext cx="4572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митрий и Яков Луканины</a:t>
            </a:r>
            <a:br>
              <a:rPr sz="1800"/>
            </a:br>
            <a:br>
              <a:rPr sz="1800"/>
            </a:br>
            <a:r>
              <a:rPr b="0" lang="ru-RU" sz="1800" spc="-1" strike="noStrike">
                <a:solidFill>
                  <a:srgbClr val="ffffff"/>
                </a:solidFill>
                <a:latin typeface="Cambria"/>
              </a:rPr>
              <a:t>37 фашистских танков и САУ подбили братья-близнецы Дмитрий и Яков Луканины, лучшие командир и наводчик гаубичной артиллерии Великой Отечественной войны. 152-мм гаубица, из которой герои вели огонь, находится в Военно-историческом музее артиллерии, инженерных войск и войск связи города Санкт-Петербурга. Герои Советского Союза.</a:t>
            </a:r>
            <a:br>
              <a:rPr sz="1800"/>
            </a:br>
            <a:endParaRPr b="0" lang="en-US" sz="1800" spc="-1" strike="noStrike">
              <a:solidFill>
                <a:srgbClr val="ffffff"/>
              </a:solidFill>
              <a:latin typeface="Arial"/>
            </a:endParaRPr>
          </a:p>
        </p:txBody>
      </p:sp>
      <p:pic>
        <p:nvPicPr>
          <p:cNvPr id="409" name="Рисунок 2" descr="Q40MBcfTgw4.jpg"/>
          <p:cNvPicPr/>
          <p:nvPr/>
        </p:nvPicPr>
        <p:blipFill>
          <a:blip r:embed="rId1"/>
          <a:stretch/>
        </p:blipFill>
        <p:spPr>
          <a:xfrm>
            <a:off x="395280" y="1844640"/>
            <a:ext cx="3529080" cy="252108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Прямоугольник 1"/>
          <p:cNvSpPr/>
          <p:nvPr/>
        </p:nvSpPr>
        <p:spPr>
          <a:xfrm>
            <a:off x="4067280" y="836640"/>
            <a:ext cx="4572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митрий Лавриненко</a:t>
            </a:r>
            <a:br>
              <a:rPr sz="1800"/>
            </a:br>
            <a:br>
              <a:rPr sz="1800"/>
            </a:br>
            <a:r>
              <a:rPr b="0" lang="ru-RU" sz="1800" spc="-1" strike="noStrike">
                <a:solidFill>
                  <a:srgbClr val="ffffff"/>
                </a:solidFill>
                <a:latin typeface="Cambria"/>
              </a:rPr>
              <a:t>52 уничтоженных вражеских танка за спиной у аса-танкиста Дмитрия Лавриненко. На протяжении боевых действий его машина горела трижды. За два с половиной месяца боёв принял участие в 28 схватках и уничтожил 52 танка противника, став самым результативным танкистом в Красной Армии за всю Великую Отечественную войну. 18 декабря 1941 года на подступах к Волоколамску после боя Дмитрий Лавриненко был убит осколком мины. Лишь 5 мая 1990 года ему было присвоено звание Героя Советского Союза, посмертно.</a:t>
            </a:r>
            <a:br>
              <a:rPr sz="1800"/>
            </a:br>
            <a:endParaRPr b="0" lang="en-US" sz="1800" spc="-1" strike="noStrike">
              <a:solidFill>
                <a:srgbClr val="ffffff"/>
              </a:solidFill>
              <a:latin typeface="Arial"/>
            </a:endParaRPr>
          </a:p>
        </p:txBody>
      </p:sp>
      <p:pic>
        <p:nvPicPr>
          <p:cNvPr id="411" name="Рисунок 2" descr="ADb9JZbXw8U.jpg"/>
          <p:cNvPicPr/>
          <p:nvPr/>
        </p:nvPicPr>
        <p:blipFill>
          <a:blip r:embed="rId1"/>
          <a:stretch/>
        </p:blipFill>
        <p:spPr>
          <a:xfrm>
            <a:off x="755640" y="1197000"/>
            <a:ext cx="2847960" cy="4248000"/>
          </a:xfrm>
          <a:prstGeom prst="rect">
            <a:avLst/>
          </a:prstGeom>
          <a:ln w="19080">
            <a:solidFill>
              <a:srgbClr val="4d504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10T23:05:30Z</dcterms:created>
  <dc:creator>Катя</dc:creator>
  <dc:description/>
  <dc:language>en-US</dc:language>
  <cp:lastModifiedBy>NNT</cp:lastModifiedBy>
  <dcterms:modified xsi:type="dcterms:W3CDTF">2021-04-14T05:29:24Z</dcterms:modified>
  <cp:revision>7</cp:revision>
  <dc:subject/>
  <dc:title>Тема: 80-я годовщина начала Великой Отечественной войны 1941-1945 гг.</dc:title>
</cp:coreProperties>
</file>