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CBE-732B-4B50-B127-4761A8AE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7D8-4D40-45E2-A96D-4FB7A572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30C-33DE-440F-B77C-9CA01C87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C0E-71E3-4288-9AE4-086C404A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A9A-44CC-4141-9323-DA432362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1110-43F3-4F93-897D-678794C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939-5F1D-4624-9D5A-47DA465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955-3072-4BC0-ACEF-C5326AF3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1FAB-D18F-4D9B-BE91-61E67323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5B23-84FB-471F-9233-88C42839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449D-67F5-4D37-AAC6-E33D45E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6EE-6C8D-4FC0-BFED-EDC1239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41D-0724-4BA8-9C0C-5334B99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A52-6FC5-4690-AEA3-AE241FE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E63E-BCBC-4CA4-8B26-E740549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AE19-0EA9-40B8-9099-31573DAE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B4CD-DC9F-4D85-B1A8-19B80811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CFA3-5A9E-41CB-89DB-A69BC5A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FDF5-8F5F-4232-B547-004F38A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F5FD-F36C-462E-971A-B91F93C5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65B8-A5D3-472B-AC36-2FC66869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5252-0616-4797-93D0-61702E1C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089-450B-4DD3-B573-B6A36226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265E-0A1D-4E6E-93DB-8FC33F1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DE36-BFF5-4158-9CF2-8FADF3C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47FC-51BC-4C72-AF4F-F38E03E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6FD3-71D2-4FAB-845B-A5514F1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DDC9-60DF-4D02-9495-D9916C9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63D7-5EAB-4ADA-BC44-7402DC24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A28A-560F-489F-A311-82CD6C32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A842-BCAB-4651-9476-698089CA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E16F-5F02-4950-B8B4-28BCECD9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7E9B-6D71-41DA-8B20-D2EAC630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EE1-21DA-4D38-8784-E649D53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7527-DF72-4AB0-A6E7-11A8687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BBBD-C3F3-4BCC-808C-301A820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1A42-1664-4F7F-BB56-29D8DBF8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4CCE-11A3-4BB1-8526-5813DFC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178F-5EA6-4F90-9BD3-6EE53CD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B7B6-8CA9-447A-A4B3-5111A1E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DF03-A5DE-4DA1-9ED7-14EF08F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BD30-CB4B-42E0-9D6E-F1C99975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6E28-F1EA-475D-83F4-F82B4F69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EA9-70ED-4099-90ED-15F5A4E0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053-3C2B-400F-8AFC-EBBFAB01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A3E-7285-4AE0-A1A3-17E3B71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A01-0D1D-42FE-AE9F-3EEA989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A3C-D1B0-4A46-A53D-F966BE8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2B8C-B0BA-48B2-B0FF-A8C943730E30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2CB8-339B-4737-81A7-28554F363CBF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7E47-ADB4-4978-9C0D-55879FD87B8E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1603-9055-44D0-BBC1-9A5E0D827305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s://rustutors.ru/itogovoe2020/2482-spisok-literatury-k-napravleniju-zabveniju-ne-podlezhit-itogovoe-sochinenie-2020-2021.html#hmenu-item-4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611280" y="4762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овое сочин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1 кла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http://www.vectorizados.com/muestras/cuaderno-y-pluma.jpg"/>
          <p:cNvPicPr/>
          <p:nvPr/>
        </p:nvPicPr>
        <p:blipFill>
          <a:blip r:embed="rId1"/>
          <a:stretch/>
        </p:blipFill>
        <p:spPr>
          <a:xfrm>
            <a:off x="2182680" y="1682640"/>
            <a:ext cx="4499280" cy="4102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73040" y="5351040"/>
            <a:ext cx="532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928800" y="1429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250920" y="1502640"/>
            <a:ext cx="83930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терий №2 «Аргумент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влечение литературного материа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нный критерий нацеливает на проверку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умения использовать литературный материал для построения рассуждения на предложенную тему и для аргументации  своей пози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пускник строит рассуждение, привлекая для аргументации н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нее одного (лучше 2!) произведения отечественной или мировой литера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при условии, если сочинение написано без привлечения литературного материала, или в нем существенно искажено содержание произведения,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ли литературные произведения лишь упоминаются в работе, не становясь опорой для рассуждения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(во всех остальных случаях выставляется «зачет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55640" y="40464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жн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работе мало упомянуть названия произведений, каждый аргумент необходимо подкрепить конкретными пример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928800" y="357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250920" y="49680"/>
            <a:ext cx="856908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Calibri"/>
              </a:rPr>
              <a:t>Критерий №3 «Композиция и логичность рассужд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ивает наличие логической цепочки между тезисом, основной частью и заключ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при условии, если грубые логические нарушения мешают пониманию смысла сказанного или отсутствует тезисно-доказательная часть (во всех остальных случаях выставляется «зачет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928800" y="190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250920" y="284760"/>
            <a:ext cx="83930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4 «Качество письменной реч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нный критерий нацеливае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проверку речевого оформления текста 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пускник точно выражает мысли, используя разнообразную лексику и различные грамматические конструкции, при необходимости уместно употребляет термины, избегает речевых штамп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при условии, есл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изкое качество речи существенно затрудняет понимание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мысла сочинения (во всех остальных случаях выставляется «зачет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50920" y="145584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терий №5 «Грамот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нный критерий позволяет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ценить грамотность выпуск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, если речевые, грамматические, а также орфографические и пунктуационные ошибки, допущенные в сочинении, затрудняют чтение и понимание текста (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Calibri"/>
              </a:rPr>
              <a:t>в сумме более 5 ошибок на 100 слов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928800" y="2620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2" descr="http://4.bp.blogspot.com/-HDF3rx32mX4/UjBTSSCvgHI/AAAAAAAAAxg/ocqhPqlB-NA/s1600/Remove-Add-to-Compare-Link%5B1%5D.png"/>
          <p:cNvPicPr/>
          <p:nvPr/>
        </p:nvPicPr>
        <p:blipFill>
          <a:blip r:embed="rId1"/>
          <a:stretch/>
        </p:blipFill>
        <p:spPr>
          <a:xfrm>
            <a:off x="6372360" y="26028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хранность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250920" y="107172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сразу же буду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нироваться и размещатьс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гиональных и федеральной информационных системах обеспечения проведения ЕГЭ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уп к которым будут иметь все вузы стра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 же время вузы при объявлении условий приема должны будут указать, станут ли они учитывать выпускные сочи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http://shans-online.com/images/news/2012/12/50ceca026be69.jpg"/>
          <p:cNvPicPr/>
          <p:nvPr/>
        </p:nvPicPr>
        <p:blipFill>
          <a:blip r:embed="rId1"/>
          <a:srcRect l="0" t="0" r="0" b="14125"/>
          <a:stretch/>
        </p:blipFill>
        <p:spPr>
          <a:xfrm>
            <a:off x="5308560" y="4429080"/>
            <a:ext cx="3189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684360" y="333360"/>
            <a:ext cx="79912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Структура сочинения-рассуждения В 2020-2021 учебном году основная структура сочинения-рассуждения не изменится. Работа должна состоять из 3 частей (чаще всего это 3 абза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Lato"/>
                <a:ea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684360" y="549360"/>
          <a:ext cx="7920000" cy="5851440"/>
        </p:xfrm>
        <a:graphic>
          <a:graphicData uri="http://schemas.openxmlformats.org/drawingml/2006/table">
            <a:tbl>
              <a:tblPr/>
              <a:tblGrid>
                <a:gridCol w="2160360"/>
                <a:gridCol w="2303640"/>
                <a:gridCol w="34560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 чем пис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Содержание бло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І Вступление + тези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Формулировка темы и проблемы + формулировка вашей пози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Цитата, вопрос-подводка, выделение ключевых слов тем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ІІ Осно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Раскрытие темы и аргументация вашей позици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Количество аргументов не ограничивается, их может быть минимум 1, но лучше 2 или 3. На практике больше 3-х учителя не рекомендую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ІІІ Заклю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бобщение и краткий 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Вывод пишем исходя из темы, вашей позиции и выбранных приме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971640" y="1996920"/>
            <a:ext cx="705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Выпускникам 2021 года важно помнить, что примеры из личной жизни или истории не могут заменить литературные аргументы к итоговому сочинению, а лишь выступают как вспомогательные, увеличивая количество символов и повышая уникальность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39640" y="333360"/>
            <a:ext cx="763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равильная аргумент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омните, что при написании сочинения-рассуждения мало просто сослаться на определенное литературное произведение, вскользь упомянув название и автора. Выбирая аргументы к декабрьскому сочинению ЕГЭ-2021, необходимо сделать 3 основных заготовки для использования на экзаме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автор и название произ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описание, событие, действие героев, подтверждающие или опровергающие вашу позици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мини-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м работы и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я для напис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http://www.mincom.gov.az/assets/Uploads/yaziinsha400_2.jpg"/>
          <p:cNvPicPr/>
          <p:nvPr/>
        </p:nvPicPr>
        <p:blipFill>
          <a:blip r:embed="rId1"/>
          <a:stretch/>
        </p:blipFill>
        <p:spPr>
          <a:xfrm>
            <a:off x="2554200" y="762120"/>
            <a:ext cx="3816360" cy="23288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250920" y="3155760"/>
            <a:ext cx="856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выставлении оценки учитывается объем сочин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емое количество слов – 350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сочин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ее 250 сл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подсчёт включаются все слова, в том числе и служебные), то такая работа считается невыполненной и оцени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 балл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- 3 часа 55 мину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539640" y="62064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Если вам сложно самостоятельно подобрать аргументы к итоговому сочинению, или вы начали готовиться к экзаменам только в начале 2020-2021 учебного года, возьмите на вооружение такие советы репетиторов: используйте банк аргументов, который можно без труда найти в сети; ознакомьтесь с «универсальными» произведениями, в которых можно найти много примеров по разнообразным направлениям; заучите клише, которые также можно применить при составлении сочинения-рассуждения на разные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468360" y="404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икогда не используйте аргументы из открытого банка в прямом виде, так как при проверке на плагиат ваше сочинение может получить «незачет». Используйте их как подсказку, но ведите рассуждение и делайте выводы своими словами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971640" y="196920"/>
            <a:ext cx="70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направления итогового сочинения 2020/21 учебн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вению не подлеж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торические события, общественные явления, произведения искусства, память о которых не имеет срока давности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друг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 среди людей; проблема конфликта, понимания, что значит «быть собой»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ошлым и будущим: портрет моего поко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ультурные запросы, литературные пристрастия, жизненные оценки, отношения с семьей и обществом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ерем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ма изменений, открытий, вызовов, стоящих перед человеком и человечеством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с соб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утреннее пространство человека и словесные способы его исследования – вопросы, которые человек задает себе; внутренние переживания; тема сове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900000" y="47484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вению не подлеж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чинений данного направления нацеливают на размышление о значимых исторических событиях, деятелях, общественных явлениях, достижениях науки и культуры, оказавших влияние как на судьбы конкретных людей, так и на развитие общества и человеческой цивилизации в целом. Память о них не имеет срока давности, передается от поколения к поколению, напоминая о горьких уроках прошлого и его славных страницах. Примером глубокого осмысления этой проблемы могут служить произведения художественной, философской, научной литературы, критики, публицистики, мемуа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826920" y="907920"/>
            <a:ext cx="7490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вению не подлежит (исторические события, общественные явления, произведения искусства, память о которых не имеет срока давно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очему важно сохранять памятники культуры, созданные нашими предка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Согласны ли вы с высказыванием древнеримского философа Цицерона: «Жизнь мёртвых продолжается в памяти живых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Как исторические события влияют на судьбу челове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Почему нельзя забывать историю своего народ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Как произведения искусства становятся бессмертны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Согласны ли вы с тем, что забвение прошлого грозит его повторение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К чему может привести утрата памяти о Великой Отечественной войн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Какие личности остаются в истори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Как вы понимаете выражение «искусство без срока давности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«Беспамятный» человек – неблагодарный или невежественны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750960"/>
            <a:ext cx="763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, знаменательные даты. Историческое сознание. Память (историческая, культурная). Источники формирования исторической памяти (воспоминания современников, журналистика, литература, школа, семья). Преемственность поколений. Забвение и ответственность.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Война: горькие уроки прошлого, вечная слава героев, память на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изменившие мир. Знаменитые предки. Великие учители человечества. Величайшие открытия и подви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ука, культура, искусство (музыка, литература, архитектура и др.). Памятники культуры как основа цивилизации, развития 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Манкуртизм*. Его опасность. Забвение как преступление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куртизм*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забвение, утрата исторических, культурных и т.п. связей, ценностей, национальных и нравственных ориенти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11280" y="4748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друг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крытии тем, связанных с названным направлением, целесообразно обратиться к различным формам человеческого взаимодействия, вопросам взаимоотношений личности и общества, проблеме самоопределения человека в социальной среде. В основу сочинения могут лечь рассуждения о причинах возникновения и способах разрешения межличностных конфликтов, о путях достижения понимания и согласия между людьми. Собственный жизненный опыт, а также обращение к различным литературным источникам (в том числе к философской литературе и публицистике) дадут возможность глубокого отклика на предложенную т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468360" y="271440"/>
            <a:ext cx="784872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и другие (человек среди людей; проблема конфликта, понимания, что значит «быть собой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Как вы понимаете выражение «быть самим собой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чему важно быть толерантны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Всегда ли нужно избегать конфликт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Может ли человек выжить без общен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Почему люди не понимают друг друг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Согласны ли вы с высказыванием Александра Радищева: «Только тогда станешь человеком, когда научишься видеть человека в другом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Что важно изменить в самом себе, чтобы лучше понимать други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Почему многие люди зависят от мнения окружающих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Всегда ли нужно стремиться к полному взаимопониманию с близкими людь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Почему общество не принимает некоторых люде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539640" y="765000"/>
            <a:ext cx="799308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ы причины возникновения конфликтов между людь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толерантность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человек жить вне обществ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понять другого челове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сближает люде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ажно жить в мире с окружающи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опасны конфликт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ажно руководствоваться моралью, живя в обществ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причины одиночеств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ы ли вы с выражением: «чтобы никому не завидовать, надо быть личностью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а роль дружбы в жизни человека?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а роль любви в жизни челове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ость и общество: возможна ли гармон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наши представления о другом человеке не всегда соответствуют реальности?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ы понимаете значение слов: «Человек становится человеком только среди люд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ы ли Вы с утверждением Л.Н. Толстого: «Если между двумя людьми есть вражда, то виноваты оба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быть независимым от общественного мнен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человек становится личностью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общество влияет на формирование личн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ы ли вы с высказыванием: «Горе нужно пережить в одиночестве, но радость — чтобы познать в полной мере — нужно разделить с другим человеком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826920" y="336600"/>
            <a:ext cx="792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ерем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анного направления можно будет поразмышлять о меняющемся мире, о причинах и следствиях изменений, происходящих внутри человека и в окружающей его действительности, о том, перед каким выбором он оказывается в период формирования собственного мировоззрения, в эпоху социальных и культурных изменений. На эти и другие вопросы в русле конкретных тем можно ответить, опираясь на различные литературные источники (художественные произведения, мемуаристку, научную литературу, публицистику), а также на собственный опыт осмысления жизни в «большом времени» с его проблемами и противоречи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357120" y="2142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ницы свободы в сочин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250920" y="3429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я своей позиции выпускнику следует привести в сочинении не менее двух ссылок на произведения русской и мировой литератур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http://www.ng.ru/upload/resize_cache/iblock/351/450_320_1/66-8-3.jpg"/>
          <p:cNvPicPr/>
          <p:nvPr/>
        </p:nvPicPr>
        <p:blipFill>
          <a:blip r:embed="rId1"/>
          <a:stretch/>
        </p:blipFill>
        <p:spPr>
          <a:xfrm>
            <a:off x="2556000" y="981000"/>
            <a:ext cx="36432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539640" y="189000"/>
            <a:ext cx="7345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перемен (тема изменений, открытий, вызовов, стоящих перед человеком и человечество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Всегда ли технический прогресс приносит человечеству польз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ак современные технологии влияют на жизнь общест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Согласны ли вы с высказыванием А.П. Чехова: «Наука – самое важное, самое прекрасное и нужное в жизни человека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К чему могут привести научные открытия, лишённые гуманност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Сложно ли жить в эпоху перем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Как изменился человек благодаря техническому прогресс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Почему многие люди боятся перем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Влияют ли культурные изменения в обществе на мировоззрение человека? 9) Как меняется человеческое мышление в эпоху инноваци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Всегда ли жизненные перемены ведут к лучшем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55640" y="40464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GothaPro"/>
                <a:ea typeface="Arial"/>
              </a:rPr>
              <a:t> </a:t>
            </a: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1a1a1a"/>
                </a:solidFill>
                <a:latin typeface="GothaPro"/>
                <a:ea typeface="Arial"/>
              </a:rPr>
              <a:t>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аковы причины внутренних перемен в жизни человек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Что способно изменить человека? 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3. Почему люди боятся перемен?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4. Выбор, который меняет человека.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684360" y="5868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с соб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ое направление побуждает к размышлению о том, что значит «быть самим собой». Данная тематика связана с вопросами, которые человек задает сам себе, об опасности внутреннего разлада, о работе совести и поисках смысла жизни. Темы этого направления нацеливают на самоанализ, осмысление опыта других людей (или поступков литературных героев), стремящихся понять себя. Темы позволяют задуматься о сильных и слабых сторонах собственной личности, о ценности и уникальности своего внутреннего мира, о необходимости самопознания и самосовершенствования. Раскрывая тему, можно обратиться к художественной, психологической, философской литературе, мемуарам, дневникам и публицистик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395280" y="154080"/>
            <a:ext cx="727236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овор с собой (внутреннее пространство человека и словесные способы его исследования – вопросы, которые человек задает себе; внутренние переживания; тема сове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Что значит быть совестливым человеко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Бывают ли обстоятельства, когда человеку можно пойти против совест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чему появляются «умные ненужности» («лишние люди»)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Согласны ли вы с утверждением Л.Н. Толстого о том, что «человек текуч», а люди похожи на рек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Каждый ли человек ищет смысл жизн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Герой комедии А.С. Грибоедова «Горе от ума» дал себе такую характеристику: «Ум с сердцем не в ладу». В чём опасность внутреннего разлада с собо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Всегда ли внутренний мир соответствует внешнему облик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Что происходит с человеком, который не хочет развиватьс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Что влияет на формирование внутреннего мира челове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«Положительно прекрасный» человек – вымысел или реаль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1332000" y="260280"/>
            <a:ext cx="552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1. Что значит быть самим собой?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2. Для чего человеку нужна совест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К чему приводит душевный разлад?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4. Что помогает человеку совершенствовать себя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Как найти "свой путь"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то значит быть честным с самим собо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611280" y="586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ошлым и будущим: портрет моего поко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чинений данного направления приглашают к размышлению о культурных запросах современного человека, его литературных пристрастиях, жизненной позиции, о сходстве и различиях между ним и его предшественниками, о влиянии молодого поколения на формирование будущего мира. Потребуется осмысление духовных ценностей и нравственных ориентиров молодежи, ее места в современном мире. О сущности сегодняшнего поколения, чертах людей ХХI века размышляют современные писатели, ученые, журналисты, чья позиция имеет подчас дискуссионный характер, что дает возможность высказать свое мнение в рамках обозначенной проблематик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24000" y="260280"/>
            <a:ext cx="754200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 прошлым и будущим: портрет моего поколения (культурные запросы, литературные пристрастия, жизненные оценки, отношения с семьей и общество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Можно ли утверждать, что современная молодёжь в чём-то ориентируется на поколения прошлых лет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чему конфликт отцов и детей неизбеж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ужно ли читать книги в XXI век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Можно ли назвать поколение Z потерянны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Согласны ли вы с высказыванием А.С. Пушкина: «Неуважение к предкам есть первый признак безнравственности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Почему в современном обществе снижается уровень речевой культуры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Важно ли сохранять связь между поколения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Могут ли материальные ценности вытеснить духовны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Для чего нужно передавать жизненный опыт из поколения в поколени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Можно ли говорить о деградации современного поколен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971640" y="1444680"/>
            <a:ext cx="691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1a1a1a"/>
                </a:solidFill>
                <a:latin typeface="GothaPro"/>
                <a:ea typeface="Arial"/>
              </a:rPr>
              <a:t>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ожет ли художественное произведение дать ответы на вопросы, волнующие современную молодеж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ожет ли компьютер заменить книгу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то читает современное поколение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то представляет собой портрет моего поколения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Как формируются нравственные ориентиры современного челове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6. Кто является героем для молодеж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1585800" y="39304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Произведения для подготовки к итоговому сочин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" spc="-1" strike="noStrike">
                <a:solidFill>
                  <a:srgbClr val="90c226"/>
                </a:solidFill>
                <a:latin typeface="Trebuchet MS"/>
              </a:rPr>
              <a:t>Список книг к направлению "Забвению не подлежит". Русская литература.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«Слово о полку Игорев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С. Пушкин «Моцарт и Сальери», «Капитанская дочка», «Борис Годунов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Н. Островский «Как закалялась сталь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Л.Н. Толстой «Война и мир», «Хаджи-Мурат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Н. Толстой «Петр I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М.А. Булгаков «Мастер и Маргарита», «Белая гвардия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К. Арсеньев «Дерсу Узал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Л. Пантелеев, Г. Белых «Республика ШКИД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А. Каверин «Два капитана», «Открытая книг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Д. Дудинцев «Белые одежд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А. Обручев «Земля Санников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Ю.Н. Тынянов «Пушкин», «Смерть Вазир-Мухтар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С. Гроссман «Жизнь и судьба» «Мам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П. Платонов «Котлован», «Чевенгур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К.Д. Воробьев «Убиты под Москвой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Г.Я. Бакланов «Навеки - девятнадцатилетни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Б.Л. Васильев «Экспонат № … », «А зори здесь тихие», «Вещий Олег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П. Астафьев «Фотография, на которой меня нет».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Г. Распутин «Последний срок», «Прощание с Матерой», «Живи и помни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М.А. Шолохов «Они сражались за родину», «Поднятая целина» «Тихий Дон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К.М. Симонов «Живые и мертвы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П. Некрасов «В окопах Сталинград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Ю.В. Бондарев «Батальоны просят огня», «Горячий снег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Б.Н. Полевой «Повесть о настоящем человек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Ф.А. Абрамов «Братья и сестр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В. Быков «Обелиск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О. Богомолов «Момент истины (В августе 44-го...)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Н.К. Чуковский «Балтийское небо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Т. Шаламов «Колымские рассказ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К. Булычев «Город без памяти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И. Аксенов «Таинственная страсть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Е.И. Замятин «М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Н. Рыбаков «Дети Арбат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И. Солженицын «Архипелаг «ГУЛАГ», «В круге первом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Ч.Т. Айтматов «И дольше века длится день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О.М. Куваев «Территория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В. Иванов «Тобол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Е.Г. Водолазкин «Авиатор»</a:t>
            </a:r>
            <a:br>
              <a:rPr sz="800"/>
            </a:br>
            <a:endParaRPr b="0" lang="en-US" sz="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ка соч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H="1">
            <a:off x="8571960" y="2228760"/>
            <a:ext cx="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324000" y="871560"/>
            <a:ext cx="831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ом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тогового сочинения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зачет или незачет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сдаче ЕГЭ допустят только учеников, получивших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2" descr="http://4.bp.blogspot.com/-HDF3rx32mX4/UjBTSSCvgHI/AAAAAAAAAxg/ocqhPqlB-NA/s1600/Remove-Add-to-Compare-Link%5B1%5D.png"/>
          <p:cNvPicPr/>
          <p:nvPr/>
        </p:nvPicPr>
        <p:blipFill>
          <a:blip r:embed="rId1"/>
          <a:stretch/>
        </p:blipFill>
        <p:spPr>
          <a:xfrm>
            <a:off x="5724360" y="3724200"/>
            <a:ext cx="29196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2050920" y="765000"/>
            <a:ext cx="4807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a3a52"/>
                </a:solidFill>
                <a:latin typeface="GothaPro"/>
                <a:ea typeface="Times New Roman"/>
              </a:rPr>
              <a:t>Лирические и лиро-эпические произведения к направлению "Забвению не подлежит"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Г.Р. Державин «Памятник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В.А. Жуковский «Певец во стане русских воинов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С. Пушкин «Два чувства дивно близки нам», «Памятник», «Медный всадник», «Песнь о вещем Олег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М.Ю. Лермонтов «Мцыри», «Смерть поэта», «Бородино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Т. Твардовский поэма «По праву памяти», «Я знаю, никакой моей вины…», «Василий Тёркин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О.Ф. Берггольц «Памяти защитников»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С.П. Щипачев «Павшим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А. Блок «Двенадцать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А. Ахматова «Реквием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И.А. Бродский «Я входил вместо дикого зверя в клетку…», «Посвящается стулу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В.С. Высоцкий «Памятник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ca3c"/>
                </a:solidFill>
                <a:uFillTx/>
                <a:latin typeface="GothaPro"/>
                <a:ea typeface="Times New Roman"/>
                <a:hlinkClick r:id="rId1"/>
              </a:rPr>
              <a:t>↑</a:t>
            </a:r>
            <a:r>
              <a:rPr b="1" lang="ru-RU" sz="900" spc="-1" strike="noStrike">
                <a:solidFill>
                  <a:srgbClr val="0a3a52"/>
                </a:solidFill>
                <a:latin typeface="GothaPro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0a3a52"/>
                </a:solidFill>
                <a:latin typeface="GothaPro"/>
                <a:ea typeface="Times New Roman"/>
              </a:rPr>
              <a:t>Список произведений к направлению "Забвению не подлежит". Зарубежная литератур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Л. Лоури «Дающий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 Оруэлл «1984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Митчелл «Облачный атлас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И. Стоун «Жажда жизни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Т. Кенэлли «Список Шиндлера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Х.Л. Борхес «Цербер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333360"/>
            <a:ext cx="446544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книг к направлению "Я и другие". Русск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С. Грибоедов «Горе от у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С. Пушкин «Евгений Онегин», «Капитанская дочка», «Дубровский» «Повести Белки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Ю. Лермонтов «Герой нашего времени», «Маскарад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В. Гоголь «Шинель», «Мертвые души», «Тарас Бульб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Н. Островский «Свои люди – сочтемся», «Гроз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С. Тургенев «Отцы и дети», «Записки охотника»,  «Дневник лишнего челове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Н. Толстой «Война и мир», «Анна Каренина», «Кавказский пленни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А. Гончаров «Обломо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М. Достоевский «Преступление и наказание», «Идиот», «Бедные люд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Г. Короленко «В дурном обществ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Чехов «Хамелеон», «Толстый и тонкий», «Смерть чиновника», «Размазня», «В аптеке», «Беззащитное существо», «Человек в футляре», «Ионыч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Г. Паустовский «Теплый хлеб», «Телеграм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И. Замятин «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И. Куприн «Олеся», «Гранатовый браслет», «Поединок», «Тапер», «Чудесный доктор» («Добрый доктор»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Горький «На дне», «Мать», «Старуха Изергиль», «Фома Гордее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Платонов «Юшка», «Котлова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Грин «Зеленая лампа», «Алые парус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Булгаков «Мастер и Маргарита», «Собачье сердце», «Белая гвард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Л. Пастернак «Доктор Живаг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Шолохов «Тихий До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Т. Айтматов «Плаха», «И дольше века длится ден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В. Быков «Обелис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Г. Распутин «Уроки французског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И. Носов «Кукл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А. Искандер «Тринадцатый подвиг Геракл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И. Солженицын «Матренин дв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П.Ф. Нилин «Жестокост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Т. Айтматов «И дольше века длится ден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1547640" y="1125360"/>
            <a:ext cx="531036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GothaPro"/>
                <a:ea typeface="Times New Roman"/>
              </a:rPr>
              <a:t>Список произведений к направлению "Я и другие". Зарубежн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Х. Ли «Убить пересмешника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Киз «Цветы для Элджернона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О. Уайльд «Портрет Дориана Гре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 Остин «Гордость и предубеждени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В. Гюго «Собор Парижской Богоматери», «Человек, который смеется», «Отверженны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Голдинг "Повелитель мух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 Оруэлл "1984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О. Хаксли «О дивный новый ми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Т. Драйзер «Американская трагед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 Азимов «Позитронный челове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Грум «Форрест Гамп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С. Коллинз «Голодный игр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Теккерей «Ярмарка тщеслав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Дефо «Робинзон Круз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Ф. Кафка «Процес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 Камю «Посторон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К. Кизи «Над кукушкиным гнезд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Сэлинджер «Над пропастью во рж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Лондон «Мартин Ид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Шекспир «Отелло» «Ромео Джульетт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Г. Бичер-Стоу «Хижина дяди То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Р. Хайнлайн «Чужак в чужой стран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Ф. Бакман «Вторая жизнь Ув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И. Шоу «Богач, бедня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К. Воннегут «Колыбель для кошки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С. Фоер «Жутко громко и запредельно близк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2286000" y="843120"/>
            <a:ext cx="457200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книг к направлению "Время перемен". Русск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С. Пушкин «Капитанская дочка», «Станционный смотрител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В. Гоголь «Тарас Бульб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Горький «На дне», «Фома Гордее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Н. Островский «Гроз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Г. Чернышевский «Что делать?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Е. Салтыков-Щедрин «Господа Головлев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А. Гончаров «Обломов», «Обрыв», «Обыкновенная истор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Чехов «Вишневый сад», «Ионыч», «Чай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С. Тургенев «Отцы и дети», «Ася», «Дворянское гнездо», «Наканун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М, Достоевский «Преступление и наказание», «Бес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Н. Толстой «Война и мир», «Детство. Отрочество. Юност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И. Куприн «Чудесный докт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А. Некрасов «Поэт и граждани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Блок «Двенадцат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Маяковский «Во весь голо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Есенин «Я усталым таким еще не был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Л. Пастернак «Доктор Живаг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Г. Распутин «Прощание с Матерой», очерк «Вверх и вниз по течению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Булгаков «Дни Турбиных», «Собачье сердце», «Белая Гвард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А. Каверин «Два капита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Платонов «Котлова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И. Замятин «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Шолохов «Тихий Дон», «Поднятая цели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Грин «Алые парус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 Васильев «Завтра была вой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Набоков «Камера обску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 Айтматов «И дольше века длится ден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 Улицкая «Зеленый шате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Богомолов «Маленький человек в эпоху больших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етросян «Дом в котором…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Красильщик «Три четверт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Жвалевский, Е. Пастернак «Открытый финал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Сенчин «Зона затоплен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 Водолазкин «Авиатор», «Лавр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Ю. Полякова «Любовь в эпоху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Силверберг «Время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татьи под ред. А. Асмолова «Личность в эпоху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2286000" y="2227320"/>
            <a:ext cx="4572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произведений к направлению "Время перемен". Зарубежн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 Хемингуэй «Прощай, оружие!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элинджер «Над пропастью во рж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М. Ремарк «Три товарища», «Земля обетованна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Йейтс «Дорога перемен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С. Льюис «Хроники Нарни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Х. Ли «Убить пересмешни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Митчелл «Унесенные ветр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. Хаксли «О дивный новый ми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Азимов «Позитронный челове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Тартт «Щегол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Бакман «Вторая жизнь Ув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 Шоу «Богач, бедня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. Фоер «Жутко громко и запредельно близк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 Диккенс «Повесть о двух городах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Брэдбери «451 по Фаренгейту», «Вино из одуванчиков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Камю «Чу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286000" y="2519280"/>
            <a:ext cx="45720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книг к направлению "Между прошлым и будущим: портрет моего поколения". Русск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етросян «Дом, в котором …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. Рой «Изго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Иванов «Сердце Пар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П. Санаев «Похороните меня за плинтус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Лем «Соляри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Пелевин Generation «П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Т. Толстая «Кыс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тругацкие «Трудно быть бог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 Замятин «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Лукьяненко «Ночной дозор», «Дневной доз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2286000" y="214200"/>
            <a:ext cx="4572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произведений к направлению "Между прошлым и будущим: портрет моего поколения". Зарубежн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Митчелл «Облачный атла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 Исигуро «Не отпускай мен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 Вейер «Марсиани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арр «Вафельное сердц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 Макьюэн «Искуплени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Роулинг «Гарри Потте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Толкин «Властелин колец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Брэдбери «451 по Фаренгейту», «Вино из одуванчико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элинджер «Над пропастью во рж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Оруэлл «1984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Джонс «Ходячий замо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Киз «Цветы для Элджерно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 Паланик «Бойцовский клуб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. Фоер «Жутко громко и запредельно близк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 Гейман «Коралина», «За дверью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Бах «Чайка по имени Джонатан Ливингсто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Флэгг «Жареные зеленые помидоры …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Я. Вишневский «Одиночество в сет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Рот «Дивергент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Коллинз «Голодные игр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Чбоски «Хорошо быть тихоне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Дик «Мечтают ли андроиды об электроовцах», «Человек в высоком замк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 Спаркс «Дневник памят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Сапковский. Сага «Ведьма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У. Голдинг «Повелитель мух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Кинг «Кэрри», «Зеленая миля», «Как писать книги», «Сияние» и др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П. Несс «Голос монст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Зусак «Книжный в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Пулман «Темные начал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Браун «Код да Винч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Х. Янагихара «Жизнь П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 Смитт «Дерево растет в Бруклин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Т. Чан «История твоей жизн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Грин «Виноваты звезд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Салли «Нормальные люд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 Функе «Чернильное сердц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Эндрюс «Я, Эрл и умирающая девуш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Боуэн  «Уличный кот по кличке Боб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анке ««Выживш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Даль «Чарли и шоколадная фабри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 Морган «Сотн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Дэшнер «Бегущий в лабиринт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.С. Кард «Игра Энде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 Лоури «Дающ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ерия книг С. Майе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2286000" y="265104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Публицистика, биографии, научная литература для подготовки к направлению "Между прошлым и будущим: портрет моего поколения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 Вэнс «Илон Маск: Tesla, SpaceX и дорога в будуще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 Вуйчич «Жизнь без границ. Путь к потрясающе счастливой жизн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Айзексон «Стив Джобс. Биограф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Хокинг «Кратчайшая история времен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айкл Уайт и Джон Грибин, «Стивен Хокинг. Жизнь среди звезд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Найт, «Продавец обуви. История компании Nike, рассказанная ее основателем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Г. Форд «Моя жизнь. Мои достижения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Ю. Харари «21 урок для XXI ве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писать итоговое сочинени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В этой работе вы должны использовать произведения рус­ской и мировой литературы, приводить литературные приме­ры. Причем вы можете использовать не только прозаические произведения, но и лирические (стихотворения, поэмы), дра­матические, публицистические (очерки, эссе) — если того тре­бует раскрытие выбранной вами тем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мните, что самое главное в написании выпускного ито­гового сочинения — это раскрытие темы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47280" y="476280"/>
            <a:ext cx="8496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вы даете некое вступление на выбранную вами тему. Оно может быть более или менее абстрактным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обратите внимание, что с 2019 года в сочинении обязательно должно присутствовать личное отношение экзаменуемого к рассматриваемому вопросу и позиции автор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042920" y="836640"/>
            <a:ext cx="7777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жн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лучае неудовлетворительного результата («незачет») даже после 3-х попыток, либо если выпускник так и не напишет итоговое сочинение до начала ЕГЭ, он не будет допущен к сдаче основного блока экзамен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Затем вы приводите в пример два литературных произведе­ния. В качестве первого примера можно привести прозаичес­кое произведение и дать глубокий, развернутый анализ его. В качестве второго примера можно привести лирическое про­изведение (стихотворение), дав уже небольшой анализ и про­цитировав несколько строк. В этом случае вы соблюдаете тре­бования, предъявляемые к вам методистами ФИПИ (2 лите­ратурных примера), выдерживаете необходимый объем сочи­нения и укладываетесь в предложенное время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Некоторые совет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щаясь к литературным произведениям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олжны не просто рассказать о каких-либо персонажах, но и произвести полноценный литературоведческий анализ произведения. Вы должны очень хорошо знать содержание произведения, дать краткое изложение сюжета, охарактеризовать образы, приве­сти примеры поступков героев, подтверждающих их те или иные личностные качества. Также нужно обозначить идею произведения и выявить авторскую позицию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008000" y="476280"/>
            <a:ext cx="8136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чень хорошо, если вы вспомните какие-то художественные средства, исполь­зованные автором в данном сюжете, в обрисовке образа — портрет героя (его характерные особенности), пейзажи и т.д. Затем вы высказываете свое мнение о данной проблеме, говорите о том, что вы согласны с данными авторами, потому что…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мните, что объем вашего сочинения должен составлять не менее 350 слов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-360" y="333360"/>
            <a:ext cx="8642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ам нужно постараться из­бежать орфографических, пунктуационных, а также речевых ошибок. Поэтому лучше избегать больших, сложных предло­жений. Стилистические и пунктуационные ошибки в них, как показывает практика, неизбежны. Разбейте все свои слож­ные предложения на простые. При этом помните о правиль­ном построении предложений с деепричастным оборотом (в них также зачастую допускают ошибки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https://myslide.ru/documents_3/66341c8daa7f7fd67311daf64b384549/img16.jpg"/>
          <p:cNvPicPr/>
          <p:nvPr/>
        </p:nvPicPr>
        <p:blipFill>
          <a:blip r:embed="rId1"/>
          <a:stretch/>
        </p:blipFill>
        <p:spPr>
          <a:xfrm>
            <a:off x="108000" y="26028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https://ds02.infourok.ru/uploads/ex/0595/00038804-830f8bea/img38.jpg"/>
          <p:cNvPicPr/>
          <p:nvPr/>
        </p:nvPicPr>
        <p:blipFill>
          <a:blip r:embed="rId1"/>
          <a:stretch/>
        </p:blipFill>
        <p:spPr>
          <a:xfrm>
            <a:off x="0" y="0"/>
            <a:ext cx="885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https://im0-tub-ru.yandex.net/i?id=ee5e6310c75d526160f5ce2d96acd74b-l&amp;n=13"/>
          <p:cNvPicPr/>
          <p:nvPr/>
        </p:nvPicPr>
        <p:blipFill>
          <a:blip r:embed="rId1"/>
          <a:stretch/>
        </p:blipFill>
        <p:spPr>
          <a:xfrm>
            <a:off x="185760" y="0"/>
            <a:ext cx="8929800" cy="65530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" descr="http://elets-edu.ru/upload/iblock/109/1480407174_bez_imeni_1.jpg"/>
          <p:cNvPicPr/>
          <p:nvPr/>
        </p:nvPicPr>
        <p:blipFill>
          <a:blip r:embed="rId2"/>
          <a:stretch/>
        </p:blipFill>
        <p:spPr>
          <a:xfrm>
            <a:off x="7451640" y="4581360"/>
            <a:ext cx="14288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Рекомендуемые ресурс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Сочинение11 РФ. - 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Sochinenie11</a:t>
            </a: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.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ru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Капканы ЕГЭ и ГИА  - капканы ЕГЭ.рф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Могу писать - 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mogu-pisat.ru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Незнайка - 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neznaika.info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ЕГЭша РФ – егэша.рф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285840" y="85968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чинение оценивается по пяти критер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00040" y="14889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Calibri"/>
              </a:rPr>
              <a:t>Критерий №1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Соответствие тем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00040" y="23868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Calibri"/>
              </a:rPr>
              <a:t>Критерий №2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Аргументац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00040" y="28695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3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Композиция и логичность расс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00040" y="3583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4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Качество письменной реч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00040" y="424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5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Грамотнос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258920" y="260280"/>
            <a:ext cx="727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Для того чтобы за работу 11-классник получил желаемый «зачет» необходимо, сочинение должно отвечать таким основным требования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объем более 250 сло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соответствие заданной тем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аличие аргументации с привлечением литератур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684360" y="333360"/>
            <a:ext cx="770400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бота получает «незачет», если сочинение не соответствует теме или экзаменуемый ссылается на примеры, не соответствующие изначально обозначенной тема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280" y="280440"/>
            <a:ext cx="87138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терий №1 «Соответствие тем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пускник рассуждает на предложенную тему, выбрав путь её раскрытия (например, отвечает на вопрос, поставленный в теме, или размышляет над предложенной проблемой, или строит высказывание на основе связанных с темой тезисов и т.п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только при условии, если сочинени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соответствует теме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или в нем не прослеживается конкретной цели высказывания, т.е. коммуникативного замысла (во всех остальных случаях выставляется «заче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12" descr="http://4.bp.blogspot.com/-HDF3rx32mX4/UjBTSSCvgHI/AAAAAAAAAxg/ocqhPqlB-NA/s1600/Remove-Add-to-Compare-Link%5B1%5D.pn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.Николаевна</dc:creator>
  <dc:description/>
  <dc:language>en-US</dc:language>
  <cp:lastModifiedBy>Татьяна А. Шишкина</cp:lastModifiedBy>
  <cp:lastPrinted>2016-10-26T11:23:18Z</cp:lastPrinted>
  <dcterms:modified xsi:type="dcterms:W3CDTF">2021-04-20T07:39:10Z</dcterms:modified>
  <cp:revision>125</cp:revision>
  <dc:subject/>
  <dc:title>Слайд 1</dc:title>
</cp:coreProperties>
</file>