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A0B-4A88-4FE9-A272-60A57C37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C02-3B3D-487D-9671-7D08BC47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6D1-9D36-457B-BE73-45EAFDF8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943-8183-44A2-A0F1-2BDCEDC7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217-5223-40FA-93C1-42B640C4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103E-5559-4C14-AD47-063EE6C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5DB2-E7FE-4AA2-A424-AE4DBF5F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DFC1-5748-4B46-81CD-6934C819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4F60-A713-4E11-8237-EE51D9E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71FA-B1EC-43DB-8FEE-D411CC62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2228-8353-4BFD-B3E9-6C33E7B0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AC2-540B-4D7F-9E08-4634FF9F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5A1D-7B9D-46F5-B7A9-08F942C6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0147-62AD-4465-94DB-D7624AF3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4F0E-82B5-4852-B5C3-267B432B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72AB-AAE1-4605-BFDC-C2EB2364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8A46-ADEA-45DE-9C65-71409B55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877FF-CBB2-4ADF-AFD2-2F9461D0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B78D-E319-48A8-B2F3-0D801EF1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B91E-F605-485F-B499-EE9D9DF1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EC33-FC7B-4B3E-9D41-C1C4CF76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3831-B5AA-497A-8E52-D3262B9C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8C9-0817-44C9-9943-C9B36F92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64DE-6D12-4122-85B9-A23E69E3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E373-462C-40B7-8B65-B4EC5B47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65B0-F0CA-4E7C-922C-D59AF69C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C304-5551-47B4-8DAB-0E88A8F2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DF66-E284-45A1-A218-690110F9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9EB40-DC75-42BA-B4AF-A7A7D665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0753-0B32-4F90-A91F-C7207D15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0B73-6E4B-409E-ABA6-941E22FC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039A-126E-4575-915C-51164F35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0CB4-0AA1-48A5-9FF0-8627D5B6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E13-8953-4DC6-9A91-8CC440C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2179A-9880-4DAF-A0A0-ADCDB97C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74DC-0F00-443F-99C5-110BCD86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C3E1A-6C55-4D94-A7AC-C934DBBB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07648-1E12-4DE9-A182-AFCA1AC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87B42-818B-4143-A4ED-2C8D0E5E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03D6-DC66-448D-B8F6-505F2931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6579E-D34D-4883-AC47-BD7891A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0CBB-52C6-47CC-8766-30F0C4F7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6C8A4-0F5E-43C0-898F-3EDC66AD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325-EAD5-4566-9864-C74BAED3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2109-28C2-43F8-8A4E-ECAEC3B1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01B-FBAA-48A7-963B-DEE18398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ED4-66B1-4FE9-990F-2A3F0B0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BDB-9ADB-4954-8803-A6BDE9AC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703A-668F-4E2D-8F81-E865300F061E}" type="slidenum">
              <a:rPr b="0" lang="ru-RU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3412-4BDA-4A4F-85E8-2E0F8DA7AE1A}" type="slidenum">
              <a:rPr b="0" lang="ru-RU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AEF6-3847-4272-BC7D-DC8CF211D97E}" type="slidenum">
              <a:rPr b="0" lang="ru-RU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C674-1EB4-45CC-9A74-83020E516B82}" type="slidenum">
              <a:rPr b="0" lang="ru-RU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s://rustutors.ru/itogovoe2020/2482-spisok-literatury-k-napravleniju-zabveniju-ne-podlezhit-itogovoe-sochinenie-2020-2021.html#hmenu-item-4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611280" y="4762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овое сочин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1 кла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http://www.vectorizados.com/muestras/cuaderno-y-pluma.jpg"/>
          <p:cNvPicPr/>
          <p:nvPr/>
        </p:nvPicPr>
        <p:blipFill>
          <a:blip r:embed="rId1"/>
          <a:stretch/>
        </p:blipFill>
        <p:spPr>
          <a:xfrm>
            <a:off x="2182680" y="1682640"/>
            <a:ext cx="4499280" cy="41022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73040" y="5351040"/>
            <a:ext cx="5327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928800" y="1429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250920" y="1502640"/>
            <a:ext cx="83930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итерий №2 «Аргумента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влечение литературного материал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Данный критерий нацеливает на проверку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умения использовать литературный материал для построения рассуждения на предложенную тему и для аргументации  своей пози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пускник строит рассуждение, привлекая для аргументации н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менее одного (лучше 2!) произведения отечественной или мировой литера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 при условии, если сочинение написано без привлечения литературного материала, или в нем существенно искажено содержание произведения,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или литературные произведения лишь упоминаются в работе, не становясь опорой для рассуждения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Calibri"/>
              </a:rPr>
              <a:t>(во всех остальных случаях выставляется «зачет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755640" y="40464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ажно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работе мало упомянуть названия произведений, каждый аргумент необходимо подкрепить конкретными пример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928800" y="35712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250920" y="49680"/>
            <a:ext cx="856908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  <a:ea typeface="Calibri"/>
              </a:rPr>
              <a:t>Критерий №3 «Композиция и логичность рассужд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ивает наличие логической цепочки между тезисом, основной частью и заключ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 при условии, если грубые логические нарушения мешают пониманию смысла сказанного или отсутствует тезисно-доказательная часть (во всех остальных случаях выставляется «зачет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928800" y="19044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250920" y="284760"/>
            <a:ext cx="839304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итерий №4 «Качество письменной реч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Данный критерий нацеливае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проверку речевого оформления текста сочи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пускник точно выражает мысли, используя разнообразную лексику и различные грамматические конструкции, при необходимости уместно употребляет термины, избегает речевых штамп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 при условии, есл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изкое качество речи существенно затрудняет понимание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мысла сочинения (во всех остальных случаях выставляется «зачет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250920" y="1455840"/>
            <a:ext cx="8642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итерий №5 «Грамотнос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Данный критерий позволяет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оценить грамотность выпуск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, если речевые, грамматические, а также орфографические и пунктуационные ошибки, допущенные в сочинении, затрудняют чтение и понимание текста (</a:t>
            </a:r>
            <a:r>
              <a:rPr b="1" i="1" lang="ru-RU" sz="3200" spc="-1" strike="noStrike">
                <a:solidFill>
                  <a:srgbClr val="ff00ff"/>
                </a:solidFill>
                <a:latin typeface="Times New Roman"/>
                <a:ea typeface="Calibri"/>
              </a:rPr>
              <a:t>в сумме более 5 ошибок на 100 слов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928800" y="26208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2" descr="http://4.bp.blogspot.com/-HDF3rx32mX4/UjBTSSCvgHI/AAAAAAAAAxg/ocqhPqlB-NA/s1600/Remove-Add-to-Compare-Link%5B1%5D.png"/>
          <p:cNvPicPr/>
          <p:nvPr/>
        </p:nvPicPr>
        <p:blipFill>
          <a:blip r:embed="rId1"/>
          <a:stretch/>
        </p:blipFill>
        <p:spPr>
          <a:xfrm>
            <a:off x="6372360" y="26028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хранность раб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250920" y="1071720"/>
            <a:ext cx="86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сразу же буду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нироваться и размещаться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егиональных и федеральной информационных системах обеспечения проведения ЕГЭ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уп к которым будут иметь все вузы стра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 же время вузы при объявлении условий приема должны будут указать, станут ли они учитывать выпускные сочи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http://shans-online.com/images/news/2012/12/50ceca026be69.jpg"/>
          <p:cNvPicPr/>
          <p:nvPr/>
        </p:nvPicPr>
        <p:blipFill>
          <a:blip r:embed="rId1"/>
          <a:srcRect l="0" t="0" r="0" b="14125"/>
          <a:stretch/>
        </p:blipFill>
        <p:spPr>
          <a:xfrm>
            <a:off x="5308560" y="4429080"/>
            <a:ext cx="31892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684360" y="333360"/>
            <a:ext cx="79912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Структура сочинения-рассуждения В 2020-2021 учебном году основная структура сочинения-рассуждения не изменится. Работа должна состоять из 3 частей (чаще всего это 3 абзац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Lato"/>
                <a:ea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684360" y="549360"/>
          <a:ext cx="7920000" cy="5851440"/>
        </p:xfrm>
        <a:graphic>
          <a:graphicData uri="http://schemas.openxmlformats.org/drawingml/2006/table">
            <a:tbl>
              <a:tblPr/>
              <a:tblGrid>
                <a:gridCol w="2160360"/>
                <a:gridCol w="2303640"/>
                <a:gridCol w="34560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Ч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О чем пис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Содержание бло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І Вступление + тези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Формулировка темы и проблемы + формулировка вашей пози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Цитата, вопрос-подводка, выделение ключевых слов темы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265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ІІ Основ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Раскрытие темы и аргументация вашей позици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Количество аргументов не ограничивается, их может быть минимум 1, но лучше 2 или 3. На практике больше 3-х учителя не рекомендуют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ІІІ Заключ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Обобщение и краткий 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Вывод пишем исходя из темы, вашей позиции и выбранных приме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971640" y="1996920"/>
            <a:ext cx="705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Выпускникам 2021 года важно помнить, что примеры из личной жизни или истории не могут заменить литературные аргументы к итоговому сочинению, а лишь выступают как вспомогательные, увеличивая количество символов и повышая уникальность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39640" y="333360"/>
            <a:ext cx="763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Правильная аргумента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Помните, что при написании сочинения-рассуждения мало просто сослаться на определенное литературное произведение, вскользь упомянув название и автора. Выбирая аргументы к декабрьскому сочинению ЕГЭ-2021, необходимо сделать 3 основных заготовки для использования на экзамен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автор и название произвед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описание, событие, действие героев, подтверждающие или опровергающие вашу позицию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мини-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ъем работы и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мя для напис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http://www.mincom.gov.az/assets/Uploads/yaziinsha400_2.jpg"/>
          <p:cNvPicPr/>
          <p:nvPr/>
        </p:nvPicPr>
        <p:blipFill>
          <a:blip r:embed="rId1"/>
          <a:stretch/>
        </p:blipFill>
        <p:spPr>
          <a:xfrm>
            <a:off x="2554200" y="762120"/>
            <a:ext cx="3816360" cy="23288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250920" y="3155760"/>
            <a:ext cx="856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выставлении оценки учитывается объем сочинения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уемое количество слов – 350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 сочине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ее 250 сл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подсчёт включаются все слова, в том числе и служебные), то такая работа считается невыполненной и оцени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0 балл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- 3 часа 55 мину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539640" y="620640"/>
            <a:ext cx="82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Если вам сложно самостоятельно подобрать аргументы к итоговому сочинению, или вы начали готовиться к экзаменам только в начале 2020-2021 учебного года, возьмите на вооружение такие советы репетиторов: используйте банк аргументов, который можно без труда найти в сети; ознакомьтесь с «универсальными» произведениями, в которых можно найти много примеров по разнообразным направлениям; заучите клише, которые также можно применить при составлении сочинения-рассуждения на разные 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468360" y="40464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Никогда не используйте аргументы из открытого банка в прямом виде, так как при проверке на плагиат ваше сочинение может получить «незачет». Используйте их как подсказку, но ведите рассуждение и делайте выводы своими словами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971640" y="196920"/>
            <a:ext cx="70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направления итогового сочинения 2020/21 учебного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вению не подлежи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торические события, общественные явления, произведения искусства, память о которых не имеет срока давности)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друг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 среди людей; проблема конфликта, понимания, что значит «быть собой»)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рошлым и будущим: портрет моего поко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ультурные запросы, литературные пристрастия, жизненные оценки, отношения с семьей и обществом)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ерем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ма изменений, открытий, вызовов, стоящих перед человеком и человечеством)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с соб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утреннее пространство человека и словесные способы его исследования – вопросы, которые человек задает себе; внутренние переживания; тема сове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900000" y="47484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вению не подлеж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чинений данного направления нацеливают на размышление о значимых исторических событиях, деятелях, общественных явлениях, достижениях науки и культуры, оказавших влияние как на судьбы конкретных людей, так и на развитие общества и человеческой цивилизации в целом. Память о них не имеет срока давности, передается от поколения к поколению, напоминая о горьких уроках прошлого и его славных страницах. Примером глубокого осмысления этой проблемы могут служить произведения художественной, философской, научной литературы, критики, публицистики, мемуа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826920" y="907920"/>
            <a:ext cx="7490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вению не подлежит (исторические события, общественные явления, произведения искусства, память о которых не имеет срока давнос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Почему важно сохранять памятники культуры, созданные нашими предка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Согласны ли вы с высказыванием древнеримского философа Цицерона: «Жизнь мёртвых продолжается в памяти живых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Как исторические события влияют на судьбу человек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Почему нельзя забывать историю своего народ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Как произведения искусства становятся бессмертны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Согласны ли вы с тем, что забвение прошлого грозит его повторение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К чему может привести утрата памяти о Великой Отечественной войн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Какие личности остаются в истори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Как вы понимаете выражение «искусство без срока давности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«Беспамятный» человек – неблагодарный или невежественны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755640" y="750960"/>
            <a:ext cx="763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, знаменательные даты. Историческое сознание. Память (историческая, культурная). Источники формирования исторической памяти (воспоминания современников, журналистика, литература, школа, семья). Преемственность поколений. Забвение и ответственность.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Война: горькие уроки прошлого, вечная слава героев, память нар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изменившие мир. Знаменитые предки. Великие учители человечества. Величайшие открытия и подви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ука, культура, искусство (музыка, литература, архитектура и др.). Памятники культуры как основа цивилизации, развития 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Манкуртизм*. Его опасность. Забвение как преступление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куртизм*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забвение, утрата исторических, культурных и т.п. связей, ценностей, национальных и нравственных ориенти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611280" y="47484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друг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крытии тем, связанных с названным направлением, целесообразно обратиться к различным формам человеческого взаимодействия, вопросам взаимоотношений личности и общества, проблеме самоопределения человека в социальной среде. В основу сочинения могут лечь рассуждения о причинах возникновения и способах разрешения межличностных конфликтов, о путях достижения понимания и согласия между людьми. Собственный жизненный опыт, а также обращение к различным литературным источникам (в том числе к философской литературе и публицистике) дадут возможность глубокого отклика на предложенную те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468360" y="271440"/>
            <a:ext cx="784872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т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и другие (человек среди людей; проблема конфликта, понимания, что значит «быть собой»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Как вы понимаете выражение «быть самим собой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очему важно быть толерантны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Всегда ли нужно избегать конфликто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Может ли человек выжить без общени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Почему люди не понимают друг друг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Согласны ли вы с высказыванием Александра Радищева: «Только тогда станешь человеком, когда научишься видеть человека в другом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Что важно изменить в самом себе, чтобы лучше понимать други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Почему многие люди зависят от мнения окружающих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Всегда ли нужно стремиться к полному взаимопониманию с близкими людь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Почему общество не принимает некоторых люде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539640" y="765000"/>
            <a:ext cx="799308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вы причины возникновения конфликтов между людьм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толерантность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ет ли человек жить вне обществ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понять другого человек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сближает люде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ажно жить в мире с окружающим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опасны конфликт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ажно руководствоваться моралью, живя в обществ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чем причины одиночеств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ы ли вы с выражением: «чтобы никому не завидовать, надо быть личностью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ва роль дружбы в жизни человека?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ва роль любви в жизни человек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ость и общество: возможна ли гармони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наши представления о другом человеке не всегда соответствуют реальности?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вы понимаете значение слов: «Человек становится человеком только среди люд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ы ли Вы с утверждением Л.Н. Толстого: «Если между двумя людьми есть вражда, то виноваты оба»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жно ли быть независимым от общественного мнени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человек становится личностью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общество влияет на формирование личност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гласны ли вы с высказыванием: «Горе нужно пережить в одиночестве, но радость — чтобы познать в полной мере — нужно разделить с другим человеком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826920" y="336600"/>
            <a:ext cx="792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перем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данного направления можно будет поразмышлять о меняющемся мире, о причинах и следствиях изменений, происходящих внутри человека и в окружающей его действительности, о том, перед каким выбором он оказывается в период формирования собственного мировоззрения, в эпоху социальных и культурных изменений. На эти и другие вопросы в русле конкретных тем можно ответить, опираясь на различные литературные источники (художественные произведения, мемуаристку, научную литературу, публицистику), а также на собственный опыт осмысления жизни в «большом времени» с его проблемами и противоречия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"/>
          <p:cNvSpPr/>
          <p:nvPr/>
        </p:nvSpPr>
        <p:spPr>
          <a:xfrm>
            <a:off x="357120" y="21420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ницы свободы в сочин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250920" y="342900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я своей позиции выпускнику следует привести в сочинении не менее двух ссылок на произведения русской и мировой литератур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http://www.ng.ru/upload/resize_cache/iblock/351/450_320_1/66-8-3.jpg"/>
          <p:cNvPicPr/>
          <p:nvPr/>
        </p:nvPicPr>
        <p:blipFill>
          <a:blip r:embed="rId1"/>
          <a:stretch/>
        </p:blipFill>
        <p:spPr>
          <a:xfrm>
            <a:off x="2556000" y="981000"/>
            <a:ext cx="36432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539640" y="189000"/>
            <a:ext cx="7345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т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перемен (тема изменений, открытий, вызовов, стоящих перед человеком и человечество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Всегда ли технический прогресс приносит человечеству польз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ак современные технологии влияют на жизнь общест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Согласны ли вы с высказыванием А.П. Чехова: «Наука – самое важное, самое прекрасное и нужное в жизни человека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К чему могут привести научные открытия, лишённые гуманност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Сложно ли жить в эпоху перемен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Как изменился человек благодаря техническому прогресс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Почему многие люди боятся перемен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Влияют ли культурные изменения в обществе на мировоззрение человека? 9) Как меняется человеческое мышление в эпоху инноваци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Всегда ли жизненные перемены ведут к лучшем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755640" y="40464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1a1a"/>
                </a:solidFill>
                <a:latin typeface="GothaPro"/>
                <a:ea typeface="Arial"/>
              </a:rPr>
              <a:t> </a:t>
            </a:r>
            <a:r>
              <a:rPr b="0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1a1a1a"/>
                </a:solidFill>
                <a:latin typeface="GothaPro"/>
                <a:ea typeface="Arial"/>
              </a:rPr>
              <a:t>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аковы причины внутренних перемен в жизни человек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Что способно изменить человека? 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13. Почему люди боятся перемен?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14. Выбор, который меняет человека.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684360" y="58680"/>
            <a:ext cx="820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с соб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ное направление побуждает к размышлению о том, что значит «быть самим собой». Данная тематика связана с вопросами, которые человек задает сам себе, об опасности внутреннего разлада, о работе совести и поисках смысла жизни. Темы этого направления нацеливают на самоанализ, осмысление опыта других людей (или поступков литературных героев), стремящихся понять себя. Темы позволяют задуматься о сильных и слабых сторонах собственной личности, о ценности и уникальности своего внутреннего мира, о необходимости самопознания и самосовершенствования. Раскрывая тему, можно обратиться к художественной, психологической, философской литературе, мемуарам, дневникам и публицистик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395280" y="154080"/>
            <a:ext cx="7272360" cy="69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т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говор с собой (внутреннее пространство человека и словесные способы его исследования – вопросы, которые человек задает себе; внутренние переживания; тема совес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Что значит быть совестливым человеко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Бывают ли обстоятельства, когда человеку можно пойти против совест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очему появляются «умные ненужности» («лишние люди»)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Согласны ли вы с утверждением Л.Н. Толстого о том, что «человек текуч», а люди похожи на рек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Каждый ли человек ищет смысл жизн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Герой комедии А.С. Грибоедова «Горе от ума» дал себе такую характеристику: «Ум с сердцем не в ладу». В чём опасность внутреннего разлада с собой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Всегда ли внутренний мир соответствует внешнему облик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Что происходит с человеком, который не хочет развиватьс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Что влияет на формирование внутреннего мира человек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«Положительно прекрасный» человек – вымысел или реальн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"/>
          <p:cNvSpPr/>
          <p:nvPr/>
        </p:nvSpPr>
        <p:spPr>
          <a:xfrm>
            <a:off x="1332000" y="260280"/>
            <a:ext cx="552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11. Что значит быть самим собой?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12. Для чего человеку нужна совесть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К чему приводит душевный разлад?</a:t>
            </a:r>
            <a:br>
              <a:rPr sz="2000"/>
            </a:b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14. Что помогает человеку совершенствовать себя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Как найти "свой путь"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то значит быть честным с самим собо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611280" y="586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рошлым и будущим: портрет моего поко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 сочинений данного направления приглашают к размышлению о культурных запросах современного человека, его литературных пристрастиях, жизненной позиции, о сходстве и различиях между ним и его предшественниками, о влиянии молодого поколения на формирование будущего мира. Потребуется осмысление духовных ценностей и нравственных ориентиров молодежи, ее места в современном мире. О сущности сегодняшнего поколения, чертах людей ХХI века размышляют современные писатели, ученые, журналисты, чья позиция имеет подчас дискуссионный характер, что дает возможность высказать свое мнение в рамках обозначенной проблематик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324000" y="260280"/>
            <a:ext cx="7542000" cy="62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Возможные т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 прошлым и будущим: портрет моего поколения (культурные запросы, литературные пристрастия, жизненные оценки, отношения с семьей и общество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Можно ли утверждать, что современная молодёжь в чём-то ориентируется на поколения прошлых лет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Почему конфликт отцов и детей неизбежен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Нужно ли читать книги в XXI век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Можно ли назвать поколение Z потерянным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 Согласны ли вы с высказыванием А.С. Пушкина: «Неуважение к предкам есть первый признак безнравственности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Почему в современном обществе снижается уровень речевой культуры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Важно ли сохранять связь между поколениям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Могут ли материальные ценности вытеснить духовны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) Для чего нужно передавать жизненный опыт из поколения в поколение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0) Можно ли говорить о деградации современного поколени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971640" y="1444680"/>
            <a:ext cx="691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1a1a1a"/>
                </a:solidFill>
                <a:latin typeface="GothaPro"/>
                <a:ea typeface="Arial"/>
              </a:rPr>
              <a:t>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ожет ли художественное произведение дать ответы на вопросы, волнующие современную молодежь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ожет ли компьютер заменить книгу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то читает современное поколение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то представляет собой портрет моего поколения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</a:t>
            </a: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 Как формируются нравственные ориентиры современного человек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16. Кто является героем для молодеж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1585800" y="39304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Произведения для подготовки к итоговому сочине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" spc="-1" strike="noStrike">
                <a:solidFill>
                  <a:srgbClr val="90c226"/>
                </a:solidFill>
                <a:latin typeface="Trebuchet MS"/>
              </a:rPr>
              <a:t>Список книг к направлению "Забвению не подлежит". Русская литература.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«Слово о полку Игореве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С. Пушкин «Моцарт и Сальери», «Капитанская дочка», «Борис Годунов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Н. Островский «Как закалялась сталь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Л.Н. Толстой «Война и мир», «Хаджи-Мурат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Н. Толстой «Петр I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М.А. Булгаков «Мастер и Маргарита», «Белая гвардия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К. Арсеньев «Дерсу Узал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Л. Пантелеев, Г. Белых «Республика ШКИД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А. Каверин «Два капитана», «Открытая книг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Д. Дудинцев «Белые одежды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А. Обручев «Земля Санников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Ю.Н. Тынянов «Пушкин», «Смерть Вазир-Мухтар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С. Гроссман «Жизнь и судьба» «Мам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П. Платонов «Котлован», «Чевенгур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К.Д. Воробьев «Убиты под Москвой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Г.Я. Бакланов «Навеки - девятнадцатилетние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Б.Л. Васильев «Экспонат № … », «А зори здесь тихие», «Вещий Олег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П. Астафьев «Фотография, на которой меня нет».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Г. Распутин «Последний срок», «Прощание с Матерой», «Живи и помни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М.А. Шолохов «Они сражались за родину», «Поднятая целина» «Тихий Дон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К.М. Симонов «Живые и мертвые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П. Некрасов «В окопах Сталинград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Ю.В. Бондарев «Батальоны просят огня», «Горячий снег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Б.Н. Полевой «Повесть о настоящем человеке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Ф.А. Абрамов «Братья и сестры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В. Быков «Обелиск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О. Богомолов «Момент истины (В августе 44-го...)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Н.К. Чуковский «Балтийское небо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Т. Шаламов «Колымские рассказы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К. Булычев «Город без памяти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В.И. Аксенов «Таинственная страсть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Е.И. Замятин «Мы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Н. Рыбаков «Дети Арбата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И. Солженицын «Архипелаг «ГУЛАГ», «В круге первом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Ч.Т. Айтматов «И дольше века длится день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О.М. Куваев «Территория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А.В. Иванов «Тобол»</a:t>
            </a:r>
            <a:br>
              <a:rPr sz="800"/>
            </a:br>
            <a:r>
              <a:rPr b="0" lang="ru-RU" sz="800" spc="-1" strike="noStrike">
                <a:solidFill>
                  <a:srgbClr val="90c226"/>
                </a:solidFill>
                <a:latin typeface="Trebuchet MS"/>
              </a:rPr>
              <a:t>Е.Г. Водолазкин «Авиатор»</a:t>
            </a:r>
            <a:br>
              <a:rPr sz="800"/>
            </a:br>
            <a:endParaRPr b="0" lang="en-US" sz="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ка сочи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H="1">
            <a:off x="8571960" y="2228760"/>
            <a:ext cx="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324000" y="871560"/>
            <a:ext cx="8319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ом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тогового сочинения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зачет или незачет.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сдаче ЕГЭ допустят только учеников, получивших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ч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2" descr="http://4.bp.blogspot.com/-HDF3rx32mX4/UjBTSSCvgHI/AAAAAAAAAxg/ocqhPqlB-NA/s1600/Remove-Add-to-Compare-Link%5B1%5D.png"/>
          <p:cNvPicPr/>
          <p:nvPr/>
        </p:nvPicPr>
        <p:blipFill>
          <a:blip r:embed="rId1"/>
          <a:stretch/>
        </p:blipFill>
        <p:spPr>
          <a:xfrm>
            <a:off x="5724360" y="3724200"/>
            <a:ext cx="291960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2050920" y="765000"/>
            <a:ext cx="4807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a3a52"/>
                </a:solidFill>
                <a:latin typeface="GothaPro"/>
                <a:ea typeface="Times New Roman"/>
              </a:rPr>
              <a:t>Лирические и лиро-эпические произведения к направлению "Забвению не подлежит"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Г.Р. Державин «Памятник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В.А. Жуковский «Певец во стане русских воинов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С. Пушкин «Два чувства дивно близки нам», «Памятник», «Медный всадник», «Песнь о вещем Олеге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М.Ю. Лермонтов «Мцыри», «Смерть поэта», «Бородино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Т. Твардовский поэма «По праву памяти», «Я знаю, никакой моей вины…», «Василий Тёркин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О.Ф. Берггольц «Памяти защитников»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С.П. Щипачев «Павшим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А. Блок «Двенадцать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А. Ахматова «Реквием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И.А. Бродский «Я входил вместо дикого зверя в клетку…», «Посвящается стулу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В.С. Высоцкий «Памятник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ca3c"/>
                </a:solidFill>
                <a:uFillTx/>
                <a:latin typeface="GothaPro"/>
                <a:ea typeface="Times New Roman"/>
                <a:hlinkClick r:id="rId1"/>
              </a:rPr>
              <a:t>↑</a:t>
            </a:r>
            <a:r>
              <a:rPr b="1" lang="ru-RU" sz="900" spc="-1" strike="noStrike">
                <a:solidFill>
                  <a:srgbClr val="0a3a52"/>
                </a:solidFill>
                <a:latin typeface="GothaPro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0a3a52"/>
                </a:solidFill>
                <a:latin typeface="GothaPro"/>
                <a:ea typeface="Times New Roman"/>
              </a:rPr>
              <a:t>Список произведений к направлению "Забвению не подлежит". Зарубежная литератур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Л. Лоури «Дающий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Дж. Оруэлл «1984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Митчелл «Облачный атлас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И. Стоун «Жажда жизни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Т. Кенэлли «Список Шиндлера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1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a1a1a"/>
                </a:solidFill>
                <a:latin typeface="GothaPro"/>
                <a:ea typeface="Times New Roman"/>
              </a:rPr>
              <a:t>Х.Л. Борхес «Цербер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333360"/>
            <a:ext cx="446544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книг к направлению "Я и другие". Русск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С. Грибоедов «Горе от ум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С. Пушкин «Евгений Онегин», «Капитанская дочка», «Дубровский» «Повести Белки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Ю. Лермонтов «Герой нашего времени», «Маскарад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В. Гоголь «Шинель», «Мертвые души», «Тарас Бульб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Н. Островский «Свои люди – сочтемся», «Гроз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С. Тургенев «Отцы и дети», «Записки охотника»,  «Дневник лишнего челове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Л.Н. Толстой «Война и мир», «Анна Каренина», «Кавказский пленни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А. Гончаров «Обломов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М. Достоевский «Преступление и наказание», «Идиот», «Бедные люд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Г. Короленко «В дурном обществ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П. Чехов «Хамелеон», «Толстый и тонкий», «Смерть чиновника», «Размазня», «В аптеке», «Беззащитное существо», «Человек в футляре», «Ионыч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Г. Паустовский «Теплый хлеб», «Телеграмм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И. Замятин «М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И. Куприн «Олеся», «Гранатовый браслет», «Поединок», «Тапер», «Чудесный доктор» («Добрый доктор»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Горький «На дне», «Мать», «Старуха Изергиль», «Фома Гордеев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П. Платонов «Юшка», «Котлова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Грин «Зеленая лампа», «Алые парус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А. Булгаков «Мастер и Маргарита», «Собачье сердце», «Белая гвард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Б.Л. Пастернак «Доктор Живаг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А. Шолохов «Тихий До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Т. Айтматов «Плаха», «И дольше века длится ден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В. Быков «Обелис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Г. Распутин «Уроки французског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И. Носов «Кукл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А. Искандер «Тринадцатый подвиг Геракл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И. Солженицын «Матренин дво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П.Ф. Нилин «Жестокост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Т. Айтматов «И дольше века длится ден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2"/>
          <p:cNvSpPr/>
          <p:nvPr/>
        </p:nvSpPr>
        <p:spPr>
          <a:xfrm>
            <a:off x="1547640" y="1125360"/>
            <a:ext cx="5310360" cy="36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GothaPro"/>
                <a:ea typeface="Times New Roman"/>
              </a:rPr>
              <a:t>Список произведений к направлению "Я и другие". Зарубежн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Х. Ли «Убить пересмешника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Киз «Цветы для Элджернона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О. Уайльд «Портрет Дориана Гре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ж. Остин «Гордость и предубеждени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В. Гюго «Собор Парижской Богоматери», «Человек, который смеется», «Отверженны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У. Голдинг "Повелитель мух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ж. Оруэлл "1984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О. Хаксли «О дивный новый ми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Т. Драйзер «Американская трагед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 Азимов «Позитронный челове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У. Грум «Форрест Гамп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С. Коллинз «Голодный игр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У. Теккерей «Ярмарка тщеслав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Дефо «Робинзон Круз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Ф. Кафка «Процес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А. Камю «Посторони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К. Кизи «Над кукушкиным гнездом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Сэлинджер «Над пропастью во рж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. Лондон «Мартин Ид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У. Шекспир «Отелло» «Ромео Джульетт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Г. Бичер-Стоу «Хижина дяди Том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Р. Хайнлайн «Чужак в чужой стран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Ф. Бакман «Вторая жизнь Ув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И. Шоу «Богач, бедня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К. Воннегут «Колыбель для кошки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GothaPro"/>
                <a:ea typeface="Times New Roman"/>
              </a:rPr>
              <a:t>Дж.С. Фоер «Жутко громко и запредельно близк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2286000" y="843120"/>
            <a:ext cx="457200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книг к направлению "Время перемен". Русск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С. Пушкин «Капитанская дочка», «Станционный смотрител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В. Гоголь «Тарас Бульб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Горький «На дне», «Фома Гордеев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Н. Островский «Гроз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Г. Чернышевский «Что делать?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Е. Салтыков-Щедрин «Господа Головлев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А. Гончаров «Обломов», «Обрыв», «Обыкновенная истор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П. Чехов «Вишневый сад», «Ионыч», «Чай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С. Тургенев «Отцы и дети», «Ася», «Дворянское гнездо», «Наканун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М, Достоевский «Преступление и наказание», «Бес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Л.Н. Толстой «Война и мир», «Детство. Отрочество. Юност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И. Куприн «Чудесный докто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А. Некрасов «Поэт и граждани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Блок «Двенадцат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Маяковский «Во весь голо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Есенин «Я усталым таким еще не был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Б.Л. Пастернак «Доктор Живаг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Г. Распутин «Прощание с Матерой», очерк «Вверх и вниз по течению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А. Булгаков «Дни Турбиных», «Собачье сердце», «Белая Гвард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А. Каверин «Два капита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П. Платонов «Котлова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И. Замятин «М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А. Шолохов «Тихий Дон», «Поднятая цели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Грин «Алые парус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Б. Васильев «Завтра была вой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Набоков «Камера обскур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 Айтматов «И дольше века длится ден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Л. Улицкая «Зеленый шате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Богомолов «Маленький человек в эпоху больших перем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Петросян «Дом в котором…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Красильщик «Три четверт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Жвалевский, Е. Пастернак «Открытый финал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Сенчин «Зона затоплен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 Водолазкин «Авиатор», «Лавр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Ю. Полякова «Любовь в эпоху перем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Силверберг «Время перем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татьи под ред. А. Асмолова «Личность в эпоху переме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2286000" y="2227320"/>
            <a:ext cx="4572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произведений к направлению "Время перемен". Зарубежн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Э. Хемингуэй «Прощай, оружие!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Сэлинджер «Над пропастью во рж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Э.М. Ремарк «Три товарища», «Земля обетованна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Йейтс «Дорога перемен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С. Льюис «Хроники Нарни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Х. Ли «Убить пересмешни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Митчелл «Унесенные ветром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О. Хаксли «О дивный новый ми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Азимов «Позитронный челове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Тартт «Щегол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Бакман «Вторая жизнь Ув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 Шоу «Богач, бедня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С. Фоер «Жутко громко и запредельно близк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 Диккенс «Повесть о двух городах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Брэдбери «451 по Фаренгейту», «Вино из одуванчиков»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Камю «Чум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2286000" y="2519280"/>
            <a:ext cx="45720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книг к направлению "Между прошлым и будущим: портрет моего поколения". Русск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Петросян «Дом, в котором …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О. Рой «Изго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Иванов «Сердце Парм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П. Санаев «Похороните меня за плинтусом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Лем «Соляри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Пелевин Generation «П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Т. Толстая «Кысь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тругацкие «Трудно быть богом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Е. Замятин «М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Лукьяненко «Ночной дозор», «Дневной дозо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2286000" y="214200"/>
            <a:ext cx="45720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Список произведений к направлению "Между прошлым и будущим: портрет моего поколения". Зарубежная литератур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Митчелл «Облачный атлас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 Исигуро «Не отпускай мен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Э. Вейер «Марсиани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Парр «Вафельное сердц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И. Макьюэн «Искуплени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Роулинг «Гарри Потте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Толкин «Властелин колец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Брэдбери «451 по Фаренгейту», «Вино из одуванчиков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Сэлинджер «Над пропастью во рж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Оруэлл «1984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Джонс «Ходячий замо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Киз «Цветы для Элджернон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Ч. Паланик «Бойцовский клуб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С. Фоер «Жутко громко и запредельно близко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 Гейман «Коралина», «За дверью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Бах «Чайка по имени Джонатан Ливингстон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Флэгг «Жареные зеленые помидоры …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Я. Вишневский «Одиночество в сет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Рот «Дивергент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Коллинз «Голодные игр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Чбоски «Хорошо быть тихоне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Дик «Мечтают ли андроиды об электроовцах», «Человек в высоком замк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 Спаркс «Дневник памят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А. Сапковский. Сага «Ведьмак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У. Голдинг «Повелитель мух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Кинг «Кэрри», «Зеленая миля», «Как писать книги», «Сияние» и др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П. Несс «Голос монстр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Зусак «Книжный вор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Пулман «Темные начал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. Браун «Код да Винч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Х. Янагихара «Жизнь П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Б. Смитт «Дерево растет в Бруклин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Т. Чан «История твоей жизн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Грин «Виноваты звезды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Салли «Нормальные люд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 Функе «Чернильное сердц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Эндрюс «Я, Эрл и умирающая девуш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Боуэн  «Уличный кот по кличке Боб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. Панке ««Выживши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Р. Даль «Чарли и шоколадная фабри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К. Морган «Сотн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Дж. Дэшнер «Бегущий в лабиринт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О.С. Кард «Игра Эндер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Л. Лоури «Дающий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ерия книг С. Майе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2286000" y="2651040"/>
            <a:ext cx="457200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a3a52"/>
                </a:solidFill>
                <a:latin typeface="Times New Roman"/>
                <a:ea typeface="Times New Roman"/>
              </a:rPr>
              <a:t>Публицистика, биографии, научная литература для подготовки к направлению "Между прошлым и будущим: портрет моего поколения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Э. Вэнс «Илон Маск: Tesla, SpaceX и дорога в будуще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Н. Вуйчич «Жизнь без границ. Путь к потрясающе счастливой жизн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В. Айзексон «Стив Джобс. Биография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С. Хокинг «Кратчайшая история времени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Майкл Уайт и Джон Грибин, «Стивен Хокинг. Жизнь среди звезд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Ф. Найт, «Продавец обуви. История компании Nike, рассказанная ее основателем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Г. Форд «Моя жизнь. Мои достижения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buClr>
                <a:srgbClr val="1a1a1a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a1a1a"/>
                </a:solidFill>
                <a:latin typeface="Times New Roman"/>
                <a:ea typeface="Times New Roman"/>
              </a:rPr>
              <a:t>Ю. Харари «21 урок для XXI века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писать итоговое сочинение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В этой работе вы должны использовать произведения рус­ской и мировой литературы, приводить литературные приме­ры. Причем вы можете использовать не только прозаические произведения, но и лирические (стихотворения, поэмы), дра­матические, публицистические (очерки, эссе) — если того тре­бует раскрытие выбранной вами темы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Помните, что самое главное в написании выпускного ито­гового сочинения — это раскрытие темы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47280" y="476280"/>
            <a:ext cx="8496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асти вы даете некое вступление на выбранную вами тему. Оно может быть более или менее абстрактным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обратите внимание, что с 2019 года в сочинении обязательно должно присутствовать личное отношение экзаменуемого к рассматриваемому вопросу и позиции автора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1042920" y="836640"/>
            <a:ext cx="7777080" cy="49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Важн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случае неудовлетворительного результата («незачет») даже после 3-х попыток, либо если выпускник так и не напишет итоговое сочинение до начала ЕГЭ, он не будет допущен к сдаче основного блока экзамен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Затем вы приводите в пример два литературных произведе­ния. В качестве первого примера можно привести прозаичес­кое произведение и дать глубокий, развернутый анализ его. В качестве второго примера можно привести лирическое про­изведение (стихотворение), дав уже небольшой анализ и про­цитировав несколько строк. В этом случае вы соблюдаете тре­бования, предъявляемые к вам методистами ФИПИ (2 лите­ратурных примера), выдерживаете необходимый объем сочи­нения и укладываетесь в предложенное время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Некоторые советы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щаясь к литературным произведениям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олжны не просто рассказать о каких-либо персонажах, но и произвести полноценный литературоведческий анализ произведения. Вы должны очень хорошо знать содержание произведения, дать краткое изложение сюжета, охарактеризовать образы, приве­сти примеры поступков героев, подтверждающих их те или иные личностные качества. Также нужно обозначить идею произведения и выявить авторскую позицию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008000" y="476280"/>
            <a:ext cx="8136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чень хорошо, если вы вспомните какие-то художественные средства, исполь­зованные автором в данном сюжете, в обрисовке образа — портрет героя (его характерные особенности), пейзажи и т.д. Затем вы высказываете свое мнение о данной проблеме, говорите о том, что вы согласны с данными авторами, потому что…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омните, что объем вашего сочинения должен составлять не менее 350 слов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-360" y="333360"/>
            <a:ext cx="8642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вам нужно постараться из­бежать орфографических, пунктуационных, а также речевых ошибок. Поэтому лучше избегать больших, сложных предло­жений. Стилистические и пунктуационные ошибки в них, как показывает практика, неизбежны. Разбейте все свои слож­ные предложения на простые. При этом помните о правиль­ном построении предложений с деепричастным оборотом (в них также зачастую допускают ошибки)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https://myslide.ru/documents_3/66341c8daa7f7fd67311daf64b384549/img16.jpg"/>
          <p:cNvPicPr/>
          <p:nvPr/>
        </p:nvPicPr>
        <p:blipFill>
          <a:blip r:embed="rId1"/>
          <a:stretch/>
        </p:blipFill>
        <p:spPr>
          <a:xfrm>
            <a:off x="108000" y="260280"/>
            <a:ext cx="9144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https://ds02.infourok.ru/uploads/ex/0595/00038804-830f8bea/img38.jpg"/>
          <p:cNvPicPr/>
          <p:nvPr/>
        </p:nvPicPr>
        <p:blipFill>
          <a:blip r:embed="rId1"/>
          <a:stretch/>
        </p:blipFill>
        <p:spPr>
          <a:xfrm>
            <a:off x="0" y="0"/>
            <a:ext cx="885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https://im0-tub-ru.yandex.net/i?id=ee5e6310c75d526160f5ce2d96acd74b-l&amp;n=13"/>
          <p:cNvPicPr/>
          <p:nvPr/>
        </p:nvPicPr>
        <p:blipFill>
          <a:blip r:embed="rId1"/>
          <a:stretch/>
        </p:blipFill>
        <p:spPr>
          <a:xfrm>
            <a:off x="185760" y="0"/>
            <a:ext cx="8929800" cy="65530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2" descr="http://elets-edu.ru/upload/iblock/109/1480407174_bez_imeni_1.jpg"/>
          <p:cNvPicPr/>
          <p:nvPr/>
        </p:nvPicPr>
        <p:blipFill>
          <a:blip r:embed="rId2"/>
          <a:stretch/>
        </p:blipFill>
        <p:spPr>
          <a:xfrm>
            <a:off x="7451640" y="4581360"/>
            <a:ext cx="142884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Рекомендуемые ресурс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Сочинение11 РФ. - </a:t>
            </a:r>
            <a:r>
              <a:rPr b="0" lang="en-US" sz="3400" spc="-1" strike="noStrike">
                <a:solidFill>
                  <a:srgbClr val="002060"/>
                </a:solidFill>
                <a:latin typeface="Trebuchet MS"/>
              </a:rPr>
              <a:t>Sochinenie11</a:t>
            </a: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.</a:t>
            </a:r>
            <a:r>
              <a:rPr b="0" lang="en-US" sz="3400" spc="-1" strike="noStrike">
                <a:solidFill>
                  <a:srgbClr val="002060"/>
                </a:solidFill>
                <a:latin typeface="Trebuchet MS"/>
              </a:rPr>
              <a:t>ru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Капканы ЕГЭ и ГИА  - капканы ЕГЭ.рф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Могу писать - </a:t>
            </a:r>
            <a:r>
              <a:rPr b="0" lang="en-US" sz="3400" spc="-1" strike="noStrike">
                <a:solidFill>
                  <a:srgbClr val="002060"/>
                </a:solidFill>
                <a:latin typeface="Trebuchet MS"/>
              </a:rPr>
              <a:t>mogu-pisat.ru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Незнайка - </a:t>
            </a:r>
            <a:r>
              <a:rPr b="0" lang="en-US" sz="3400" spc="-1" strike="noStrike">
                <a:solidFill>
                  <a:srgbClr val="002060"/>
                </a:solidFill>
                <a:latin typeface="Trebuchet MS"/>
              </a:rPr>
              <a:t>neznaika.info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Trebuchet MS"/>
              </a:rPr>
              <a:t>ЕГЭша РФ – егэша.рф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285840" y="85968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чинение оценивается по пяти критер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500040" y="14889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Calibri"/>
              </a:rPr>
              <a:t>Критерий №1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Соответствие тем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500040" y="23868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Calibri"/>
              </a:rPr>
              <a:t>Критерий №2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Аргументац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00040" y="2869560"/>
            <a:ext cx="69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итерий №3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Композиция и логичность расс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00040" y="3583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итерий №4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Качество письменной реч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00040" y="4240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Критерий №5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Грамотнос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258920" y="260280"/>
            <a:ext cx="727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Для того чтобы за работу 11-классник получил желаемый «зачет» необходимо, сочинение должно отвечать таким основным требования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объем более 250 слов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соответствие заданной теме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наличие аргументации с привлечением литератур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684360" y="333360"/>
            <a:ext cx="770400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бота получает «незачет», если сочинение не соответствует теме или экзаменуемый ссылается на примеры, не соответствующие изначально обозначенной тема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714240" y="2142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79280" y="280440"/>
            <a:ext cx="87138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итерий №1 «Соответствие тем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пускник рассуждает на предложенную тему, выбрав путь её раскрытия (например, отвечает на вопрос, поставленный в теме, или размышляет над предложенной проблемой, или строит высказывание на основе связанных с темой тезисов и т.п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«Незачет» ставится только при условии, если сочинени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е соответствует теме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или в нем не прослеживается конкретной цели высказывания, т.е. коммуникативного замысла (во всех остальных случаях выставляется «зачет»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12" descr="http://4.bp.blogspot.com/-HDF3rx32mX4/UjBTSSCvgHI/AAAAAAAAAxg/ocqhPqlB-NA/s1600/Remove-Add-to-Compare-Link%5B1%5D.png"/>
          <p:cNvPicPr/>
          <p:nvPr/>
        </p:nvPicPr>
        <p:blipFill>
          <a:blip r:embed="rId1"/>
          <a:stretch/>
        </p:blipFill>
        <p:spPr>
          <a:xfrm>
            <a:off x="6643800" y="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.Николаевна</dc:creator>
  <dc:description/>
  <dc:language>en-US</dc:language>
  <cp:lastModifiedBy>Татьяна А. Шишкина</cp:lastModifiedBy>
  <cp:lastPrinted>2016-10-26T11:23:18Z</cp:lastPrinted>
  <dcterms:modified xsi:type="dcterms:W3CDTF">2021-04-20T07:39:10Z</dcterms:modified>
  <cp:revision>125</cp:revision>
  <dc:subject/>
  <dc:title>Слайд 1</dc:title>
</cp:coreProperties>
</file>