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6858000" cy="9906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8D41-FC91-4A5D-8D8E-5ABA54F9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EA13-620F-4362-97E1-D93291B2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B57E-62A1-40C6-BCC1-8AEC89BA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EF44-2EB5-4A36-94C2-85518EAA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0C41-C2F0-43AD-A7AF-03E4F003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0BEF-3F5F-464C-A6ED-1FDECD6B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9B54-27CE-4598-8C39-8F672683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9453-DA65-4741-8388-849DE9E8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99FF-3158-46A4-8FAE-19A88983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9492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75FF-325E-42B4-941B-B21734A4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7871-53F6-443E-913E-5FE8E4D9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6E81-D935-4D4E-8917-9C2E336F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0F74-4B6B-4CF3-B599-E22A902F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5517-660C-4FDD-B8B3-81A4E53B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45BB-AA51-45B3-8516-D8E5CDCF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462E-A888-410D-9464-9990F161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D694-EB4A-4670-ADD6-EDB5C2CB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23C0-66F6-49FA-886A-F4483DA2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D73B-6278-4180-9CAA-369320B3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4EBB-7999-426A-9B9B-168A09D6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492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875B-2DE0-4DC5-A544-CC17510A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6536-8B6A-4AC6-9598-2EB3086F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015C-F22E-4B8A-ACF9-C6AE3C15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3FC0-BD7F-4842-94D7-B1D65AE9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3077280"/>
            <a:ext cx="5829120" cy="2122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43080" y="9181440"/>
            <a:ext cx="1599840" cy="527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43240" y="9181440"/>
            <a:ext cx="2171160" cy="527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915080" y="9181440"/>
            <a:ext cx="1599840" cy="527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58FE1A-6DCC-47AC-8130-4BA7BF3B7F7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343080" y="9181440"/>
            <a:ext cx="1599840" cy="527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2343240" y="9181440"/>
            <a:ext cx="2171160" cy="527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4915080" y="9181440"/>
            <a:ext cx="1599840" cy="527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3F639C-8BAD-4F5C-BF40-B317BBC5F68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ru/url?sa=i&amp;rct=j&amp;q=&amp;esrc=s&amp;source=images&amp;cd=&amp;cad=rja&amp;uact=8&amp;ved=0CAcQjRw&amp;url=http://olpictures.ru/doktor-ayybolit-kartinki.html&amp;ei=XyPBVIWsFYvmaLrNgJAE&amp;bvm=bv.83829542,d.d2s&amp;psig=AFQjCNGsRGRhJd_ZE_9mzXCdfSmnL-Ys5g&amp;ust=1422030002843571" TargetMode="External"/><Relationship Id="rId3" Type="http://schemas.openxmlformats.org/officeDocument/2006/relationships/hyperlink" Target="http://www.google.ru/url?sa=i&amp;rct=j&amp;q=&amp;esrc=s&amp;source=images&amp;cd=&amp;cad=rja&amp;uact=8&amp;ved=0CAcQjRw&amp;url=http://olpictures.ru/doktor-ayybolit-kartinki.html&amp;ei=XyPBVIWsFYvmaLrNgJAE&amp;bvm=bv.83829542,d.d2s&amp;psig=AFQjCNGsRGRhJd_ZE_9mzXCdfSmnL-Ys5g&amp;ust=1422030002843571" TargetMode="External"/><Relationship Id="rId4" Type="http://schemas.openxmlformats.org/officeDocument/2006/relationships/hyperlink" Target="http://www.google.ru/url?sa=i&amp;rct=j&amp;q=&amp;esrc=s&amp;source=images&amp;cd=&amp;cad=rja&amp;uact=8&amp;ved=0CAcQjRw&amp;url=http://olpictures.ru/doktor-ayybolit-kartinki.html&amp;ei=XyPBVIWsFYvmaLrNgJAE&amp;bvm=bv.83829542,d.d2s&amp;psig=AFQjCNGsRGRhJd_ZE_9mzXCdfSmnL-Ys5g&amp;ust=1422030002843571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source=images&amp;cd=&amp;cad=rja&amp;uact=8&amp;ved=0CAcQjRw&amp;url=http://olpictures.ru/doktor-ayybolit-kartinki.html&amp;ei=XyPBVIWsFYvmaLrNgJAE&amp;bvm=bv.83829542,d.d2s&amp;psig=AFQjCNGsRGRhJd_ZE_9mzXCdfSmnL-Ys5g&amp;ust=1422030002843571" TargetMode="External"/><Relationship Id="rId2" Type="http://schemas.openxmlformats.org/officeDocument/2006/relationships/hyperlink" Target="http://www.google.ru/url?sa=i&amp;rct=j&amp;q=&amp;esrc=s&amp;source=images&amp;cd=&amp;cad=rja&amp;uact=8&amp;ved=0CAcQjRw&amp;url=http://olpictures.ru/doktor-ayybolit-kartinki.html&amp;ei=XyPBVIWsFYvmaLrNgJAE&amp;bvm=bv.83829542,d.d2s&amp;psig=AFQjCNGsRGRhJd_ZE_9mzXCdfSmnL-Ys5g&amp;ust=1422030002843571" TargetMode="External"/><Relationship Id="rId3" Type="http://schemas.openxmlformats.org/officeDocument/2006/relationships/hyperlink" Target="http://www.google.ru/url?sa=i&amp;rct=j&amp;q=&amp;esrc=s&amp;source=images&amp;cd=&amp;cad=rja&amp;uact=8&amp;ved=0CAcQjRw&amp;url=http://olpictures.ru/doktor-ayybolit-kartinki.html&amp;ei=XyPBVIWsFYvmaLrNgJAE&amp;bvm=bv.83829542,d.d2s&amp;psig=AFQjCNGsRGRhJd_ZE_9mzXCdfSmnL-Ys5g&amp;ust=1422030002843571" TargetMode="External"/><Relationship Id="rId4" Type="http://schemas.openxmlformats.org/officeDocument/2006/relationships/hyperlink" Target="http://www.google.ru/url?sa=i&amp;rct=j&amp;q=&amp;esrc=s&amp;source=images&amp;cd=&amp;cad=rja&amp;uact=8&amp;ved=0CAcQjRw&amp;url=http://olpictures.ru/doktor-ayybolit-kartinki.html&amp;ei=XyPBVIWsFYvmaLrNgJAE&amp;bvm=bv.83829542,d.d2s&amp;psig=AFQjCNGsRGRhJd_ZE_9mzXCdfSmnL-Ys5g&amp;ust=1422030002843571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Админ\Desktop\Былкина Света\РАБОТА ПСИХОЛОГИЯ\Картинки фрукты, звери, овощи т.д\Коллекция шаблонов№2\podagra_prezentaciya_2790_101.jpg"/>
          <p:cNvPicPr/>
          <p:nvPr/>
        </p:nvPicPr>
        <p:blipFill>
          <a:blip r:embed="rId1"/>
          <a:stretch/>
        </p:blipFill>
        <p:spPr>
          <a:xfrm>
            <a:off x="0" y="23040"/>
            <a:ext cx="6857640" cy="990576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4">
            <a:hlinkClick r:id="rId2"/>
          </p:cNvPr>
          <p:cNvSpPr/>
          <p:nvPr/>
        </p:nvSpPr>
        <p:spPr>
          <a:xfrm>
            <a:off x="39600" y="-1940040"/>
            <a:ext cx="291420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5760" rIns="95760" tIns="47880" bIns="4788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6">
            <a:hlinkClick r:id="rId3"/>
          </p:cNvPr>
          <p:cNvSpPr/>
          <p:nvPr/>
        </p:nvSpPr>
        <p:spPr>
          <a:xfrm>
            <a:off x="192240" y="-1774800"/>
            <a:ext cx="291420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5760" rIns="95760" tIns="47880" bIns="4788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12">
            <a:hlinkClick r:id="rId4"/>
          </p:cNvPr>
          <p:cNvSpPr/>
          <p:nvPr/>
        </p:nvSpPr>
        <p:spPr>
          <a:xfrm>
            <a:off x="500040" y="2115360"/>
            <a:ext cx="56433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5760" rIns="95760" tIns="47880" bIns="47880" anchor="t">
            <a:noAutofit/>
          </a:bodyPr>
          <a:p>
            <a:pPr algn="r">
              <a:lnSpc>
                <a:spcPct val="100000"/>
              </a:lnSpc>
            </a:pPr>
            <a:r>
              <a:rPr b="1" lang="ru-RU" sz="2600" spc="-1" strike="noStrike">
                <a:solidFill>
                  <a:srgbClr val="4a452a"/>
                </a:solidFill>
                <a:latin typeface="Calibri"/>
              </a:rPr>
              <a:t>Консультация для родителе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Доктор Айболит и его зверята в..."/>
          <p:cNvPicPr/>
          <p:nvPr/>
        </p:nvPicPr>
        <p:blipFill>
          <a:blip r:embed="rId5"/>
          <a:stretch/>
        </p:blipFill>
        <p:spPr>
          <a:xfrm>
            <a:off x="904320" y="4563000"/>
            <a:ext cx="3244320" cy="45223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8"/>
          <p:cNvSpPr/>
          <p:nvPr/>
        </p:nvSpPr>
        <p:spPr>
          <a:xfrm>
            <a:off x="344520" y="213120"/>
            <a:ext cx="624924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200" spc="-1" strike="noStrike">
                <a:solidFill>
                  <a:srgbClr val="4a452a"/>
                </a:solidFill>
                <a:latin typeface="Calibri"/>
              </a:rPr>
              <a:t>Муниципальное автономное образовательное учреждение «Прогимназия №119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9"/>
          <p:cNvSpPr/>
          <p:nvPr/>
        </p:nvSpPr>
        <p:spPr>
          <a:xfrm>
            <a:off x="944640" y="2736720"/>
            <a:ext cx="5049000" cy="18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800" spc="-1" strike="noStrike">
                <a:solidFill>
                  <a:srgbClr val="00b050"/>
                </a:solidFill>
                <a:latin typeface="Calibri"/>
              </a:rPr>
              <a:t>«Чтоб здоровье сохранить, научись его ценить!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>
            <a:hlinkClick r:id="rId1"/>
          </p:cNvPr>
          <p:cNvSpPr/>
          <p:nvPr/>
        </p:nvSpPr>
        <p:spPr>
          <a:xfrm>
            <a:off x="39600" y="-1940040"/>
            <a:ext cx="291420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5760" rIns="95760" tIns="47880" bIns="4788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utoShape 4">
            <a:hlinkClick r:id="rId2"/>
          </p:cNvPr>
          <p:cNvSpPr/>
          <p:nvPr/>
        </p:nvSpPr>
        <p:spPr>
          <a:xfrm>
            <a:off x="192240" y="-1774800"/>
            <a:ext cx="291420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5760" rIns="95760" tIns="47880" bIns="4788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AutoShape 6">
            <a:hlinkClick r:id="rId3"/>
          </p:cNvPr>
          <p:cNvSpPr/>
          <p:nvPr/>
        </p:nvSpPr>
        <p:spPr>
          <a:xfrm>
            <a:off x="344520" y="-1609560"/>
            <a:ext cx="291420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5760" rIns="95760" tIns="47880" bIns="4788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8">
            <a:hlinkClick r:id="rId4"/>
          </p:cNvPr>
          <p:cNvSpPr/>
          <p:nvPr/>
        </p:nvSpPr>
        <p:spPr>
          <a:xfrm>
            <a:off x="496800" y="-1444680"/>
            <a:ext cx="291420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5760" rIns="95760" tIns="47880" bIns="4788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Users\Админ\Desktop\Былкина Света\РАБОТА ПСИХОЛОГИЯ\Картинки фрукты, звери, овощи т.д\Коллекция шаблонов№2\podagra_prezentaciya_2790_101.jpg"/>
          <p:cNvPicPr/>
          <p:nvPr/>
        </p:nvPicPr>
        <p:blipFill>
          <a:blip r:embed="rId5"/>
          <a:stretch/>
        </p:blipFill>
        <p:spPr>
          <a:xfrm>
            <a:off x="-17640" y="-22320"/>
            <a:ext cx="6857640" cy="990576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1012320" y="1208520"/>
            <a:ext cx="44445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</a:pPr>
            <a:r>
              <a:rPr b="1" lang="ru-RU" sz="3400" spc="-1" strike="noStrike">
                <a:solidFill>
                  <a:srgbClr val="00b050"/>
                </a:solidFill>
                <a:latin typeface="Calibri"/>
              </a:rPr>
              <a:t>Уважаемые родители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8"/>
          <p:cNvSpPr/>
          <p:nvPr/>
        </p:nvSpPr>
        <p:spPr>
          <a:xfrm>
            <a:off x="675360" y="2115360"/>
            <a:ext cx="547236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В современном мире, когда вокруг маленького человека столько соблазнов, только родители способны и должны оградить его от вредных привычек, неправильного питания, пассивного, малоподвижного образа жизни и других опасных факто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Если вы, родители сейчас уделите достаточно внимания здоровью своего ребенка, то в будущем он обязательно оценит вашу заботу и внимание о нем, он навсегда будет вам благодарен за самый важный подарок в жизни каждого человека- здоровье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Уважаемые родители не забывайте, что ключ к успеху в укреплении и сохранении здоровья вашего ребенка- в разумном физическом, интеллектуально-личностном развит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Оздоровление малыша должно включать в себя различные компоненты, совокупность которых можно назвать как «здоровый образ жизни»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Админ\Desktop\Былкина Света\РАБОТА ПСИХОЛОГИЯ\Картинки фрукты, звери, овощи т.д\Коллекция шаблонов№2\podagra_prezentaciya_2790_101.jpg"/>
          <p:cNvPicPr/>
          <p:nvPr/>
        </p:nvPicPr>
        <p:blipFill>
          <a:blip r:embed="rId1"/>
          <a:stretch/>
        </p:blipFill>
        <p:spPr>
          <a:xfrm>
            <a:off x="-17640" y="-22320"/>
            <a:ext cx="6857640" cy="99057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572760" y="829440"/>
            <a:ext cx="5688360" cy="75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Здоровье ребенка обеспечивается с помощью организации здорового образа жизни, компонентами которого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- физическое здоровье ребенка (закаливание, правильное питание, режим дня, гимнастика, подвижные игры, личная гигиена и д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- психологическое здоровье ребенка (интерес, желание, потребности, эмоциональный комфорт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- социальное здоровье (поведение, общение, опыт, практик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- нравственное здоровье (здоровый образ жизни, дружба, доброжелательность, сотрудничеств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- интеллектуальное здоровье (навыки, знания, способности, умени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Вот эти все компоненты нужно внести в жизнь ребенка, чтобы сохранить и укрепить здоровье малыша. Рациональная организация двигательной активности - важное условие для роста и развития детского организма, ведь чем активнее работают мышцы, тем более жизнеспособен человек. Нагружая мышечную систему мы не только воспитываем ребенка сильным и ловким, но и развиваем его внутренние органы, сердце, легкие, таким образом напряженная работа скелетно-мышечной система ведет к совершенствованию всех органов и систем, делает организм ребенка особенно прочным, а главное здоров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Админ\Desktop\Былкина Света\РАБОТА ПСИХОЛОГИЯ\Картинки фрукты, звери, овощи т.д\Коллекция шаблонов№2\podagra_prezentaciya_2790_101.jpg"/>
          <p:cNvPicPr/>
          <p:nvPr/>
        </p:nvPicPr>
        <p:blipFill>
          <a:blip r:embed="rId1"/>
          <a:stretch/>
        </p:blipFill>
        <p:spPr>
          <a:xfrm>
            <a:off x="-23040" y="25560"/>
            <a:ext cx="6857640" cy="990576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771120" y="943920"/>
            <a:ext cx="5269320" cy="53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Уделите внимание психическому здоровью - ведь счастлив тот ребенок которому комфортно и ую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Режим дня ребенка, должен быть стабильным, гибким и динамичным, должен предусматривать разнообразную деятельность ребенка с учетом состояния здоровья детей и возрастных особенностей. Родители и педагоги мы не должны забывать, что нужно создавать такие условия, которые бы удовлетворяли детское любопытство. У детей должна быть насыщенная разными событиями жизнь! И тогда вашему малышу времени болеть просто не будет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Обязательно нужно уделить внимание эффективному закаливанию, в коже ребенка заложено огромное количество нервных окончаний, воздействие на них благотворно повлияют на всю нервную систему, а через нее и на все орга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Админ\Desktop\Былкина Света\РАБОТА ПСИХОЛОГИЯ\Картинки фрукты, звери, овощи т.д\Коллекция шаблонов№2\podagra_prezentaciya_2790_101.jpg"/>
          <p:cNvPicPr/>
          <p:nvPr/>
        </p:nvPicPr>
        <p:blipFill>
          <a:blip r:embed="rId1"/>
          <a:stretch/>
        </p:blipFill>
        <p:spPr>
          <a:xfrm>
            <a:off x="0" y="0"/>
            <a:ext cx="6857640" cy="99057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882720" y="1130400"/>
            <a:ext cx="5461920" cy="61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Закаливание поможет улучшить деятельность нервной системы, сердца, обмен веществ, аппетит, организм ребенка адаптируется к окружающей обстановке, повысится сопротивляемость к заболевани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Спорт должен стать неотъемлемой частью любого человека заботящегося о своем здоровье, поэтому малыш должен видеть пример родителей, не стоит целый день проводить за компьютером или телевизором, а лучше погуляйте с ребенком, покатайтесь на велосипеде, или лыжах, при нормальном состоянии ребенка можно определить в спортивную секцию, танцы, хоккей- все зависит от потребностей и желания родителей и ребенка. Главное нужно помнить, чтобы вы не выбрали, важная задача- поддерживать детский организм в нормальном физическом состоянии и сохранять здоровье малыш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Забота о развитии и здоровье ребенка начинается с организации здорового образа жизни, как в семье, так и в детском саду. Ведь здоровый ребенок сегодня- наше успешное завтр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1413360" y="7832520"/>
            <a:ext cx="42768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</a:pPr>
            <a:r>
              <a:rPr b="1" lang="ru-RU" sz="3400" spc="-1" strike="noStrike">
                <a:solidFill>
                  <a:srgbClr val="00b050"/>
                </a:solidFill>
                <a:latin typeface="Calibri"/>
              </a:rPr>
              <a:t>Желаем Вам успехов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  <Words>583</Words>
  <Paragraphs>2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2T16:12:03Z</dcterms:created>
  <dc:creator>светлана</dc:creator>
  <dc:description/>
  <dc:language>en-US</dc:language>
  <cp:lastModifiedBy>Метод2</cp:lastModifiedBy>
  <cp:lastPrinted>2015-01-29T03:25:32Z</cp:lastPrinted>
  <dcterms:modified xsi:type="dcterms:W3CDTF">2021-04-20T08:12:43Z</dcterms:modified>
  <cp:revision>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Лист A4 (210x297 мм)</vt:lpwstr>
  </property>
  <property fmtid="{D5CDD505-2E9C-101B-9397-08002B2CF9AE}" pid="3" name="Slides">
    <vt:r8>5</vt:r8>
  </property>
</Properties>
</file>