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9C5-BB1F-430F-9022-FE316036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935-2F6A-436B-B9F6-6ADC2FD3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31D-56F7-487E-8C30-96D1EC08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575-4E2C-4134-A28D-7F3DDA37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3B16-3D29-4990-ACE9-03147C5A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9974-06FD-4677-8591-B06DA370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17C9-DA9D-48B3-95F6-5F63DA3B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E149-F55C-4FCC-B1C7-B2C3A0CD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DE6D-6086-44B9-8550-C6BD1C96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73FA-0354-46CB-85C8-C273BD7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03ED-5F4F-4DF5-BFC2-B5EAB1BB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3AB-DD43-4F00-BD60-13428B84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31C3-BF60-4DC1-8B94-4BED266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A732-0583-4669-9A3E-1742CDC2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30FD-01DF-4E3F-A36A-26C44021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72D7-317F-4C07-905F-F01DCBE2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E219-7AEC-4A3F-881E-9B19C613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A75-FFA5-4BA4-9A18-B72D2CC3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892-1542-44B5-9559-D5629D61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D09-33A4-4C18-B158-E505675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D7D-6B95-444F-B2D9-3D764FD0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843-BD97-4057-BC73-51FFD53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062-043C-4153-A10E-169377A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FFD-994E-441D-BCEE-C2D4A93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3077280"/>
            <a:ext cx="5829120" cy="2122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43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43240" y="9181440"/>
            <a:ext cx="217116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915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419274-A179-4D81-B764-B3D5C1E03A0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43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343240" y="9181440"/>
            <a:ext cx="217116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4915080" y="9181440"/>
            <a:ext cx="1599840" cy="527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F22C2C-4E63-48D9-82B8-E0C48156B30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3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4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2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3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4" Type="http://schemas.openxmlformats.org/officeDocument/2006/relationships/hyperlink" Target="http://www.google.ru/url?sa=i&amp;rct=j&amp;q=&amp;esrc=s&amp;source=images&amp;cd=&amp;cad=rja&amp;uact=8&amp;ved=0CAcQjRw&amp;url=http://olpictures.ru/doktor-ayybolit-kartinki.html&amp;ei=XyPBVIWsFYvmaLrNgJAE&amp;bvm=bv.83829542,d.d2s&amp;psig=AFQjCNGsRGRhJd_ZE_9mzXCdfSmnL-Ys5g&amp;ust=1422030002843571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0" y="2304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4">
            <a:hlinkClick r:id="rId2"/>
          </p:cNvPr>
          <p:cNvSpPr/>
          <p:nvPr/>
        </p:nvSpPr>
        <p:spPr>
          <a:xfrm>
            <a:off x="39600" y="-194004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6">
            <a:hlinkClick r:id="rId3"/>
          </p:cNvPr>
          <p:cNvSpPr/>
          <p:nvPr/>
        </p:nvSpPr>
        <p:spPr>
          <a:xfrm>
            <a:off x="192240" y="-177480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2">
            <a:hlinkClick r:id="rId4"/>
          </p:cNvPr>
          <p:cNvSpPr/>
          <p:nvPr/>
        </p:nvSpPr>
        <p:spPr>
          <a:xfrm>
            <a:off x="500040" y="2115360"/>
            <a:ext cx="56433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 algn="r">
              <a:lnSpc>
                <a:spcPct val="100000"/>
              </a:lnSpc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Консультация для родител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Доктор Айболит и его зверята в..."/>
          <p:cNvPicPr/>
          <p:nvPr/>
        </p:nvPicPr>
        <p:blipFill>
          <a:blip r:embed="rId5"/>
          <a:stretch/>
        </p:blipFill>
        <p:spPr>
          <a:xfrm>
            <a:off x="904320" y="4563000"/>
            <a:ext cx="3244320" cy="4522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8"/>
          <p:cNvSpPr/>
          <p:nvPr/>
        </p:nvSpPr>
        <p:spPr>
          <a:xfrm>
            <a:off x="344520" y="213120"/>
            <a:ext cx="624924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200" spc="-1" strike="noStrike">
                <a:solidFill>
                  <a:srgbClr val="4a452a"/>
                </a:solidFill>
                <a:latin typeface="Calibri"/>
              </a:rPr>
              <a:t>Муниципальное автономное образовательное учреждение «Прогимназия №119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944640" y="2736720"/>
            <a:ext cx="504900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800" spc="-1" strike="noStrike">
                <a:solidFill>
                  <a:srgbClr val="00b050"/>
                </a:solidFill>
                <a:latin typeface="Calibri"/>
              </a:rPr>
              <a:t>«Чтоб здоровье сохранить, научись его ценить!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/>
          </p:cNvPr>
          <p:cNvSpPr/>
          <p:nvPr/>
        </p:nvSpPr>
        <p:spPr>
          <a:xfrm>
            <a:off x="39600" y="-194004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4">
            <a:hlinkClick r:id="rId2"/>
          </p:cNvPr>
          <p:cNvSpPr/>
          <p:nvPr/>
        </p:nvSpPr>
        <p:spPr>
          <a:xfrm>
            <a:off x="192240" y="-177480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6">
            <a:hlinkClick r:id="rId3"/>
          </p:cNvPr>
          <p:cNvSpPr/>
          <p:nvPr/>
        </p:nvSpPr>
        <p:spPr>
          <a:xfrm>
            <a:off x="344520" y="-160956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8">
            <a:hlinkClick r:id="rId4"/>
          </p:cNvPr>
          <p:cNvSpPr/>
          <p:nvPr/>
        </p:nvSpPr>
        <p:spPr>
          <a:xfrm>
            <a:off x="496800" y="-1444680"/>
            <a:ext cx="291420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5760" rIns="95760" tIns="47880" bIns="4788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5"/>
          <a:stretch/>
        </p:blipFill>
        <p:spPr>
          <a:xfrm>
            <a:off x="-17640" y="-2232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012320" y="1208520"/>
            <a:ext cx="44445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00b050"/>
                </a:solidFill>
                <a:latin typeface="Calibri"/>
              </a:rPr>
              <a:t>Уважаемые родител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75360" y="2115360"/>
            <a:ext cx="547236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В современном мире, когда вокруг маленького человека столько соблазнов, только родители способны и должны оградить его от вредных привычек, неправильного питания, пассивного, малоподвижного образа жизни и других опасных факт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Если вы, родители сейчас уделите достаточно внимания здоровью своего ребенка, то в будущем он обязательно оценит вашу заботу и внимание о нем, он навсегда будет вам благодарен за самый важный подарок в жизни каждого человека- здоровье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Уважаемые родители не забывайте, что ключ к успеху в укреплении и сохранении здоровья вашего ребенка- в разумном физическом, интеллектуально-личностном разви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Оздоровление малыша должно включать в себя различные компоненты, совокупность которых можно назвать как «здоровый образ жизни»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-17640" y="-2232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72760" y="829440"/>
            <a:ext cx="5688360" cy="75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Здоровье ребенка обеспечивается с помощью организации здорового образа жизни, компонентами которого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физическое здоровье ребенка (закаливание, правильное питание, режим дня, гимнастика, подвижные игры, личная гигиена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психологическое здоровье ребенка (интерес, желание, потребности, эмоциональный комфор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социальное здоровье (поведение, общение, опыт, практик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нравственное здоровье (здоровый образ жизни, дружба, доброжелательность, сотрудничеств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- интеллектуальное здоровье (навыки, знания, способности, умени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Вот эти все компоненты нужно внести в жизнь ребенка, чтобы сохранить и укрепить здоровье малыша. Рациональная организация двигательной активности - важное условие для роста и развития детского организма, ведь чем активнее работают мышцы, тем более жизнеспособен человек. Нагружая мышечную систему мы не только воспитываем ребенка сильным и ловким, но и развиваем его внутренние органы, сердце, легкие, таким образом напряженная работа скелетно-мышечной система ведет к совершенствованию всех органов и систем, делает организм ребенка особенно прочным, а главное здор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-23040" y="2556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771120" y="943920"/>
            <a:ext cx="52693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Уделите внимание психическому здоровью - ведь счастлив тот ребенок которому комфортно и ую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Режим дня ребенка, должен быть стабильным, гибким и динамичным, должен предусматривать разнообразную деятельность ребенка с учетом состояния здоровья детей и возрастных особенностей. Родители и педагоги мы не должны забывать, что нужно создавать такие условия, которые бы удовлетворяли детское любопытство. У детей должна быть насыщенная разными событиями жизнь! И тогда вашему малышу времени болеть просто не буд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Обязательно нужно уделить внимание эффективному закаливанию, в коже ребенка заложено огромное количество нервных окончаний, воздействие на них благотворно повлияют на всю нервную систему, а через нее и на все орг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Админ\Desktop\Былкина Света\РАБОТА ПСИХОЛОГИЯ\Картинки фрукты, звери, овощи т.д\Коллекция шаблонов№2\podagra_prezentaciya_2790_101.jpg"/>
          <p:cNvPicPr/>
          <p:nvPr/>
        </p:nvPicPr>
        <p:blipFill>
          <a:blip r:embed="rId1"/>
          <a:stretch/>
        </p:blipFill>
        <p:spPr>
          <a:xfrm>
            <a:off x="0" y="0"/>
            <a:ext cx="6857640" cy="99057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882720" y="1130400"/>
            <a:ext cx="5461920" cy="61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Закаливание поможет улучшить деятельность нервной системы, сердца, обмен веществ, аппетит, организм ребенка адаптируется к окружающей обстановке, повысится сопротивляемость к заболева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Спорт должен стать неотъемлемой частью любого человека заботящегося о своем здоровье, поэтому малыш должен видеть пример родителей, не стоит целый день проводить за компьютером или телевизором, а лучше погуляйте с ребенком, покатайтесь на велосипеде, или лыжах, при нормальном состоянии ребенка можно определить в спортивную секцию, танцы, хоккей- все зависит от потребностей и желания родителей и ребенка. Главное нужно помнить, чтобы вы не выбрали, важная задача- поддерживать детский организм в нормальном физическом состоянии и сохранять здоровье малыш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a452a"/>
                </a:solidFill>
                <a:latin typeface="Calibri"/>
              </a:rPr>
              <a:t>Забота о развитии и здоровье ребенка начинается с организации здорового образа жизни, как в семье, так и в детском саду. Ведь здоровый ребенок сегодня- наше успешное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413360" y="7832520"/>
            <a:ext cx="42768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</a:pPr>
            <a:r>
              <a:rPr b="1" lang="ru-RU" sz="3400" spc="-1" strike="noStrike">
                <a:solidFill>
                  <a:srgbClr val="00b050"/>
                </a:solidFill>
                <a:latin typeface="Calibri"/>
              </a:rPr>
              <a:t>Желаем Вам успехов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  <Words>583</Words>
  <Paragraphs>2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6:12:03Z</dcterms:created>
  <dc:creator>светлана</dc:creator>
  <dc:description/>
  <dc:language>en-US</dc:language>
  <cp:lastModifiedBy>Метод2</cp:lastModifiedBy>
  <cp:lastPrinted>2015-01-29T03:25:32Z</cp:lastPrinted>
  <dcterms:modified xsi:type="dcterms:W3CDTF">2021-04-20T08:12:43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Лист A4 (210x297 мм)</vt:lpwstr>
  </property>
  <property fmtid="{D5CDD505-2E9C-101B-9397-08002B2CF9AE}" pid="3" name="Slides">
    <vt:r8>5</vt:r8>
  </property>
</Properties>
</file>