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6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D2C9-6D88-4F1B-971D-9F8C915EA2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6CD3-B41C-4491-8D0A-3659A58717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ям дается распечатки задания, потом можно легко проверить с помощью этого слай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368-576B-48B4-BE4D-498FB343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8A8-CBDD-4B52-A04B-F8870616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A22-0B9B-41D2-BB1F-DECCB041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2FB-4C35-4B68-912A-B6E96F04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E9FF-6041-4DBF-961B-8FDF6847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A1AF-6AA3-4FDF-B8B1-E3A351E4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94B-687C-4245-BDA5-ECB24C7C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7884-8B0E-423B-BD1A-6B9D7226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918-239E-45B8-9937-4B29C901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E21-4929-4725-8AFA-86D42EA4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DAC-04CD-49AF-919B-1E8284E1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1544-D9EE-4F4B-854D-009F4629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1748-CCE7-40F6-BC7E-95FE93E2DC3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27.jpeg"/><Relationship Id="rId7" Type="http://schemas.openxmlformats.org/officeDocument/2006/relationships/image" Target="../media/image39.jpeg"/><Relationship Id="rId8" Type="http://schemas.openxmlformats.org/officeDocument/2006/relationships/image" Target="../media/image28.jpeg"/><Relationship Id="rId9" Type="http://schemas.openxmlformats.org/officeDocument/2006/relationships/image" Target="../media/image40.jpeg"/><Relationship Id="rId10" Type="http://schemas.openxmlformats.org/officeDocument/2006/relationships/image" Target="../media/image41.jpe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3e1d1e79-1a04-11dd-bd0b-0800200c9a66/index.htm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772400" cy="62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2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98989"/>
                </a:solidFill>
                <a:latin typeface="Calibri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Calibri"/>
              </a:rPr>
              <a:t>Пищеварение  в желудке и кишечни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Учитель биолог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Чикина Е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ГБОУ СОШ №2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уну чокка органы пищеварения1"/>
          <p:cNvPicPr/>
          <p:nvPr/>
        </p:nvPicPr>
        <p:blipFill>
          <a:blip r:embed="rId1"/>
          <a:stretch/>
        </p:blipFill>
        <p:spPr>
          <a:xfrm>
            <a:off x="5029200" y="3844800"/>
            <a:ext cx="2841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L09_p05_p01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228600" y="60271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лудок может вместить 2-3 л пищ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cs540108.vk.me/c618918/v618918468/6fb0/4QRhBscTrk0.jpg"/>
          <p:cNvPicPr/>
          <p:nvPr/>
        </p:nvPicPr>
        <p:blipFill>
          <a:blip r:embed="rId2"/>
          <a:stretch/>
        </p:blipFill>
        <p:spPr>
          <a:xfrm>
            <a:off x="609480" y="1295280"/>
            <a:ext cx="7620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верхность слизистой желу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Documents and Settings\Артём\Мои документы\Мои рисунки\2010-06-06\Поверхность слизистой желудка.jpg"/>
          <p:cNvPicPr/>
          <p:nvPr/>
        </p:nvPicPr>
        <p:blipFill>
          <a:blip r:embed="rId1"/>
          <a:stretch/>
        </p:blipFill>
        <p:spPr>
          <a:xfrm>
            <a:off x="1071720" y="1500120"/>
            <a:ext cx="71434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елезы желу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Documents and Settings\Артём\Мои документы\Мои рисунки\2010-06-06\Железы желужка.jpg"/>
          <p:cNvPicPr/>
          <p:nvPr/>
        </p:nvPicPr>
        <p:blipFill>
          <a:blip r:embed="rId1"/>
          <a:stretch/>
        </p:blipFill>
        <p:spPr>
          <a:xfrm>
            <a:off x="928800" y="1285920"/>
            <a:ext cx="735804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Артём\Рабочий стол\Новая папка\железы желудкак и их секреты.jpg"/>
          <p:cNvPicPr/>
          <p:nvPr/>
        </p:nvPicPr>
        <p:blipFill>
          <a:blip r:embed="rId1"/>
          <a:stretch/>
        </p:blipFill>
        <p:spPr>
          <a:xfrm>
            <a:off x="1500120" y="10000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Артём\Мои документы\Мои рисунки\2010-06-06\Двенадцатиперстная кишка.jpg"/>
          <p:cNvPicPr/>
          <p:nvPr/>
        </p:nvPicPr>
        <p:blipFill>
          <a:blip r:embed="rId1"/>
          <a:stretch/>
        </p:blipFill>
        <p:spPr>
          <a:xfrm>
            <a:off x="857160" y="214200"/>
            <a:ext cx="7358040" cy="5056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535752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 – желудок; 2 – поджелудочная железа; 3 – двенадцатиперстная кишка; 4- желчный пузырь; 5 – печень; 6 – проток поджелудочной железы и желчевыводящих путей, ведущих в двенадцатиперстную кишк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L09_p06_p01"/>
          <p:cNvPicPr/>
          <p:nvPr/>
        </p:nvPicPr>
        <p:blipFill>
          <a:blip r:embed="rId1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457200" y="54082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ая часть пищеварительных процессов происходит в начальном отделе тонкой кишки – двенадцатиперстной кишк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4520" y="314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ИШЕЧНИК           </a:t>
            </a: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ОНКИЙ                           ТОЛСТЫ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cxnSp>
        <p:nvCxnSpPr>
          <p:cNvPr id="97" name="Прямая со стрелкой 5"/>
          <p:cNvCxnSpPr/>
          <p:nvPr/>
        </p:nvCxnSpPr>
        <p:spPr>
          <a:xfrm flipH="1">
            <a:off x="3123720" y="990360"/>
            <a:ext cx="1067760" cy="6102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Прямая со стрелкой 6"/>
          <p:cNvCxnSpPr/>
          <p:nvPr/>
        </p:nvCxnSpPr>
        <p:spPr>
          <a:xfrm>
            <a:off x="4571640" y="990360"/>
            <a:ext cx="1067400" cy="6102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99" name="Picture 13" descr="a_n_06_03_j_cienkie"/>
          <p:cNvPicPr/>
          <p:nvPr/>
        </p:nvPicPr>
        <p:blipFill>
          <a:blip r:embed="rId1"/>
          <a:stretch/>
        </p:blipFill>
        <p:spPr>
          <a:xfrm>
            <a:off x="685800" y="2743200"/>
            <a:ext cx="3373560" cy="22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a_n_06_04_j_grubego"/>
          <p:cNvPicPr/>
          <p:nvPr/>
        </p:nvPicPr>
        <p:blipFill>
          <a:blip r:embed="rId2"/>
          <a:stretch/>
        </p:blipFill>
        <p:spPr>
          <a:xfrm>
            <a:off x="4952880" y="2743200"/>
            <a:ext cx="3168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КОМПЬЮТЕРНЫЕ ВЕСТИ Пульс цифрового мира"/>
          <p:cNvPicPr/>
          <p:nvPr/>
        </p:nvPicPr>
        <p:blipFill>
          <a:blip r:embed="rId1"/>
          <a:stretch/>
        </p:blipFill>
        <p:spPr>
          <a:xfrm>
            <a:off x="468360" y="4248000"/>
            <a:ext cx="3816360" cy="2513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50920" y="3355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чен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- самая крупная железа человеческого организма массой до 2 к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Профилактика заболеваний печени"/>
          <p:cNvPicPr/>
          <p:nvPr/>
        </p:nvPicPr>
        <p:blipFill>
          <a:blip r:embed="rId2"/>
          <a:srcRect l="0" t="0" r="0" b="18744"/>
          <a:stretch/>
        </p:blipFill>
        <p:spPr>
          <a:xfrm>
            <a:off x="279360" y="879480"/>
            <a:ext cx="3781440" cy="32432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3789360" y="1163520"/>
            <a:ext cx="495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на расположена в брюшной полости справа непосредственно под диафрагм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3755880" y="2044800"/>
            <a:ext cx="528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чень состоит из четырех неравных долей. Ее верхняя сторона выпуклая, нижняя - слегка вогнут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3774960" y="3106800"/>
            <a:ext cx="510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центре нижней поверхности находятся ворота печени - место прохождения крупных кровеносных сосу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1619280" y="6500880"/>
            <a:ext cx="237636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ИЗБРАННЫЕ СТАТЬИ - vedagood"/>
          <p:cNvPicPr/>
          <p:nvPr/>
        </p:nvPicPr>
        <p:blipFill>
          <a:blip r:embed="rId3"/>
          <a:stretch/>
        </p:blipFill>
        <p:spPr>
          <a:xfrm>
            <a:off x="4917960" y="4346640"/>
            <a:ext cx="31435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90360" y="341280"/>
            <a:ext cx="90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изистая оболочка тонкой кишки имеет выпячивания -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рсинк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строение кишечника схема - Схемы"/>
          <p:cNvPicPr/>
          <p:nvPr/>
        </p:nvPicPr>
        <p:blipFill>
          <a:blip r:embed="rId1"/>
          <a:stretch/>
        </p:blipFill>
        <p:spPr>
          <a:xfrm>
            <a:off x="552600" y="1319040"/>
            <a:ext cx="299700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3629160" y="1405080"/>
            <a:ext cx="55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аждую ворсинку входят 1-2 артериолы, распадающиеся там на капиллярные се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0" y="5649840"/>
            <a:ext cx="916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рменты постоянно разрушают клетки слизистой оболочки кишки, поэтому в ней происходит самое быстрое деление клеток. Они обновляются каждые 3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1920" y="4089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изистой оболочке тонкого кишечника расположены многочисленные железы, вырабатывающие ежесуточно до 2 л кишечного сока - непрозрачной вязкой жидкости. В составе кишечного сока более 20 фермент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http://planetadg.ru/images/dog/kormlenie06.jpg"/>
          <p:cNvPicPr/>
          <p:nvPr/>
        </p:nvPicPr>
        <p:blipFill>
          <a:blip r:embed="rId1"/>
          <a:stretch/>
        </p:blipFill>
        <p:spPr>
          <a:xfrm>
            <a:off x="4284720" y="3789360"/>
            <a:ext cx="4562280" cy="3068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" descr="http://mediasubs.ru/group/uploads/sp/sportivnaya-eda/image2/zAtMWQ3Yy.jpg"/>
          <p:cNvPicPr/>
          <p:nvPr/>
        </p:nvPicPr>
        <p:blipFill>
          <a:blip r:embed="rId2"/>
          <a:stretch/>
        </p:blipFill>
        <p:spPr>
          <a:xfrm>
            <a:off x="0" y="3362400"/>
            <a:ext cx="4762440" cy="3495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http://cs317217.userapi.com/v317217577/249d/ud_0aPyvhe4.jpg"/>
          <p:cNvPicPr/>
          <p:nvPr/>
        </p:nvPicPr>
        <p:blipFill>
          <a:blip r:embed="rId3"/>
          <a:stretch/>
        </p:blipFill>
        <p:spPr>
          <a:xfrm>
            <a:off x="3276720" y="189000"/>
            <a:ext cx="5715000" cy="3333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179280" y="476280"/>
            <a:ext cx="288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Продукты, богатые бел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ермен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биологические катализаторы, представляющие собой белки сложного строения, под действием которых происходит расщепление пи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Calibri"/>
              </a:rPr>
              <a:t>Ферменты слюны – действуют в слабощелочной сре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Calibri"/>
              </a:rPr>
              <a:t>Ферменты желудка – в кислой сре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Ферменты поджелудочной железы – в слабощелочной сред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L09_p10_p01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52280" y="5652720"/>
            <a:ext cx="975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а всасывается в толстой кишке. Здесь же происходит формирование каловых масс, которые удаляются через анальное отверстие в процессе дефекац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нтур какого органа изображен на этом рисунке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a_n_03_01_serce_alfa"/>
          <p:cNvPicPr/>
          <p:nvPr/>
        </p:nvPicPr>
        <p:blipFill>
          <a:blip r:embed="rId1"/>
          <a:stretch/>
        </p:blipFill>
        <p:spPr>
          <a:xfrm>
            <a:off x="5364000" y="1844640"/>
            <a:ext cx="1440000" cy="2016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29320" y="91332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a_n_06_03_j_cienkie_alfa"/>
          <p:cNvPicPr/>
          <p:nvPr/>
        </p:nvPicPr>
        <p:blipFill>
          <a:blip r:embed="rId2"/>
          <a:stretch/>
        </p:blipFill>
        <p:spPr>
          <a:xfrm>
            <a:off x="2050920" y="1989000"/>
            <a:ext cx="2233800" cy="1440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229320" y="208476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a_n_06_04_j_grubego_alfa"/>
          <p:cNvPicPr/>
          <p:nvPr/>
        </p:nvPicPr>
        <p:blipFill>
          <a:blip r:embed="rId3"/>
          <a:stretch/>
        </p:blipFill>
        <p:spPr>
          <a:xfrm>
            <a:off x="539640" y="4292640"/>
            <a:ext cx="2303640" cy="1584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9"/>
          <p:cNvSpPr/>
          <p:nvPr/>
        </p:nvSpPr>
        <p:spPr>
          <a:xfrm>
            <a:off x="229320" y="325656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a_n_06_01_zoladek_alfa"/>
          <p:cNvPicPr/>
          <p:nvPr/>
        </p:nvPicPr>
        <p:blipFill>
          <a:blip r:embed="rId4"/>
          <a:stretch/>
        </p:blipFill>
        <p:spPr>
          <a:xfrm>
            <a:off x="3276720" y="4149720"/>
            <a:ext cx="2447640" cy="1727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1"/>
          <p:cNvSpPr/>
          <p:nvPr/>
        </p:nvSpPr>
        <p:spPr>
          <a:xfrm>
            <a:off x="229320" y="442800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a_n_06_02_watroba_alfa"/>
          <p:cNvPicPr/>
          <p:nvPr/>
        </p:nvPicPr>
        <p:blipFill>
          <a:blip r:embed="rId5"/>
          <a:stretch/>
        </p:blipFill>
        <p:spPr>
          <a:xfrm>
            <a:off x="6227640" y="4508640"/>
            <a:ext cx="2376720" cy="1368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a_n_06_03_j_cienkie"/>
          <p:cNvPicPr/>
          <p:nvPr/>
        </p:nvPicPr>
        <p:blipFill>
          <a:blip r:embed="rId6"/>
          <a:stretch/>
        </p:blipFill>
        <p:spPr>
          <a:xfrm>
            <a:off x="2057400" y="1981080"/>
            <a:ext cx="2209680" cy="1447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a_n_03_01_serce"/>
          <p:cNvPicPr/>
          <p:nvPr/>
        </p:nvPicPr>
        <p:blipFill>
          <a:blip r:embed="rId7"/>
          <a:stretch/>
        </p:blipFill>
        <p:spPr>
          <a:xfrm>
            <a:off x="5334120" y="1828800"/>
            <a:ext cx="1466640" cy="2057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a_n_06_04_j_grubego"/>
          <p:cNvPicPr/>
          <p:nvPr/>
        </p:nvPicPr>
        <p:blipFill>
          <a:blip r:embed="rId8"/>
          <a:stretch/>
        </p:blipFill>
        <p:spPr>
          <a:xfrm>
            <a:off x="533520" y="4267080"/>
            <a:ext cx="2286000" cy="1594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a_n_06_01_zoladek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a_n_06_02_watroba"/>
          <p:cNvPicPr/>
          <p:nvPr/>
        </p:nvPicPr>
        <p:blipFill>
          <a:blip r:embed="rId10"/>
          <a:stretch/>
        </p:blipFill>
        <p:spPr>
          <a:xfrm>
            <a:off x="6172200" y="4495680"/>
            <a:ext cx="2438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смотр Э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836280"/>
            <a:ext cx="8147160" cy="56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пищеварения на всех этапах прохождения пи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files.school-collection.edu.ru/dlrstore/3e1d1e79-1a04-11dd-bd0b-0800200c9a66/index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§32-3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http://im1-tub-ru.yandex.net/i?id=128128974-35-72&amp;n=21"/>
          <p:cNvPicPr/>
          <p:nvPr/>
        </p:nvPicPr>
        <p:blipFill>
          <a:blip r:embed="rId1"/>
          <a:stretch/>
        </p:blipFill>
        <p:spPr>
          <a:xfrm>
            <a:off x="5435640" y="1341360"/>
            <a:ext cx="293220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im2-tub-ru.yandex.net/i?id=579214433-23-72&amp;n=21"/>
          <p:cNvPicPr/>
          <p:nvPr/>
        </p:nvPicPr>
        <p:blipFill>
          <a:blip r:embed="rId2"/>
          <a:stretch/>
        </p:blipFill>
        <p:spPr>
          <a:xfrm>
            <a:off x="250920" y="1413000"/>
            <a:ext cx="3673440" cy="2447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img1.liveinternet.ru/images/attach/c/6/91/18/91018785_4497432_eda_4_jpeg.jpg"/>
          <p:cNvPicPr/>
          <p:nvPr/>
        </p:nvPicPr>
        <p:blipFill>
          <a:blip r:embed="rId3"/>
          <a:stretch/>
        </p:blipFill>
        <p:spPr>
          <a:xfrm>
            <a:off x="2484360" y="4005360"/>
            <a:ext cx="3995640" cy="266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im3-tub-ru.yandex.net/i?id=166273404-50-72&amp;n=21"/>
          <p:cNvPicPr/>
          <p:nvPr/>
        </p:nvPicPr>
        <p:blipFill>
          <a:blip r:embed="rId4"/>
          <a:srcRect l="51117" t="0" r="0" b="0"/>
          <a:stretch/>
        </p:blipFill>
        <p:spPr>
          <a:xfrm>
            <a:off x="6659640" y="4437000"/>
            <a:ext cx="1584360" cy="2160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1476360" y="40464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Продукты, богатые жи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9" descr="http://pwpt.ru/uploads/presentation_screenshots/00612ab40791f54fb46b1ab87e037f55.JPG"/>
          <p:cNvPicPr/>
          <p:nvPr/>
        </p:nvPicPr>
        <p:blipFill>
          <a:blip r:embed="rId5"/>
          <a:srcRect l="6984" t="56131" r="71878" b="5885"/>
          <a:stretch/>
        </p:blipFill>
        <p:spPr>
          <a:xfrm>
            <a:off x="250920" y="3933720"/>
            <a:ext cx="2089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im3-tub-ru.yandex.net/i?id=340699286-08-72&amp;n=21"/>
          <p:cNvPicPr/>
          <p:nvPr/>
        </p:nvPicPr>
        <p:blipFill>
          <a:blip r:embed="rId1"/>
          <a:stretch/>
        </p:blipFill>
        <p:spPr>
          <a:xfrm>
            <a:off x="4859280" y="4076640"/>
            <a:ext cx="3816360" cy="259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im0-tub-ru.yandex.net/i?id=108106232-17-72&amp;n=21"/>
          <p:cNvPicPr/>
          <p:nvPr/>
        </p:nvPicPr>
        <p:blipFill>
          <a:blip r:embed="rId2"/>
          <a:stretch/>
        </p:blipFill>
        <p:spPr>
          <a:xfrm>
            <a:off x="250920" y="4292640"/>
            <a:ext cx="3673440" cy="237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im3-tub-ru.yandex.net/i?id=426571115-34-72&amp;n=21"/>
          <p:cNvPicPr/>
          <p:nvPr/>
        </p:nvPicPr>
        <p:blipFill>
          <a:blip r:embed="rId3"/>
          <a:stretch/>
        </p:blipFill>
        <p:spPr>
          <a:xfrm>
            <a:off x="250920" y="1197000"/>
            <a:ext cx="3960720" cy="273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http://im5-tub-ru.yandex.net/i?id=432075476-13-72&amp;n=21"/>
          <p:cNvPicPr/>
          <p:nvPr/>
        </p:nvPicPr>
        <p:blipFill>
          <a:blip r:embed="rId4"/>
          <a:stretch/>
        </p:blipFill>
        <p:spPr>
          <a:xfrm>
            <a:off x="4356000" y="981000"/>
            <a:ext cx="4448160" cy="2952720"/>
          </a:xfrm>
          <a:prstGeom prst="rect">
            <a:avLst/>
          </a:prstGeom>
          <a:ln w="0">
            <a:noFill/>
          </a:ln>
        </p:spPr>
      </p:pic>
      <p:sp>
        <p:nvSpPr>
          <p:cNvPr id="64" name="TextBox 7"/>
          <p:cNvSpPr/>
          <p:nvPr/>
        </p:nvSpPr>
        <p:spPr>
          <a:xfrm>
            <a:off x="900000" y="33336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укты, богатые углев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L01_p08_p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36_34"/>
          <p:cNvPicPr/>
          <p:nvPr/>
        </p:nvPicPr>
        <p:blipFill>
          <a:blip r:embed="rId1"/>
          <a:stretch/>
        </p:blipFill>
        <p:spPr>
          <a:xfrm>
            <a:off x="3422520" y="285840"/>
            <a:ext cx="2298960" cy="628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36_34_"/>
          <p:cNvPicPr/>
          <p:nvPr/>
        </p:nvPicPr>
        <p:blipFill>
          <a:blip r:embed="rId2"/>
          <a:stretch/>
        </p:blipFill>
        <p:spPr>
          <a:xfrm>
            <a:off x="838080" y="152280"/>
            <a:ext cx="7317000" cy="65296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0" y="0"/>
            <a:ext cx="8763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азовите органы пищеваритель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457200" y="228600"/>
            <a:ext cx="845820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елуд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удок служит резервуаром для накопления 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безврежив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и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е он  напоминает грушу, вместимость его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о 5-10 л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лость желудка выделяется желудочный сок. Желудочный сок – это прозрачная жидкость, 0,25%  объема составляет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глеводы.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действием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слюны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щихся в желудочном соке, начинается переваривани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….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ща в желудке задерживается  д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9-10 часов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о мере превращения в полужидкую кашицу  и переваривания проходит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ищевод.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200400" y="990720"/>
            <a:ext cx="342900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вар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114800" y="1766880"/>
            <a:ext cx="196056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-3 ли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57200" y="3348000"/>
            <a:ext cx="304812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ляная кисл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6634080" y="3348000"/>
            <a:ext cx="205740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р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5829480" y="4114800"/>
            <a:ext cx="148572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6172200" y="4576680"/>
            <a:ext cx="205740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-6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57200" y="5715000"/>
            <a:ext cx="22096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шеч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Артём\Рабочий стол\Новая папка\строение желудка.jpg"/>
          <p:cNvPicPr/>
          <p:nvPr/>
        </p:nvPicPr>
        <p:blipFill>
          <a:blip r:embed="rId1"/>
          <a:stretch/>
        </p:blipFill>
        <p:spPr>
          <a:xfrm>
            <a:off x="1071720" y="71424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троение желуд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28760" y="5000400"/>
            <a:ext cx="8229600" cy="133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 — мышечные слои желудка: 1 — наружный продольный сло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 — средний круговой слой; 3 — внутренний косой сло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 — внутренняя слизистая поверхность желудка (виден сфинктер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C:\Documents and Settings\Артём\Мои документы\Мои рисунки\2010-06-06\желудок.jpg"/>
          <p:cNvPicPr/>
          <p:nvPr/>
        </p:nvPicPr>
        <p:blipFill>
          <a:blip r:embed="rId1"/>
          <a:stretch/>
        </p:blipFill>
        <p:spPr>
          <a:xfrm>
            <a:off x="1785960" y="1357200"/>
            <a:ext cx="59389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-comp</dc:creator>
  <dc:description/>
  <dc:language>en-US</dc:language>
  <cp:lastModifiedBy>Александр</cp:lastModifiedBy>
  <dcterms:modified xsi:type="dcterms:W3CDTF">2021-04-20T20:22:18Z</dcterms:modified>
  <cp:revision>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