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23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6F3-06E4-4260-BEE2-7A3A8989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ED2-FF8E-42D2-AE67-34A7AA2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E6A-4CDD-4295-A41B-692C86D5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E08-4440-4144-AE17-795937CE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7AC-0976-45B6-BA12-0A53FA4B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475F-E429-47AC-9599-D3404949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DAB-CBF6-4380-8C09-6FDA01B7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7666-3EDA-46B2-8780-628DA070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FEE6-9B6B-4167-9E62-F7B367CD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3BDB-FA70-47C6-AAA2-946C44D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E8CE-F020-411C-B0BA-20C790A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1DF-3E12-4052-ACC4-F2A4856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0695-FB46-4E03-AC44-E0DFC4E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C0FB-0BC3-4619-8FA0-8083CE2B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4FA-0CC8-417E-A63F-AD71FC2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B8BC-0624-404F-B731-847EF3AB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0E88-9341-4DA5-9917-0B00B035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FCFA-C3EC-43D5-8C16-FE416860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4E5B-6B40-4072-8A4A-E5CA83AB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C87B-C677-40B2-A7E0-B8872358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D9D6-B0DE-4000-BC20-EC4984C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8895-D85D-4056-BF1E-B736637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C55-0468-45A6-9587-F3A1067E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04BC9-7534-4EA2-BB92-4CE237B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DF39-482D-4F42-9161-466F2A02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0002-E45D-4335-867D-B56496F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CB4C-16CF-4AE1-BABF-CCD9EAF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25E5-2C8A-44F3-83E2-F10971D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659A-2C33-45DA-A1DD-59D6BD57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8BCD9-1A2B-41AE-8C49-81FAA11F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4E3E-9386-4E42-BE4A-0269BD86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C7AA-7FB6-45EF-A6D4-2E2EDEB1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5E5A-B917-43C8-8DEF-CF7695CA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179-DA2F-4D30-9029-8A6EA8D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3186D-D6B6-49E0-8B64-CA5D88CA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5B1F-295A-444F-89EF-36DEED6C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257BF-59C8-472C-86CA-024CB14E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ADF9-3496-4796-9218-9919322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CA07-1A71-47A7-A210-BA82359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7DB1-F763-4EAF-930B-3B34C00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4EBF-39F5-495D-A9CB-EE77EB95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9C7C9-E819-47AC-93D8-C7541F43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5C967-E0D8-47EC-8AA3-C9E31EC8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E8C7-EC12-4FBA-8252-E30C13AE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151-D4FD-4D13-8088-43CD8850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9440-7C51-499B-BBB5-03FA628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A263-365B-4A6D-8D0F-19D6602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5C254-268D-4D35-AB93-EA27FD66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47F0-D964-48FD-88D8-93C148C7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9271D-D9FE-46AC-AA8A-30BDAE55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43C36-D75D-43A4-9F09-7E2DA364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2EBD-12F8-4BE9-96DF-489B9B6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8520-3814-4CB0-9BE4-767A8DD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2132-6DAD-413E-87F0-A213E38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BFF7-B6E1-40DB-A46D-95229977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D08-2C55-4D2C-8965-37B28984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E9838-C0ED-40B0-8BCA-C95EB2F8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0349-25E4-459B-A263-DB96E056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A731-E17C-40F7-8EF2-4D1F1DA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556B3-BCF0-426A-98A4-63B75595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BA3A-680B-484D-9B4E-B241AC6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781C3-83D3-42F5-BE50-9C97A4A2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98CE0-A2AE-41FF-86A1-20B0093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5F41E-B75A-47CF-A045-1651113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BB7C-9D3A-4305-95CE-3935C9E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EF68-E302-468B-879B-D655A6A9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B53-F535-49B3-A556-7F157ADB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DEC8-4801-437D-BE10-B789A30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3570-B772-4085-829C-9F4F4AD2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0691-2EDA-44EF-9CF1-5D617F27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E14-BAD6-49E8-A11B-0691F5D5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9EA-297B-434C-AF79-6B2CB8D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EB6-A2A7-4C58-8397-01CF1A2D0B0F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1345-707C-4621-929D-E8CE1A29810A}" type="slidenum">
              <a:rPr b="0" lang="ru-RU" sz="11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EF4F-A202-4C1A-B5DD-05E71FB89E07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590C-ADD5-45F4-92EF-0636287921BB}" type="slidenum">
              <a:rPr b="0" lang="ru-RU" sz="1100" spc="-1" strike="noStrike">
                <a:solidFill>
                  <a:srgbClr val="f4e7ed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0DD2-C10C-476A-9E3A-DF83D3482537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93F1-DC84-4444-BBDD-F96CDE929A62}" type="slidenum">
              <a:rPr b="0" lang="ru-RU" sz="1100" spc="-1" strike="noStrike">
                <a:solidFill>
                  <a:srgbClr val="b13f9a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852f74"/>
                </a:solidFill>
                <a:latin typeface="Tahoma"/>
              </a:rPr>
              <a:t>Профессии глазами детей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2f74"/>
                </a:solidFill>
                <a:latin typeface="Tahoma"/>
              </a:rPr>
              <a:t>Учитель-логопед: Яненко Л.Ф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Ходит в белом колпаке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С поварешкою в рук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Он готовит нам обед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Кашу, щи и винегр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8" descr="DSCN7743"/>
          <p:cNvPicPr/>
          <p:nvPr/>
        </p:nvPicPr>
        <p:blipFill>
          <a:blip r:embed="rId2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Может делать он буфеты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Стулья, тумбы, табуреты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В стружках весь его верстак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Вот работать надо как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8" descr="DSCN7742"/>
          <p:cNvPicPr/>
          <p:nvPr/>
        </p:nvPicPr>
        <p:blipFill>
          <a:blip r:embed="rId2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По размеру в самый раз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Он  костюм сошьет для вас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Все исполнить по науке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66bb"/>
                </a:solidFill>
                <a:latin typeface="Trebuchet MS"/>
              </a:rPr>
              <a:t>И  ходите руки в брю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8" descr="DSCN7741"/>
          <p:cNvPicPr/>
          <p:nvPr/>
        </p:nvPicPr>
        <p:blipFill>
          <a:blip r:embed="rId2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          </a:t>
            </a: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На    часах настенных стрел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Стали прыгать словно бел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Мастер тут на них взглянут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руглый винтик подтяну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 сменил пружину срочно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тоб часы ходили точн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icture 8" descr="DSCN7740"/>
          <p:cNvPicPr/>
          <p:nvPr/>
        </p:nvPicPr>
        <p:blipFill>
          <a:blip r:embed="rId2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истит мастер башмак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Прибивает каблук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инит туфли и сандали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Чтоб как новенькие стал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1" name="Picture 8" descr="DSCN7739"/>
          <p:cNvPicPr/>
          <p:nvPr/>
        </p:nvPicPr>
        <p:blipFill>
          <a:blip r:embed="rId2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н приучает детишек к порядк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н проверяет ребячьи тетрадки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учит детей и читать, и писа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складывать цифры, и вычита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Picture 8" descr="DSCN7737"/>
          <p:cNvPicPr/>
          <p:nvPr/>
        </p:nvPicPr>
        <p:blipFill>
          <a:blip r:embed="rId2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 -  скульптор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4643280" y="1628640"/>
            <a:ext cx="221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-  скульптор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– художник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– творец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Он не должен ошибиться ни на йот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83d68"/>
                </a:solidFill>
                <a:latin typeface="Tahoma"/>
              </a:rPr>
              <a:t>Ведь человек – труда его вене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597040" y="291960"/>
            <a:ext cx="8412120" cy="536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Строитель нам построит до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 мы в нем дружно зажив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остюм нарядный выходно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скусно нам сошьет портно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Даст книги нам библиотекар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Хлеб испечет в пекарне пекарь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Учитель выучит всему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Научит грамоте, письм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Письмо доставит почтальон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А повар сварит нам бульон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Я думаю, ты подрастеш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И дело по душе найдешь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4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У меня не мало дел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Если кто-то заболе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Всех я вылечу друзья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Отгадайте кто же 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7" descr="DSCN7750"/>
          <p:cNvPicPr/>
          <p:nvPr/>
        </p:nvPicPr>
        <p:blipFill>
          <a:blip r:embed="rId2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Отправляюсь я в по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Забираюсь в самол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И лечу я над земл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Отгадай, кто я такой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7" descr="DSCN7749"/>
          <p:cNvPicPr/>
          <p:nvPr/>
        </p:nvPicPr>
        <p:blipFill>
          <a:blip r:embed="rId2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407440" cy="11588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аждый день сажусь в кабину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Завожу мотор машины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Еду в дальние кра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Отгадали, кто же я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7" descr="DSCN7748"/>
          <p:cNvPicPr/>
          <p:nvPr/>
        </p:nvPicPr>
        <p:blipFill>
          <a:blip r:embed="rId2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248000" cy="316836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4720" y="1341360"/>
            <a:ext cx="43196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По квартирам и дома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Много писем, телеграмм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Он приносит адресата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Как зовут его, ребята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9" descr="DSCN7747"/>
          <p:cNvPicPr/>
          <p:nvPr/>
        </p:nvPicPr>
        <p:blipFill>
          <a:blip r:embed="rId2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1"/>
          <a:stretch/>
        </p:blipFill>
        <p:spPr>
          <a:xfrm>
            <a:off x="255600" y="281160"/>
            <a:ext cx="8407440" cy="11509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1640" y="1483920"/>
            <a:ext cx="3127320" cy="4840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Хочу я сделать Мир цветным и добрым, чтобы в нем сверкало все от счастья!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711440"/>
            <a:ext cx="352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исти, краски и мольбер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амин я пишу портр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картинной галере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гадай меня скоре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9" descr="DSCN7746"/>
          <p:cNvPicPr/>
          <p:nvPr/>
        </p:nvPicPr>
        <p:blipFill>
          <a:blip r:embed="rId2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176720" cy="51274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4720" y="2174760"/>
            <a:ext cx="44989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Если вдруг пожар случитьс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Кто быстрее всех примчитс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На машине ярко-красной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Чтоб залить огонь опасный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9" descr="DSCN7745"/>
          <p:cNvPicPr/>
          <p:nvPr/>
        </p:nvPicPr>
        <p:blipFill>
          <a:blip r:embed="rId2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6840" y="5867280"/>
            <a:ext cx="3521160" cy="45720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392720" cy="3745080"/>
          </a:xfrm>
          <a:prstGeom prst="rect">
            <a:avLst/>
          </a:prstGeom>
          <a:noFill/>
          <a:ln w="12600">
            <a:solidFill>
              <a:srgbClr val="b13f9a"/>
            </a:solidFill>
            <a:miter/>
          </a:ln>
        </p:spPr>
        <p:txBody>
          <a:bodyPr lIns="96120" rIns="96120" tIns="52920" bIns="5292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00720" y="1557360"/>
            <a:ext cx="46432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Ножницы, шампунь, расческа –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Всем я делаю прически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Стригу и взрослых и дете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Отгадай меня скорей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10" descr="DSCN7744"/>
          <p:cNvPicPr/>
          <p:nvPr/>
        </p:nvPicPr>
        <p:blipFill>
          <a:blip r:embed="rId2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20-04-22T13:40:48Z</dcterms:modified>
  <cp:revision>55</cp:revision>
  <dc:subject/>
  <dc:title>П Р Е З Е Н Т А Ц И Я Елисеевой Екатерины Александровны МДОУ «Детский сад № 15 «Лужок»</dc:title>
</cp:coreProperties>
</file>