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26.jpeg" ContentType="image/jpeg"/>
  <Override PartName="/ppt/media/image23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30.jpeg" ContentType="image/jpeg"/>
  <Override PartName="/ppt/media/image24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83F6-9176-4EB6-A505-18148B51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497-8E8E-4C7B-925C-3E2D9695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DC46-2159-452D-A542-D10CEFEF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826-F586-4B61-88AD-A6127A71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F68F-FA97-4938-A614-F10670E6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87A7-87C5-4F98-BCE2-A2D3258B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DA2C-F888-4D61-A246-3C9603CD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2C15-F68A-4846-B612-1AFD5146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00FC-0F1F-4EEE-995A-BD930C78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9854-553F-4877-98D1-C07F389B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0CA4-E1B1-4951-B261-71EA7E8A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BC0F-2FBA-40A5-9AE7-DFC81A16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4D91-E78E-430A-BDA6-37F34621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23D7-A018-4378-9979-04026A1B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CFBE-B656-464E-B3BD-E17F4BEA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01AC-9559-4B46-A9D9-6B1BAC00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C9E8-9EA1-4E92-8490-DE352DAB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E33B2-4CFE-4D83-8384-89EA7C0B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A2F0B-0C45-47CE-86ED-B30BEA69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A9A56-C75B-4F43-8676-A0BCD4D0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42B56-69F7-4967-85B2-2C9C69D1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56C79-10AC-4316-8CFB-9AB63FF7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117-62FB-44F4-BEE8-E0E662E3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DEA20-320D-489B-B6B9-4DF0B76B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65E6B-2432-475A-B2AE-923152EA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CBCAC-8E21-4A82-B499-F07CBDC4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F3AB6-4916-40CF-990A-9E654247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80779-A07F-4148-9ABA-C7AAA6D3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0C996-20BE-47A7-91C9-7D425ED1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7A152-0335-4902-B4F7-BE095237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F9394-E8FD-4E86-9F53-B0B326E0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3B1F3-7700-4AEC-BE8F-8D7692C9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9812E-F28C-48A2-ACE5-32A904EB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268F-3D2D-4424-A5B4-8FB2FEB0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0D0C4-583F-41B5-AA20-FB538CE7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B8B6E-8449-4E0C-92B8-8DD06863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978CE-F6E5-4C50-90B5-5AA8B62A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C81FD-8F06-49EC-9171-6C5678CD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238BB-3383-49CE-A097-7CA468CE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739D2-8D47-4CCE-BCE1-4663EE46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0EEEC-CDF8-422F-9742-BA4FEB16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DB58F-A7A2-431F-BE3D-3350117F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260F7-D9C6-49E1-98A9-AFDC87FE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64314-24AF-43C4-85F0-49714697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BD7-67DF-49B6-8B9E-388736F3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3BB4F-8E2F-4427-A79D-E95A4975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51986-B6BE-49C3-95B7-641C5D5A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678D3-F94C-49C6-B941-CECD7C31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91841-D084-410E-A175-57F5FB75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F1085-E5DE-43AD-AC37-3DD0DB0A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DC874-DBF4-4EF9-8656-6212BBA7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DF143-1669-41D5-88BD-A3F481DE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15556-74F2-45FB-80B2-A8F74061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4D1EE-2C3D-4533-B7A1-D2662160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2DE83-18DD-432F-A66E-5E3B142E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1BB-1D4B-43B4-92F7-0DB70278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39BA2-9EAD-4852-A676-86FC2B94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67AA2-CC9C-47A5-9EF7-F9513759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C2A44-9644-4699-BF2D-26ED8252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289D4-9641-430D-B3D4-0467E390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54276-675D-4FA3-9519-EC019583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C2CFE-5B8F-42DA-99E7-8DA7EF6C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DD27D-77DD-4014-8B82-7D4B86D8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BD0AA-9157-49C5-9E16-0FAB823B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3D7A8-A86B-430C-B74A-A8A36566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11FEC-E976-4A9D-A4C9-156FD936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3DB-2D5F-4C50-960C-52D5C535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44028-BA4F-4C7D-BD64-A84DF673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82DD9-8795-4AC6-83CA-C38715E7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28679-20F4-45A3-8D72-76850E70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5C4-D0E7-416E-A9C3-C902D01F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9C5B-F8B2-47C4-B247-0B53C427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085E-997E-4DC1-95C6-FAE9690C455E}" type="slidenum">
              <a:rPr b="0" lang="ru-RU" sz="1100" spc="-1" strike="noStrike">
                <a:solidFill>
                  <a:srgbClr val="b13f9a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10AC-3950-4BC6-960A-049711A1088A}" type="slidenum">
              <a:rPr b="0" lang="ru-RU" sz="11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660B-9D19-4274-BE41-C92279A0EFF8}" type="slidenum">
              <a:rPr b="0" lang="ru-RU" sz="1100" spc="-1" strike="noStrike">
                <a:solidFill>
                  <a:srgbClr val="b13f9a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ACF7-87D4-4A93-8470-4ED8B369D212}" type="slidenum">
              <a:rPr b="0" lang="ru-RU" sz="1100" spc="-1" strike="noStrike">
                <a:solidFill>
                  <a:srgbClr val="f4e7ed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E4BC-D1DF-4BC7-82D5-4D968AD85026}" type="slidenum">
              <a:rPr b="0" lang="ru-RU" sz="1100" spc="-1" strike="noStrike">
                <a:solidFill>
                  <a:srgbClr val="b13f9a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243D-0E1C-4614-BA4D-567EAB4A01F3}" type="slidenum">
              <a:rPr b="0" lang="ru-RU" sz="1100" spc="-1" strike="noStrike">
                <a:solidFill>
                  <a:srgbClr val="b13f9a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755640" y="1071720"/>
            <a:ext cx="777708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852f74"/>
                </a:solidFill>
                <a:latin typeface="Tahoma"/>
              </a:rPr>
              <a:t>Профессии глазами детей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2f74"/>
                </a:solidFill>
                <a:latin typeface="Tahoma"/>
              </a:rPr>
              <a:t>Учитель-логопед: Яненко Л.Ф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4648320" y="1600200"/>
            <a:ext cx="4209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Ходит в белом колпаке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С поварешкою в рук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Он готовит нам обед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Кашу, щи и винегрет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9" name="Picture 8" descr="DSCN7743"/>
          <p:cNvPicPr/>
          <p:nvPr/>
        </p:nvPicPr>
        <p:blipFill>
          <a:blip r:embed="rId2"/>
          <a:stretch/>
        </p:blipFill>
        <p:spPr>
          <a:xfrm>
            <a:off x="324000" y="1125360"/>
            <a:ext cx="4187520" cy="5185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Может делать он буфеты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Стулья, тумбы, табуреты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В стружках весь его верстак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Вот работать надо как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2" name="Picture 8" descr="DSCN7742"/>
          <p:cNvPicPr/>
          <p:nvPr/>
        </p:nvPicPr>
        <p:blipFill>
          <a:blip r:embed="rId2"/>
          <a:stretch/>
        </p:blipFill>
        <p:spPr>
          <a:xfrm>
            <a:off x="476280" y="1557360"/>
            <a:ext cx="378936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По размеру в самый раз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Он  костюм сошьет для вас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Все исполнить по науке –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И  ходите руки в брюк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5" name="Picture 8" descr="DSCN7741"/>
          <p:cNvPicPr/>
          <p:nvPr/>
        </p:nvPicPr>
        <p:blipFill>
          <a:blip r:embed="rId2"/>
          <a:stretch/>
        </p:blipFill>
        <p:spPr>
          <a:xfrm>
            <a:off x="324000" y="1484280"/>
            <a:ext cx="395280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642920" y="714240"/>
            <a:ext cx="42865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          </a:t>
            </a: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На    часах настенных стрелк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Стали прыгать словно белк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Мастер тут на них взглянут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Круглый винтик подтяну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И сменил пружину срочно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Чтоб часы ходили точно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8" name="Picture 8" descr="DSCN7740"/>
          <p:cNvPicPr/>
          <p:nvPr/>
        </p:nvPicPr>
        <p:blipFill>
          <a:blip r:embed="rId2"/>
          <a:stretch/>
        </p:blipFill>
        <p:spPr>
          <a:xfrm>
            <a:off x="466560" y="1413000"/>
            <a:ext cx="398628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428720" y="1600200"/>
            <a:ext cx="4714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Чистит мастер башмаки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Прибивает каблук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Чинит туфли и сандалии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Чтоб как новенькие стал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1" name="Picture 8" descr="DSCN7739"/>
          <p:cNvPicPr/>
          <p:nvPr/>
        </p:nvPicPr>
        <p:blipFill>
          <a:blip r:embed="rId2"/>
          <a:stretch/>
        </p:blipFill>
        <p:spPr>
          <a:xfrm>
            <a:off x="250920" y="1268280"/>
            <a:ext cx="401796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н приучает детишек к порядку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н проверяет ребячьи тетрадки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учит детей и читать, и писат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складывать цифры, и вычита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4" name="Picture 8" descr="DSCN7737"/>
          <p:cNvPicPr/>
          <p:nvPr/>
        </p:nvPicPr>
        <p:blipFill>
          <a:blip r:embed="rId2"/>
          <a:stretch/>
        </p:blipFill>
        <p:spPr>
          <a:xfrm>
            <a:off x="385920" y="1413000"/>
            <a:ext cx="4100400" cy="504036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4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н -  скульптор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4643280" y="1628640"/>
            <a:ext cx="221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83d68"/>
                </a:solidFill>
                <a:latin typeface="Tahoma"/>
              </a:rPr>
              <a:t>Он -  скульптор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83d68"/>
                </a:solidFill>
                <a:latin typeface="Tahoma"/>
              </a:rPr>
              <a:t>Он – художник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83d68"/>
                </a:solidFill>
                <a:latin typeface="Tahoma"/>
              </a:rPr>
              <a:t>Он – творец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83d68"/>
                </a:solidFill>
                <a:latin typeface="Tahoma"/>
              </a:rPr>
              <a:t>Он не должен ошибиться ни на йот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83d68"/>
                </a:solidFill>
                <a:latin typeface="Tahoma"/>
              </a:rPr>
              <a:t>Ведь человек – труда его вене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2597040" y="291960"/>
            <a:ext cx="8412120" cy="5367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Строитель нам построит дом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И мы в нем дружно заживе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Костюм нарядный выходно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Искусно нам сошьет портно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Даст книги нам библиотекарь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Хлеб испечет в пекарне пекарь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Учитель выучит всему –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Научит грамоте, письм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Письмо доставит почтальон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А повар сварит нам бульон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Я думаю, ты подрастешь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И дело по душе найдешь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сширять и закреплять знания детей о разных профессиях. Воспитывать уважение к труду взрослых, желание выбрать профессию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4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407440" cy="11588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У меня не мало дел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Если кто-то заболе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Всех я вылечу друзья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Отгадайте кто же я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Picture 7" descr="DSCN7750"/>
          <p:cNvPicPr/>
          <p:nvPr/>
        </p:nvPicPr>
        <p:blipFill>
          <a:blip r:embed="rId2"/>
          <a:stretch/>
        </p:blipFill>
        <p:spPr>
          <a:xfrm>
            <a:off x="539640" y="1557360"/>
            <a:ext cx="364176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407440" cy="11588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143240" y="1600200"/>
            <a:ext cx="4786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Trebuchet MS"/>
              </a:rPr>
              <a:t>Отправляюсь я в пол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Trebuchet MS"/>
              </a:rPr>
              <a:t>Забираюсь в самол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Trebuchet MS"/>
              </a:rPr>
              <a:t>И лечу я над земл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Trebuchet MS"/>
              </a:rPr>
              <a:t>Отгадай, кто я такой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Picture 7" descr="DSCN7749"/>
          <p:cNvPicPr/>
          <p:nvPr/>
        </p:nvPicPr>
        <p:blipFill>
          <a:blip r:embed="rId2"/>
          <a:stretch/>
        </p:blipFill>
        <p:spPr>
          <a:xfrm>
            <a:off x="324000" y="1484280"/>
            <a:ext cx="3782880" cy="4681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407440" cy="11588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929120" y="1600200"/>
            <a:ext cx="4214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Каждый день сажусь в кабину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Завожу мотор машины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Еду в дальние кра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Отгадали, кто же я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6" name="Picture 7" descr="DSCN7748"/>
          <p:cNvPicPr/>
          <p:nvPr/>
        </p:nvPicPr>
        <p:blipFill>
          <a:blip r:embed="rId2"/>
          <a:stretch/>
        </p:blipFill>
        <p:spPr>
          <a:xfrm>
            <a:off x="324000" y="1413000"/>
            <a:ext cx="403704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58672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6120" rIns="96120" tIns="52920" bIns="5292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00720" y="1412640"/>
            <a:ext cx="4248000" cy="316836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6120" rIns="96120" tIns="52920" bIns="5292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4720" y="1341360"/>
            <a:ext cx="43196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По квартирам и домам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Много писем, телеграмм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Он приносит адресата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Как зовут его, ребята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9" descr="DSCN7747"/>
          <p:cNvPicPr/>
          <p:nvPr/>
        </p:nvPicPr>
        <p:blipFill>
          <a:blip r:embed="rId2"/>
          <a:stretch/>
        </p:blipFill>
        <p:spPr>
          <a:xfrm>
            <a:off x="455760" y="1413000"/>
            <a:ext cx="3966840" cy="4968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1" descr=""/>
          <p:cNvPicPr/>
          <p:nvPr/>
        </p:nvPicPr>
        <p:blipFill>
          <a:blip r:embed="rId1"/>
          <a:stretch/>
        </p:blipFill>
        <p:spPr>
          <a:xfrm>
            <a:off x="255600" y="281160"/>
            <a:ext cx="8407440" cy="11509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6840" y="58672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6120" rIns="96120" tIns="52920" bIns="5292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1640" y="1483920"/>
            <a:ext cx="3127320" cy="4840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rebuchet MS"/>
              </a:rPr>
              <a:t>Хочу я сделать Мир цветным и добрым, чтобы в нем сверкало все от счастья!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711440"/>
            <a:ext cx="352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исти, краски и мольберт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амин я пишу портрет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картинной галере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тгадай меня скорее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Picture 9" descr="DSCN7746"/>
          <p:cNvPicPr/>
          <p:nvPr/>
        </p:nvPicPr>
        <p:blipFill>
          <a:blip r:embed="rId2"/>
          <a:stretch/>
        </p:blipFill>
        <p:spPr>
          <a:xfrm>
            <a:off x="324000" y="1413000"/>
            <a:ext cx="40449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6840" y="58672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6120" rIns="96120" tIns="52920" bIns="5292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176720" cy="512748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6120" rIns="96120" tIns="52920" bIns="5292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4720" y="2174760"/>
            <a:ext cx="44989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c66bb"/>
                </a:solidFill>
                <a:latin typeface="Trebuchet MS"/>
              </a:rPr>
              <a:t>Если вдруг пожар случиться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c66bb"/>
                </a:solidFill>
                <a:latin typeface="Trebuchet MS"/>
              </a:rPr>
              <a:t>Кто быстрее всех примчитс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c66bb"/>
                </a:solidFill>
                <a:latin typeface="Trebuchet MS"/>
              </a:rPr>
              <a:t>На машине ярко-красной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c66bb"/>
                </a:solidFill>
                <a:latin typeface="Trebuchet MS"/>
              </a:rPr>
              <a:t>Чтоб залить огонь опасный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1" name="Picture 9" descr="DSCN7745"/>
          <p:cNvPicPr/>
          <p:nvPr/>
        </p:nvPicPr>
        <p:blipFill>
          <a:blip r:embed="rId2"/>
          <a:stretch/>
        </p:blipFill>
        <p:spPr>
          <a:xfrm>
            <a:off x="314280" y="1341360"/>
            <a:ext cx="425772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6840" y="58672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6120" rIns="96120" tIns="52920" bIns="5292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0" y="1483920"/>
            <a:ext cx="4392720" cy="374508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6120" rIns="96120" tIns="52920" bIns="5292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00720" y="1557360"/>
            <a:ext cx="46432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c66bb"/>
                </a:solidFill>
                <a:latin typeface="Trebuchet MS"/>
              </a:rPr>
              <a:t>Ножницы, шампунь, расческа –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c66bb"/>
                </a:solidFill>
                <a:latin typeface="Trebuchet MS"/>
              </a:rPr>
              <a:t>Всем я делаю прически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c66bb"/>
                </a:solidFill>
                <a:latin typeface="Trebuchet MS"/>
              </a:rPr>
              <a:t>Стригу и взрослых и дете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c66bb"/>
                </a:solidFill>
                <a:latin typeface="Trebuchet MS"/>
              </a:rPr>
              <a:t>Отгадай меня скорей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Picture 10" descr="DSCN7744"/>
          <p:cNvPicPr/>
          <p:nvPr/>
        </p:nvPicPr>
        <p:blipFill>
          <a:blip r:embed="rId2"/>
          <a:stretch/>
        </p:blipFill>
        <p:spPr>
          <a:xfrm>
            <a:off x="430200" y="1557360"/>
            <a:ext cx="399420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6:10:22Z</dcterms:created>
  <dc:creator>санек</dc:creator>
  <dc:description/>
  <dc:language>en-US</dc:language>
  <cp:lastModifiedBy>USER</cp:lastModifiedBy>
  <dcterms:modified xsi:type="dcterms:W3CDTF">2020-04-22T13:40:48Z</dcterms:modified>
  <cp:revision>55</cp:revision>
  <dc:subject/>
  <dc:title>П Р Е З Е Н Т А Ц И Я Елисеевой Екатерины Александровны МДОУ «Детский сад № 15 «Лужок»</dc:title>
</cp:coreProperties>
</file>