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1550-8A2B-4F81-9384-A7E991BE9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B805-08CE-4F3C-97DB-58ED6489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AB13-ECCC-4F0F-97D5-A85F1AA5A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AE18-492A-4A75-BE1F-8178EC2F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70B8-F10C-41D0-AE37-96C35829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E68A-0B09-4E8C-A1E4-57CA10BB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AA84-CA05-423E-B06B-79BDF07C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C093-2FF5-402E-8D58-E9BBFAF1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DA0E-F381-4780-909B-ACE82830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520D-B691-4A87-8705-17B61BAF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5AEE-7AF4-4DA3-8211-DA056C08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E3A3-C6F2-46F8-9830-DB6DB4B3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5387-B76E-465F-9CDD-2450E8176F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GCH_1Aa05_02Nd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-152280" y="56383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Писатель – фантаст и учёный – биохимик Айзек Азимов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685800" y="304920"/>
            <a:ext cx="7910640" cy="19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«Химия – это смерть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упакованная в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банки и коробки»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L01p2p10"/>
          <p:cNvPicPr/>
          <p:nvPr/>
        </p:nvPicPr>
        <p:blipFill>
          <a:blip r:embed="rId1"/>
          <a:stretch/>
        </p:blipFill>
        <p:spPr>
          <a:xfrm>
            <a:off x="685800" y="152280"/>
            <a:ext cx="7848720" cy="5220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95360" y="4876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cc00"/>
                </a:solidFill>
                <a:latin typeface="Arial"/>
              </a:rPr>
              <a:t>если вы пользуетесь чем-либо – держите в чистоте и поряд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cc00"/>
                </a:solidFill>
                <a:latin typeface="Arial"/>
              </a:rPr>
              <a:t>-если вы не знаете, как это действует, не трогай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cc00"/>
                </a:solidFill>
                <a:latin typeface="Arial"/>
              </a:rPr>
              <a:t>-если вы не знаете, как это делается, сразу спроси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сли вы не усвоили этих правил не входите в лаборатори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6"/>
          <p:cNvGraphicFramePr/>
          <p:nvPr/>
        </p:nvGraphicFramePr>
        <p:xfrm>
          <a:off x="152280" y="152280"/>
          <a:ext cx="4189680" cy="655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4189680" cy="655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WordArt 4"/>
          <p:cNvSpPr txBox="1"/>
          <p:nvPr/>
        </p:nvSpPr>
        <p:spPr>
          <a:xfrm>
            <a:off x="2133720" y="609480"/>
            <a:ext cx="6933960" cy="444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школьник, помни ты всегда,</a:t>
            </a:r>
            <a:endParaRPr b="1" lang="en-US" sz="1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най, любая кроха:</a:t>
            </a:r>
            <a:endParaRPr b="1" lang="en-US" sz="1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зопасность- хорошо,</a:t>
            </a:r>
            <a:endParaRPr b="1" lang="en-US" sz="1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 халатность- плохо!</a:t>
            </a:r>
            <a:endParaRPr b="1" lang="en-US" sz="1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L01p2p07"/>
          <p:cNvPicPr/>
          <p:nvPr/>
        </p:nvPicPr>
        <p:blipFill>
          <a:blip r:embed="rId1"/>
          <a:stretch/>
        </p:blipFill>
        <p:spPr>
          <a:xfrm>
            <a:off x="1249200" y="762120"/>
            <a:ext cx="7823520" cy="5867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0" y="304920"/>
            <a:ext cx="50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спеши хватать прибор 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инструкцию чита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бедись, что ты все поня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т тогда и начина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хочешь долго ж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до медленно спеш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L01p2p04"/>
          <p:cNvPicPr/>
          <p:nvPr/>
        </p:nvPicPr>
        <p:blipFill>
          <a:blip r:embed="rId1"/>
          <a:stretch/>
        </p:blipFill>
        <p:spPr>
          <a:xfrm>
            <a:off x="0" y="147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152280" y="380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Как же нюхать вещест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В колбу нос совать нельз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Что может случить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Ты можешь отравитьс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L01p2p02"/>
          <p:cNvPicPr/>
          <p:nvPr/>
        </p:nvPicPr>
        <p:blipFill>
          <a:blip r:embed="rId1"/>
          <a:stretch/>
        </p:blipFill>
        <p:spPr>
          <a:xfrm>
            <a:off x="457200" y="433440"/>
            <a:ext cx="8686800" cy="65149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152280" y="1522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Пусть в пробирке пахнет вобл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 колбе- будто мармел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ещества на вкус не пробу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Сладко пахнет даже я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9172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L01p2p03"/>
          <p:cNvPicPr/>
          <p:nvPr/>
        </p:nvPicPr>
        <p:blipFill>
          <a:blip r:embed="rId1"/>
          <a:stretch/>
        </p:blipFill>
        <p:spPr>
          <a:xfrm>
            <a:off x="685800" y="547560"/>
            <a:ext cx="8305920" cy="6229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1371960" y="228240"/>
            <a:ext cx="61722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00"/>
                </a:solidFill>
                <a:latin typeface="Arial"/>
              </a:rPr>
              <a:t>Чай и вкусный бутерброд</a:t>
            </a: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99cc00"/>
                </a:solidFill>
                <a:latin typeface="Arial"/>
              </a:rPr>
              <a:t>Очень просятся в твой рот.</a:t>
            </a:r>
            <a:br>
              <a:rPr sz="1800"/>
            </a:br>
            <a:r>
              <a:rPr b="1" lang="ru-RU" sz="1800" spc="-1" strike="noStrike">
                <a:solidFill>
                  <a:srgbClr val="99cc00"/>
                </a:solidFill>
                <a:latin typeface="Arial"/>
              </a:rPr>
              <a:t>Не обманывай себя-</a:t>
            </a:r>
            <a:br>
              <a:rPr sz="1800"/>
            </a:br>
            <a:r>
              <a:rPr b="1" lang="ru-RU" sz="1800" spc="-1" strike="noStrike">
                <a:solidFill>
                  <a:srgbClr val="99cc00"/>
                </a:solidFill>
                <a:latin typeface="Arial"/>
              </a:rPr>
              <a:t>Есть и пить у нас нельзя!</a:t>
            </a:r>
            <a:br>
              <a:rPr sz="1800"/>
            </a:br>
            <a:r>
              <a:rPr b="1" lang="ru-RU" sz="1800" spc="-1" strike="noStrike">
                <a:solidFill>
                  <a:srgbClr val="99cc00"/>
                </a:solidFill>
                <a:latin typeface="Arial"/>
              </a:rPr>
              <a:t>Это, друг, химкабинет,</a:t>
            </a:r>
            <a:br>
              <a:rPr sz="1800"/>
            </a:br>
            <a:r>
              <a:rPr b="1" lang="ru-RU" sz="1800" spc="-1" strike="noStrike">
                <a:solidFill>
                  <a:srgbClr val="99cc00"/>
                </a:solidFill>
                <a:latin typeface="Arial"/>
              </a:rPr>
              <a:t>Для еды условий нет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L01p2p06"/>
          <p:cNvPicPr/>
          <p:nvPr/>
        </p:nvPicPr>
        <p:blipFill>
          <a:blip r:embed="rId1"/>
          <a:stretch/>
        </p:blipFill>
        <p:spPr>
          <a:xfrm>
            <a:off x="0" y="434880"/>
            <a:ext cx="8458200" cy="63439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228600" y="4572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Помни: щелочь,кисл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Вмиг прожгут одежду вс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Надевай халат, как 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6600"/>
                </a:solidFill>
                <a:latin typeface="Arial"/>
              </a:rPr>
              <a:t>И работай без проб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L18p01p02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952880" y="457200"/>
            <a:ext cx="4191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00"/>
                </a:solidFill>
                <a:latin typeface="Arial"/>
              </a:rPr>
              <a:t>Ты сливал, нагревал реакт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00"/>
                </a:solidFill>
                <a:latin typeface="Arial"/>
              </a:rPr>
              <a:t>И отчет подготовил в тетра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00"/>
                </a:solidFill>
                <a:latin typeface="Arial"/>
              </a:rPr>
              <a:t>Не забудь вымыть руки с мыл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00"/>
                </a:solidFill>
                <a:latin typeface="Arial"/>
              </a:rPr>
              <a:t>Чтоб здоровье было в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imia</cp:lastModifiedBy>
  <dcterms:modified xsi:type="dcterms:W3CDTF">2016-02-15T14:53:4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