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5ED-4019-490F-8E11-0861AE5E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CC7-B8D4-49C3-9B98-51297FC5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741-861D-4FCC-B1CE-28F13A23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49D-9A5B-4085-BA7B-DF85F5FB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B46-34EF-4AD5-AB3A-5C503A08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DBB-F723-4EB4-8277-00B8738A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3AD-0D34-4E84-9DB2-0CAC901C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0FA-4FD2-41AE-91FD-B45DB702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C34-A793-4C8C-965B-AD00AD0A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140-35D8-47C2-AA19-8F19713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AE8-8A0A-47FB-B011-27AA01D2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865-46FD-48F8-BB8F-F97F6DA1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31E9-2332-4C43-B99D-76CDA9D5A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GCH_1Aa05_02Nd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152280" y="5638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исатель – фантаст и учёный – биохимик Айзек Азимов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685800" y="304920"/>
            <a:ext cx="791064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«Химия – это смерт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пакованная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банки и коробки»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01p2p10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220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9536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если вы пользуетесь чем-либо – держите в чистоте и поряд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-если вы не знаете, как это действует, не трогай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cc00"/>
                </a:solidFill>
                <a:latin typeface="Arial"/>
              </a:rPr>
              <a:t>-если вы не знаете, как это делается, сразу спрос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вы не усвоили этих правил не входите в лаборатори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6"/>
          <p:cNvGraphicFramePr/>
          <p:nvPr/>
        </p:nvGraphicFramePr>
        <p:xfrm>
          <a:off x="152280" y="152280"/>
          <a:ext cx="418968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418968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WordArt 4"/>
          <p:cNvSpPr txBox="1"/>
          <p:nvPr/>
        </p:nvSpPr>
        <p:spPr>
          <a:xfrm>
            <a:off x="2133720" y="609480"/>
            <a:ext cx="6933960" cy="444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кольник, помни ты всегда,</a:t>
            </a:r>
            <a:endParaRPr b="1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й, любая кроха:</a:t>
            </a:r>
            <a:endParaRPr b="1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зопасность- хорошо,</a:t>
            </a:r>
            <a:endParaRPr b="1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 халатность- плохо!</a:t>
            </a:r>
            <a:endParaRPr b="1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01p2p07"/>
          <p:cNvPicPr/>
          <p:nvPr/>
        </p:nvPicPr>
        <p:blipFill>
          <a:blip r:embed="rId1"/>
          <a:stretch/>
        </p:blipFill>
        <p:spPr>
          <a:xfrm>
            <a:off x="1249200" y="762120"/>
            <a:ext cx="7823520" cy="5867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30492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пеши хватать прибор 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инструкцию чит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дись, что ты все поня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тогда и начин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хочешь долго ж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о медленно сп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01p2p04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52280" y="38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ак же нюхать веще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 колбу нос совать нельз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то может случ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ы можешь отрави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L01p2p02"/>
          <p:cNvPicPr/>
          <p:nvPr/>
        </p:nvPicPr>
        <p:blipFill>
          <a:blip r:embed="rId1"/>
          <a:stretch/>
        </p:blipFill>
        <p:spPr>
          <a:xfrm>
            <a:off x="457200" y="433440"/>
            <a:ext cx="8686800" cy="651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522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усть в пробирке пахнет вобл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колбе- будто марме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ещества на вкус не пробу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ладко пахнет даже 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01p2p03"/>
          <p:cNvPicPr/>
          <p:nvPr/>
        </p:nvPicPr>
        <p:blipFill>
          <a:blip r:embed="rId1"/>
          <a:stretch/>
        </p:blipFill>
        <p:spPr>
          <a:xfrm>
            <a:off x="685800" y="54756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371960" y="228240"/>
            <a:ext cx="61722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Чай и вкусный бутерброд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Очень просятся в твой рот.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Не обманывай себя-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Есть и пить у нас нельзя!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Это, друг, химкабинет,</a:t>
            </a:r>
            <a:br>
              <a:rPr sz="1800"/>
            </a:b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Для еды условий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L01p2p06"/>
          <p:cNvPicPr/>
          <p:nvPr/>
        </p:nvPicPr>
        <p:blipFill>
          <a:blip r:embed="rId1"/>
          <a:stretch/>
        </p:blipFill>
        <p:spPr>
          <a:xfrm>
            <a:off x="0" y="434880"/>
            <a:ext cx="8458200" cy="6343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457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Помни: щелочь,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Вмиг прожгут одежду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Надевай халат, как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И работай без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L18p01p02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2880" y="4572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Ты сливал, нагревал реа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И отчет подготовил в тетра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Не забудь вымыть руки с мы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Arial"/>
              </a:rPr>
              <a:t>Чтоб здоровье было в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mia</cp:lastModifiedBy>
  <dcterms:modified xsi:type="dcterms:W3CDTF">2016-02-15T14:53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