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373A-2F0D-4AF7-84A4-1D8350BF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9FE-891B-41A9-815D-4084920D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73C-FB68-4765-823E-F8FFC20E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BAD-5670-44D9-BC36-5DA0182C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9B1C-477C-4746-ACB9-7424BDBF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2620-9B66-4999-907E-C52177A1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901-470E-4614-9E75-C857F5F5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5C1-009E-40AE-A207-8834AA96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BF4-6812-4F26-93D8-6A98BC78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B7A-F393-4593-9DBC-75A2102F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77D8-010C-473D-BC43-4368F458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288-9718-49DF-8C35-E3BD4100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4B7A-935F-4B9A-AA8E-694C707888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animashky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619280" y="1268280"/>
            <a:ext cx="56167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кстовая задач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214880" y="4357800"/>
            <a:ext cx="457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зенкова Наталия Олег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У СОШ № 12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ПИСЬ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24000" y="1125360"/>
            <a:ext cx="6049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аня -4г.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ша -2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2843280" y="126828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276720" y="126828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H="1">
            <a:off x="2843280" y="227664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492360" y="134136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C7DCCF02"/>
          <p:cNvPicPr/>
          <p:nvPr/>
        </p:nvPicPr>
        <p:blipFill>
          <a:blip r:embed="rId1"/>
          <a:stretch/>
        </p:blipFill>
        <p:spPr>
          <a:xfrm>
            <a:off x="468360" y="2421000"/>
            <a:ext cx="3456000" cy="1834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324000" y="4365720"/>
            <a:ext cx="4535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+2=6(г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50920" y="5157720"/>
            <a:ext cx="6985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твет: 6 гриб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332000" y="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адан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69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 текст справа и текст сле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79280" y="1341360"/>
            <a:ext cx="43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108000" y="1268280"/>
            <a:ext cx="446400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50920" y="1268280"/>
            <a:ext cx="42498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я поймал утром двух крабов, а вечером ещё од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всего крабов поймал Пет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4859280" y="1268280"/>
            <a:ext cx="410544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932360" y="1268280"/>
            <a:ext cx="4211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я поймал утром двух крабов, а вечером ещё од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ИЕ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971640" y="5013360"/>
            <a:ext cx="75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971640" y="5013360"/>
            <a:ext cx="720720" cy="720720"/>
          </a:xfrm>
          <a:prstGeom prst="rect">
            <a:avLst/>
          </a:prstGeom>
          <a:solidFill>
            <a:srgbClr val="f1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116000" y="5084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1763640" y="494172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отличается текст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 текст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услов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258920" y="404640"/>
            <a:ext cx="66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адание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95280" y="1268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задачу можно придумать по рисунку Кати? Проговори условие задачи . Задай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250920" y="2421000"/>
            <a:ext cx="88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Кати было …  Она добавила ещё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стало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DE871532"/>
          <p:cNvPicPr/>
          <p:nvPr/>
        </p:nvPicPr>
        <p:blipFill>
          <a:blip r:embed="rId1"/>
          <a:stretch/>
        </p:blipFill>
        <p:spPr>
          <a:xfrm>
            <a:off x="395280" y="4005360"/>
            <a:ext cx="3240000" cy="2009520"/>
          </a:xfrm>
          <a:prstGeom prst="rect">
            <a:avLst/>
          </a:prstGeom>
          <a:ln w="0">
            <a:noFill/>
          </a:ln>
        </p:spPr>
      </p:pic>
      <p:sp>
        <p:nvSpPr>
          <p:cNvPr id="115" name="Line 11"/>
          <p:cNvSpPr/>
          <p:nvPr/>
        </p:nvSpPr>
        <p:spPr>
          <a:xfrm>
            <a:off x="468360" y="4005360"/>
            <a:ext cx="31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3635280" y="400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395280" y="400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3708360" y="4869000"/>
            <a:ext cx="1655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5435640" y="4005360"/>
            <a:ext cx="316872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995640" y="407664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5867280" y="4292640"/>
            <a:ext cx="23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250920" y="115920"/>
            <a:ext cx="649080" cy="72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95280" y="-171360"/>
            <a:ext cx="3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58920" y="115920"/>
            <a:ext cx="76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ловие и вопрос этой задачи можно записать на схеме. Найдём решение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39640" y="98100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составим 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826920" y="227664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826920" y="2205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4716360" y="2205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4716360" y="2276640"/>
            <a:ext cx="2665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7380360" y="22050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971640" y="184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5435640" y="184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 rot="5400000">
            <a:off x="3923280" y="-1251720"/>
            <a:ext cx="360360" cy="6553440"/>
          </a:xfrm>
          <a:custGeom>
            <a:avLst/>
            <a:gdLst>
              <a:gd name="textAreaLeft" fmla="*/ 105840 w 360360"/>
              <a:gd name="textAreaRight" fmla="*/ 360720 w 360360"/>
              <a:gd name="textAreaTop" fmla="*/ 272880 h 6553440"/>
              <a:gd name="textAreaBottom" fmla="*/ 6280560 h 655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851280" y="1341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4788000" y="1341360"/>
            <a:ext cx="576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859280" y="126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5364000" y="1413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1042920" y="2349360"/>
            <a:ext cx="57636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1187280" y="2349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154764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6372360" y="2349360"/>
            <a:ext cx="64764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6443640" y="2349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7020000" y="256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7"/>
          <p:cNvSpPr/>
          <p:nvPr/>
        </p:nvSpPr>
        <p:spPr>
          <a:xfrm>
            <a:off x="611280" y="3068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оставим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1332000" y="3500280"/>
            <a:ext cx="50472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1835280" y="3500280"/>
            <a:ext cx="5032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2340000" y="3500280"/>
            <a:ext cx="50652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140328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183528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3"/>
          <p:cNvSpPr/>
          <p:nvPr/>
        </p:nvSpPr>
        <p:spPr>
          <a:xfrm>
            <a:off x="241128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4"/>
          <p:cNvSpPr/>
          <p:nvPr/>
        </p:nvSpPr>
        <p:spPr>
          <a:xfrm>
            <a:off x="755640" y="414972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найдём значение вы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1258920" y="4724280"/>
            <a:ext cx="50472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1763640" y="4724280"/>
            <a:ext cx="50472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2268360" y="4724280"/>
            <a:ext cx="5050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8"/>
          <p:cNvSpPr/>
          <p:nvPr/>
        </p:nvSpPr>
        <p:spPr>
          <a:xfrm>
            <a:off x="2771640" y="4724280"/>
            <a:ext cx="50508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9"/>
          <p:cNvSpPr/>
          <p:nvPr/>
        </p:nvSpPr>
        <p:spPr>
          <a:xfrm>
            <a:off x="3276720" y="4724280"/>
            <a:ext cx="50472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1258920" y="47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1835280" y="47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2"/>
          <p:cNvSpPr/>
          <p:nvPr/>
        </p:nvSpPr>
        <p:spPr>
          <a:xfrm>
            <a:off x="2340000" y="472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3"/>
          <p:cNvSpPr/>
          <p:nvPr/>
        </p:nvSpPr>
        <p:spPr>
          <a:xfrm>
            <a:off x="2771640" y="47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4"/>
          <p:cNvSpPr/>
          <p:nvPr/>
        </p:nvSpPr>
        <p:spPr>
          <a:xfrm>
            <a:off x="3276720" y="472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5"/>
          <p:cNvSpPr/>
          <p:nvPr/>
        </p:nvSpPr>
        <p:spPr>
          <a:xfrm>
            <a:off x="755640" y="551664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получим отве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6"/>
          <p:cNvSpPr/>
          <p:nvPr/>
        </p:nvSpPr>
        <p:spPr>
          <a:xfrm>
            <a:off x="3348000" y="5734080"/>
            <a:ext cx="576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7"/>
          <p:cNvSpPr/>
          <p:nvPr/>
        </p:nvSpPr>
        <p:spPr>
          <a:xfrm>
            <a:off x="3348000" y="5734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8"/>
          <p:cNvSpPr/>
          <p:nvPr/>
        </p:nvSpPr>
        <p:spPr>
          <a:xfrm>
            <a:off x="4067280" y="5877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8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8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5"/>
          <p:cNvSpPr txBox="1"/>
          <p:nvPr/>
        </p:nvSpPr>
        <p:spPr>
          <a:xfrm>
            <a:off x="1763640" y="2060640"/>
            <a:ext cx="568656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7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9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1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Картин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ages.yandex.r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яц,арбуз,антенна,черепаха,а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animashky.r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Отгадайте загадки и по первым буквам слов-отгадок узнаете тему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39640" y="260280"/>
            <a:ext cx="7488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Длинное ух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Комочек пух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Прыгает ловк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Любит морков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2K6CAJH2TZXCAXOKKQYCANH29CLCA6SAR43CAW1DI4ACAPC9W4BCA4UDFL7CAQN4JKLCAKKXIKBCAUNC12ICAYGRLYMCAF6KDE1CA5N84HVCAHZVDC6CAP7C7XLCA6YMXYACAKR9YAUCAL6N3TNCA8CT5MG"/>
          <p:cNvPicPr/>
          <p:nvPr/>
        </p:nvPicPr>
        <p:blipFill>
          <a:blip r:embed="rId1"/>
          <a:stretch/>
        </p:blipFill>
        <p:spPr>
          <a:xfrm>
            <a:off x="2627280" y="1484280"/>
            <a:ext cx="3384720" cy="31053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1332000" y="508464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042920" y="1773360"/>
            <a:ext cx="738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Сам алый, сахарн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Кафтан зелёный, бархатн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VCKCA30E9EBCAGQPB0RCAXFRRP7CAU6HE9MCA7OGEL1CAH31U1SCAD02W8PCAXQBR6SCAMI7JMVCACAIXH3CA0U0CNSCAFESZJ7CAL5NSKVCAR490MOCA99NS35CAXPHBXQCAS1T2V2CA6M4Y4KCAT9UJR6"/>
          <p:cNvPicPr/>
          <p:nvPr/>
        </p:nvPicPr>
        <p:blipFill>
          <a:blip r:embed="rId2"/>
          <a:stretch/>
        </p:blipFill>
        <p:spPr>
          <a:xfrm>
            <a:off x="3780000" y="1052640"/>
            <a:ext cx="3503520" cy="3527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2340000" y="501336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50920" y="1341360"/>
            <a:ext cx="856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Его просят, его жду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А как придёт, прятаться начну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46"/>
          <p:cNvPicPr/>
          <p:nvPr/>
        </p:nvPicPr>
        <p:blipFill>
          <a:blip r:embed="rId3"/>
          <a:stretch/>
        </p:blipFill>
        <p:spPr>
          <a:xfrm>
            <a:off x="2050920" y="907920"/>
            <a:ext cx="5112000" cy="3668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348000" y="494172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835280" y="1197000"/>
            <a:ext cx="640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Стою на крыше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Всех труб выш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6" descr="5XECAVXO2KOCAMXH4RUCATI08PDCANW79OFCADHQW1YCA7MRBGOCAF91UAHCA1MLU9FCA3BVIACCAXQQWJ7CADDY62ACAY21POTCANVRRMQCA2H70S8CA69PV3BCAB347PACAJPYU7PCA3P7XFMCAYJSR4B"/>
          <p:cNvPicPr/>
          <p:nvPr/>
        </p:nvPicPr>
        <p:blipFill>
          <a:blip r:embed="rId4"/>
          <a:stretch/>
        </p:blipFill>
        <p:spPr>
          <a:xfrm>
            <a:off x="2484360" y="836640"/>
            <a:ext cx="4319640" cy="3456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7"/>
          <p:cNvSpPr/>
          <p:nvPr/>
        </p:nvSpPr>
        <p:spPr>
          <a:xfrm>
            <a:off x="4427640" y="501336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2050920" y="1773360"/>
            <a:ext cx="6481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Очень медленно ползё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6600"/>
                </a:solidFill>
                <a:latin typeface="Arial"/>
              </a:rPr>
              <a:t>Панцирь на себе везё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UATCASPNYNHCAUQDNH6CADPU4LMCA95SIKKCAEV3N4HCABU3HMECA3ZEA6NCAWN2KGRCA8J30OZCANN57E2CA0BABFPCABSUX65CA1Z1TYUCAWHPUMYCACYZ3IGCAIU2XZSCAIAGM97CAB0N02GCARUEU4Y"/>
          <p:cNvPicPr/>
          <p:nvPr/>
        </p:nvPicPr>
        <p:blipFill>
          <a:blip r:embed="rId5"/>
          <a:stretch/>
        </p:blipFill>
        <p:spPr>
          <a:xfrm>
            <a:off x="1908000" y="836640"/>
            <a:ext cx="5256360" cy="3505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0"/>
          <p:cNvSpPr/>
          <p:nvPr/>
        </p:nvSpPr>
        <p:spPr>
          <a:xfrm>
            <a:off x="5364000" y="5013360"/>
            <a:ext cx="129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250920" y="1413000"/>
            <a:ext cx="7993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Длинноногий, длиннонос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Он летает на охо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За лягушками в болот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2" descr="SYOCALZCPY7CAWJMVJECA0EHUBRCA0WIH5QCA9KRWOJCAMTTSNVCALYLHW0CA5J5PIOCAVDB80FCARX90T8CAL83J3CCA5E33IZCA1ED83YCA2GWWYQCAZW70JUCAUMHRRHCAHJOBARCAX7JJ31CABRDHVN"/>
          <p:cNvPicPr/>
          <p:nvPr/>
        </p:nvPicPr>
        <p:blipFill>
          <a:blip r:embed="rId6"/>
          <a:stretch/>
        </p:blipFill>
        <p:spPr>
          <a:xfrm>
            <a:off x="2340000" y="907920"/>
            <a:ext cx="5111640" cy="3408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3"/>
          <p:cNvSpPr/>
          <p:nvPr/>
        </p:nvSpPr>
        <p:spPr>
          <a:xfrm>
            <a:off x="6443640" y="501336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5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5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60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62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6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6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7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8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147636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айдите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900000" y="126828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79280" y="98100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«У Тани 4 гриба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68360" y="184464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79280" y="18446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«У Тани 4 гриба, а у Саши -  2 гриба»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79280" y="285264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«У Тани 4 гриба, а у Саши - 2 гриба. Сколько грибов у Тани и Саши вместе?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95280" y="371628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08000" y="429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«На сколько яблок больше, чем груш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 Тани 4 гриба, а у Саши - 2 гриба. Сколько грибов у Тани и Саши вместе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УСЛОВ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У Тани 4 гриба, а у Саши - 2 гриб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ОПРО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колько грибов у Тани и Саши вместе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5"/>
          <p:cNvSpPr/>
          <p:nvPr/>
        </p:nvSpPr>
        <p:spPr>
          <a:xfrm>
            <a:off x="900000" y="27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15"/>
          <p:cNvCxnSpPr/>
          <p:nvPr/>
        </p:nvCxnSpPr>
        <p:spPr>
          <a:xfrm>
            <a:off x="1042920" y="2997000"/>
            <a:ext cx="295200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78" name="AutoShape 16"/>
          <p:cNvCxnSpPr/>
          <p:nvPr/>
        </p:nvCxnSpPr>
        <p:spPr>
          <a:xfrm>
            <a:off x="3995280" y="2997360"/>
            <a:ext cx="2017080" cy="2160"/>
          </a:xfrm>
          <a:prstGeom prst="straightConnector1">
            <a:avLst/>
          </a:prstGeom>
          <a:ln w="38160">
            <a:solidFill>
              <a:srgbClr val="009900"/>
            </a:solidFill>
            <a:miter/>
          </a:ln>
        </p:spPr>
      </p:cxnSp>
      <p:sp>
        <p:nvSpPr>
          <p:cNvPr id="79" name="AutoShape 24"/>
          <p:cNvSpPr/>
          <p:nvPr/>
        </p:nvSpPr>
        <p:spPr>
          <a:xfrm rot="5400000">
            <a:off x="2303280" y="1304640"/>
            <a:ext cx="432000" cy="2952720"/>
          </a:xfrm>
          <a:custGeom>
            <a:avLst/>
            <a:gdLst>
              <a:gd name="textAreaLeft" fmla="*/ 127080 w 432000"/>
              <a:gd name="textAreaRight" fmla="*/ 432360 w 432000"/>
              <a:gd name="textAreaTop" fmla="*/ 122760 h 2952720"/>
              <a:gd name="textAreaBottom" fmla="*/ 282996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5"/>
          <p:cNvSpPr/>
          <p:nvPr/>
        </p:nvSpPr>
        <p:spPr>
          <a:xfrm rot="5400000">
            <a:off x="4823280" y="1809000"/>
            <a:ext cx="360360" cy="2016360"/>
          </a:xfrm>
          <a:custGeom>
            <a:avLst/>
            <a:gdLst>
              <a:gd name="textAreaLeft" fmla="*/ 105840 w 360360"/>
              <a:gd name="textAreaRight" fmla="*/ 360720 w 360360"/>
              <a:gd name="textAreaTop" fmla="*/ 83880 h 2016360"/>
              <a:gd name="textAreaBottom" fmla="*/ 193248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7"/>
          <p:cNvSpPr/>
          <p:nvPr/>
        </p:nvSpPr>
        <p:spPr>
          <a:xfrm rot="5400000">
            <a:off x="3347640" y="691920"/>
            <a:ext cx="358560" cy="4969080"/>
          </a:xfrm>
          <a:custGeom>
            <a:avLst/>
            <a:gdLst>
              <a:gd name="textAreaLeft" fmla="*/ 0 w 358560"/>
              <a:gd name="textAreaRight" fmla="*/ 251640 w 358560"/>
              <a:gd name="textAreaTop" fmla="*/ 207000 h 4969080"/>
              <a:gd name="textAreaBottom" fmla="*/ 4762080 h 49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2050920" y="26028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ХЕ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0"/>
          <p:cNvSpPr/>
          <p:nvPr/>
        </p:nvSpPr>
        <p:spPr>
          <a:xfrm>
            <a:off x="900000" y="278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1835280" y="177336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4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0"/>
          <p:cNvSpPr/>
          <p:nvPr/>
        </p:nvSpPr>
        <p:spPr>
          <a:xfrm>
            <a:off x="4427640" y="184464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2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1"/>
          <p:cNvSpPr/>
          <p:nvPr/>
        </p:nvSpPr>
        <p:spPr>
          <a:xfrm>
            <a:off x="3492360" y="3429000"/>
            <a:ext cx="18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?г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4+2=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6 грибо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7:59:55Z</dcterms:created>
  <dc:creator>Neo Anderson</dc:creator>
  <dc:description/>
  <dc:language>en-US</dc:language>
  <cp:lastModifiedBy>Светлана Рыжкова</cp:lastModifiedBy>
  <dcterms:modified xsi:type="dcterms:W3CDTF">2021-04-20T18:48:03Z</dcterms:modified>
  <cp:revision>8</cp:revision>
  <dc:subject/>
  <dc:title>     1.«У Тани 4 гриба». 2.«У Тани 4 гриба, а у Саши -  2 гриба». 3.«У Тани 4 гриба, а у Саши - 2 гриба. Сколько грибов у Тани и Саши вместе?» | 4.«На сколько яблок больше, чем груш?»</dc:title>
</cp:coreProperties>
</file>