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09D1-700B-49F6-B65F-433DF7674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801B-F94F-406E-9332-B014E36F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ACA7-D848-4E41-A2B0-FC6C7E52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A046-1798-459B-90D6-C54B856A6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8937-5DF1-418E-9139-C0A05C33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EDF6-E8FD-46B1-85A1-5B43F183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0066-9165-4069-9AA6-4448860A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3807-1ABD-463B-97B9-FBD9F2E7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3F59-B8E0-4987-871D-A24749FC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4A2C-B08B-424A-B2A3-551E9386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903D-C626-4437-8E43-824B317A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A06E-ADC9-4FED-BA5A-6E36CADE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22FA-0D9B-4CEC-8DBE-1363921342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95640" y="907920"/>
            <a:ext cx="482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есёлый художник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484360" y="1916280"/>
            <a:ext cx="453240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а: "Звёздное небо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(набрызг+печать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ролоном по трафарету)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95280" y="3573360"/>
            <a:ext cx="3960720" cy="2640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32880" y="114120"/>
            <a:ext cx="6161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ниципальное бюджетное дошкольное образовательное учрежд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Атемарский детский сад №1 «Теремок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ямбирского муниципального района Республики Мордо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59280" y="472428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готовила: 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ужка «Весёлый худож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ябова Ольг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оветы родителя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блюдайте с детьми за звездным небом. Не поленитесь вечером выйти на балкон и полюбоваться звездами. Покажите ребенку некоторые созвездия, попробуйте вместе отыскать большую Медведицу. Расскажите, что древние люди вглядывались в ночное небо, мысленно соединяли звезды, рисовали животных, людей, предметы, мифологических героев. Найдите карту звездного неба и покажите малышу, как выглядят созвездия, а потом вместе отыщите их на небе. Это развивает наблюдательность, пам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ма космоса содержит массу идей для рисунков, поделок. Можно рисовать, лепить космонавтов, инопланетян, Луну. Придумывать новые названия звездам и планетам. В общем, проявляйте фантазию, тема космоса безгранична и интересна дет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Цел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учить ребенка приёмам выполнения техники 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«рисование брызгами», «печать по трафарету поролоно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развивать творческие способности, эстетический вку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спитывать усидчивость, терпение, аккурат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76720" y="2133720"/>
            <a:ext cx="3800520" cy="3838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66480" y="835920"/>
            <a:ext cx="6863400" cy="368280"/>
          </a:xfrm>
          <a:prstGeom prst="rect">
            <a:avLst/>
          </a:prstGeom>
          <a:solidFill>
            <a:srgbClr val="f9f8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 апреля в нашей стране отмечается День космонавти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547640" y="4508640"/>
            <a:ext cx="2160720" cy="2160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4000" y="1197000"/>
            <a:ext cx="47336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 этот день в 1961 году нашу планету потрясла неожиданная весть: «Человек в космосе!» Мечта людей о полете в космос сбылась. Апрельским утром на корабле «Восток-1» первый космонавт Юрий Алексеевич Гагарин совершил полет в космос. Полет вокруг Земли длился 108 мину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Звездное небо всегда привлекало взоры людей, манило своей неизвестностью. Люди мечтали узнать о космосе как можно больше. Так началось время космических ракет, спутников, луноход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189000"/>
            <a:ext cx="7056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Побеседуйте с ребёнком, расскажите ему о празднике «День космонавтики», о первом космонавте, о космо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4906800" cy="52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ша Земля — это огромный шар, на котором есть моря, реки, горы, пустыни и леса. А также живут люди. Наша Земля и все, что ее окружает называется Вселенной, или космос. Кроме нашей голубой планеты есть и другие, а также звезды. Звезды — это огромные светящиеся шары. Солнце — тоже звезда. Оно расположено близко к Земле, поэтому мы его видим и ощущаем его теп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везды мы видим только ночью, а днем Солнце их затмевает. Есть звезды даже больше Солн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859280" y="1557360"/>
            <a:ext cx="399744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годня мы с помощью техники «набрызг» нарисуем звёздное неб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5905440" cy="3936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227640" y="1844640"/>
            <a:ext cx="291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ля работы нам понадобя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лист бумаги синего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иолетового цве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крас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зубная щетка и сте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небольшой кусочек пороло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трафарет «звёздоч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9080" y="189000"/>
            <a:ext cx="8090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Предложите нарисовать звёздное небо, используя необычные тех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кни зубную щётку в жёлтую краску и с помощью стеки разбрызгай её по л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4033800" cy="2689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3924360" cy="2616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771640" y="3933720"/>
            <a:ext cx="360072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ожи трафарет на лист, макни кусочек поролона в краску и  аккуратно примакивай по трафарету «звездочк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4522680" cy="3014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356000" y="3213000"/>
            <a:ext cx="4465800" cy="29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У тебя получится красивое звёздное небо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93432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4824360" cy="337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060720" y="765000"/>
            <a:ext cx="29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Ты молодец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3T15:14:32Z</dcterms:created>
  <dc:creator>Zverdvd.org</dc:creator>
  <dc:description/>
  <dc:language>en-US</dc:language>
  <cp:lastModifiedBy>Zverdvd.org</cp:lastModifiedBy>
  <dcterms:modified xsi:type="dcterms:W3CDTF">2021-04-20T17:02:21Z</dcterms:modified>
  <cp:revision>7</cp:revision>
  <dc:subject/>
  <dc:title>Слайд 1</dc:title>
</cp:coreProperties>
</file>