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528-F535-4BF3-82F1-71D2598E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8E9-845E-42E9-A038-6BF245C9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62E-FEE9-4EE2-882C-2816A75A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AF3-9ECD-439F-8664-5E565095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6C0-FFC6-4444-8C7B-663FF2BE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AB3-C37D-4ED5-9B5E-A515B5F2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26E-064D-4DB9-B868-593BEFB5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CDB-73C9-42E5-AA2B-B7868B5E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FEC-9E66-417B-8ACD-C82A6F2F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1F4-329E-4952-B150-F274517E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470-84EE-4BF6-9DEA-E944AB91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5AE4-5A17-48D9-996D-27D76751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AF91-606D-4047-A72C-AEEDFCC69F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907920"/>
            <a:ext cx="482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Весёлый художник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1916280"/>
            <a:ext cx="453240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"Звёздное небо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набрызг+печать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ролоном по трафарету)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960720" cy="2640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32880" y="114120"/>
            <a:ext cx="61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Атемарский детский сад №1 «Теремок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ямбирского муниципального района Республики Мордо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47242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готовила: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жка «Весёлый худож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ябова Ольг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веты родителя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блюдайте с детьми за звездным небом. Не поленитесь вечером выйти на балкон и полюбоваться звездами. Покажите ребенку некоторые созвездия, попробуйте вместе отыскать большую Медведицу. Расскажите, что древние люди вглядывались в ночное небо, мысленно соединяли звезды, рисовали животных, людей, предметы, мифологических героев. Найдите карту звездного неба и покажите малышу, как выглядят созвездия, а потом вместе отыщите их на небе. Это развивает наблюдательность,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а космоса содержит массу идей для рисунков, поделок. Можно рисовать, лепить космонавтов, инопланетян, Луну. Придумывать новые названия звездам и планетам. В общем, проявляйте фантазию, тема космоса безгранична и интересна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Цел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учить ребенка приёмам выполнения техники 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«рисование брызгами», «печать по трафарету поролон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вивать творческие способности, эстетический вку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ывать усидчивость, терпение, аккурат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800520" cy="3838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66480" y="835920"/>
            <a:ext cx="6863400" cy="368280"/>
          </a:xfrm>
          <a:prstGeom prst="rect">
            <a:avLst/>
          </a:prstGeom>
          <a:solidFill>
            <a:srgbClr val="f9f8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апреля в нашей стране отмечается День космонав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547640" y="45086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1197000"/>
            <a:ext cx="4733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 этот день в 1961 году нашу планету потрясла неожиданная весть: «Человек в космосе!» Мечта людей о полете в космос сбылась. Апрельским утром на корабле «Восток-1» первый космонавт Юрий Алексеевич Гагарин совершил полет в космос. Полет вокруг Земли длился 108 мин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вездное небо всегда привлекало взоры людей, манило своей неизвестностью. Люди мечтали узнать о космосе как можно больше. Так началось время космических ракет, спутников, лунох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189000"/>
            <a:ext cx="7056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обеседуйте с ребёнком, расскажите ему о празднике «День космонавтики», о первом космонавте, о косм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49068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ша Земля — это огромный шар, на котором есть моря, реки, горы, пустыни и леса. А также живут люди. Наша Земля и все, что ее окружает называется Вселенной, или космос. Кроме нашей голубой планеты есть и другие, а также звезды. Звезды — это огромные светящиеся шары. Солнце — тоже звезда. Оно расположено близко к Земле, поэтому мы его видим и ощущаем его теп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везды мы видим только ночью, а днем Солнце их затмевает. Есть звезды даже больше Сол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9974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годня мы с помощью техники «набрызг» нарисуем звёздное не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5905440" cy="3936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227640" y="1844640"/>
            <a:ext cx="29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работы нам понадоб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лист бумаги синего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иолетового ц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крас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зубная щетка и ст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небольшой кусочек порол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трафарет «звёздоч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9080" y="189000"/>
            <a:ext cx="8090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редложите нарисовать звёздное небо, используя необычные тех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кни зубную щётку в жёлтую краску и с помощью стеки разбрызгай её по л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033800" cy="2689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924360" cy="261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771640" y="3933720"/>
            <a:ext cx="3600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и трафарет на лист, макни кусочек поролона в краску и  аккуратно примакивай по трафарету «звездоч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522680" cy="3014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446580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 тебя получится красивое звёздное небо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9343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824360" cy="337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60720" y="765000"/>
            <a:ext cx="29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ы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3T15:14:32Z</dcterms:created>
  <dc:creator>Zverdvd.org</dc:creator>
  <dc:description/>
  <dc:language>en-US</dc:language>
  <cp:lastModifiedBy>Zverdvd.org</cp:lastModifiedBy>
  <dcterms:modified xsi:type="dcterms:W3CDTF">2021-04-20T17:02:21Z</dcterms:modified>
  <cp:revision>7</cp:revision>
  <dc:subject/>
  <dc:title>Слайд 1</dc:title>
</cp:coreProperties>
</file>