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1E9-56A6-4DB6-87E7-83227DC6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91B-94DC-4BA2-9B65-D2BBBD0D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752-E563-494C-97B8-B8B50EF5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2E27-421D-40E7-8F92-EDBC5E3D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8B7-67E5-45C3-8448-C8529F5A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90A-0E38-451D-A31E-005AC002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399-D5B0-4CB4-8A0B-18DFE7EA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919-997A-45AB-9C6A-4554D263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ADA-251A-4A5F-A082-5A47F9DB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95E-6CDE-4D7A-931D-9F9B014A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CDA-3DDC-45C2-9D38-AFF5813B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AA6-A088-4ABE-84D7-A2425B48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E9C8-A515-490B-9C80-0640B1158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14040" y="91404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Comic Sans MS"/>
              </a:rPr>
              <a:t>Игры с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Comic Sans MS"/>
              </a:rPr>
              <a:t>СМЕШАРИКАМ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Воспитатель МБДОУ Детский сад «Звездоч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Comic Sans MS"/>
              </a:rPr>
              <a:t>Кощеева Н.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Фрукты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1773360" cy="188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 rot="2574000">
            <a:off x="3809520" y="3962520"/>
            <a:ext cx="1316160" cy="218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4"/>
          <a:stretch/>
        </p:blipFill>
        <p:spPr>
          <a:xfrm>
            <a:off x="5638680" y="1828800"/>
            <a:ext cx="2268720" cy="260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5"/>
          <a:stretch/>
        </p:blipFill>
        <p:spPr>
          <a:xfrm>
            <a:off x="3505320" y="2057400"/>
            <a:ext cx="136044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Головные уб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133720" y="3809880"/>
            <a:ext cx="2057400" cy="1554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 rot="19299000">
            <a:off x="4648320" y="4419360"/>
            <a:ext cx="2133360" cy="1257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tretch/>
        </p:blipFill>
        <p:spPr>
          <a:xfrm>
            <a:off x="1295280" y="1828800"/>
            <a:ext cx="1671840" cy="19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5"/>
          <a:stretch/>
        </p:blipFill>
        <p:spPr>
          <a:xfrm>
            <a:off x="4724280" y="1752480"/>
            <a:ext cx="2438640" cy="237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2457720" cy="3048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Одежд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2514600" y="3733920"/>
            <a:ext cx="2057400" cy="180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4"/>
          <a:stretch/>
        </p:blipFill>
        <p:spPr>
          <a:xfrm>
            <a:off x="1066680" y="1600200"/>
            <a:ext cx="2089440" cy="213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5"/>
          <a:stretch/>
        </p:blipFill>
        <p:spPr>
          <a:xfrm>
            <a:off x="4495680" y="4954680"/>
            <a:ext cx="2170080" cy="142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2743200" cy="2346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Насеком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1371600" y="2895480"/>
            <a:ext cx="1384200" cy="1409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2895480" y="3733920"/>
            <a:ext cx="2146320" cy="2171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5"/>
          <a:stretch/>
        </p:blipFill>
        <p:spPr>
          <a:xfrm rot="19260000">
            <a:off x="2895120" y="1828800"/>
            <a:ext cx="182880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58672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Comic Sans MS"/>
              </a:rPr>
              <a:t>МОЛОДЕЦ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Comic Sans MS"/>
              </a:rPr>
              <a:t>ТЫ СПРАВИЛ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400" y="5638320"/>
            <a:ext cx="54864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Comic Sans MS"/>
              </a:rPr>
              <a:t>Классификация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837720"/>
            <a:ext cx="4724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Comic Sans MS"/>
              </a:rPr>
              <a:t>Найди на картинке лишний предм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Comic Sans MS"/>
              </a:rPr>
              <a:t>объясни почему он лиш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Comic Sans MS"/>
              </a:rPr>
              <a:t>нажми на него курсором и он исчезнет</a:t>
            </a:r>
            <a:r>
              <a:rPr b="1" i="1" lang="ru-RU" sz="2800" spc="-1" strike="noStrike">
                <a:solidFill>
                  <a:srgbClr val="ff00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362320" y="3886200"/>
            <a:ext cx="2057400" cy="186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Домашние живо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2305080" cy="267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tretch/>
        </p:blipFill>
        <p:spPr>
          <a:xfrm>
            <a:off x="1828800" y="1523880"/>
            <a:ext cx="236700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5"/>
          <a:stretch/>
        </p:blipFill>
        <p:spPr>
          <a:xfrm>
            <a:off x="4648320" y="4191120"/>
            <a:ext cx="2009520" cy="16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3352680" y="251460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Дики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1828800" y="1981080"/>
            <a:ext cx="1219320" cy="1724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4"/>
          <a:stretch/>
        </p:blipFill>
        <p:spPr>
          <a:xfrm>
            <a:off x="6324480" y="1981080"/>
            <a:ext cx="15210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5"/>
          <a:stretch/>
        </p:blipFill>
        <p:spPr>
          <a:xfrm>
            <a:off x="1828800" y="4114800"/>
            <a:ext cx="186696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Водный транспор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5029200" y="2405160"/>
            <a:ext cx="1863720" cy="1519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3"/>
          <a:stretch/>
        </p:blipFill>
        <p:spPr>
          <a:xfrm>
            <a:off x="1600200" y="1981080"/>
            <a:ext cx="3200400" cy="1785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4343400" y="3809880"/>
            <a:ext cx="2133720" cy="160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5"/>
          <a:stretch/>
        </p:blipFill>
        <p:spPr>
          <a:xfrm>
            <a:off x="1752480" y="3124080"/>
            <a:ext cx="1597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3200400" cy="2311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Наземный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762120" y="2666880"/>
            <a:ext cx="2685960" cy="2055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4"/>
          <a:stretch/>
        </p:blipFill>
        <p:spPr>
          <a:xfrm>
            <a:off x="3352680" y="2057400"/>
            <a:ext cx="2286000" cy="178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5"/>
          <a:stretch/>
        </p:blipFill>
        <p:spPr>
          <a:xfrm>
            <a:off x="3048120" y="4343400"/>
            <a:ext cx="3306600" cy="17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Деревь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194148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3"/>
          <a:stretch/>
        </p:blipFill>
        <p:spPr>
          <a:xfrm>
            <a:off x="2971800" y="2057400"/>
            <a:ext cx="2286000" cy="2093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4"/>
          <a:stretch/>
        </p:blipFill>
        <p:spPr>
          <a:xfrm>
            <a:off x="5638680" y="2362320"/>
            <a:ext cx="1882800" cy="262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5"/>
          <a:stretch/>
        </p:blipFill>
        <p:spPr>
          <a:xfrm>
            <a:off x="3048120" y="4191120"/>
            <a:ext cx="1981080" cy="12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Весело и гр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1371600" y="2286000"/>
            <a:ext cx="1920960" cy="190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3505320" y="1828800"/>
            <a:ext cx="2438280" cy="1946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4"/>
          <a:stretch/>
        </p:blipFill>
        <p:spPr>
          <a:xfrm>
            <a:off x="5791320" y="2057400"/>
            <a:ext cx="2209680" cy="2079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5"/>
          <a:stretch/>
        </p:blipFill>
        <p:spPr>
          <a:xfrm>
            <a:off x="2895480" y="3733920"/>
            <a:ext cx="2210040" cy="21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 Sans MS"/>
              </a:rPr>
              <a:t>Овощ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 rot="2380800">
            <a:off x="2590560" y="3733560"/>
            <a:ext cx="1585800" cy="2120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1447920" y="1600200"/>
            <a:ext cx="2209680" cy="2077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4"/>
          <a:stretch/>
        </p:blipFill>
        <p:spPr>
          <a:xfrm>
            <a:off x="4648320" y="3048120"/>
            <a:ext cx="1935000" cy="2404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5715000" y="990720"/>
            <a:ext cx="1811160" cy="19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8T07:57:21Z</dcterms:created>
  <dc:creator>jasha</dc:creator>
  <dc:description/>
  <dc:language>en-US</dc:language>
  <cp:lastModifiedBy>наталья кощеева</cp:lastModifiedBy>
  <dcterms:modified xsi:type="dcterms:W3CDTF">2021-04-21T02:08:52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