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5F6-251B-41BE-AABC-319F9D5C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9B2-6FC3-4DA2-857F-0BBFDBD6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B50-93D3-452A-AA5E-1F9F886A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765-6CD6-4C7F-BAC3-797C9B89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410-9F42-4EC7-9151-539CD03E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F4B-B431-4207-8479-AA6953D3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593-C464-42BB-B6B0-63A58F4E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F6D-D9C4-4DC5-9CC7-480D537D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18B-E5A7-4CC3-8FE0-D59601F9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9DC-49BA-408C-B2D1-89C94CF8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2B5-9CAE-481F-8949-6007D4A5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467-8B69-41E0-B0C6-C91135CB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0B1B-9BC7-4866-B575-BE47B24CC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43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547640" y="836640"/>
            <a:ext cx="688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 Unicode MS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 Unicode MS"/>
              </a:rPr>
              <a:t>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mult-37"/>
          <p:cNvPicPr/>
          <p:nvPr/>
        </p:nvPicPr>
        <p:blipFill>
          <a:blip r:embed="rId2"/>
          <a:stretch/>
        </p:blipFill>
        <p:spPr>
          <a:xfrm>
            <a:off x="2219400" y="2932200"/>
            <a:ext cx="6375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323280" cy="6993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971640" y="836640"/>
            <a:ext cx="7665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2060"/>
                </a:solidFill>
                <a:latin typeface="Arial Unicode MS"/>
              </a:rPr>
              <a:t>Как найти неизве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дел</a:t>
            </a:r>
            <a:r>
              <a:rPr b="1" lang="en-US" sz="4000" spc="-1" strike="noStrike">
                <a:solidFill>
                  <a:srgbClr val="002060"/>
                </a:solidFill>
                <a:latin typeface="Arial Unicode MS"/>
              </a:rPr>
              <a:t>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692360" y="2997360"/>
            <a:ext cx="46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 узнал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 научился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684360" y="836640"/>
            <a:ext cx="77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цени свою работу на урок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1" descr="http://y-118.ru/upload/avatar/___SMAIL______1457008060.jpg"/>
          <p:cNvPicPr/>
          <p:nvPr/>
        </p:nvPicPr>
        <p:blipFill>
          <a:blip r:embed="rId2"/>
          <a:stretch/>
        </p:blipFill>
        <p:spPr>
          <a:xfrm>
            <a:off x="2050920" y="1773360"/>
            <a:ext cx="1214640" cy="107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www.etikettenstar.de/images/P/es-smi-0060_200.jpg"/>
          <p:cNvPicPr/>
          <p:nvPr/>
        </p:nvPicPr>
        <p:blipFill>
          <a:blip r:embed="rId3"/>
          <a:stretch/>
        </p:blipFill>
        <p:spPr>
          <a:xfrm>
            <a:off x="1979640" y="306864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www.clker.com/cliparts/D/G/V/D/V/u/sad-smiley-hi.png"/>
          <p:cNvPicPr/>
          <p:nvPr/>
        </p:nvPicPr>
        <p:blipFill>
          <a:blip r:embed="rId4"/>
          <a:stretch/>
        </p:blipFill>
        <p:spPr>
          <a:xfrm>
            <a:off x="2050920" y="4508640"/>
            <a:ext cx="1214640" cy="10713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3"/>
          <p:cNvSpPr/>
          <p:nvPr/>
        </p:nvSpPr>
        <p:spPr>
          <a:xfrm>
            <a:off x="3495240" y="213372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еня все от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4"/>
          <p:cNvSpPr/>
          <p:nvPr/>
        </p:nvSpPr>
        <p:spPr>
          <a:xfrm>
            <a:off x="3565800" y="3429000"/>
            <a:ext cx="33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еня все хор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5"/>
          <p:cNvSpPr/>
          <p:nvPr/>
        </p:nvSpPr>
        <p:spPr>
          <a:xfrm>
            <a:off x="3564000" y="48690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никли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 rot="21199200">
            <a:off x="1694520" y="1916280"/>
            <a:ext cx="581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UseR\Pictures\1104745-2839d0609a56ce31.gif"/>
          <p:cNvPicPr/>
          <p:nvPr/>
        </p:nvPicPr>
        <p:blipFill>
          <a:blip r:embed="rId2"/>
          <a:stretch/>
        </p:blipFill>
        <p:spPr>
          <a:xfrm>
            <a:off x="4929120" y="3046320"/>
            <a:ext cx="31813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500120" y="928800"/>
            <a:ext cx="607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00000" y="19288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785880" y="2500200"/>
            <a:ext cx="77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7 = 12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 • 3 = 24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- 5 =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573520" y="1571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1043640" y="15573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2  -  х 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5"/>
          <p:cNvSpPr/>
          <p:nvPr/>
        </p:nvSpPr>
        <p:spPr>
          <a:xfrm>
            <a:off x="3500280" y="3429000"/>
            <a:ext cx="2143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3348720" y="1557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6 : 8 =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7505640" y="142884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573160" y="1571760"/>
            <a:ext cx="20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х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971640" y="836640"/>
            <a:ext cx="7665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2060"/>
                </a:solidFill>
                <a:latin typeface="Arial Unicode MS"/>
              </a:rPr>
              <a:t>Как найти неизве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дел</a:t>
            </a:r>
            <a:r>
              <a:rPr b="1" lang="en-US" sz="4000" spc="-1" strike="noStrike">
                <a:solidFill>
                  <a:srgbClr val="002060"/>
                </a:solidFill>
                <a:latin typeface="Arial Unicode MS"/>
              </a:rPr>
              <a:t>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1692360" y="2924280"/>
            <a:ext cx="46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хочу узнать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Я хочу научиться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65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1285920" y="78588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Arial"/>
              </a:rPr>
              <a:t>6 февра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Arial"/>
              </a:rPr>
              <a:t>Класс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2843280" y="2492280"/>
            <a:ext cx="232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 : 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 : 9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003640" y="24922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03640" y="299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00120" y="928800"/>
            <a:ext cx="607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143080" y="18446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 = 35 :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х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 5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7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480840" y="1285920"/>
            <a:ext cx="20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5  : х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5592600" y="1093680"/>
            <a:ext cx="5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1500120" y="928800"/>
            <a:ext cx="607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332000" y="6922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Физминутка на минутку!.mp4" descr=""/>
          <p:cNvPicPr/>
          <p:nvPr/>
        </p:nvPicPr>
        <p:blipFill>
          <a:blip r:embed="rId2"/>
          <a:stretch/>
        </p:blipFill>
        <p:spPr>
          <a:xfrm>
            <a:off x="2087640" y="1714680"/>
            <a:ext cx="5148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500120" y="620640"/>
            <a:ext cx="607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6"/>
          <p:cNvSpPr/>
          <p:nvPr/>
        </p:nvSpPr>
        <p:spPr>
          <a:xfrm>
            <a:off x="826920" y="487080"/>
            <a:ext cx="71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оверь себ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395280" y="18446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6920" y="1557360"/>
          <a:ext cx="7417080" cy="3402000"/>
        </p:xfrm>
        <a:graphic>
          <a:graphicData uri="http://schemas.openxmlformats.org/drawingml/2006/table">
            <a:tbl>
              <a:tblPr/>
              <a:tblGrid>
                <a:gridCol w="2529000"/>
                <a:gridCol w="1641600"/>
                <a:gridCol w="1571400"/>
                <a:gridCol w="1675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Делим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Делитель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Значение частн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У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Корень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308"/>
          <p:cNvSpPr/>
          <p:nvPr/>
        </p:nvSpPr>
        <p:spPr>
          <a:xfrm>
            <a:off x="296712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0"/>
          <p:cNvSpPr/>
          <p:nvPr/>
        </p:nvSpPr>
        <p:spPr>
          <a:xfrm>
            <a:off x="3492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d8a"/>
                </a:solidFill>
                <a:latin typeface="Arial"/>
              </a:rPr>
              <a:t>36 : х 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1"/>
          <p:cNvSpPr/>
          <p:nvPr/>
        </p:nvSpPr>
        <p:spPr>
          <a:xfrm>
            <a:off x="5076720" y="371628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d8a"/>
                </a:solidFill>
                <a:latin typeface="Arial"/>
              </a:rPr>
              <a:t>42 : х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12"/>
          <p:cNvSpPr/>
          <p:nvPr/>
        </p:nvSpPr>
        <p:spPr>
          <a:xfrm>
            <a:off x="6595560" y="3716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d8a"/>
                </a:solidFill>
                <a:latin typeface="Arial"/>
              </a:rPr>
              <a:t>120 : х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3"/>
          <p:cNvSpPr/>
          <p:nvPr/>
        </p:nvSpPr>
        <p:spPr>
          <a:xfrm>
            <a:off x="4016520" y="4287960"/>
            <a:ext cx="3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d8a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14"/>
          <p:cNvSpPr/>
          <p:nvPr/>
        </p:nvSpPr>
        <p:spPr>
          <a:xfrm>
            <a:off x="5582880" y="436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5"/>
          <p:cNvSpPr/>
          <p:nvPr/>
        </p:nvSpPr>
        <p:spPr>
          <a:xfrm>
            <a:off x="649620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7"/>
          <p:cNvSpPr/>
          <p:nvPr/>
        </p:nvSpPr>
        <p:spPr>
          <a:xfrm>
            <a:off x="7067520" y="4334040"/>
            <a:ext cx="6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d8a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01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547640" y="836640"/>
            <a:ext cx="688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 Unicode MS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Arial Unicode MS"/>
              </a:rPr>
              <a:t>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mult-37"/>
          <p:cNvPicPr/>
          <p:nvPr/>
        </p:nvPicPr>
        <p:blipFill>
          <a:blip r:embed="rId2"/>
          <a:stretch/>
        </p:blipFill>
        <p:spPr>
          <a:xfrm>
            <a:off x="2219400" y="2932200"/>
            <a:ext cx="637524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UseR\Desktop\видео урок\урок\kartinki-dlya-fona-dlya-prezentac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465200" y="928800"/>
            <a:ext cx="607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787480" y="4000680"/>
            <a:ext cx="36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116000" y="2558520"/>
            <a:ext cx="71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У с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№ 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(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ст.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(по желанию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187280" y="996120"/>
            <a:ext cx="71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омашня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9T12:44:57Z</dcterms:created>
  <dc:creator>Администратор</dc:creator>
  <dc:description/>
  <dc:language>en-US</dc:language>
  <cp:lastModifiedBy>Администратор</cp:lastModifiedBy>
  <dcterms:modified xsi:type="dcterms:W3CDTF">2017-02-05T14:37:22Z</dcterms:modified>
  <cp:revision>22</cp:revision>
  <dc:subject/>
  <dc:title>Слайд 1</dc:title>
</cp:coreProperties>
</file>