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875-B191-4FF6-B67F-41997B88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758-4612-428E-921E-1DF2795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B5E-69E7-4EFD-BAA5-6CD4CABC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D51-4D1F-479C-988F-A391522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A69-9C24-448D-8916-3200F4F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687-43F3-4C61-B288-6EA7256E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F6B-72BD-405B-93F5-A8EE73E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152-EF29-43C4-B547-07AF53B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623-FBC4-4F30-A7C9-BC3A211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96B-44CF-4F51-B697-AB15C5E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9DE-AC4A-481D-872C-3201C27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20B-1849-46B9-9270-5AD9A85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741-253C-4D79-974E-1ACC4386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3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47640" y="836640"/>
            <a:ext cx="688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ult-37"/>
          <p:cNvPicPr/>
          <p:nvPr/>
        </p:nvPicPr>
        <p:blipFill>
          <a:blip r:embed="rId2"/>
          <a:stretch/>
        </p:blipFill>
        <p:spPr>
          <a:xfrm>
            <a:off x="2219400" y="2932200"/>
            <a:ext cx="6375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993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971640" y="836640"/>
            <a:ext cx="7665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Как найти неизв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дел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692360" y="299736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 узнал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 научил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684360" y="836640"/>
            <a:ext cx="77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цени свою работу на урок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1" descr="http://y-118.ru/upload/avatar/___SMAIL______1457008060.jpg"/>
          <p:cNvPicPr/>
          <p:nvPr/>
        </p:nvPicPr>
        <p:blipFill>
          <a:blip r:embed="rId2"/>
          <a:stretch/>
        </p:blipFill>
        <p:spPr>
          <a:xfrm>
            <a:off x="2050920" y="1773360"/>
            <a:ext cx="1214640" cy="107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www.etikettenstar.de/images/P/es-smi-0060_200.jpg"/>
          <p:cNvPicPr/>
          <p:nvPr/>
        </p:nvPicPr>
        <p:blipFill>
          <a:blip r:embed="rId3"/>
          <a:stretch/>
        </p:blipFill>
        <p:spPr>
          <a:xfrm>
            <a:off x="1979640" y="30686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clker.com/cliparts/D/G/V/D/V/u/sad-smiley-hi.png"/>
          <p:cNvPicPr/>
          <p:nvPr/>
        </p:nvPicPr>
        <p:blipFill>
          <a:blip r:embed="rId4"/>
          <a:stretch/>
        </p:blipFill>
        <p:spPr>
          <a:xfrm>
            <a:off x="2050920" y="4508640"/>
            <a:ext cx="121464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3"/>
          <p:cNvSpPr/>
          <p:nvPr/>
        </p:nvSpPr>
        <p:spPr>
          <a:xfrm>
            <a:off x="3495240" y="213372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все от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3565800" y="3429000"/>
            <a:ext cx="33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все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3564000" y="486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ли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 rot="21199200">
            <a:off x="1694520" y="1916280"/>
            <a:ext cx="58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seR\Pictures\1104745-2839d0609a56ce31.gif"/>
          <p:cNvPicPr/>
          <p:nvPr/>
        </p:nvPicPr>
        <p:blipFill>
          <a:blip r:embed="rId2"/>
          <a:stretch/>
        </p:blipFill>
        <p:spPr>
          <a:xfrm>
            <a:off x="4929120" y="3046320"/>
            <a:ext cx="31813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00000" y="19288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85880" y="25002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7 = 12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 • 3 = 24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- 5 =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573520" y="157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1043640" y="15573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  -  х 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3500280" y="3429000"/>
            <a:ext cx="2143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3348720" y="1557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6 : 8 =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505640" y="1428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573160" y="1571760"/>
            <a:ext cx="20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х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971640" y="836640"/>
            <a:ext cx="7665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Как найти неизв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дел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692360" y="292428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хочу узнать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хочу научить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6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285920" y="7858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6 февра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2843280" y="2492280"/>
            <a:ext cx="232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 :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 : 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003640" y="24922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0364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143080" y="1844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 = 35 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5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480840" y="128592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5  : х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5592600" y="1093680"/>
            <a:ext cx="5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332000" y="692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Физминутка на минутку!.mp4" descr=""/>
          <p:cNvPicPr/>
          <p:nvPr/>
        </p:nvPicPr>
        <p:blipFill>
          <a:blip r:embed="rId2"/>
          <a:stretch/>
        </p:blipFill>
        <p:spPr>
          <a:xfrm>
            <a:off x="2087640" y="1714680"/>
            <a:ext cx="514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500120" y="62064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826920" y="48708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395280" y="1844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1557360"/>
          <a:ext cx="7417080" cy="3402000"/>
        </p:xfrm>
        <a:graphic>
          <a:graphicData uri="http://schemas.openxmlformats.org/drawingml/2006/table">
            <a:tbl>
              <a:tblPr/>
              <a:tblGrid>
                <a:gridCol w="2529000"/>
                <a:gridCol w="1641600"/>
                <a:gridCol w="1571400"/>
                <a:gridCol w="1675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лим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лител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Значение част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У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орен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308"/>
          <p:cNvSpPr/>
          <p:nvPr/>
        </p:nvSpPr>
        <p:spPr>
          <a:xfrm>
            <a:off x="2967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0"/>
          <p:cNvSpPr/>
          <p:nvPr/>
        </p:nvSpPr>
        <p:spPr>
          <a:xfrm>
            <a:off x="3492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36 : х 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1"/>
          <p:cNvSpPr/>
          <p:nvPr/>
        </p:nvSpPr>
        <p:spPr>
          <a:xfrm>
            <a:off x="5076720" y="371628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42 : х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2"/>
          <p:cNvSpPr/>
          <p:nvPr/>
        </p:nvSpPr>
        <p:spPr>
          <a:xfrm>
            <a:off x="6595560" y="3716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120 : х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3"/>
          <p:cNvSpPr/>
          <p:nvPr/>
        </p:nvSpPr>
        <p:spPr>
          <a:xfrm>
            <a:off x="4016520" y="428796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4"/>
          <p:cNvSpPr/>
          <p:nvPr/>
        </p:nvSpPr>
        <p:spPr>
          <a:xfrm>
            <a:off x="558288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5"/>
          <p:cNvSpPr/>
          <p:nvPr/>
        </p:nvSpPr>
        <p:spPr>
          <a:xfrm>
            <a:off x="649620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7"/>
          <p:cNvSpPr/>
          <p:nvPr/>
        </p:nvSpPr>
        <p:spPr>
          <a:xfrm>
            <a:off x="7067520" y="433404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47640" y="836640"/>
            <a:ext cx="688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mult-37"/>
          <p:cNvPicPr/>
          <p:nvPr/>
        </p:nvPicPr>
        <p:blipFill>
          <a:blip r:embed="rId2"/>
          <a:stretch/>
        </p:blipFill>
        <p:spPr>
          <a:xfrm>
            <a:off x="2219400" y="2932200"/>
            <a:ext cx="6375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46520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116000" y="2558520"/>
            <a:ext cx="71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У с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№ 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(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ст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(по желанию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187280" y="99612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12:44:57Z</dcterms:created>
  <dc:creator>Администратор</dc:creator>
  <dc:description/>
  <dc:language>en-US</dc:language>
  <cp:lastModifiedBy>Администратор</cp:lastModifiedBy>
  <dcterms:modified xsi:type="dcterms:W3CDTF">2017-02-05T14:37:22Z</dcterms:modified>
  <cp:revision>22</cp:revision>
  <dc:subject/>
  <dc:title>Слайд 1</dc:title>
</cp:coreProperties>
</file>