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251B-9445-4E4D-9D26-CFCA5B63D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960F-4AA2-41F6-92CB-1B27E245B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B00D-0059-492D-8610-E04609BD3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B718-F33A-471A-980E-B67BB8159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C7AD6-6430-4355-B751-1CE63E9D1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57A61-3CEF-476F-B85C-25F1DD4E0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C5800-DF00-4988-8B01-3FFAAA9FB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28179-AE6F-4F52-B233-524037882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58751-24DE-430F-821B-CB4DF9C4A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4945A-6EE5-4506-9467-E8B1656FA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A2EEB-33EC-44DA-86F7-0A183C72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E31E-1165-4182-8B98-E7D8E3EA3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610C3-F122-45E8-9FB6-E01C7EAF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B2B4E-E98D-43AD-AA95-7D9ACD92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2BC02-4B2A-4DB2-92D2-CE910D64C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B8CDF-184B-44A1-96E7-9BDF703CD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17B48-ED08-4448-A0F5-B42E99504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F868-BE8F-44DD-982F-43326689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747F-CF62-4D84-9B7E-6E58AB89A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5250-5515-46AB-9743-91081981B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5793-F296-40D6-BFF2-A38ACDF47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B962-9B47-48B1-A3DF-97B25E7F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29BD-3A32-40F6-B7D3-13C4A2B3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518D-3CFE-4230-A11B-B4B00A86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D0A97-15F2-452F-AF32-4729D12A742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84FDD-C132-46CE-9100-FB776E6B81D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8A0BC-B55D-4ABA-8B9C-4EE07A5B726D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1280" y="2420640"/>
            <a:ext cx="7921440" cy="21603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«НЕДЕЛЯ МАТЕМАТИКИ 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В СПЕЦИАЛЬНОЙ (КОРРЕКЦИОННОЙ) ОБЩЕОБРАЗОВАТЕЛЬНОЙ ШКОЛЕ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908000" y="5589720"/>
            <a:ext cx="61200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етодическая разработк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Номер слайда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6F1FE-03FD-46B6-859C-A62A6160A662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гра «Меткий стрелок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Picture 9" descr="SDC12108"/>
          <p:cNvPicPr/>
          <p:nvPr/>
        </p:nvPicPr>
        <p:blipFill>
          <a:blip r:embed="rId1"/>
          <a:stretch/>
        </p:blipFill>
        <p:spPr>
          <a:xfrm>
            <a:off x="179280" y="981000"/>
            <a:ext cx="3772080" cy="28288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SDC12110"/>
          <p:cNvPicPr/>
          <p:nvPr/>
        </p:nvPicPr>
        <p:blipFill>
          <a:blip r:embed="rId2"/>
          <a:stretch/>
        </p:blipFill>
        <p:spPr>
          <a:xfrm>
            <a:off x="4572000" y="907920"/>
            <a:ext cx="3772080" cy="28288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1" descr="SDC12114"/>
          <p:cNvPicPr/>
          <p:nvPr/>
        </p:nvPicPr>
        <p:blipFill>
          <a:blip r:embed="rId3"/>
          <a:stretch/>
        </p:blipFill>
        <p:spPr>
          <a:xfrm>
            <a:off x="2195640" y="3500280"/>
            <a:ext cx="426708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Номер слайда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9AC26-1C69-46F9-A2E1-64CEECF22AD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Picture 12" descr="SDC12113"/>
          <p:cNvPicPr/>
          <p:nvPr/>
        </p:nvPicPr>
        <p:blipFill>
          <a:blip r:embed="rId1"/>
          <a:stretch/>
        </p:blipFill>
        <p:spPr>
          <a:xfrm>
            <a:off x="4876920" y="3657600"/>
            <a:ext cx="4016160" cy="301320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атематическая эстафет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Picture 9" descr="SDC12107"/>
          <p:cNvPicPr/>
          <p:nvPr/>
        </p:nvPicPr>
        <p:blipFill>
          <a:blip r:embed="rId2"/>
          <a:stretch/>
        </p:blipFill>
        <p:spPr>
          <a:xfrm>
            <a:off x="179280" y="692280"/>
            <a:ext cx="3772080" cy="28288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0" descr="SDC12111"/>
          <p:cNvPicPr/>
          <p:nvPr/>
        </p:nvPicPr>
        <p:blipFill>
          <a:blip r:embed="rId3"/>
          <a:stretch/>
        </p:blipFill>
        <p:spPr>
          <a:xfrm>
            <a:off x="2195640" y="2708280"/>
            <a:ext cx="377172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Номер слайда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C77D4-62C5-41EF-9FC0-753A871A9C38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икторина-конкурс «Запомни, посчитай, ответь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Picture 9" descr="SDC12126"/>
          <p:cNvPicPr/>
          <p:nvPr/>
        </p:nvPicPr>
        <p:blipFill>
          <a:blip r:embed="rId1"/>
          <a:stretch/>
        </p:blipFill>
        <p:spPr>
          <a:xfrm>
            <a:off x="685800" y="2243160"/>
            <a:ext cx="3772080" cy="28288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0" descr="SDC12127"/>
          <p:cNvPicPr/>
          <p:nvPr/>
        </p:nvPicPr>
        <p:blipFill>
          <a:blip r:embed="rId2"/>
          <a:stretch/>
        </p:blipFill>
        <p:spPr>
          <a:xfrm>
            <a:off x="4610160" y="2243160"/>
            <a:ext cx="377172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Номер слайда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DBDEA-E04D-468B-B93A-AD68A1770A63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Школьная олимпиада по математик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5" name="Picture 7" descr="SDC12122"/>
          <p:cNvPicPr/>
          <p:nvPr/>
        </p:nvPicPr>
        <p:blipFill>
          <a:blip r:embed="rId1"/>
          <a:stretch/>
        </p:blipFill>
        <p:spPr>
          <a:xfrm>
            <a:off x="685800" y="2243160"/>
            <a:ext cx="3772080" cy="28288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SDC12119"/>
          <p:cNvPicPr/>
          <p:nvPr/>
        </p:nvPicPr>
        <p:blipFill>
          <a:blip r:embed="rId2"/>
          <a:stretch/>
        </p:blipFill>
        <p:spPr>
          <a:xfrm>
            <a:off x="4610160" y="2243160"/>
            <a:ext cx="377172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Номер слайда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EDB20-A51F-4B8F-B942-E80ADFB924C8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Picture 10" descr="SDC12120"/>
          <p:cNvPicPr/>
          <p:nvPr/>
        </p:nvPicPr>
        <p:blipFill>
          <a:blip r:embed="rId1"/>
          <a:stretch/>
        </p:blipFill>
        <p:spPr>
          <a:xfrm>
            <a:off x="4211640" y="90792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Юные математик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Picture 7" descr="SDC12124"/>
          <p:cNvPicPr/>
          <p:nvPr/>
        </p:nvPicPr>
        <p:blipFill>
          <a:blip r:embed="rId2"/>
          <a:stretch/>
        </p:blipFill>
        <p:spPr>
          <a:xfrm>
            <a:off x="250920" y="981000"/>
            <a:ext cx="3771720" cy="28288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8" descr="SDC12106"/>
          <p:cNvPicPr/>
          <p:nvPr/>
        </p:nvPicPr>
        <p:blipFill>
          <a:blip r:embed="rId3"/>
          <a:stretch/>
        </p:blipFill>
        <p:spPr>
          <a:xfrm>
            <a:off x="2916360" y="3284640"/>
            <a:ext cx="4249440" cy="31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Номер слайда 5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EBFE6-71EA-488A-94B1-0A6AAED42DC1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55280" y="3141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«…Ни один наставник не должен забывать</a:t>
            </a: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,- говорил К.Д.Ушинский, -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что его главнейшая обязанность состоит в приучении  воспитанников к умственному труду и что эта обязанность более важна, нежели передача самого предмета»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Номер слайда 5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12925-0020-4ED2-B3B1-25610F5025F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1557360"/>
            <a:ext cx="7631280" cy="374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«Предмет математики настолько серьёзен, что полезно не упускать случая, делать его немного занимательным»</a:t>
            </a:r>
            <a:br>
              <a:rPr sz="2800"/>
            </a:br>
            <a:br>
              <a:rPr sz="2800"/>
            </a:b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Блез Паскал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Номер слайда 5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FEB7D-ED73-421A-B04F-5F9FF5116EEF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78120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Значение внеклассной работы по математике с учащимися состоит в следующем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211280" y="1700280"/>
            <a:ext cx="471636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… </a:t>
            </a: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содействуют развитию познавательной деятельности учащихся: восприятия, представлений, внимания, памяти, мышления, речи, воображе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Picture 4" descr="SDC12102"/>
          <p:cNvPicPr/>
          <p:nvPr/>
        </p:nvPicPr>
        <p:blipFill>
          <a:blip r:embed="rId1"/>
          <a:stretch/>
        </p:blipFill>
        <p:spPr>
          <a:xfrm>
            <a:off x="250920" y="206064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Номер слайда 5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CEC92-8442-482F-8188-01CB117983DE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5" descr="SDC12103"/>
          <p:cNvPicPr/>
          <p:nvPr/>
        </p:nvPicPr>
        <p:blipFill>
          <a:blip r:embed="rId1"/>
          <a:stretch/>
        </p:blipFill>
        <p:spPr>
          <a:xfrm>
            <a:off x="3059280" y="3284640"/>
            <a:ext cx="5148000" cy="338436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7667640" cy="36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…</a:t>
            </a: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помогает формированию творческих способностей учащихся,   в организации коллектива своих товарищей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…</a:t>
            </a: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позволяет детям глубже понять роль математики в жизн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…</a:t>
            </a: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содействует воспитанию   коллективизма и товариществ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Номер слайда 5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C150A-BAEF-4C06-BDFA-0650D8496C82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4" descr="SDC12107"/>
          <p:cNvPicPr/>
          <p:nvPr/>
        </p:nvPicPr>
        <p:blipFill>
          <a:blip r:embed="rId1"/>
          <a:stretch/>
        </p:blipFill>
        <p:spPr>
          <a:xfrm>
            <a:off x="3708360" y="335772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79280" y="-360"/>
            <a:ext cx="7777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5. …способствуют воспитанию у детей культуры чувств, чувства справедливости, чести, долга, удовольствия или неудовольствия, радости или скорби, гордости и огорчения и т.д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6. Главное же значение различных видов внеклассной работы состоит в том, что она помогает усилить интерес учащихся к математике, содействует развитию математических способностей школьников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Номер слайда 5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66F30-7646-4AC8-AE3A-AA6271630941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226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omic Sans MS"/>
              </a:rPr>
              <a:t>Неделя математики</a:t>
            </a:r>
            <a:br>
              <a:rPr sz="4400"/>
            </a:br>
            <a:br>
              <a:rPr sz="4400"/>
            </a:br>
            <a:r>
              <a:rPr b="0" i="1" lang="ru-RU" sz="3200" spc="-1" strike="noStrike">
                <a:solidFill>
                  <a:srgbClr val="000099"/>
                </a:solidFill>
                <a:latin typeface="Comic Sans MS"/>
              </a:rPr>
              <a:t>Цель проведения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71640" y="2421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привить учащимся любовь к предмету математик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развивать мышление, эрудицию, творчество мысли, желание быть полезным, ценить труд своих товарищей и учителе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Номер слайда 5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6490F-0654-4116-B304-BA0C23A5ABA9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Подготовительная часть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За несколько дней до начала «Недели математики» вывешивается объявление о времени её проведения и план, готовится все необходимое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В течение недели проводится  конкурсы «На лучшую тетрадь», «Учусь на 5».  Участие в каждом конкурсе оценивается в баллах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Конкурс «Учусь на «5»»: здесь подсчитываются все оценки «5» по математике за неделю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Номер слайда 5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45B1B-FC1B-46FC-A32F-C58784CDDA78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5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План проведения недели математики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324000" y="836640"/>
          <a:ext cx="8496000" cy="5676840"/>
        </p:xfrm>
        <a:graphic>
          <a:graphicData uri="http://schemas.openxmlformats.org/drawingml/2006/table">
            <a:tbl>
              <a:tblPr/>
              <a:tblGrid>
                <a:gridCol w="1511280"/>
                <a:gridCol w="5473440"/>
                <a:gridCol w="1511280"/>
              </a:tblGrid>
              <a:tr h="59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Да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Мероприят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 д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Викторина-конкур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«Запомни, посчитай, ответь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-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2 д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Математическая игра «Меткий стрелок»</a:t>
                      </a: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-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 д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Викторина  «Математический фейерверк»</a:t>
                      </a: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7-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4 д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Олимпиада по математи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Конкурс «На лучшую тетрадь»</a:t>
                      </a: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-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 д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Занятие математического круж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«Юный математик»</a:t>
                      </a:r>
                      <a:r>
                        <a:rPr b="0" lang="ru-RU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7-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6 д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Конкурс стенгазет.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Конкурс «Учусь на «5»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Подведение итогов. Награждения.</a:t>
                      </a:r>
                      <a:r>
                        <a:rPr b="0" lang="ru-RU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-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Номер слайда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4FDE2-F13C-4D20-9BD0-0BBAD0DA0D7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Выпуск стенгазет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Picture 6" descr="SDC12103"/>
          <p:cNvPicPr/>
          <p:nvPr/>
        </p:nvPicPr>
        <p:blipFill>
          <a:blip r:embed="rId1"/>
          <a:stretch/>
        </p:blipFill>
        <p:spPr>
          <a:xfrm>
            <a:off x="395280" y="1916280"/>
            <a:ext cx="3772080" cy="28288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SDC12104"/>
          <p:cNvPicPr/>
          <p:nvPr/>
        </p:nvPicPr>
        <p:blipFill>
          <a:blip r:embed="rId2"/>
          <a:stretch/>
        </p:blipFill>
        <p:spPr>
          <a:xfrm>
            <a:off x="4643280" y="3284640"/>
            <a:ext cx="377208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6:36:49Z</dcterms:created>
  <dc:creator>www.PHILka.RU</dc:creator>
  <dc:description/>
  <dc:language>en-US</dc:language>
  <cp:lastModifiedBy>User9</cp:lastModifiedBy>
  <dcterms:modified xsi:type="dcterms:W3CDTF">2020-03-27T19:01:19Z</dcterms:modified>
  <cp:revision>7</cp:revision>
  <dc:subject/>
  <dc:title>«НЕДЕЛЯ МАТЕМАТИКИ  В СПЕЦИАЛЬНОЙ (КОРРЕКЦИОННОЙ) ОБЩЕОБРАЗОВАТЕЛЬНОЙ ШКОЛЕ-ИНТЕРНАТ»</dc:title>
</cp:coreProperties>
</file>