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A90-8B00-4C20-B26F-A5520D97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E29-64CB-4330-A63A-814F2B88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3FA-06AE-4406-A091-5A26E2CD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F65-9A32-4D27-908B-BB7217F2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7771-87B2-4CF3-BC47-2E1DE71D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79F0-45ED-4983-A6BE-D286416E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674B-1352-4B19-B919-A1C2F75D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577F-A075-45E6-B392-F1ED30F0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5AE8-704D-4D7A-9C33-FB2A34E5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7E20-78CB-4BEE-9FE9-CD8EC2FD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25F2-7AAE-475C-BD8B-BEA6F995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AC2-6724-470F-81FF-CEAA5C0F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D68F-192E-4B4D-AFEA-0CCDC70A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A65E-9F25-44CA-819A-FF17F621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117C-D4D2-42B8-965D-0ECFF7DC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6A35-5C8E-413B-801A-45815430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0DE3-06DF-48D3-99D2-1E43BFEC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076-3C68-46BC-91A5-E5B340DC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8A0-BF57-444B-B697-BF80A4B4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4EA-7A7E-473F-80DD-0C53C587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669-7D05-4511-A8FE-A5949874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58A-9192-479B-9AA8-2B2DFC0E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EE1-DB65-40A2-9F1B-6183A070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DA4-8C8D-4D4B-B51B-7CE404B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980E-261B-40FA-B653-A4B4A1B87E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2C0E-A699-4D30-AE03-1D8C6A36D9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06D8-3511-4901-BC7B-0FCEDE7997E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921440" cy="216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«НЕДЕЛЯ МАТЕМАТИКИ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В СПЕЦИАЛЬНОЙ (КОРРЕКЦИОННОЙ) ОБЩЕОБРАЗОВАТЕЛЬНОЙ ШКОЛ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08000" y="5589720"/>
            <a:ext cx="6120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ческая разработ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1DFD-92B3-47C4-9DE5-D25F755AD7A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 «Меткий стрело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9" descr="SDC12108"/>
          <p:cNvPicPr/>
          <p:nvPr/>
        </p:nvPicPr>
        <p:blipFill>
          <a:blip r:embed="rId1"/>
          <a:stretch/>
        </p:blipFill>
        <p:spPr>
          <a:xfrm>
            <a:off x="179280" y="98100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SDC12110"/>
          <p:cNvPicPr/>
          <p:nvPr/>
        </p:nvPicPr>
        <p:blipFill>
          <a:blip r:embed="rId2"/>
          <a:stretch/>
        </p:blipFill>
        <p:spPr>
          <a:xfrm>
            <a:off x="4572000" y="90792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SDC12114"/>
          <p:cNvPicPr/>
          <p:nvPr/>
        </p:nvPicPr>
        <p:blipFill>
          <a:blip r:embed="rId3"/>
          <a:stretch/>
        </p:blipFill>
        <p:spPr>
          <a:xfrm>
            <a:off x="2195640" y="3500280"/>
            <a:ext cx="4267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C0A8-9C43-4B10-A791-48AFA630190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2" descr="SDC12113"/>
          <p:cNvPicPr/>
          <p:nvPr/>
        </p:nvPicPr>
        <p:blipFill>
          <a:blip r:embed="rId1"/>
          <a:stretch/>
        </p:blipFill>
        <p:spPr>
          <a:xfrm>
            <a:off x="4876920" y="3657600"/>
            <a:ext cx="4016160" cy="3013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матическая эстаф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9" descr="SDC12107"/>
          <p:cNvPicPr/>
          <p:nvPr/>
        </p:nvPicPr>
        <p:blipFill>
          <a:blip r:embed="rId2"/>
          <a:stretch/>
        </p:blipFill>
        <p:spPr>
          <a:xfrm>
            <a:off x="179280" y="69228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SDC12111"/>
          <p:cNvPicPr/>
          <p:nvPr/>
        </p:nvPicPr>
        <p:blipFill>
          <a:blip r:embed="rId3"/>
          <a:stretch/>
        </p:blipFill>
        <p:spPr>
          <a:xfrm>
            <a:off x="2195640" y="270828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9933-195A-4883-A305-36D47C8572D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кторина-конкурс «Запомни, посчитай, ответь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9" descr="SDC12126"/>
          <p:cNvPicPr/>
          <p:nvPr/>
        </p:nvPicPr>
        <p:blipFill>
          <a:blip r:embed="rId1"/>
          <a:stretch/>
        </p:blipFill>
        <p:spPr>
          <a:xfrm>
            <a:off x="685800" y="224316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SDC12127"/>
          <p:cNvPicPr/>
          <p:nvPr/>
        </p:nvPicPr>
        <p:blipFill>
          <a:blip r:embed="rId2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5229-3145-4A1F-BCD0-7CDFB0BA4B3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кольная олимпиада по математи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7" descr="SDC12122"/>
          <p:cNvPicPr/>
          <p:nvPr/>
        </p:nvPicPr>
        <p:blipFill>
          <a:blip r:embed="rId1"/>
          <a:stretch/>
        </p:blipFill>
        <p:spPr>
          <a:xfrm>
            <a:off x="685800" y="224316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SDC12119"/>
          <p:cNvPicPr/>
          <p:nvPr/>
        </p:nvPicPr>
        <p:blipFill>
          <a:blip r:embed="rId2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48E2-724F-46D2-B8E5-E64F473DFE2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10" descr="SDC12120"/>
          <p:cNvPicPr/>
          <p:nvPr/>
        </p:nvPicPr>
        <p:blipFill>
          <a:blip r:embed="rId1"/>
          <a:stretch/>
        </p:blipFill>
        <p:spPr>
          <a:xfrm>
            <a:off x="4211640" y="9079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Юные математ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SDC12124"/>
          <p:cNvPicPr/>
          <p:nvPr/>
        </p:nvPicPr>
        <p:blipFill>
          <a:blip r:embed="rId2"/>
          <a:stretch/>
        </p:blipFill>
        <p:spPr>
          <a:xfrm>
            <a:off x="250920" y="98100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SDC12106"/>
          <p:cNvPicPr/>
          <p:nvPr/>
        </p:nvPicPr>
        <p:blipFill>
          <a:blip r:embed="rId3"/>
          <a:stretch/>
        </p:blipFill>
        <p:spPr>
          <a:xfrm>
            <a:off x="2916360" y="3284640"/>
            <a:ext cx="424944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70E5-5D91-4CE4-B977-3E99274B9BF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3141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…Ни один наставник не должен забывать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,- говорил К.Д.Ушинский, -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что его главнейшая обязанность состоит в приучении  воспитанников к умственному труду и что эта обязанность более важна, нежели передача самого предмета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1CAD-782C-43D4-A64C-571FE6618DC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631280" cy="37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«Предмет математики настолько серьёзен, что полезно не упускать случая, делать его немного занимательным»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Блез Паскал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CC1A-6695-49B2-8AD4-DA0D286AD4D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812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начение внеклассной работы по математике с учащимися состоит в следующ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11280" y="1700280"/>
            <a:ext cx="4716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… 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содействуют развитию познавательной деятельности учащихся: восприятия, представлений, внимания, памяти, мышления, речи, воображ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SDC12102"/>
          <p:cNvPicPr/>
          <p:nvPr/>
        </p:nvPicPr>
        <p:blipFill>
          <a:blip r:embed="rId1"/>
          <a:stretch/>
        </p:blipFill>
        <p:spPr>
          <a:xfrm>
            <a:off x="250920" y="2060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AC1D-181C-4118-806A-FB8E2B0A8B4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SDC12103"/>
          <p:cNvPicPr/>
          <p:nvPr/>
        </p:nvPicPr>
        <p:blipFill>
          <a:blip r:embed="rId1"/>
          <a:stretch/>
        </p:blipFill>
        <p:spPr>
          <a:xfrm>
            <a:off x="3059280" y="3284640"/>
            <a:ext cx="5148000" cy="33843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76676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помогает формированию творческих способностей учащихся,   в организации коллектива своих товарище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позволяет детям глубже понять роль математики в жиз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содействует воспитанию   коллективизма и товарищ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4496-95CF-4273-9AF1-83E6D4E115B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SDC12107"/>
          <p:cNvPicPr/>
          <p:nvPr/>
        </p:nvPicPr>
        <p:blipFill>
          <a:blip r:embed="rId1"/>
          <a:stretch/>
        </p:blipFill>
        <p:spPr>
          <a:xfrm>
            <a:off x="3708360" y="3357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7777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5. …способствуют воспитанию у детей культуры чувств, чувства справедливости, чести, долга, удовольствия или неудовольствия, радости или скорби, гордости и огорчения и т.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6. Главное же значение различных видов внеклассной работы состоит в том, что она помогает усилить интерес учащихся к математике, содействует развитию математических способностей школьник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867D-63F5-44D9-8B2E-4F2A1391947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22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Неделя математики</a:t>
            </a:r>
            <a:br>
              <a:rPr sz="4400"/>
            </a:br>
            <a:br>
              <a:rPr sz="4400"/>
            </a:br>
            <a:r>
              <a:rPr b="0" i="1" lang="ru-RU" sz="3200" spc="-1" strike="noStrike">
                <a:solidFill>
                  <a:srgbClr val="000099"/>
                </a:solidFill>
                <a:latin typeface="Comic Sans MS"/>
              </a:rPr>
              <a:t>Цель провед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64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ивить учащимся любовь к предмету математи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развивать мышление, эрудицию, творчество мысли, желание быть полезным, ценить труд своих товарищей и учит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766A-6BE8-4AB0-A493-C640D58C1CC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одготовительная часть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За несколько дней до начала «Недели математики» вывешивается объявление о времени её проведения и план, готовится все необходимо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В течение недели проводится  конкурсы «На лучшую тетрадь», «Учусь на 5».  Участие в каждом конкурсе оценивается в баллах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Конкурс «Учусь на «5»»: здесь подсчитываются все оценки «5» по математике за неделю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5D57-6E17-4CB4-BB14-420EE6ABC7E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лан проведения недели математик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836640"/>
          <a:ext cx="8496000" cy="5676840"/>
        </p:xfrm>
        <a:graphic>
          <a:graphicData uri="http://schemas.openxmlformats.org/drawingml/2006/table">
            <a:tbl>
              <a:tblPr/>
              <a:tblGrid>
                <a:gridCol w="1511280"/>
                <a:gridCol w="5473440"/>
                <a:gridCol w="151128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ероприя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икторина-конкур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«Запомни, посчитай, отве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атематическая игра «Меткий стрелок»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икторина  «Математический фейерверк»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лимпиада по матема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Конкурс «На лучшую тетрадь»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Занятие математического круж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«Юный математик»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Конкурс стенгазет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Конкурс «Учусь на «5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одведение итогов. Награждения.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41C2-882F-4380-8BA0-62CDA8D3379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Выпуск стенгаз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6" descr="SDC12103"/>
          <p:cNvPicPr/>
          <p:nvPr/>
        </p:nvPicPr>
        <p:blipFill>
          <a:blip r:embed="rId1"/>
          <a:stretch/>
        </p:blipFill>
        <p:spPr>
          <a:xfrm>
            <a:off x="395280" y="191628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SDC12104"/>
          <p:cNvPicPr/>
          <p:nvPr/>
        </p:nvPicPr>
        <p:blipFill>
          <a:blip r:embed="rId2"/>
          <a:stretch/>
        </p:blipFill>
        <p:spPr>
          <a:xfrm>
            <a:off x="4643280" y="328464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6:36:49Z</dcterms:created>
  <dc:creator>www.PHILka.RU</dc:creator>
  <dc:description/>
  <dc:language>en-US</dc:language>
  <cp:lastModifiedBy>User9</cp:lastModifiedBy>
  <dcterms:modified xsi:type="dcterms:W3CDTF">2020-03-27T19:01:19Z</dcterms:modified>
  <cp:revision>7</cp:revision>
  <dc:subject/>
  <dc:title>«НЕДЕЛЯ МАТЕМАТИКИ  В СПЕЦИАЛЬНОЙ (КОРРЕКЦИОННОЙ) ОБЩЕОБРАЗОВАТЕЛЬНОЙ ШКОЛЕ-ИНТЕРНАТ»</dc:title>
</cp:coreProperties>
</file>