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08FE-3EE5-484E-ABE7-0C37BF9A471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15C3-37B1-4CE1-B58B-255A8193288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CE3-03F1-4260-86D6-E30AE838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CF67-F324-4210-8B66-13C69B06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BFAF-5208-4D1E-B6E5-F9991A9E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6C81-53DB-405F-BE23-1B449444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0A2C-1D98-4F4C-A288-EBBEE83E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32B4-7273-43CA-A131-F0D58919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991C-3FFE-44B2-871D-ED5EF8AE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932F-A6C0-479B-BF3B-423FDFA5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F8C9-E7F9-43C0-9865-AACBFE77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70C9-33A5-4BBE-B60B-FA684543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2DCC-6E6C-43B6-BBAB-25CE3001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7DE-312A-4213-A666-C0D1D05E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8B8B-D8C0-46D5-A2C2-42F32996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012F-7844-4A3A-B8BF-F5AD8AB2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358E-7059-44DC-8748-752A306C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BB68-A063-41D2-8EB2-7A46DF3D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6BDD-6520-46A2-BCAB-3611062D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E1A9E-16FF-42E0-A6C2-5D548FF2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30796-3EDD-4B6E-BEE1-4D092986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D5D42-EE01-4561-AF83-A7B930BD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C84E2-8FDB-4706-AA33-C9DC564C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D7F3F-2586-4A8C-9FE2-6D440EB7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E4A-AECC-4D7A-AAF9-6082D07B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257DE-4B28-4B11-BF10-E732A470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3E374-8E2A-4A11-BABB-6F61BF33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F47AD-28E4-49EE-93EF-B86BE93E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97382-FE29-4D6D-AF02-754E919F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A4247-4FE0-4B87-BB18-7A8DE978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98808-B844-4903-B255-34CE4C5C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48AF7-68A3-4091-9253-BAD46551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A76F-28FE-435F-BB11-8D61287B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1173-3E0B-41D7-AFA8-526CD8A8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AD2B-B72C-43CD-ACCC-4F28F285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ECC4-9D38-447E-8872-BEAD6C0B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310-2369-430F-8BA6-A9ABCA12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E64-362D-43F6-B5CE-FF352145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6AD9-F2C2-4AE6-B605-4B42F3A4747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05B3-86F3-492D-829C-0A63E66F36E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8879-7D84-4AF0-B131-67AE705EE92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99640" y="1197000"/>
            <a:ext cx="7574040" cy="17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Осевая симметрия</a:t>
            </a:r>
            <a:br>
              <a:rPr sz="3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гуры, обладающие двумя осями сим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443640" y="2492280"/>
            <a:ext cx="1441440" cy="3024360"/>
          </a:xfrm>
          <a:prstGeom prst="diamond">
            <a:avLst/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4"/>
          <p:cNvSpPr/>
          <p:nvPr/>
        </p:nvSpPr>
        <p:spPr>
          <a:xfrm>
            <a:off x="7164360" y="2060640"/>
            <a:ext cx="0" cy="424800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2050920" y="2349360"/>
            <a:ext cx="1873440" cy="3167280"/>
          </a:xfrm>
          <a:prstGeom prst="rect">
            <a:avLst/>
          </a:prstGeom>
          <a:solidFill>
            <a:srgbClr val="6a6f86"/>
          </a:solidFill>
          <a:ln w="19080">
            <a:solidFill>
              <a:srgbClr val="545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2987640" y="1989000"/>
            <a:ext cx="0" cy="424836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7"/>
          <p:cNvSpPr/>
          <p:nvPr/>
        </p:nvSpPr>
        <p:spPr>
          <a:xfrm>
            <a:off x="1619280" y="3933720"/>
            <a:ext cx="2736720" cy="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8"/>
          <p:cNvSpPr/>
          <p:nvPr/>
        </p:nvSpPr>
        <p:spPr>
          <a:xfrm>
            <a:off x="6227640" y="4005360"/>
            <a:ext cx="1944720" cy="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1979640" y="6165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ямо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5867280" y="6237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AutoShape 12">
            <a:hlinkClick r:id="" action="ppaction://hlinkshowjump?jump=nextslide"/>
          </p:cNvPr>
          <p:cNvSpPr/>
          <p:nvPr/>
        </p:nvSpPr>
        <p:spPr>
          <a:xfrm>
            <a:off x="7956720" y="6165720"/>
            <a:ext cx="936360" cy="476280"/>
          </a:xfrm>
          <a:custGeom>
            <a:avLst/>
            <a:gdLst>
              <a:gd name="textAreaLeft" fmla="*/ 30600 w 936360"/>
              <a:gd name="textAreaRight" fmla="*/ 905760 w 93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2450" h="21600">
                <a:moveTo>
                  <a:pt x="0" y="0"/>
                </a:moveTo>
                <a:lnTo>
                  <a:pt x="42450" y="0"/>
                </a:lnTo>
                <a:lnTo>
                  <a:pt x="42450" y="21600"/>
                </a:lnTo>
                <a:lnTo>
                  <a:pt x="0" y="21600"/>
                </a:lnTo>
                <a:close/>
              </a:path>
              <a:path fill="lightenLess" w="42450" h="21600">
                <a:moveTo>
                  <a:pt x="0" y="0"/>
                </a:moveTo>
                <a:lnTo>
                  <a:pt x="42450" y="0"/>
                </a:lnTo>
                <a:lnTo>
                  <a:pt x="41050" y="1400"/>
                </a:lnTo>
                <a:lnTo>
                  <a:pt x="1400" y="1400"/>
                </a:lnTo>
                <a:close/>
              </a:path>
              <a:path fill="darken" w="42450" h="21600">
                <a:moveTo>
                  <a:pt x="42450" y="0"/>
                </a:moveTo>
                <a:lnTo>
                  <a:pt x="42450" y="21600"/>
                </a:lnTo>
                <a:lnTo>
                  <a:pt x="41050" y="20200"/>
                </a:lnTo>
                <a:lnTo>
                  <a:pt x="41050" y="1400"/>
                </a:lnTo>
                <a:close/>
              </a:path>
              <a:path fill="darkenLess" w="42450" h="21600">
                <a:moveTo>
                  <a:pt x="42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50" y="20200"/>
                </a:lnTo>
                <a:close/>
              </a:path>
              <a:path fill="lighten" w="42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50" h="21600">
                <a:moveTo>
                  <a:pt x="14218" y="3794"/>
                </a:moveTo>
                <a:lnTo>
                  <a:pt x="28231" y="10800"/>
                </a:lnTo>
                <a:lnTo>
                  <a:pt x="14218" y="17806"/>
                </a:lnTo>
                <a:close/>
              </a:path>
            </a:pathLst>
          </a:cu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гуры, имеющие более двух осей сим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"/>
          <p:cNvSpPr/>
          <p:nvPr/>
        </p:nvSpPr>
        <p:spPr>
          <a:xfrm>
            <a:off x="1547640" y="2133720"/>
            <a:ext cx="2232360" cy="1800000"/>
          </a:xfrm>
          <a:prstGeom prst="triangle">
            <a:avLst>
              <a:gd name="adj" fmla="val 50000"/>
            </a:avLst>
          </a:prstGeom>
          <a:solidFill>
            <a:srgbClr val="6a6f86"/>
          </a:solidFill>
          <a:ln w="19080">
            <a:solidFill>
              <a:srgbClr val="545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1332000" y="1628640"/>
            <a:ext cx="2592360" cy="2592360"/>
            <a:chOff x="1332000" y="1628640"/>
            <a:chExt cx="2592360" cy="2592360"/>
          </a:xfrm>
        </p:grpSpPr>
        <p:sp>
          <p:nvSpPr>
            <p:cNvPr id="324" name="Line 5"/>
            <p:cNvSpPr/>
            <p:nvPr/>
          </p:nvSpPr>
          <p:spPr>
            <a:xfrm>
              <a:off x="2662200" y="1628640"/>
              <a:ext cx="0" cy="259236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Line 6"/>
            <p:cNvSpPr/>
            <p:nvPr/>
          </p:nvSpPr>
          <p:spPr>
            <a:xfrm flipV="1">
              <a:off x="1332000" y="2565360"/>
              <a:ext cx="2520720" cy="151128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Line 7"/>
            <p:cNvSpPr/>
            <p:nvPr/>
          </p:nvSpPr>
          <p:spPr>
            <a:xfrm flipH="1" flipV="1">
              <a:off x="1692360" y="2707920"/>
              <a:ext cx="2232000" cy="129708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" name="Rectangle 8"/>
          <p:cNvSpPr/>
          <p:nvPr/>
        </p:nvSpPr>
        <p:spPr>
          <a:xfrm>
            <a:off x="5724360" y="2060640"/>
            <a:ext cx="2087640" cy="20160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9"/>
          <p:cNvSpPr/>
          <p:nvPr/>
        </p:nvSpPr>
        <p:spPr>
          <a:xfrm>
            <a:off x="5076720" y="3068640"/>
            <a:ext cx="3456000" cy="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9" name="Group 10"/>
          <p:cNvGrpSpPr/>
          <p:nvPr/>
        </p:nvGrpSpPr>
        <p:grpSpPr>
          <a:xfrm>
            <a:off x="5364000" y="1628640"/>
            <a:ext cx="2769840" cy="2952720"/>
            <a:chOff x="5364000" y="1628640"/>
            <a:chExt cx="2769840" cy="2952720"/>
          </a:xfrm>
        </p:grpSpPr>
        <p:sp>
          <p:nvSpPr>
            <p:cNvPr id="330" name="Line 11"/>
            <p:cNvSpPr/>
            <p:nvPr/>
          </p:nvSpPr>
          <p:spPr>
            <a:xfrm>
              <a:off x="6767640" y="1628640"/>
              <a:ext cx="0" cy="295272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5364000" y="1700280"/>
              <a:ext cx="2737080" cy="266364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 flipH="1">
              <a:off x="5470200" y="1700280"/>
              <a:ext cx="2663640" cy="266364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3" name="Oval 14"/>
          <p:cNvSpPr/>
          <p:nvPr/>
        </p:nvSpPr>
        <p:spPr>
          <a:xfrm>
            <a:off x="3309840" y="4437000"/>
            <a:ext cx="1944720" cy="194328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5"/>
          <p:cNvSpPr/>
          <p:nvPr/>
        </p:nvSpPr>
        <p:spPr>
          <a:xfrm>
            <a:off x="3059280" y="5445000"/>
            <a:ext cx="2665080" cy="0"/>
          </a:xfrm>
          <a:prstGeom prst="line">
            <a:avLst/>
          </a:prstGeom>
          <a:ln w="1908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5" name="Group 16"/>
          <p:cNvGrpSpPr/>
          <p:nvPr/>
        </p:nvGrpSpPr>
        <p:grpSpPr>
          <a:xfrm>
            <a:off x="3203640" y="4076640"/>
            <a:ext cx="2160360" cy="2592360"/>
            <a:chOff x="3203640" y="4076640"/>
            <a:chExt cx="2160360" cy="2592360"/>
          </a:xfrm>
        </p:grpSpPr>
        <p:sp>
          <p:nvSpPr>
            <p:cNvPr id="336" name="Line 17"/>
            <p:cNvSpPr/>
            <p:nvPr/>
          </p:nvSpPr>
          <p:spPr>
            <a:xfrm>
              <a:off x="4284720" y="4076640"/>
              <a:ext cx="0" cy="259236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 flipV="1">
              <a:off x="3276720" y="4365360"/>
              <a:ext cx="2087280" cy="208764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Line 19"/>
            <p:cNvSpPr/>
            <p:nvPr/>
          </p:nvSpPr>
          <p:spPr>
            <a:xfrm>
              <a:off x="3203640" y="4365720"/>
              <a:ext cx="2160360" cy="2158920"/>
            </a:xfrm>
            <a:prstGeom prst="line">
              <a:avLst/>
            </a:prstGeom>
            <a:ln w="1908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9" name="Text Box 21"/>
          <p:cNvSpPr/>
          <p:nvPr/>
        </p:nvSpPr>
        <p:spPr>
          <a:xfrm>
            <a:off x="179280" y="1916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Равносторонний тре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7596360" y="148428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вадра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4932360" y="587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у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AutoShape 24">
            <a:hlinkClick r:id="" action="ppaction://hlinkshowjump?jump=nextslide"/>
          </p:cNvPr>
          <p:cNvSpPr/>
          <p:nvPr/>
        </p:nvSpPr>
        <p:spPr>
          <a:xfrm>
            <a:off x="7956720" y="6165720"/>
            <a:ext cx="936360" cy="476280"/>
          </a:xfrm>
          <a:custGeom>
            <a:avLst/>
            <a:gdLst>
              <a:gd name="textAreaLeft" fmla="*/ 30600 w 936360"/>
              <a:gd name="textAreaRight" fmla="*/ 905760 w 93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2450" h="21600">
                <a:moveTo>
                  <a:pt x="0" y="0"/>
                </a:moveTo>
                <a:lnTo>
                  <a:pt x="42450" y="0"/>
                </a:lnTo>
                <a:lnTo>
                  <a:pt x="42450" y="21600"/>
                </a:lnTo>
                <a:lnTo>
                  <a:pt x="0" y="21600"/>
                </a:lnTo>
                <a:close/>
              </a:path>
              <a:path fill="lightenLess" w="42450" h="21600">
                <a:moveTo>
                  <a:pt x="0" y="0"/>
                </a:moveTo>
                <a:lnTo>
                  <a:pt x="42450" y="0"/>
                </a:lnTo>
                <a:lnTo>
                  <a:pt x="41050" y="1400"/>
                </a:lnTo>
                <a:lnTo>
                  <a:pt x="1400" y="1400"/>
                </a:lnTo>
                <a:close/>
              </a:path>
              <a:path fill="darken" w="42450" h="21600">
                <a:moveTo>
                  <a:pt x="42450" y="0"/>
                </a:moveTo>
                <a:lnTo>
                  <a:pt x="42450" y="21600"/>
                </a:lnTo>
                <a:lnTo>
                  <a:pt x="41050" y="20200"/>
                </a:lnTo>
                <a:lnTo>
                  <a:pt x="41050" y="1400"/>
                </a:lnTo>
                <a:close/>
              </a:path>
              <a:path fill="darkenLess" w="42450" h="21600">
                <a:moveTo>
                  <a:pt x="42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50" y="20200"/>
                </a:lnTo>
                <a:close/>
              </a:path>
              <a:path fill="lighten" w="42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50" h="21600">
                <a:moveTo>
                  <a:pt x="14218" y="3794"/>
                </a:moveTo>
                <a:lnTo>
                  <a:pt x="28231" y="10800"/>
                </a:lnTo>
                <a:lnTo>
                  <a:pt x="14218" y="17806"/>
                </a:lnTo>
                <a:close/>
              </a:path>
            </a:pathLst>
          </a:cu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гуры, не обладающие осевой симметр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148360" y="2276640"/>
            <a:ext cx="3168720" cy="1296720"/>
          </a:xfrm>
          <a:prstGeom prst="parallelogram">
            <a:avLst>
              <a:gd name="adj" fmla="val 61091"/>
            </a:avLst>
          </a:prstGeom>
          <a:solidFill>
            <a:srgbClr val="6a6f86"/>
          </a:solidFill>
          <a:ln w="25560">
            <a:solidFill>
              <a:srgbClr val="545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4"/>
          <p:cNvSpPr/>
          <p:nvPr/>
        </p:nvSpPr>
        <p:spPr>
          <a:xfrm flipV="1">
            <a:off x="3419640" y="4220640"/>
            <a:ext cx="1368360" cy="36036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4716360" y="4221000"/>
            <a:ext cx="1008000" cy="50328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3419640" y="4581360"/>
            <a:ext cx="360360" cy="151164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 flipV="1">
            <a:off x="3780000" y="5877000"/>
            <a:ext cx="1584000" cy="21600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 flipV="1">
            <a:off x="5364000" y="4724280"/>
            <a:ext cx="360360" cy="115272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1258920" y="1844640"/>
            <a:ext cx="2881440" cy="1728720"/>
          </a:xfrm>
          <a:prstGeom prst="rtTriangle">
            <a:avLst/>
          </a:prstGeom>
          <a:solidFill>
            <a:srgbClr val="99cc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611280" y="3789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оизвольный тре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6012000" y="3789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5076720" y="59500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Неправильный много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AutoShape 14">
            <a:hlinkClick r:id="" action="ppaction://hlinkshowjump?jump=nextslide"/>
          </p:cNvPr>
          <p:cNvSpPr/>
          <p:nvPr/>
        </p:nvSpPr>
        <p:spPr>
          <a:xfrm>
            <a:off x="7956720" y="6165720"/>
            <a:ext cx="936360" cy="476280"/>
          </a:xfrm>
          <a:custGeom>
            <a:avLst/>
            <a:gdLst>
              <a:gd name="textAreaLeft" fmla="*/ 30600 w 936360"/>
              <a:gd name="textAreaRight" fmla="*/ 905760 w 93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2450" h="21600">
                <a:moveTo>
                  <a:pt x="0" y="0"/>
                </a:moveTo>
                <a:lnTo>
                  <a:pt x="42450" y="0"/>
                </a:lnTo>
                <a:lnTo>
                  <a:pt x="42450" y="21600"/>
                </a:lnTo>
                <a:lnTo>
                  <a:pt x="0" y="21600"/>
                </a:lnTo>
                <a:close/>
              </a:path>
              <a:path fill="lightenLess" w="42450" h="21600">
                <a:moveTo>
                  <a:pt x="0" y="0"/>
                </a:moveTo>
                <a:lnTo>
                  <a:pt x="42450" y="0"/>
                </a:lnTo>
                <a:lnTo>
                  <a:pt x="41050" y="1400"/>
                </a:lnTo>
                <a:lnTo>
                  <a:pt x="1400" y="1400"/>
                </a:lnTo>
                <a:close/>
              </a:path>
              <a:path fill="darken" w="42450" h="21600">
                <a:moveTo>
                  <a:pt x="42450" y="0"/>
                </a:moveTo>
                <a:lnTo>
                  <a:pt x="42450" y="21600"/>
                </a:lnTo>
                <a:lnTo>
                  <a:pt x="41050" y="20200"/>
                </a:lnTo>
                <a:lnTo>
                  <a:pt x="41050" y="1400"/>
                </a:lnTo>
                <a:close/>
              </a:path>
              <a:path fill="darkenLess" w="42450" h="21600">
                <a:moveTo>
                  <a:pt x="42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50" y="20200"/>
                </a:lnTo>
                <a:close/>
              </a:path>
              <a:path fill="lighten" w="42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50" h="21600">
                <a:moveTo>
                  <a:pt x="14218" y="3794"/>
                </a:moveTo>
                <a:lnTo>
                  <a:pt x="28231" y="10800"/>
                </a:lnTo>
                <a:lnTo>
                  <a:pt x="14218" y="17806"/>
                </a:lnTo>
                <a:close/>
              </a:path>
            </a:pathLst>
          </a:custGeom>
          <a:solidFill>
            <a:srgbClr val="f1f0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0" y="304560"/>
            <a:ext cx="4191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имметрия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8"/>
          <p:cNvSpPr/>
          <p:nvPr/>
        </p:nvSpPr>
        <p:spPr>
          <a:xfrm>
            <a:off x="4800600" y="2286000"/>
            <a:ext cx="4191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ое наблюдение показывает, чт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снову красоты многих форм, созданных природой, составляет симметр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7" name="Содержимое 12" descr="S2021565-1.jpg"/>
          <p:cNvPicPr/>
          <p:nvPr/>
        </p:nvPicPr>
        <p:blipFill>
          <a:blip r:embed="rId1"/>
          <a:srcRect l="6060" t="4545" r="7074" b="6061"/>
          <a:stretch/>
        </p:blipFill>
        <p:spPr>
          <a:xfrm>
            <a:off x="144360" y="457200"/>
            <a:ext cx="438804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6095520" y="304560"/>
            <a:ext cx="30481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рко выраженной симметрией обладают листья, ветви, цветы, пл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9" name="Содержимое 8" descr="4C6912CF-0215-49FC-AC7A-33DF222AF162-1.jpg"/>
          <p:cNvPicPr/>
          <p:nvPr/>
        </p:nvPicPr>
        <p:blipFill>
          <a:blip r:embed="rId1"/>
          <a:stretch/>
        </p:blipFill>
        <p:spPr>
          <a:xfrm>
            <a:off x="0" y="0"/>
            <a:ext cx="2743200" cy="3911760"/>
          </a:xfrm>
          <a:prstGeom prst="rect">
            <a:avLst/>
          </a:prstGeom>
          <a:ln w="0">
            <a:noFill/>
          </a:ln>
        </p:spPr>
      </p:pic>
      <p:pic>
        <p:nvPicPr>
          <p:cNvPr id="360" name="Содержимое 3" descr=""/>
          <p:cNvPicPr/>
          <p:nvPr/>
        </p:nvPicPr>
        <p:blipFill>
          <a:blip r:embed="rId2"/>
          <a:stretch/>
        </p:blipFill>
        <p:spPr>
          <a:xfrm>
            <a:off x="3200400" y="4495680"/>
            <a:ext cx="2971800" cy="2362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"/>
          <p:cNvPicPr/>
          <p:nvPr/>
        </p:nvPicPr>
        <p:blipFill>
          <a:blip r:embed="rId3"/>
          <a:stretch/>
        </p:blipFill>
        <p:spPr>
          <a:xfrm>
            <a:off x="2743200" y="0"/>
            <a:ext cx="3430440" cy="4572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Копия Цветок в насекомым"/>
          <p:cNvPicPr/>
          <p:nvPr/>
        </p:nvPicPr>
        <p:blipFill>
          <a:blip r:embed="rId4"/>
          <a:srcRect l="0" t="1192" r="2647" b="0"/>
          <a:stretch/>
        </p:blipFill>
        <p:spPr>
          <a:xfrm>
            <a:off x="0" y="3657600"/>
            <a:ext cx="3200400" cy="3200400"/>
          </a:xfrm>
          <a:prstGeom prst="rect">
            <a:avLst/>
          </a:prstGeom>
          <a:ln w="0">
            <a:solidFill>
              <a:srgbClr val="c1bcfc"/>
            </a:solidFill>
          </a:ln>
        </p:spPr>
      </p:pic>
    </p:spTree>
  </p:cSld>
  <p:transition spd="slow"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имметрия в животном мир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Содержимое 12" descr="bd266528a25d.jpg"/>
          <p:cNvPicPr/>
          <p:nvPr/>
        </p:nvPicPr>
        <p:blipFill>
          <a:blip r:embed="rId1"/>
          <a:stretch/>
        </p:blipFill>
        <p:spPr>
          <a:xfrm>
            <a:off x="5524560" y="1371600"/>
            <a:ext cx="3619440" cy="2971800"/>
          </a:xfrm>
          <a:prstGeom prst="rect">
            <a:avLst/>
          </a:prstGeom>
          <a:ln w="0">
            <a:noFill/>
          </a:ln>
        </p:spPr>
      </p:pic>
      <p:pic>
        <p:nvPicPr>
          <p:cNvPr id="365" name="Содержимое 14" descr="5xsinty.jpg"/>
          <p:cNvPicPr/>
          <p:nvPr/>
        </p:nvPicPr>
        <p:blipFill>
          <a:blip r:embed="rId2"/>
          <a:stretch/>
        </p:blipFill>
        <p:spPr>
          <a:xfrm>
            <a:off x="0" y="43434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7" name="Содержимое 8" descr="66750506_funnyanim38_768x512.jpg"/>
          <p:cNvPicPr/>
          <p:nvPr/>
        </p:nvPicPr>
        <p:blipFill>
          <a:blip r:embed="rId3"/>
          <a:stretch/>
        </p:blipFill>
        <p:spPr>
          <a:xfrm>
            <a:off x="0" y="1371600"/>
            <a:ext cx="2057400" cy="2971800"/>
          </a:xfrm>
          <a:prstGeom prst="rect">
            <a:avLst/>
          </a:prstGeom>
          <a:ln w="0">
            <a:noFill/>
          </a:ln>
        </p:spPr>
      </p:pic>
      <p:pic>
        <p:nvPicPr>
          <p:cNvPr id="368" name="Содержимое 7" descr="408190_391546.jpg"/>
          <p:cNvPicPr/>
          <p:nvPr/>
        </p:nvPicPr>
        <p:blipFill>
          <a:blip r:embed="rId4"/>
          <a:stretch/>
        </p:blipFill>
        <p:spPr>
          <a:xfrm>
            <a:off x="5689440" y="4343400"/>
            <a:ext cx="3454560" cy="2514600"/>
          </a:xfrm>
          <a:prstGeom prst="rect">
            <a:avLst/>
          </a:prstGeom>
          <a:ln w="0">
            <a:noFill/>
          </a:ln>
        </p:spPr>
      </p:pic>
      <p:pic>
        <p:nvPicPr>
          <p:cNvPr id="369" name="Содержимое 13" descr="56376152_462872376_animalelephant001.jpg"/>
          <p:cNvPicPr/>
          <p:nvPr/>
        </p:nvPicPr>
        <p:blipFill>
          <a:blip r:embed="rId5"/>
          <a:stretch/>
        </p:blipFill>
        <p:spPr>
          <a:xfrm>
            <a:off x="2666880" y="434340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370" name="Содержимое 11" descr="86a08870b868.jpg"/>
          <p:cNvPicPr/>
          <p:nvPr/>
        </p:nvPicPr>
        <p:blipFill>
          <a:blip r:embed="rId6"/>
          <a:stretch/>
        </p:blipFill>
        <p:spPr>
          <a:xfrm>
            <a:off x="2057400" y="1371600"/>
            <a:ext cx="402120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Содержимое 6" descr="14280251_BlueSnow1152.jpg"/>
          <p:cNvPicPr/>
          <p:nvPr/>
        </p:nvPicPr>
        <p:blipFill>
          <a:blip r:embed="rId1"/>
          <a:stretch/>
        </p:blipFill>
        <p:spPr>
          <a:xfrm>
            <a:off x="228600" y="1295280"/>
            <a:ext cx="3078000" cy="2198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гадочные снеж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8"/>
          <p:cNvSpPr/>
          <p:nvPr/>
        </p:nvSpPr>
        <p:spPr>
          <a:xfrm>
            <a:off x="0" y="3538440"/>
            <a:ext cx="914400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Он сыплет с неба мелкой крупой, летает вокруг фонарей огромными пушистыми хлопьями,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стоит столбом в лунном свете ледяными иглами. Казалось бы, какая ерунда! Всего-то замёрзшая вода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но сколько вопросов возникает у человека, глядящего на снежинки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Содержимое 9" descr="KXUBJ_5497.jpg"/>
          <p:cNvPicPr/>
          <p:nvPr/>
        </p:nvPicPr>
        <p:blipFill>
          <a:blip r:embed="rId2"/>
          <a:stretch/>
        </p:blipFill>
        <p:spPr>
          <a:xfrm>
            <a:off x="5958000" y="1295280"/>
            <a:ext cx="2728800" cy="2189160"/>
          </a:xfrm>
          <a:prstGeom prst="rect">
            <a:avLst/>
          </a:prstGeom>
          <a:ln w="0">
            <a:noFill/>
          </a:ln>
        </p:spPr>
      </p:pic>
      <p:pic>
        <p:nvPicPr>
          <p:cNvPr id="375" name="Содержимое 11" descr="i22.jpeg"/>
          <p:cNvPicPr/>
          <p:nvPr/>
        </p:nvPicPr>
        <p:blipFill>
          <a:blip r:embed="rId3"/>
          <a:stretch/>
        </p:blipFill>
        <p:spPr>
          <a:xfrm>
            <a:off x="3519360" y="1295280"/>
            <a:ext cx="2195640" cy="2210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метрия челове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038120" y="9907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расота человеческого тела обусловлена пропорциональностью и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мметрие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днако человеческая фигура может быть ассиметричн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оение внутренних органов человека не симметричн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Содержимое 4" descr="http://vestnik-nou.narod.ru/images/zs_p11.gif"/>
          <p:cNvPicPr/>
          <p:nvPr/>
        </p:nvPicPr>
        <p:blipFill>
          <a:blip r:embed="rId1"/>
          <a:srcRect l="16009" t="0" r="23568" b="0"/>
          <a:stretch/>
        </p:blipFill>
        <p:spPr>
          <a:xfrm>
            <a:off x="152280" y="990720"/>
            <a:ext cx="1295640" cy="3809880"/>
          </a:xfrm>
          <a:prstGeom prst="rect">
            <a:avLst/>
          </a:prstGeom>
          <a:ln w="0">
            <a:noFill/>
          </a:ln>
        </p:spPr>
      </p:pic>
      <p:pic>
        <p:nvPicPr>
          <p:cNvPr id="379" name="Содержимое 4" descr="1271613603_i0042.jpg"/>
          <p:cNvPicPr/>
          <p:nvPr/>
        </p:nvPicPr>
        <p:blipFill>
          <a:blip r:embed="rId2"/>
          <a:srcRect l="0" t="-2217" r="0" b="0"/>
          <a:stretch/>
        </p:blipFill>
        <p:spPr>
          <a:xfrm>
            <a:off x="1676520" y="1154160"/>
            <a:ext cx="2179440" cy="3494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рода в различных своих творениях, казалось бы, очень далеких друг от друга, может использовать одни и те же принцип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человек в своих творениях: живописи, скульптуре, архитектуре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сновополагающими принципами красоты при этом являются пропорции и симметр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200040" y="762120"/>
            <a:ext cx="5638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Симметрия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– это идея, с помощью которой человек веками пытался объяснить и создать порядок, красоту и совершенство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Г. Вейль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Picture 5" descr="Г"/>
          <p:cNvPicPr/>
          <p:nvPr/>
        </p:nvPicPr>
        <p:blipFill>
          <a:blip r:embed="rId1"/>
          <a:stretch/>
        </p:blipFill>
        <p:spPr>
          <a:xfrm>
            <a:off x="304920" y="609480"/>
            <a:ext cx="2679480" cy="3926160"/>
          </a:xfrm>
          <a:prstGeom prst="rect">
            <a:avLst/>
          </a:prstGeom>
          <a:ln cap="rnd" w="50760">
            <a:solidFill>
              <a:srgbClr val="800080"/>
            </a:solidFill>
            <a:custDash>
              <a:ds d="100000" sp="1000"/>
            </a:custDash>
            <a:miter/>
          </a:ln>
        </p:spPr>
      </p:pic>
    </p:spTree>
  </p:cSld>
  <p:transition spd="slow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2,102,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19,123,5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3889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052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ципы симметрии играют важную роль в физике и математике, химии и биологии, технике и архитектуре, живописи и скульптуре, поэзии и музы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ы природы, управляющие неисчерпаемой в своём многообразии картиной явлений, в свою очередь, также  подчиняются принципам симметр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ЕЛИКИЕ О СИММЕТРИ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52480" y="1219320"/>
            <a:ext cx="6934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ермин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«симметрия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придумал скульптор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ифагор Регийски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ревние грек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полагали, что Вселенная симметрична просто потому, что она прекрасна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ервую научную школу в истории человечества создал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ифагор Самосский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«Симметрия – это некая «средняя мера», - считал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Аристотел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имский врач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Гален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(2 в. н. э.) под симметрией понимал покой души и уравновешенность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Содержимое 10" descr="аристотель.jpg"/>
          <p:cNvPicPr/>
          <p:nvPr/>
        </p:nvPicPr>
        <p:blipFill>
          <a:blip r:embed="rId1"/>
          <a:stretch/>
        </p:blipFill>
        <p:spPr>
          <a:xfrm>
            <a:off x="228600" y="3048120"/>
            <a:ext cx="1523880" cy="1936800"/>
          </a:xfrm>
          <a:prstGeom prst="rect">
            <a:avLst/>
          </a:prstGeom>
          <a:ln w="0">
            <a:noFill/>
          </a:ln>
        </p:spPr>
      </p:pic>
      <p:pic>
        <p:nvPicPr>
          <p:cNvPr id="278" name="Содержимое 9" descr="Гален.jpg"/>
          <p:cNvPicPr/>
          <p:nvPr/>
        </p:nvPicPr>
        <p:blipFill>
          <a:blip r:embed="rId2"/>
          <a:stretch/>
        </p:blipFill>
        <p:spPr>
          <a:xfrm>
            <a:off x="228600" y="4876920"/>
            <a:ext cx="1523880" cy="1981080"/>
          </a:xfrm>
          <a:prstGeom prst="rect">
            <a:avLst/>
          </a:prstGeom>
          <a:ln w="0">
            <a:noFill/>
          </a:ln>
        </p:spPr>
      </p:pic>
      <p:pic>
        <p:nvPicPr>
          <p:cNvPr id="279" name="Содержимое 8" descr="Пифагор Самосский.jpeg"/>
          <p:cNvPicPr/>
          <p:nvPr/>
        </p:nvPicPr>
        <p:blipFill>
          <a:blip r:embed="rId3"/>
          <a:stretch/>
        </p:blipFill>
        <p:spPr>
          <a:xfrm>
            <a:off x="152280" y="1066680"/>
            <a:ext cx="1689120" cy="188460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8"/>
          <p:cNvSpPr/>
          <p:nvPr/>
        </p:nvSpPr>
        <p:spPr>
          <a:xfrm>
            <a:off x="157680" y="648828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Гале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Прямоугольник 9"/>
          <p:cNvSpPr/>
          <p:nvPr/>
        </p:nvSpPr>
        <p:spPr>
          <a:xfrm>
            <a:off x="219960" y="44956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Аристоте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Прямоугольник 10"/>
          <p:cNvSpPr/>
          <p:nvPr/>
        </p:nvSpPr>
        <p:spPr>
          <a:xfrm>
            <a:off x="152280" y="2438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ифагор Самосс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2750"/>
                            </p:stCondLst>
                            <p:childTnLst>
                              <p:par>
                                <p:cTn id="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971440" y="761760"/>
            <a:ext cx="5715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еонардо да Винч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считал, что главную роль в картине играют пропорциональность и гармония, которые тесно связаны симметри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льбрехт Дюрер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1471-1528 г.г.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утверждал, что каждый художник должен знать способы построения правильных симметричных фигур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Picture 7" descr="Предположительный автопортрет Леонардо да Винчи"/>
          <p:cNvPicPr/>
          <p:nvPr/>
        </p:nvPicPr>
        <p:blipFill>
          <a:blip r:embed="rId1"/>
          <a:stretch/>
        </p:blipFill>
        <p:spPr>
          <a:xfrm>
            <a:off x="457200" y="152280"/>
            <a:ext cx="2019240" cy="3048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Автопортрет, 1500, Старая Пинакотека, Мюнхен"/>
          <p:cNvPicPr/>
          <p:nvPr/>
        </p:nvPicPr>
        <p:blipFill>
          <a:blip r:embed="rId2"/>
          <a:stretch/>
        </p:blipFill>
        <p:spPr>
          <a:xfrm>
            <a:off x="380880" y="3352680"/>
            <a:ext cx="2210040" cy="310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777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рмин «симметрия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 греч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metri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 - соразмерность, пропорциональность, одинаковость в расположении част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имметрия в широком смысл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неизменность структуры материального объекта относительно его преобразова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мметрия играет огромную роль в искусстве и архитектуре. Но ее можно заметить и в музыке, и в поэзии. Симметрия широко встречается в природе, в особенности у кристаллов, у растений и животны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мметрия может встретиться и в других разделах математики, например при построении графиков функц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евая сим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ве точки, лежащие на одном перпендикуляре к данной прямой по разные стороны и на одинаковом расстоянии от нее, называются симметричными относительно данной прям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3456000" cy="313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419360" y="1066680"/>
            <a:ext cx="4724280" cy="32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игура называется симметричной относительно прямой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для каждой точки фигуры симметричная ей точка относительно прямой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кже принадлежит этой фигуре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2514600" y="2286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Прямая соединительная линия 11"/>
          <p:cNvSpPr/>
          <p:nvPr/>
        </p:nvSpPr>
        <p:spPr>
          <a:xfrm>
            <a:off x="2286000" y="228600"/>
            <a:ext cx="0" cy="5257800"/>
          </a:xfrm>
          <a:prstGeom prst="line">
            <a:avLst/>
          </a:prstGeom>
          <a:ln cap="sq"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4" name="Содержимое 7" descr="butterfly.png"/>
          <p:cNvPicPr/>
          <p:nvPr/>
        </p:nvPicPr>
        <p:blipFill>
          <a:blip r:embed="rId1"/>
          <a:stretch/>
        </p:blipFill>
        <p:spPr>
          <a:xfrm>
            <a:off x="152280" y="990720"/>
            <a:ext cx="4267440" cy="356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гуры, обладающие одной осью сим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3"/>
          <p:cNvGrpSpPr/>
          <p:nvPr/>
        </p:nvGrpSpPr>
        <p:grpSpPr>
          <a:xfrm>
            <a:off x="1258920" y="1916280"/>
            <a:ext cx="2089080" cy="1441440"/>
            <a:chOff x="1258920" y="1916280"/>
            <a:chExt cx="2089080" cy="1441440"/>
          </a:xfrm>
        </p:grpSpPr>
        <p:sp>
          <p:nvSpPr>
            <p:cNvPr id="297" name="Line 4"/>
            <p:cNvSpPr/>
            <p:nvPr/>
          </p:nvSpPr>
          <p:spPr>
            <a:xfrm flipV="1">
              <a:off x="1258920" y="1916280"/>
              <a:ext cx="2016000" cy="720720"/>
            </a:xfrm>
            <a:prstGeom prst="line">
              <a:avLst/>
            </a:prstGeom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Line 5"/>
            <p:cNvSpPr/>
            <p:nvPr/>
          </p:nvSpPr>
          <p:spPr>
            <a:xfrm>
              <a:off x="1258920" y="2637000"/>
              <a:ext cx="2089080" cy="720720"/>
            </a:xfrm>
            <a:prstGeom prst="line">
              <a:avLst/>
            </a:prstGeom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9" name="Line 6"/>
          <p:cNvSpPr/>
          <p:nvPr/>
        </p:nvSpPr>
        <p:spPr>
          <a:xfrm>
            <a:off x="1258920" y="2637000"/>
            <a:ext cx="2087640" cy="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5940360" y="2133720"/>
            <a:ext cx="1727280" cy="22320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8"/>
          <p:cNvSpPr/>
          <p:nvPr/>
        </p:nvSpPr>
        <p:spPr>
          <a:xfrm>
            <a:off x="6804000" y="1700280"/>
            <a:ext cx="0" cy="345744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AutoShape 9"/>
          <p:cNvSpPr/>
          <p:nvPr/>
        </p:nvSpPr>
        <p:spPr>
          <a:xfrm>
            <a:off x="2411280" y="4365720"/>
            <a:ext cx="2808360" cy="1727280"/>
          </a:xfrm>
          <a:custGeom>
            <a:avLst/>
            <a:gdLst>
              <a:gd name="textAreaLeft" fmla="*/ 585000 w 2808360"/>
              <a:gd name="textAreaRight" fmla="*/ 2223360 w 2808360"/>
              <a:gd name="textAreaTop" fmla="*/ 359640 h 1727280"/>
              <a:gd name="textAreaBottom" fmla="*/ 136764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6a6f86"/>
          </a:solidFill>
          <a:ln w="19080">
            <a:solidFill>
              <a:srgbClr val="5454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10"/>
          <p:cNvSpPr/>
          <p:nvPr/>
        </p:nvSpPr>
        <p:spPr>
          <a:xfrm>
            <a:off x="3851280" y="3789360"/>
            <a:ext cx="0" cy="2521080"/>
          </a:xfrm>
          <a:prstGeom prst="line">
            <a:avLst/>
          </a:prstGeom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12"/>
          <p:cNvSpPr/>
          <p:nvPr/>
        </p:nvSpPr>
        <p:spPr>
          <a:xfrm>
            <a:off x="6227640" y="3141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13"/>
          <p:cNvSpPr/>
          <p:nvPr/>
        </p:nvSpPr>
        <p:spPr>
          <a:xfrm flipH="1">
            <a:off x="7164360" y="3141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14"/>
          <p:cNvSpPr/>
          <p:nvPr/>
        </p:nvSpPr>
        <p:spPr>
          <a:xfrm>
            <a:off x="4716360" y="51577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15"/>
          <p:cNvSpPr/>
          <p:nvPr/>
        </p:nvSpPr>
        <p:spPr>
          <a:xfrm flipH="1">
            <a:off x="2700360" y="530064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1187280" y="3357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Уго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6900120" y="4653000"/>
            <a:ext cx="22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Равнобедренны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тре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2195640" y="6308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Равнобедренная трапе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еник</dc:creator>
  <dc:description/>
  <dc:language>en-US</dc:language>
  <cp:lastModifiedBy>Катя</cp:lastModifiedBy>
  <dcterms:modified xsi:type="dcterms:W3CDTF">2019-01-24T09:01:48Z</dcterms:modified>
  <cp:revision>5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