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F0FF-0F4C-4AE4-98AF-201AF833B25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BEB1-5051-42FC-A003-712DDD416CE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357-CD73-4668-AFA6-FF48A119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AC9-8AE8-494E-9659-64CF68F0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FEB-529E-4603-BFE7-6ADDD5F3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140-38DC-45F7-A710-66BE5226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DB2A-29BD-428B-A619-D88F0FBA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7E57-E85C-4E20-8B68-56860295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D278-D3FA-49E7-8DEE-A47C253A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5926-7BD6-4F57-9B11-8B90AACB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28F9-6477-4039-BC1B-A38E42DB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1684-DA60-4F7E-808F-EA2E53A3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5C28-428F-444B-9E91-7FBB7752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72B-24A6-4531-9EB1-2C982526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F650-D0A4-4618-8130-E0F29C9E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BE84-D815-4EAB-95EC-B04EEF47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CDB7-1639-43D5-8498-22C86199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22C7-082B-4FD0-B8D6-90FF5486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41F3-E996-491A-B9A9-A827E60F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312A-1233-4FE7-A2AD-F0543BAF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59AB-4FDF-489B-9582-DA81311A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E97A-BA9B-4210-A537-0811FBF3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6196-A264-40C5-9644-27CFA4C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B028-038C-4D28-895C-ADD398EF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B85-EF51-47B8-9626-9E4877CC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08C1-1A20-4681-B5CD-AD636F02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7519-68E3-4613-A40E-555DDA67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00B6-428B-4B39-9CF1-2444C772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D9ED-23C3-4D1F-A327-677D1AD9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77097-D501-4D7B-BA30-72A77DA6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3A7E-A71F-428D-B42A-8F6B1E65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5736-4691-46ED-A8A3-CE1B24AC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87D-896E-4763-99E1-00D4AC35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526-1AA8-4F96-9DEA-DC84DB04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F2A-F4FF-4FFD-A747-38C49975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D4B-A66E-4C0E-B587-1352A3F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26C-099B-4742-A814-5E8BE0D2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B3F-8325-439F-A398-EF7333D7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5ECB-EB1E-4E2B-A7A1-FF7CE882553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8683-FC3B-4457-AC06-69B6565EC10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1447-14FC-4D41-8A18-C359F98A058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574040" cy="17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Осевая симметрия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гуры, обладающие двумя осями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443640" y="2492280"/>
            <a:ext cx="1441440" cy="3024360"/>
          </a:xfrm>
          <a:prstGeom prst="diamond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7164360" y="2060640"/>
            <a:ext cx="0" cy="424800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050920" y="2349360"/>
            <a:ext cx="1873440" cy="3167280"/>
          </a:xfrm>
          <a:prstGeom prst="rect">
            <a:avLst/>
          </a:pr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2987640" y="1989000"/>
            <a:ext cx="0" cy="424836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1619280" y="3933720"/>
            <a:ext cx="27367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6227640" y="4005360"/>
            <a:ext cx="19447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979640" y="61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867280" y="6237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AutoShape 12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гуры, имеющие более двух осей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1547640" y="2133720"/>
            <a:ext cx="2232360" cy="1800000"/>
          </a:xfrm>
          <a:prstGeom prst="triangle">
            <a:avLst>
              <a:gd name="adj" fmla="val 50000"/>
            </a:avLst>
          </a:pr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1332000" y="1628640"/>
            <a:ext cx="2592360" cy="2592360"/>
            <a:chOff x="1332000" y="1628640"/>
            <a:chExt cx="2592360" cy="2592360"/>
          </a:xfrm>
        </p:grpSpPr>
        <p:sp>
          <p:nvSpPr>
            <p:cNvPr id="324" name="Line 5"/>
            <p:cNvSpPr/>
            <p:nvPr/>
          </p:nvSpPr>
          <p:spPr>
            <a:xfrm>
              <a:off x="2662200" y="1628640"/>
              <a:ext cx="0" cy="259236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 flipV="1">
              <a:off x="1332000" y="2565360"/>
              <a:ext cx="2520720" cy="15112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7"/>
            <p:cNvSpPr/>
            <p:nvPr/>
          </p:nvSpPr>
          <p:spPr>
            <a:xfrm flipH="1" flipV="1">
              <a:off x="1692360" y="2707920"/>
              <a:ext cx="2232000" cy="12970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Rectangle 8"/>
          <p:cNvSpPr/>
          <p:nvPr/>
        </p:nvSpPr>
        <p:spPr>
          <a:xfrm>
            <a:off x="5724360" y="2060640"/>
            <a:ext cx="2087640" cy="2016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5076720" y="3068640"/>
            <a:ext cx="345600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9" name="Group 10"/>
          <p:cNvGrpSpPr/>
          <p:nvPr/>
        </p:nvGrpSpPr>
        <p:grpSpPr>
          <a:xfrm>
            <a:off x="5364000" y="1628640"/>
            <a:ext cx="2769840" cy="2952720"/>
            <a:chOff x="5364000" y="1628640"/>
            <a:chExt cx="2769840" cy="2952720"/>
          </a:xfrm>
        </p:grpSpPr>
        <p:sp>
          <p:nvSpPr>
            <p:cNvPr id="330" name="Line 11"/>
            <p:cNvSpPr/>
            <p:nvPr/>
          </p:nvSpPr>
          <p:spPr>
            <a:xfrm>
              <a:off x="6767640" y="1628640"/>
              <a:ext cx="0" cy="295272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5364000" y="1700280"/>
              <a:ext cx="2737080" cy="2663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 flipH="1">
              <a:off x="5470200" y="1700280"/>
              <a:ext cx="2663640" cy="2663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3" name="Oval 14"/>
          <p:cNvSpPr/>
          <p:nvPr/>
        </p:nvSpPr>
        <p:spPr>
          <a:xfrm>
            <a:off x="3309840" y="4437000"/>
            <a:ext cx="1944720" cy="194328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3059280" y="5445000"/>
            <a:ext cx="266508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5" name="Group 16"/>
          <p:cNvGrpSpPr/>
          <p:nvPr/>
        </p:nvGrpSpPr>
        <p:grpSpPr>
          <a:xfrm>
            <a:off x="3203640" y="4076640"/>
            <a:ext cx="2160360" cy="2592360"/>
            <a:chOff x="3203640" y="4076640"/>
            <a:chExt cx="2160360" cy="2592360"/>
          </a:xfrm>
        </p:grpSpPr>
        <p:sp>
          <p:nvSpPr>
            <p:cNvPr id="336" name="Line 17"/>
            <p:cNvSpPr/>
            <p:nvPr/>
          </p:nvSpPr>
          <p:spPr>
            <a:xfrm>
              <a:off x="4284720" y="4076640"/>
              <a:ext cx="0" cy="259236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V="1">
              <a:off x="3276720" y="4365360"/>
              <a:ext cx="2087280" cy="2087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3203640" y="4365720"/>
              <a:ext cx="2160360" cy="215892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" name="Text Box 21"/>
          <p:cNvSpPr/>
          <p:nvPr/>
        </p:nvSpPr>
        <p:spPr>
          <a:xfrm>
            <a:off x="179280" y="19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сторонний 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596360" y="14842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493236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utoShape 24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гуры, не обладающие осевой симметр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148360" y="2276640"/>
            <a:ext cx="3168720" cy="1296720"/>
          </a:xfrm>
          <a:prstGeom prst="parallelogram">
            <a:avLst>
              <a:gd name="adj" fmla="val 61091"/>
            </a:avLst>
          </a:prstGeom>
          <a:solidFill>
            <a:srgbClr val="6a6f86"/>
          </a:solidFill>
          <a:ln w="2556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4"/>
          <p:cNvSpPr/>
          <p:nvPr/>
        </p:nvSpPr>
        <p:spPr>
          <a:xfrm flipV="1">
            <a:off x="3419640" y="4220640"/>
            <a:ext cx="1368360" cy="36036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4716360" y="4221000"/>
            <a:ext cx="1008000" cy="50328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3419640" y="4581360"/>
            <a:ext cx="360360" cy="151164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 flipV="1">
            <a:off x="3780000" y="5877000"/>
            <a:ext cx="1584000" cy="21600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5364000" y="4724280"/>
            <a:ext cx="360360" cy="115272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258920" y="1844640"/>
            <a:ext cx="2881440" cy="1728720"/>
          </a:xfrm>
          <a:prstGeom prst="rtTriangle">
            <a:avLst/>
          </a:prstGeom>
          <a:solidFill>
            <a:srgbClr val="99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611280" y="378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извольный 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6012000" y="378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5076720" y="5950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Неправильный мног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AutoShape 14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191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мметр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8"/>
          <p:cNvSpPr/>
          <p:nvPr/>
        </p:nvSpPr>
        <p:spPr>
          <a:xfrm>
            <a:off x="4800600" y="2286000"/>
            <a:ext cx="4191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е наблюдение показывает, ч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у красоты многих форм, созданных природой, составляет симметр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Содержимое 12" descr="S2021565-1.jpg"/>
          <p:cNvPicPr/>
          <p:nvPr/>
        </p:nvPicPr>
        <p:blipFill>
          <a:blip r:embed="rId1"/>
          <a:srcRect l="6060" t="4545" r="7074" b="6061"/>
          <a:stretch/>
        </p:blipFill>
        <p:spPr>
          <a:xfrm>
            <a:off x="144360" y="457200"/>
            <a:ext cx="43880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095520" y="304560"/>
            <a:ext cx="30481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рко выраженной симметрией обладают листья, ветви, цветы, пл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Содержимое 8" descr="4C6912CF-0215-49FC-AC7A-33DF222AF162-1.jpg"/>
          <p:cNvPicPr/>
          <p:nvPr/>
        </p:nvPicPr>
        <p:blipFill>
          <a:blip r:embed="rId1"/>
          <a:stretch/>
        </p:blipFill>
        <p:spPr>
          <a:xfrm>
            <a:off x="0" y="0"/>
            <a:ext cx="2743200" cy="391176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3" descr=""/>
          <p:cNvPicPr/>
          <p:nvPr/>
        </p:nvPicPr>
        <p:blipFill>
          <a:blip r:embed="rId2"/>
          <a:stretch/>
        </p:blipFill>
        <p:spPr>
          <a:xfrm>
            <a:off x="3200400" y="44956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2743200" y="0"/>
            <a:ext cx="3430440" cy="4572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Копия Цветок в насекомым"/>
          <p:cNvPicPr/>
          <p:nvPr/>
        </p:nvPicPr>
        <p:blipFill>
          <a:blip r:embed="rId4"/>
          <a:srcRect l="0" t="1192" r="2647" b="0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solidFill>
              <a:srgbClr val="c1bcfc"/>
            </a:solidFill>
          </a:ln>
        </p:spPr>
      </p:pic>
    </p:spTree>
  </p:cSld>
  <p:transition spd="slow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имметрия в животном мир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Содержимое 12" descr="bd266528a25d.jpg"/>
          <p:cNvPicPr/>
          <p:nvPr/>
        </p:nvPicPr>
        <p:blipFill>
          <a:blip r:embed="rId1"/>
          <a:stretch/>
        </p:blipFill>
        <p:spPr>
          <a:xfrm>
            <a:off x="5524560" y="1371600"/>
            <a:ext cx="3619440" cy="297180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14" descr="5xsinty.jpg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" name="Содержимое 8" descr="66750506_funnyanim38_768x512.jpg"/>
          <p:cNvPicPr/>
          <p:nvPr/>
        </p:nvPicPr>
        <p:blipFill>
          <a:blip r:embed="rId3"/>
          <a:stretch/>
        </p:blipFill>
        <p:spPr>
          <a:xfrm>
            <a:off x="0" y="137160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7" descr="408190_391546.jpg"/>
          <p:cNvPicPr/>
          <p:nvPr/>
        </p:nvPicPr>
        <p:blipFill>
          <a:blip r:embed="rId4"/>
          <a:stretch/>
        </p:blipFill>
        <p:spPr>
          <a:xfrm>
            <a:off x="5689440" y="4343400"/>
            <a:ext cx="3454560" cy="2514600"/>
          </a:xfrm>
          <a:prstGeom prst="rect">
            <a:avLst/>
          </a:prstGeom>
          <a:ln w="0">
            <a:noFill/>
          </a:ln>
        </p:spPr>
      </p:pic>
      <p:pic>
        <p:nvPicPr>
          <p:cNvPr id="369" name="Содержимое 13" descr="56376152_462872376_animalelephant001.jpg"/>
          <p:cNvPicPr/>
          <p:nvPr/>
        </p:nvPicPr>
        <p:blipFill>
          <a:blip r:embed="rId5"/>
          <a:stretch/>
        </p:blipFill>
        <p:spPr>
          <a:xfrm>
            <a:off x="2666880" y="43434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370" name="Содержимое 11" descr="86a08870b868.jpg"/>
          <p:cNvPicPr/>
          <p:nvPr/>
        </p:nvPicPr>
        <p:blipFill>
          <a:blip r:embed="rId6"/>
          <a:stretch/>
        </p:blipFill>
        <p:spPr>
          <a:xfrm>
            <a:off x="2057400" y="1371600"/>
            <a:ext cx="40212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Содержимое 6" descr="14280251_BlueSnow1152.jpg"/>
          <p:cNvPicPr/>
          <p:nvPr/>
        </p:nvPicPr>
        <p:blipFill>
          <a:blip r:embed="rId1"/>
          <a:stretch/>
        </p:blipFill>
        <p:spPr>
          <a:xfrm>
            <a:off x="228600" y="1295280"/>
            <a:ext cx="3078000" cy="2198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гадочные снеж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0" y="3538440"/>
            <a:ext cx="9144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н сыплет с неба мелкой крупой, летает вокруг фонарей огромными пушистыми хлопьями,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стоит столбом в лунном свете ледяными иглами. Казалось бы, какая ерунда! Всего-то замёрзшая вод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но сколько вопросов возникает у человека, глядящего на снежинки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Содержимое 9" descr="KXUBJ_5497.jpg"/>
          <p:cNvPicPr/>
          <p:nvPr/>
        </p:nvPicPr>
        <p:blipFill>
          <a:blip r:embed="rId2"/>
          <a:stretch/>
        </p:blipFill>
        <p:spPr>
          <a:xfrm>
            <a:off x="5958000" y="1295280"/>
            <a:ext cx="2728800" cy="2189160"/>
          </a:xfrm>
          <a:prstGeom prst="rect">
            <a:avLst/>
          </a:prstGeom>
          <a:ln w="0">
            <a:noFill/>
          </a:ln>
        </p:spPr>
      </p:pic>
      <p:pic>
        <p:nvPicPr>
          <p:cNvPr id="375" name="Содержимое 11" descr="i22.jpeg"/>
          <p:cNvPicPr/>
          <p:nvPr/>
        </p:nvPicPr>
        <p:blipFill>
          <a:blip r:embed="rId3"/>
          <a:stretch/>
        </p:blipFill>
        <p:spPr>
          <a:xfrm>
            <a:off x="3519360" y="1295280"/>
            <a:ext cx="2195640" cy="221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метрия челове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038120" y="9907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расота человеческого тела обусловлена пропорциональностью 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мметрие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ако человеческая фигура может быть ассиметричн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оение внутренних органов человека не симметрич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Содержимое 4" descr="http://vestnik-nou.narod.ru/images/zs_p11.gif"/>
          <p:cNvPicPr/>
          <p:nvPr/>
        </p:nvPicPr>
        <p:blipFill>
          <a:blip r:embed="rId1"/>
          <a:srcRect l="16009" t="0" r="23568" b="0"/>
          <a:stretch/>
        </p:blipFill>
        <p:spPr>
          <a:xfrm>
            <a:off x="152280" y="990720"/>
            <a:ext cx="1295640" cy="3809880"/>
          </a:xfrm>
          <a:prstGeom prst="rect">
            <a:avLst/>
          </a:prstGeom>
          <a:ln w="0">
            <a:noFill/>
          </a:ln>
        </p:spPr>
      </p:pic>
      <p:pic>
        <p:nvPicPr>
          <p:cNvPr id="379" name="Содержимое 4" descr="1271613603_i0042.jpg"/>
          <p:cNvPicPr/>
          <p:nvPr/>
        </p:nvPicPr>
        <p:blipFill>
          <a:blip r:embed="rId2"/>
          <a:srcRect l="0" t="-2217" r="0" b="0"/>
          <a:stretch/>
        </p:blipFill>
        <p:spPr>
          <a:xfrm>
            <a:off x="1676520" y="1154160"/>
            <a:ext cx="2179440" cy="349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в различных своих творениях, казалось бы, очень далеких друг от друга, может использовать одни и те же принцип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человек в своих творениях: живописи, скульптуре, архитектуре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ополагающими принципами красоты при этом являются пропорции и симметр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00040" y="762120"/>
            <a:ext cx="5638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Симметрия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– это идея, с помощью которой человек веками пытался объяснить и создать порядок, красоту и совершенство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Г. Вейль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5" descr="Г"/>
          <p:cNvPicPr/>
          <p:nvPr/>
        </p:nvPicPr>
        <p:blipFill>
          <a:blip r:embed="rId1"/>
          <a:stretch/>
        </p:blipFill>
        <p:spPr>
          <a:xfrm>
            <a:off x="304920" y="609480"/>
            <a:ext cx="2679480" cy="3926160"/>
          </a:xfrm>
          <a:prstGeom prst="rect">
            <a:avLst/>
          </a:prstGeom>
          <a:ln cap="rnd" w="50760">
            <a:solidFill>
              <a:srgbClr val="800080"/>
            </a:solidFill>
            <a:custDash>
              <a:ds d="100000" sp="1000"/>
            </a:custDash>
            <a:miter/>
          </a:ln>
        </p:spPr>
      </p:pic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3889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ы симметрии играют важную роль в физике и математике, химии и биологии, технике и архитектуре, живописи и скульптуре, поэзии и музы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ы природы, управляющие неисчерпаемой в своём многообразии картиной явлений, в свою очередь, также  подчиняются принципам симметр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ЛИКИЕ О СИММЕТР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52480" y="121932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ин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симметрия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ридумал скульптор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ифагор Регийск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ревние гре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олагали, что Вселенная симметрична просто потому, что она прекрасна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рвую научную школу в истории человечества создал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ифагор Самосски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Симметрия – это некая «средняя мера», - считал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ристотел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имский врач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Гален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2 в. н. э.) под симметрией понимал покой души и уравновешенность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Содержимое 10" descr="аристотель.jpg"/>
          <p:cNvPicPr/>
          <p:nvPr/>
        </p:nvPicPr>
        <p:blipFill>
          <a:blip r:embed="rId1"/>
          <a:stretch/>
        </p:blipFill>
        <p:spPr>
          <a:xfrm>
            <a:off x="228600" y="3048120"/>
            <a:ext cx="1523880" cy="1936800"/>
          </a:xfrm>
          <a:prstGeom prst="rect">
            <a:avLst/>
          </a:prstGeom>
          <a:ln w="0">
            <a:noFill/>
          </a:ln>
        </p:spPr>
      </p:pic>
      <p:pic>
        <p:nvPicPr>
          <p:cNvPr id="278" name="Содержимое 9" descr="Гален.jpg"/>
          <p:cNvPicPr/>
          <p:nvPr/>
        </p:nvPicPr>
        <p:blipFill>
          <a:blip r:embed="rId2"/>
          <a:stretch/>
        </p:blipFill>
        <p:spPr>
          <a:xfrm>
            <a:off x="228600" y="48769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8" descr="Пифагор Самосский.jpeg"/>
          <p:cNvPicPr/>
          <p:nvPr/>
        </p:nvPicPr>
        <p:blipFill>
          <a:blip r:embed="rId3"/>
          <a:stretch/>
        </p:blipFill>
        <p:spPr>
          <a:xfrm>
            <a:off x="152280" y="1066680"/>
            <a:ext cx="1689120" cy="188460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8"/>
          <p:cNvSpPr/>
          <p:nvPr/>
        </p:nvSpPr>
        <p:spPr>
          <a:xfrm>
            <a:off x="157680" y="64882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Гале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Прямоугольник 9"/>
          <p:cNvSpPr/>
          <p:nvPr/>
        </p:nvSpPr>
        <p:spPr>
          <a:xfrm>
            <a:off x="219960" y="4495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Прямоугольник 10"/>
          <p:cNvSpPr/>
          <p:nvPr/>
        </p:nvSpPr>
        <p:spPr>
          <a:xfrm>
            <a:off x="152280" y="2438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ифагор Самос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971440" y="76176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онардо да Вин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читал, что главную роль в картине играют пропорциональность и гармония, которые тесно связаны симметри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льбрехт Дюре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471-1528 г.г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утверждал, что каждый художник должен знать способы построения правильных симметричных фигу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Picture 7" descr="Предположительный автопортрет Леонардо да Винчи"/>
          <p:cNvPicPr/>
          <p:nvPr/>
        </p:nvPicPr>
        <p:blipFill>
          <a:blip r:embed="rId1"/>
          <a:stretch/>
        </p:blipFill>
        <p:spPr>
          <a:xfrm>
            <a:off x="457200" y="152280"/>
            <a:ext cx="2019240" cy="3048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Автопортрет, 1500, Старая Пинакотека, Мюнхен"/>
          <p:cNvPicPr/>
          <p:nvPr/>
        </p:nvPicPr>
        <p:blipFill>
          <a:blip r:embed="rId2"/>
          <a:stretch/>
        </p:blipFill>
        <p:spPr>
          <a:xfrm>
            <a:off x="380880" y="3352680"/>
            <a:ext cx="221004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777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рмин «симметрия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греч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metri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- соразмерность, пропорциональность, одинаковость в расположении ча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мметрия в широком смысл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неизменность структуры материального объекта относительно его преобразова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мметрия играет огромную роль в искусстве и архитектуре. Но ее можно заметить и в музыке, и в поэзии. Симметрия широко встречается в природе, в особенности у кристаллов, у растений и животны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мметрия может встретиться и в других разделах математики, например при построении графиков функц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евая сим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ве точки, лежащие на одном перпендикуляре к данной прямой по разные стороны и на одинаковом расстоянии от нее, называются симметричными относительно данной прям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456000" cy="313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419360" y="1066680"/>
            <a:ext cx="4724280" cy="32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гура называется симметричной относительно прямой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для каждой точки фигуры симметричная ей точка относительно прямой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же принадлежит этой фигур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14600" y="2286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Прямая соединительная линия 11"/>
          <p:cNvSpPr/>
          <p:nvPr/>
        </p:nvSpPr>
        <p:spPr>
          <a:xfrm>
            <a:off x="2286000" y="228600"/>
            <a:ext cx="0" cy="5257800"/>
          </a:xfrm>
          <a:prstGeom prst="line">
            <a:avLst/>
          </a:prstGeom>
          <a:ln cap="sq"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Содержимое 7" descr="butterfly.png"/>
          <p:cNvPicPr/>
          <p:nvPr/>
        </p:nvPicPr>
        <p:blipFill>
          <a:blip r:embed="rId1"/>
          <a:stretch/>
        </p:blipFill>
        <p:spPr>
          <a:xfrm>
            <a:off x="152280" y="990720"/>
            <a:ext cx="4267440" cy="356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гуры, обладающие одной осью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1258920" y="1916280"/>
            <a:ext cx="2089080" cy="1441440"/>
            <a:chOff x="1258920" y="1916280"/>
            <a:chExt cx="2089080" cy="1441440"/>
          </a:xfrm>
        </p:grpSpPr>
        <p:sp>
          <p:nvSpPr>
            <p:cNvPr id="297" name="Line 4"/>
            <p:cNvSpPr/>
            <p:nvPr/>
          </p:nvSpPr>
          <p:spPr>
            <a:xfrm flipV="1">
              <a:off x="1258920" y="1916280"/>
              <a:ext cx="2016000" cy="720720"/>
            </a:xfrm>
            <a:prstGeom prst="line">
              <a:avLst/>
            </a:prstGeom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>
              <a:off x="1258920" y="2637000"/>
              <a:ext cx="2089080" cy="720720"/>
            </a:xfrm>
            <a:prstGeom prst="line">
              <a:avLst/>
            </a:prstGeom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9" name="Line 6"/>
          <p:cNvSpPr/>
          <p:nvPr/>
        </p:nvSpPr>
        <p:spPr>
          <a:xfrm>
            <a:off x="1258920" y="2637000"/>
            <a:ext cx="2087640" cy="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5940360" y="2133720"/>
            <a:ext cx="1727280" cy="2232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6804000" y="1700280"/>
            <a:ext cx="0" cy="345744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2411280" y="4365720"/>
            <a:ext cx="2808360" cy="1727280"/>
          </a:xfrm>
          <a:custGeom>
            <a:avLst/>
            <a:gdLst>
              <a:gd name="textAreaLeft" fmla="*/ 585000 w 2808360"/>
              <a:gd name="textAreaRight" fmla="*/ 2223360 w 2808360"/>
              <a:gd name="textAreaTop" fmla="*/ 359640 h 1727280"/>
              <a:gd name="textAreaBottom" fmla="*/ 1367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3851280" y="3789360"/>
            <a:ext cx="0" cy="252108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6227640" y="3141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13"/>
          <p:cNvSpPr/>
          <p:nvPr/>
        </p:nvSpPr>
        <p:spPr>
          <a:xfrm flipH="1">
            <a:off x="7164360" y="3141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4716360" y="5157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15"/>
          <p:cNvSpPr/>
          <p:nvPr/>
        </p:nvSpPr>
        <p:spPr>
          <a:xfrm flipH="1">
            <a:off x="2700360" y="5300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1187280" y="33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Уго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6900120" y="465300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бедренны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2195640" y="6308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бедренная трапе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Катя</cp:lastModifiedBy>
  <dcterms:modified xsi:type="dcterms:W3CDTF">2019-01-24T09:01:48Z</dcterms:modified>
  <cp:revision>5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