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542F-B44F-477B-A2BF-4CE4A7CA4B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40F9-7D69-4D72-95B0-2514D70FF0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66F-63BA-4DD7-9920-78302678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BA4-0E63-4315-95F5-37C6F35F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3A2-E4B1-4846-81E0-4124DB24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D06-11C6-4B26-8E7A-88D44D3E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EED0-0B1A-4ED9-8591-E2AEDAA4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E1C9-C2A6-4E6B-B0F3-3EBEFF25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B86B-8598-4F68-8E5F-E5892F33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7D5D-260B-47B2-A0B8-F0B6F6A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9CCD-DC77-4F69-B86D-17B70511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54D5-78F0-4AB9-9F73-C8404768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6CC0-9488-4046-848E-4A488B1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80A-B367-4777-A310-2CEF8E8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29B-1CC1-43C4-9E93-E9468397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C549-A190-4607-B192-03A5423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B195-ABE2-4B8D-884F-99CAC6D1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3B7A-5B6F-4574-A18C-4397C83F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6137-A4BD-4F30-BF48-CDBC454F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DC0-1DBF-4D31-B453-FEBF68B3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1AC-1A4A-4A6A-9676-2066CD3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FEE-8F59-4D7A-BCC5-8FA803A5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CB43-79BF-4FEF-A8DD-0314EF90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0B4-81E8-4171-A577-DE29805B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00C-A455-475C-87EB-82C98AF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B64-9E3D-4FC7-ABF2-A1B215C1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AA19-D32F-416D-9803-841074BD2E6A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811E-D3D1-4390-A1C3-3CCD006FB907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1995-12FE-4C36-AB2A-F64DF153E708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G:\Шаблоны ppt\008.gif"/>
          <p:cNvPicPr/>
          <p:nvPr/>
        </p:nvPicPr>
        <p:blipFill>
          <a:blip r:embed="rId1"/>
          <a:stretch/>
        </p:blipFill>
        <p:spPr>
          <a:xfrm>
            <a:off x="1828800" y="282600"/>
            <a:ext cx="5334120" cy="6102360"/>
          </a:xfrm>
          <a:prstGeom prst="rect">
            <a:avLst/>
          </a:prstGeom>
          <a:ln w="0">
            <a:noFill/>
          </a:ln>
        </p:spPr>
      </p:pic>
      <p:pic>
        <p:nvPicPr>
          <p:cNvPr id="129" name="detskie_pesni_-_doroga_dobra.mp3" descr=""/>
          <p:cNvPicPr/>
          <p:nvPr/>
        </p:nvPicPr>
        <p:blipFill>
          <a:blip r:embed="rId2"/>
          <a:stretch/>
        </p:blipFill>
        <p:spPr>
          <a:xfrm>
            <a:off x="6019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2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3CC0-D95B-410D-B523-FC2A2DC1561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252     из 1), 2), 3) вторые столб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6B4-306A-4E43-AFDC-AB3C6BE1C497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68000" y="404640"/>
            <a:ext cx="727236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ы на елке веселил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ы плясали  и резвили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добрый дед мор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м подарки преподнё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л большущие пак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их же – вкусные предме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ала я пакет вскрыв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держимое счита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 конфет в бумажках сини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5 орехов рядом с ним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уша с яблоком, од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олотистый мандари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литка шоколада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т была я ра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ё лежит  в одном паке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считай предметы э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802D-241F-4509-B9C6-5BEAF925B0BA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F:\Шаблоны ppt\sm.gif"/>
          <p:cNvPicPr/>
          <p:nvPr/>
        </p:nvPicPr>
        <p:blipFill>
          <a:blip r:embed="rId1"/>
          <a:stretch/>
        </p:blipFill>
        <p:spPr>
          <a:xfrm>
            <a:off x="2438280" y="1295280"/>
            <a:ext cx="3996000" cy="289584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3" descr=""/>
          <p:cNvPicPr/>
          <p:nvPr/>
        </p:nvPicPr>
        <p:blipFill>
          <a:blip r:embed="rId2"/>
          <a:stretch/>
        </p:blipFill>
        <p:spPr>
          <a:xfrm>
            <a:off x="1243080" y="4559400"/>
            <a:ext cx="6986520" cy="2090520"/>
          </a:xfrm>
          <a:prstGeom prst="rect">
            <a:avLst/>
          </a:prstGeom>
          <a:ln w="0">
            <a:noFill/>
          </a:ln>
        </p:spPr>
      </p:pic>
      <p:pic>
        <p:nvPicPr>
          <p:cNvPr id="185" name="detskie_pesni_-_doroga_dobra.mp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6928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40D0-D13E-418D-893D-C6A236C5A5BE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2040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м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Сложение и вычитание целых и дробных чисел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11280" y="4581360"/>
            <a:ext cx="69134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вторить и обобщи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нания и умения по теме: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Сложение и вычитание целых и дробных чисел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7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DF5-5D92-4BF8-90C1-5F45C5E7ED1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2920" y="1125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то лишнее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6"/>
              <p:cNvSpPr txBox="1"/>
              <p:nvPr/>
            </p:nvSpPr>
            <p:spPr>
              <a:xfrm>
                <a:off x="1403280" y="2852640"/>
                <a:ext cx="90036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1"/>
              <p:cNvSpPr txBox="1"/>
              <p:nvPr/>
            </p:nvSpPr>
            <p:spPr>
              <a:xfrm>
                <a:off x="0" y="0"/>
                <a:ext cx="152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eqArr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Rectangle 24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25"/>
              <p:cNvSpPr txBox="1"/>
              <p:nvPr/>
            </p:nvSpPr>
            <p:spPr>
              <a:xfrm>
                <a:off x="3059280" y="2852640"/>
                <a:ext cx="122544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4932360" y="2781360"/>
                <a:ext cx="11016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9"/>
              <p:cNvSpPr txBox="1"/>
              <p:nvPr/>
            </p:nvSpPr>
            <p:spPr>
              <a:xfrm>
                <a:off x="6804000" y="2781360"/>
                <a:ext cx="100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1BAC-6C42-4821-B995-B43EA936158D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то лишнее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826920" y="3068640"/>
                <a:ext cx="11653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2484360" y="3068640"/>
                <a:ext cx="127152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4500720" y="3141720"/>
                <a:ext cx="11379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6443640" y="3141720"/>
                <a:ext cx="132552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F262-95BB-44AC-9593-179E9CA92005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Что лишнее?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71640" y="3357720"/>
                <a:ext cx="15685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2987640" y="3357720"/>
                <a:ext cx="151308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Rectangle 9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4859280" y="3357720"/>
                <a:ext cx="140184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6667560" y="3357720"/>
                <a:ext cx="141444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3C1-1E35-4642-9ECD-DEDE51ABFBCA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92144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вторение правил сложения и вычитания дроб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3A35-4A01-4B2A-B01F-EDA6354935C6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1640" y="234936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ешение примеров и задач из учебни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85A7-0DDF-441C-A74D-EDCDC08B698F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image922"/>
          <p:cNvPicPr/>
          <p:nvPr/>
        </p:nvPicPr>
        <p:blipFill>
          <a:blip r:embed="rId1"/>
          <a:stretch/>
        </p:blipFill>
        <p:spPr>
          <a:xfrm>
            <a:off x="0" y="0"/>
            <a:ext cx="3635280" cy="2917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Физкультминутка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дует нам в лиц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ачалось дерев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тер тише, тише, ти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ревцо – все выше, вы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image955"/>
          <p:cNvPicPr/>
          <p:nvPr/>
        </p:nvPicPr>
        <p:blipFill>
          <a:blip r:embed="rId2"/>
          <a:stretch/>
        </p:blipFill>
        <p:spPr>
          <a:xfrm>
            <a:off x="6300720" y="1484280"/>
            <a:ext cx="2627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5791320" y="617220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AD58-CD8D-4128-85D7-F59355E4B900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7086600" cy="17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Решение примеров и задач из учебни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3:14:21Z</dcterms:created>
  <dc:creator>www.PHILka.RU</dc:creator>
  <dc:description/>
  <dc:language>en-US</dc:language>
  <cp:lastModifiedBy>User9</cp:lastModifiedBy>
  <dcterms:modified xsi:type="dcterms:W3CDTF">2020-03-27T19:01:56Z</dcterms:modified>
  <cp:revision>5</cp:revision>
  <dc:subject/>
  <dc:title>Сложение и вычитание целых и дробных чисел</dc:title>
</cp:coreProperties>
</file>