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DCFA-09E2-49FC-A601-5F3BAC565F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7565-FA52-42A9-9934-E637D68504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5E9-701F-44A0-BA9C-A92D1A7A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CCE-13A9-46C7-93B9-C5AF525D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51D-B609-4EF4-BE7F-13B38590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E2F-32E8-4FDA-8EB5-5C632C81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4408-8D91-4560-B639-2455C5EC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8354-1565-4DAD-9C43-E38EB3B1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17D8-D0DF-4920-B0AF-D77D6382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292F-B616-4281-88C0-28F858D9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FEE7-3321-4DA6-A2FB-0C2DBE73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D040-2D3A-4E6E-ADBB-BA97250B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7F66-3F1E-460B-A962-E3476EFB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D7C-E09E-4583-B0F9-4E725A10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F254-32F8-4580-B442-94D3B8DC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E0CF-F4EC-4809-A147-A541DDC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F690-D17F-4A2C-9F3C-433FDFD6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8834-91B4-4D73-921A-E021BC0C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EFA9-32CF-4C2E-AA17-B691FF1A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546-87FC-44DC-A137-AF808C2A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C17-4471-49CE-8614-88C2366D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257-9687-424F-9349-B51651EF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B63-D9BE-4F10-8864-BA62C3E4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7C0D-F1BD-4721-B01F-87530EA8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BB6-1709-4B08-8C50-7FACF7F3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3E0-DA97-42B5-8BCD-0719EDAB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D141-AB0F-4C15-B10E-C185E9586E93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499D-0BE5-4ECA-9538-C4D2C980849C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3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9D2D-BF30-4774-ACB8-88C7F71B2C29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G:\Шаблоны ppt\008.gif"/>
          <p:cNvPicPr/>
          <p:nvPr/>
        </p:nvPicPr>
        <p:blipFill>
          <a:blip r:embed="rId1"/>
          <a:stretch/>
        </p:blipFill>
        <p:spPr>
          <a:xfrm>
            <a:off x="1828800" y="282600"/>
            <a:ext cx="5334120" cy="6102360"/>
          </a:xfrm>
          <a:prstGeom prst="rect">
            <a:avLst/>
          </a:prstGeom>
          <a:ln w="0">
            <a:noFill/>
          </a:ln>
        </p:spPr>
      </p:pic>
      <p:pic>
        <p:nvPicPr>
          <p:cNvPr id="129" name="detskie_pesni_-_doroga_dobra.mp3" descr=""/>
          <p:cNvPicPr/>
          <p:nvPr/>
        </p:nvPicPr>
        <p:blipFill>
          <a:blip r:embed="rId2"/>
          <a:stretch/>
        </p:blipFill>
        <p:spPr>
          <a:xfrm>
            <a:off x="60199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6928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A7E9-8DC6-46FF-9CE5-ECF909D393A9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Домашнее задани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252     из 1), 2), 3) вторые столбц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631D-98F8-41EF-A255-8E73F770B2F3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000" y="404640"/>
            <a:ext cx="727236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ы на елке веселили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ы плясали  и резвили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ле добрый дед мор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м подарки преподнё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ал большущие пакет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них же – вкусные предме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ала я пакет вскрыв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держимое счита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 конфет в бумажках синих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 орехов рядом с ним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уша с яблоком, од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олотистый мандари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литка шоколада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т была я рад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сё лежит  в одном паке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считай предметы э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3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B0B7-2B99-4637-B29A-04428871015C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F:\Шаблоны ppt\sm.gif"/>
          <p:cNvPicPr/>
          <p:nvPr/>
        </p:nvPicPr>
        <p:blipFill>
          <a:blip r:embed="rId1"/>
          <a:stretch/>
        </p:blipFill>
        <p:spPr>
          <a:xfrm>
            <a:off x="2438280" y="1295280"/>
            <a:ext cx="3996000" cy="289584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3" descr=""/>
          <p:cNvPicPr/>
          <p:nvPr/>
        </p:nvPicPr>
        <p:blipFill>
          <a:blip r:embed="rId2"/>
          <a:stretch/>
        </p:blipFill>
        <p:spPr>
          <a:xfrm>
            <a:off x="1243080" y="4559400"/>
            <a:ext cx="6986520" cy="2090520"/>
          </a:xfrm>
          <a:prstGeom prst="rect">
            <a:avLst/>
          </a:prstGeom>
          <a:ln w="0">
            <a:noFill/>
          </a:ln>
        </p:spPr>
      </p:pic>
      <p:pic>
        <p:nvPicPr>
          <p:cNvPr id="185" name="detskie_pesni_-_doroga_dobra.mp3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6928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E019-9D19-4BE3-A1C7-9C2EA5363B93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1484280"/>
            <a:ext cx="82040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ма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«Сложение и вычитание целых и дробных чисел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611280" y="4581360"/>
            <a:ext cx="69134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вторить и обобщи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нания и умения по теме: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Сложение и вычитание целых и дробных чисел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7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0524-D75B-4D14-9C53-58DA5FDFAD3C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2920" y="112536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Что лишнее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6"/>
              <p:cNvSpPr txBox="1"/>
              <p:nvPr/>
            </p:nvSpPr>
            <p:spPr>
              <a:xfrm>
                <a:off x="1403280" y="2852640"/>
                <a:ext cx="90036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1"/>
              <p:cNvSpPr txBox="1"/>
              <p:nvPr/>
            </p:nvSpPr>
            <p:spPr>
              <a:xfrm>
                <a:off x="0" y="0"/>
                <a:ext cx="152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eqArr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Rectangle 24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6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5"/>
              <p:cNvSpPr txBox="1"/>
              <p:nvPr/>
            </p:nvSpPr>
            <p:spPr>
              <a:xfrm>
                <a:off x="3059280" y="2852640"/>
                <a:ext cx="122544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7"/>
              <p:cNvSpPr txBox="1"/>
              <p:nvPr/>
            </p:nvSpPr>
            <p:spPr>
              <a:xfrm>
                <a:off x="4932360" y="2781360"/>
                <a:ext cx="11016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Rectangle 3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9"/>
              <p:cNvSpPr txBox="1"/>
              <p:nvPr/>
            </p:nvSpPr>
            <p:spPr>
              <a:xfrm>
                <a:off x="6804000" y="2781360"/>
                <a:ext cx="10080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2DB8-FB9D-4530-A253-9379F9DB7664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Что лишнее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826920" y="3068640"/>
                <a:ext cx="116532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2484360" y="3068640"/>
                <a:ext cx="127152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4500720" y="3141720"/>
                <a:ext cx="113796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1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6443640" y="3141720"/>
                <a:ext cx="132552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5794-5CC2-4EA6-936C-02A1D96469EE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Что лишнее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971640" y="3357720"/>
                <a:ext cx="156852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2987640" y="3357720"/>
                <a:ext cx="151308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Rectangle 9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4859280" y="3357720"/>
                <a:ext cx="140184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6667560" y="3357720"/>
                <a:ext cx="141444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F88D-38B8-4657-A701-95A991B37124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92144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вторение правил сложения и вычитания дробе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73A3-5E14-4E64-A2F6-BF7825283E45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1640" y="2349360"/>
            <a:ext cx="7086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Решение примеров и задач из учебник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5FDE-93C5-4FB2-9CA3-3070CDAB6D13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image922"/>
          <p:cNvPicPr/>
          <p:nvPr/>
        </p:nvPicPr>
        <p:blipFill>
          <a:blip r:embed="rId1"/>
          <a:stretch/>
        </p:blipFill>
        <p:spPr>
          <a:xfrm>
            <a:off x="0" y="0"/>
            <a:ext cx="3635280" cy="2917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Физкультминутка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тер дует нам в лиц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качалось деревц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тер тише, тише, тиш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ревцо – все выше, вы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image955"/>
          <p:cNvPicPr/>
          <p:nvPr/>
        </p:nvPicPr>
        <p:blipFill>
          <a:blip r:embed="rId2"/>
          <a:stretch/>
        </p:blipFill>
        <p:spPr>
          <a:xfrm>
            <a:off x="6300720" y="1484280"/>
            <a:ext cx="26272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0D35-56B2-4A2B-858D-FFEF04B814F4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1640" y="1412640"/>
            <a:ext cx="7086600" cy="17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Решение примеров и задач из учебник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3:14:21Z</dcterms:created>
  <dc:creator>www.PHILka.RU</dc:creator>
  <dc:description/>
  <dc:language>en-US</dc:language>
  <cp:lastModifiedBy>User9</cp:lastModifiedBy>
  <dcterms:modified xsi:type="dcterms:W3CDTF">2020-03-27T19:01:56Z</dcterms:modified>
  <cp:revision>5</cp:revision>
  <dc:subject/>
  <dc:title>Сложение и вычитание целых и дробных чисел</dc:title>
</cp:coreProperties>
</file>