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B68-A655-4643-8BE7-C12014C7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382-518D-47AF-952B-50C24780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5AFB-3A9D-4F34-998D-BABA6DEF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BE40-477B-46AB-B0F8-0AD0326A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DC75-4C39-4236-BDA4-171B4777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9727-9A2F-4095-8426-3F746BA8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99FC-E0EF-4854-8800-4CA84BF2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76D3-756A-4229-9BF1-51B92874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E13E-D131-494A-9D06-35EB73B4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EB11-DE29-4E9C-9354-3BB85597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B900-7BA4-4670-9097-43326D10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851-5D80-41C6-AE4A-4DD18067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FB6A-FDA6-4D93-B254-E876FBDA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0F91-6839-481C-80A9-E7614DE0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77DD-5999-4712-8E9B-82724AF2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7ACE-443B-4128-88B6-67E0C136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E780-4EDB-4EAF-BBC6-4DE8433D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D717-7E34-4C0D-86A7-24FAC2F8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9561-1A23-4CAD-942B-6C31C4F9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6734-E6A6-4FE2-9DEB-BEE2F2E7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196E-6D33-403B-92F0-52BF81DC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4BAA-4CFA-4A5D-B97C-053C2338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FAF-6876-4565-9223-F744248B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F84-5DBB-4CE5-83DA-99B4284A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4B1F-61F3-4DA3-9650-2AB31E1D202F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336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164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3100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4594-D9DD-44B6-95C2-977F731508F1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37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c2905"/>
                </a:solidFill>
                <a:latin typeface="Times New Roman"/>
              </a:rPr>
              <a:t>Диагностический инструментарий классного руководителя как система педагогического мониторинга.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1640" y="4653000"/>
            <a:ext cx="734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Monotype Corsiva"/>
              </a:rPr>
              <a:t>Подготовила: учитель биологии и химии Федулова А.А.</a:t>
            </a:r>
            <a:r>
              <a:rPr b="0" lang="ru-RU" sz="3200" spc="-1" strike="noStrike">
                <a:solidFill>
                  <a:srgbClr val="a08366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a08366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1042920" y="836640"/>
            <a:ext cx="7581960" cy="5052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90720" y="475920"/>
            <a:ext cx="77724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Диагностика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- это оценочная практика, направленная на изучение индивидуально-психологических особенностей ученика и социально-психологических характеристик детского коллектива с целью оптимизации учебно-воспитательного процесса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тбирая диагностические методики, нужно учитывать следующ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собенности возраста учащихся класс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степень сформированности детского коллектив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собенности взаимоотношений классного руководителя и учащихся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степень доверия друг другу детей и взрослых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Функции диагностики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182880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1) </a:t>
            </a:r>
            <a:r>
              <a:rPr b="1" lang="ru-RU" sz="2800" spc="-1" strike="noStrike" u="sng">
                <a:solidFill>
                  <a:srgbClr val="402000"/>
                </a:solidFill>
                <a:uFillTx/>
                <a:latin typeface="Times New Roman"/>
              </a:rPr>
              <a:t>контрольно-корректировочная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– это получение данных и корректировка процесса воспитания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2) </a:t>
            </a:r>
            <a:r>
              <a:rPr b="1" lang="ru-RU" sz="2800" spc="-1" strike="noStrike" u="sng">
                <a:solidFill>
                  <a:srgbClr val="402000"/>
                </a:solidFill>
                <a:uFillTx/>
                <a:latin typeface="Times New Roman"/>
              </a:rPr>
              <a:t>прогностическая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– предвидение, предсказание, прогнозирование изменений в развитии учащихся в будущем 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3) </a:t>
            </a:r>
            <a:r>
              <a:rPr b="1" lang="ru-RU" sz="2800" spc="-1" strike="noStrike" u="sng">
                <a:solidFill>
                  <a:srgbClr val="402000"/>
                </a:solidFill>
                <a:uFillTx/>
                <a:latin typeface="Times New Roman"/>
              </a:rPr>
              <a:t>воспитывающая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– оказание учителем воспитательных воздействий на учеников (и родителей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Times New Roman"/>
              </a:rPr>
              <a:t>Диагностические методики для средней и старше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1412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Методика М. Р. Гинзбурга «Изучение учебной мотивации»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нкета школьной мотивации Н.Г. Лускановой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Методика диагностики мотивации учения и эмоционального отношения к учению в средних и старших классах школы. Спилбирг - Андреева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Определение уровня развития словесно-логического мышления Любовь Переслени, Татьяна Фотекова и тд…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Тест по выявлению коммуникативных качеств личности Марион Снайдер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д </a:t>
            </a:r>
            <a:r>
              <a:rPr b="0" lang="ru-RU" sz="3200" spc="-1" strike="noStrike" u="sng">
                <a:solidFill>
                  <a:srgbClr val="402000"/>
                </a:solidFill>
                <a:uFillTx/>
                <a:latin typeface="Times New Roman"/>
              </a:rPr>
              <a:t>коммуникативными качествами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дразумевается совокупность свойств, умений и навыков личности, характеризующей ее отношение к людям и обеспечивающей возможность установления и поддержания контакта и взаимопонимания между ними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Результаты диагностики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Низкий коммуникативный контроль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Индивид характеризуется постоянством поведения не зависимо от ситуации. Он прямолинейный, не считает нужным подстраиваться под кого – то. Ему присуща импульсивность и раскованность, которые, зачастую, не соотносятся с манерой держать себя других людей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Средний коммуникативный контроль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Им обладают личности, склонные чрезмерно бурным реакциям. При этом они сопоставляют свой стиль поведения со стилем окружающих. Как правило, это искренние и доброжелательные люди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71640" y="1628640"/>
            <a:ext cx="777240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ысокий коммуникативный контроль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Человек с таким уровнем контроля всё время следит за собой, своими реакциями, манерой поведения. Он гибок в общении, умеет влиться в любой коллектив и наладить нормальные взаимоотношения. Он умеет подстраиваться под изменчивые ситуации и предвидеть, какое впечатление окажет на окружающих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6:32:33Z</dcterms:created>
  <dc:creator>User1</dc:creator>
  <dc:description/>
  <dc:language>en-US</dc:language>
  <cp:lastModifiedBy>МБОУ ШИ</cp:lastModifiedBy>
  <dcterms:modified xsi:type="dcterms:W3CDTF">2021-04-06T23:08:23Z</dcterms:modified>
  <cp:revision>1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571049</vt:lpwstr>
  </property>
</Properties>
</file>