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413-BD20-4551-946D-B26D2FCF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652-BC0E-4336-911E-D8D08A6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22B-7F6D-40EE-A470-536BB8EF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F0C-742C-4DA7-B64D-552CFD66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48A2-8558-4008-981B-129DE79D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D286-FDA2-4A65-A444-CF38D1DF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61CD-951E-44CC-9F03-09CC2E0D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6375-B69E-441F-A51E-A88BCCB3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533B-C022-4906-8878-E7092FF1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7614-37E7-4CD2-BF7A-08ACA199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B1B6-46AC-4951-A4E2-4F8D9761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B5B-D917-4E15-908E-DFA56812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BAF2-24A6-4FF3-952A-3C5BE06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9A62-F99D-49C7-B00C-F7458F25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D10A-D8B5-4882-8570-9582754F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A48-A484-4E18-9D9F-1DC8F7DD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5057-5298-4D8A-BA65-3DF99392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13B-E056-4E6F-A84A-B896380A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3F9-2851-4BDA-A901-FBC64D2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EC8-66EF-43E1-B151-A51D6C42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1E0-40E7-4C76-B69B-35E92C56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9A6-87BA-4D48-8032-26E043FE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202-CF0E-456F-BF48-D526B9D2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603-0913-4779-85A1-4661C03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ABC-059F-446A-A4C6-829E5A7148A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33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164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3100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3868-B273-431C-A12A-62965242FC3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3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c2905"/>
                </a:solidFill>
                <a:latin typeface="Times New Roman"/>
              </a:rPr>
              <a:t>Диагностический инструментарий классного руководителя как система педагогического мониторинга.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1640" y="465300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Monotype Corsiva"/>
              </a:rPr>
              <a:t>Подготовила: учитель биологии и химии Федулова А.А.</a:t>
            </a:r>
            <a:r>
              <a:rPr b="0" lang="ru-RU" sz="3200" spc="-1" strike="noStrike">
                <a:solidFill>
                  <a:srgbClr val="a08366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a08366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581960" cy="505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Диагностика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это оценочная практика, направленная на изучение индивидуально-психологических особенностей ученика и социально-психологических характеристик детского коллектива с целью оптимизации учебно-воспитательного процесс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тбирая диагностические методики, нужно учитывать следующ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собенности возраста учащихся класс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епень сформированности детского коллектив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собенности взаимоотношений классного руководителя и учащихс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епень доверия друг другу детей и взрослых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Функции диагностик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82880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) </a:t>
            </a:r>
            <a:r>
              <a:rPr b="1" lang="ru-RU" sz="2800" spc="-1" strike="noStrike" u="sng">
                <a:solidFill>
                  <a:srgbClr val="402000"/>
                </a:solidFill>
                <a:uFillTx/>
                <a:latin typeface="Times New Roman"/>
              </a:rPr>
              <a:t>контрольно-корректировочна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это получение данных и корректировка процесса воспитан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2) </a:t>
            </a:r>
            <a:r>
              <a:rPr b="1" lang="ru-RU" sz="2800" spc="-1" strike="noStrike" u="sng">
                <a:solidFill>
                  <a:srgbClr val="402000"/>
                </a:solidFill>
                <a:uFillTx/>
                <a:latin typeface="Times New Roman"/>
              </a:rPr>
              <a:t>прогностическа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предвидение, предсказание, прогнозирование изменений в развитии учащихся в будущем 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3) </a:t>
            </a:r>
            <a:r>
              <a:rPr b="1" lang="ru-RU" sz="2800" spc="-1" strike="noStrike" u="sng">
                <a:solidFill>
                  <a:srgbClr val="402000"/>
                </a:solidFill>
                <a:uFillTx/>
                <a:latin typeface="Times New Roman"/>
              </a:rPr>
              <a:t>воспитывающа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оказание учителем воспитательных воздействий на учеников (и родителей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Диагностические методики для средней и старше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Методика М. Р. Гинзбурга «Изучение учебной мотивации»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нкета школьной мотивации Н.Г. Лусканово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Методика диагностики мотивации учения и эмоционального отношения к учению в средних и старших классах школы. Спилбирг - Андреева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Определение уровня развития словесно-логического мышления Любовь Переслени, Татьяна Фотекова и тд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Тест по выявлению коммуникативных качеств личности Марион Снайдер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коммуникативными качествами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разумевается совокупность свойств, умений и навыков личности, характеризующей ее отношение к людям и обеспечивающей возможность установления и поддержания контакта и взаимопонимания между ним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Результаты диагностик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Низкий коммуникативный контро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ндивид характеризуется постоянством поведения не зависимо от ситуации. Он прямолинейный, не считает нужным подстраиваться под кого – то. Ему присуща импульсивность и раскованность, которые, зачастую, не соотносятся с манерой держать себя других люде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Средний коммуникативный контро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м обладают личности, склонные чрезмерно бурным реакциям. При этом они сопоставляют свой стиль поведения со стилем окружающих. Как правило, это искренние и доброжелательные люд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1628640"/>
            <a:ext cx="777240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сокий коммуникативный контро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Человек с таким уровнем контроля всё время следит за собой, своими реакциями, манерой поведения. Он гибок в общении, умеет влиться в любой коллектив и наладить нормальные взаимоотношения. Он умеет подстраиваться под изменчивые ситуации и предвидеть, какое впечатление окажет на окружающи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6:32:33Z</dcterms:created>
  <dc:creator>User1</dc:creator>
  <dc:description/>
  <dc:language>en-US</dc:language>
  <cp:lastModifiedBy>МБОУ ШИ</cp:lastModifiedBy>
  <dcterms:modified xsi:type="dcterms:W3CDTF">2021-04-06T23:08:23Z</dcterms:modified>
  <cp:revision>1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49</vt:lpwstr>
  </property>
</Properties>
</file>