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3201-CD8B-4675-91F1-6F4BD2ECD8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7BD9-4EAF-4AD1-8C60-78F6D39A34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4E62-6D18-413D-8847-D1A48962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C1F7-D608-4C59-A82F-4F7A90E5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54F7-8E48-4A25-9F1E-A66D39D0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D28F-8FA5-4FFB-894F-2E80E1F8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4CC5-13AB-4C0A-AB3A-BDD5A5F0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E4A9-5D24-404D-9A07-1E395EF7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DB2E-77CA-4D78-ADAE-ED5D2BC3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BE07-A4C6-437E-80A2-73C75018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92BB-3BCD-4361-9C5C-BB0934A7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1B91-C67B-49E9-B332-5E5D6A4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36AE-7555-4943-9727-C7AB9C6E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1CF1-D1AC-4336-AE1D-2F1EE7A5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55F6-2F45-42C2-8EA6-54631107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1F3F-BEBA-440A-80CB-86798C4A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4600-882D-4B02-8251-A812B24F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9299-99C9-4E22-94A0-84C6307E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8976-78D4-467D-A0C1-51D4691E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FA4B-10D7-4611-B853-DB71342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99C8-3DA9-4531-B320-CE57FCD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1F81-1F92-410F-AA8A-F09F193A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C6A0-8DEF-4014-9F3A-27EBD6F8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883B-F484-4E09-9B89-E5BC645F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E3E7-5D8B-43C0-8AB1-65E3196E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B2A7-0D37-40EE-BEC8-E947FD92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C937-5F2D-444C-B941-5003331D4F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A8BA-C75F-4EED-97F2-30C7D2DD89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chita.ru/files/news_s/20071030_8.jpg&amp;pageurl=http://finplanser.ru%2Fma1.php&amp;id=8567363&amp;iid=7&amp;imgwidth=150&amp;imgheight=120&amp;imgsize=141179&amp;images_links=b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cards.uainter.net/images/holidays/denbuhgaltera/pic006_tn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99128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авовые основы предпринимательской деятельности</a:t>
            </a:r>
            <a:br>
              <a:rPr sz="32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Урок-практикум в11А и 11Б классах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28760" y="5516280"/>
            <a:ext cx="80308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 Калабаева Н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i?id=8567363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4076640"/>
            <a:ext cx="1904760" cy="15242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197655555"/>
          <p:cNvPicPr/>
          <p:nvPr/>
        </p:nvPicPr>
        <p:blipFill>
          <a:blip r:embed="rId3"/>
          <a:stretch/>
        </p:blipFill>
        <p:spPr>
          <a:xfrm>
            <a:off x="6588000" y="4149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i?id=7123311&amp;tov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365720"/>
            <a:ext cx="1342800" cy="100944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11"/>
          <p:cNvPicPr/>
          <p:nvPr/>
        </p:nvPicPr>
        <p:blipFill>
          <a:blip r:embed="rId6"/>
          <a:stretch/>
        </p:blipFill>
        <p:spPr>
          <a:xfrm>
            <a:off x="3780000" y="189000"/>
            <a:ext cx="895320" cy="7999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9"/>
          <p:cNvSpPr/>
          <p:nvPr/>
        </p:nvSpPr>
        <p:spPr>
          <a:xfrm>
            <a:off x="0" y="384480"/>
            <a:ext cx="8820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바탕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바탕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바탕"/>
              </a:rPr>
              <a:t>ЛИЦЕЙ №6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바탕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바탕"/>
              </a:rPr>
              <a:t>ПАРУ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바탕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바탕"/>
              </a:rPr>
              <a:t>Россия, 140093, Московская область, г. Дзержинский, ул. Лесная, 3. тел. 550-01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щит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руппового проект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Как открыть свое дело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дведение итогов урока. Рефлекс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14300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мся к эпиграфу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Как он связан с содержанием уро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 каким размышлениям привёл вас сегодняшний урок? Что дал он ва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ите свою работу на уроке. «Три 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учащимся предлагается назвать три момента, которые у них получились хорошо в процессе урока, и предложить одно действие, которое улучшит их работу на следующем уро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учителем работы класса в целом и каждого ученика в отд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 п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одготовки к ЕГЭ: Написать развернутый план на тему «Организационно-правовые формы предприятий» (не менее 3 пунктов, 2 из которых имеют подпунк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21420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ип урок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рок закрепления зна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д урока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- практик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оруд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Мультимеди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онституция РФ, Гражданский кодекс РФ и другие статьи Н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Раздаточный материал для групповой работы –карточки с организационно-правовыми формами, статьи нормативно-правовых актов, план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урока: 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крепление пройденного материал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Актуализировать знания о правовых основах П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Выделить отличительные особенности различных форм ПД, их плюсы и мину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Развивать умение применять на практике полученные знания, составлять проект своего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857160" y="1571400"/>
            <a:ext cx="74088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каждым гражданином закреплено право    на свободное использование своих способностей и имущества для предпринимательской и иной не запрещенной законом экономиче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нституция РФ,  статья 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рганизационный момент. Мотивац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знаете ли вы, что английский экономист – учёный Адам Смит считал одним из важнейших условий процветания государства – отсутствие препятствий для развития личной инициативы, что является основой предпринимательской деятельности. Рыночные отношения напрямую связаны с проявлением экономической самодеятельности людей. В России предпринимательская  деятельность началась в 90 – е годы, а в настоящее время она усилила свою значим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? Как вы определите цель нашего ур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ктуализация знаний</a:t>
            </a:r>
            <a:br>
              <a:rPr sz="4400"/>
            </a:br>
            <a:r>
              <a:rPr b="0" lang="ru-RU" sz="4400" spc="-1" strike="noStrike">
                <a:solidFill>
                  <a:srgbClr val="a3a3ff"/>
                </a:solidFill>
                <a:latin typeface="Arial"/>
              </a:rPr>
              <a:t>Блиц-опрос. Соревнование между рядам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Понятие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Условия для успешного развития П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редпринимательские правоот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Принципы П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рупповая работа «Как открыть свое дело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 поделены на 6 групп, каждой из которых достается определенная организационно-правовая форма предприятия и соответствующие нормативно-правовые акты, регулирующие данную ОПФ. По плану нужно изучить и составить сведения о своем предприятии, которое хотели бы открыть. Далее проводится защита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к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к открыть свое дело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основание предпринимательских и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пределить состав учредителей и выбрать организационно – правовую фор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Разработка наимен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Оформление учредительных документов: устав или учредительный до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Государственная регистрация(свидетельство о регистрации, лицензия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лан работ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9680" y="128592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онно-правовая форма (ОПФ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мен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редительный доку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ники(учредители).Коли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остава участ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еделение приб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ы,регулирующие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7:02:04Z</dcterms:created>
  <dc:creator>Admin</dc:creator>
  <dc:description/>
  <dc:language>en-US</dc:language>
  <cp:lastModifiedBy>1</cp:lastModifiedBy>
  <dcterms:modified xsi:type="dcterms:W3CDTF">2021-01-31T16:40:58Z</dcterms:modified>
  <cp:revision>16</cp:revision>
  <dc:subject/>
  <dc:title>Правовые основы предпринимательской деятельности</dc:title>
</cp:coreProperties>
</file>