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AC07-1DDD-472F-A7A2-1E79E2BAEF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912E-5970-4C85-B627-2B80B8B65B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74D1-8C3F-4CFF-BFC0-4573F707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E4E4-E113-4F0B-A5AF-161C8C9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4DD5-35FE-4C31-BFCD-AC1D79E9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6558-8132-45F0-9AF6-2E9D4126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86DA-52E9-47B7-BAEA-E5D173C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DE5B-E7BC-4508-838C-2E110CCC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B07-D036-4255-9D76-36A08AAB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106F-01AE-450D-87A1-87EE8127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ADC1-95BE-4117-94A4-4186399F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5D26-CD04-413C-9CEF-EC806611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41FF-DFCB-4B25-8826-E29561CD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BAD5-D8CC-4B09-B3AC-018E99BF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D0A6-F04E-4A4C-89BF-98A139AD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F4D9-FE31-4014-88EA-DBFB886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893B-DF29-42FF-9A48-6B449203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0620-3B7B-475B-93E1-EF55A224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6D18-B2DE-474A-A3F0-FD0E27A1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8F8D-7B54-4D96-8C7B-446C894C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5D85-E401-4634-99C8-FC9996AE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B46C-BCAB-4931-8AEE-0446C5CC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F553-C09D-4FDD-89C2-AC87DD05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E9B7-2A26-4B31-8F16-AD38481C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69F3-B823-4EA2-993A-DA9FAC2F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25BF-CEEB-4C5B-95EA-931E070A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EA79-9F8B-4D7B-BF22-14AB16A32A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7CE3-B982-4DD2-9DDE-956B4B23BE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chita.ru/files/news_s/20071030_8.jpg&amp;pageurl=http://finplanser.ru%2Fma1.php&amp;id=8567363&amp;iid=7&amp;imgwidth=150&amp;imgheight=120&amp;imgsize=141179&amp;images_links=b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cards.uainter.net/images/holidays/denbuhgaltera/pic006_tn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99128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Правовые основы предпринимательской деятельности</a:t>
            </a:r>
            <a:br>
              <a:rPr sz="32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Урок-практикум в11А и 11Б классах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28760" y="5516280"/>
            <a:ext cx="80308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 Калабаева Н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4" descr="i?id=8567363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4076640"/>
            <a:ext cx="1904760" cy="15242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197655555"/>
          <p:cNvPicPr/>
          <p:nvPr/>
        </p:nvPicPr>
        <p:blipFill>
          <a:blip r:embed="rId3"/>
          <a:stretch/>
        </p:blipFill>
        <p:spPr>
          <a:xfrm>
            <a:off x="6588000" y="4149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i?id=7123311&amp;tov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67280" y="4365720"/>
            <a:ext cx="1342800" cy="100944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11"/>
          <p:cNvPicPr/>
          <p:nvPr/>
        </p:nvPicPr>
        <p:blipFill>
          <a:blip r:embed="rId6"/>
          <a:stretch/>
        </p:blipFill>
        <p:spPr>
          <a:xfrm>
            <a:off x="3780000" y="189000"/>
            <a:ext cx="895320" cy="79992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9"/>
          <p:cNvSpPr/>
          <p:nvPr/>
        </p:nvSpPr>
        <p:spPr>
          <a:xfrm>
            <a:off x="0" y="384480"/>
            <a:ext cx="8820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바탕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바탕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바탕"/>
              </a:rPr>
              <a:t>ЛИЦЕЙ №6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바탕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바탕"/>
              </a:rPr>
              <a:t>ПАРУ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바탕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바탕"/>
              </a:rPr>
              <a:t>Россия, 140093, Московская область, г. Дзержинский, ул. Лесная, 3. тел. 550-01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щит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руппового проект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Как открыть свое дело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дведение итогов урока. Рефлекс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143000"/>
            <a:ext cx="82296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мся к эпиграфу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Как он связан с содержанием уро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 каким размышлениям привёл вас сегодняшний урок? Что дал он ва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ите свою работу на уроке. «Три 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учащимся предлагается назвать три момента, которые у них получились хорошо в процессе урока, и предложить одно действие, которое улучшит их работу на следующем уро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учителем работы класса в целом и каждого ученика в отд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 п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одготовки к ЕГЭ: Написать развернутый план на тему «Организационно-правовые формы предприятий» (не менее 3 пунктов, 2 из которых имеют подпунк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214200"/>
            <a:ext cx="82296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ип урок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рок закрепления зна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ид урока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- практик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оруд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Мультимеди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онституция РФ, Гражданский кодекс РФ и другие статьи Н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Раздаточный материал для групповой работы –карточки с организационно-правовыми формами, статьи нормативно-правовых актов, план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урока: 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закрепление пройденного материал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Актуализировать знания о правовых основах П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Выделить отличительные особенности различных форм ПД, их плюсы и минус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Развивать умение применять на практике полученные знания, составлять проект своего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857160" y="1571400"/>
            <a:ext cx="74088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каждым гражданином закреплено право    на свободное использование своих способностей и имущества для предпринимательской и иной не запрещенной законом экономиче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Конституция РФ,  статья 3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рганизационный момент. Мотивац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знаете ли вы, что английский экономист – учёный Адам Смит считал одним из важнейших условий процветания государства – отсутствие препятствий для развития личной инициативы, что является основой предпринимательской деятельности. Рыночные отношения напрямую связаны с проявлением экономической самодеятельности людей. В России предпринимательская  деятельность началась в 90 – е годы, а в настоящее время она усилила свою значим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? Как вы определите цель нашего ур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ктуализация знаний</a:t>
            </a:r>
            <a:br>
              <a:rPr sz="4400"/>
            </a:br>
            <a:r>
              <a:rPr b="0" lang="ru-RU" sz="4400" spc="-1" strike="noStrike">
                <a:solidFill>
                  <a:srgbClr val="a3a3ff"/>
                </a:solidFill>
                <a:latin typeface="Arial"/>
              </a:rPr>
              <a:t>Блиц-опрос. Соревнование между рядам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Понятие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Условия для успешного развития П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редпринимательские правоот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Принципы П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Групповая работа «Как открыть свое дело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 поделены на 6 групп, каждой из которых достается определенная организационно-правовая форма предприятия и соответствующие нормативно-правовые акты, регулирующие данную ОПФ. По плану нужно изучить и составить сведения о своем предприятии, которое хотели бы открыть. Далее проводится защита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амятк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к открыть свое дело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основание предпринимательских ид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пределить состав учредителей и выбрать организационно – правовую фор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Разработка наимен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Оформление учредительных документов: устав или учредительный до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Государственная регистрация(свидетельство о регистрации, лицензия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лан работ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9680" y="128592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онно-правовая форма (ОПФ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мен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редительный доку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ники(учредители).Коли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ение состава участн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ределение приб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ы,регулирующие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7:02:04Z</dcterms:created>
  <dc:creator>Admin</dc:creator>
  <dc:description/>
  <dc:language>en-US</dc:language>
  <cp:lastModifiedBy>1</cp:lastModifiedBy>
  <dcterms:modified xsi:type="dcterms:W3CDTF">2021-01-31T16:40:58Z</dcterms:modified>
  <cp:revision>16</cp:revision>
  <dc:subject/>
  <dc:title>Правовые основы предпринимательской деятельности</dc:title>
</cp:coreProperties>
</file>