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82F-93C4-4CFC-A1FC-CB9E6FC3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DEF-C48B-41FD-A811-3F9A61EA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597-CB70-48AC-90A5-7E22FE97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F4A-6BC6-4AF4-99BC-0D1358C1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620-FA79-4C36-A5D0-46047641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071-625B-4AC3-9352-8921EDA2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DBD-AE43-40F3-B472-58F176BC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E9E-FD57-442D-8D3B-BF9A3E39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051-F692-45FE-A147-F72F6FCD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BCA-AA0E-401C-99DB-B166A36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2B0-745E-4C4E-8FAB-5877EC2C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883-E8FA-4CD5-BCA6-A59E4A10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90E4-025E-463E-9693-13C374365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976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2189160" y="1719360"/>
            <a:ext cx="6783480" cy="257796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3"/>
          <a:stretch/>
        </p:blipFill>
        <p:spPr>
          <a:xfrm>
            <a:off x="1182600" y="3882960"/>
            <a:ext cx="4694400" cy="27925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0" y="189000"/>
            <a:ext cx="914400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Приемы словесно – наглядного обучения в поддержании инициативы и самостоятельности детей в решении проблемных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786040" y="4286160"/>
            <a:ext cx="600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якова Алл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ший воспитатель МБДОУ д/с №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Администратор\Рабочий стол\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 rot="300600">
            <a:off x="7721280" y="763200"/>
            <a:ext cx="12002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9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Педагогические технологии в обучении английскому языку"/>
          <p:cNvPicPr/>
          <p:nvPr/>
        </p:nvPicPr>
        <p:blipFill>
          <a:blip r:embed="rId2"/>
          <a:stretch/>
        </p:blipFill>
        <p:spPr>
          <a:xfrm>
            <a:off x="500040" y="357120"/>
            <a:ext cx="814860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902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3" descr=""/>
          <p:cNvPicPr/>
          <p:nvPr/>
        </p:nvPicPr>
        <p:blipFill>
          <a:blip r:embed="rId2"/>
          <a:stretch/>
        </p:blipFill>
        <p:spPr>
          <a:xfrm>
            <a:off x="-42840" y="103320"/>
            <a:ext cx="9326520" cy="5133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902280"/>
          </a:xfrm>
          <a:prstGeom prst="rect">
            <a:avLst/>
          </a:prstGeom>
          <a:ln w="0">
            <a:noFill/>
          </a:ln>
        </p:spPr>
      </p:pic>
      <p:pic>
        <p:nvPicPr>
          <p:cNvPr id="59" name="Заголовок 3" descr=""/>
          <p:cNvPicPr/>
          <p:nvPr/>
        </p:nvPicPr>
        <p:blipFill>
          <a:blip r:embed="rId2"/>
          <a:stretch/>
        </p:blipFill>
        <p:spPr>
          <a:xfrm>
            <a:off x="1755720" y="1407960"/>
            <a:ext cx="6066000" cy="3829320"/>
          </a:xfrm>
          <a:prstGeom prst="rect">
            <a:avLst/>
          </a:prstGeom>
          <a:ln w="0">
            <a:noFill/>
          </a:ln>
        </p:spPr>
      </p:pic>
      <p:pic>
        <p:nvPicPr>
          <p:cNvPr id="60" name="Подзаголовок 4" descr=""/>
          <p:cNvPicPr/>
          <p:nvPr/>
        </p:nvPicPr>
        <p:blipFill>
          <a:blip r:embed="rId3"/>
          <a:stretch/>
        </p:blipFill>
        <p:spPr>
          <a:xfrm>
            <a:off x="933480" y="3786120"/>
            <a:ext cx="7223040" cy="28162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6"/>
          <p:cNvSpPr/>
          <p:nvPr/>
        </p:nvSpPr>
        <p:spPr>
          <a:xfrm>
            <a:off x="214200" y="214200"/>
            <a:ext cx="857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Методы обучения – это способы работы воспитателя, с помощью которых достигается усвоение детьми знаний, умений и навыков, а также развитие их познавательных способнос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902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1425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хема 4" descr=""/>
          <p:cNvPicPr/>
          <p:nvPr/>
        </p:nvPicPr>
        <p:blipFill>
          <a:blip r:embed="rId2"/>
          <a:stretch/>
        </p:blipFill>
        <p:spPr>
          <a:xfrm>
            <a:off x="195120" y="281160"/>
            <a:ext cx="8826480" cy="6368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Download HD Graduation Background 2014 Png For Kids - Шапка Выпускника Пнг  Transparent PNG Image - NicePNG.com"/>
          <p:cNvPicPr/>
          <p:nvPr/>
        </p:nvPicPr>
        <p:blipFill>
          <a:blip r:embed="rId2"/>
          <a:stretch/>
        </p:blipFill>
        <p:spPr>
          <a:xfrm>
            <a:off x="285840" y="285840"/>
            <a:ext cx="2428920" cy="1805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0" y="2357280"/>
            <a:ext cx="35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Спросить у умн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Лупа 100"/>
          <p:cNvPicPr/>
          <p:nvPr/>
        </p:nvPicPr>
        <p:blipFill>
          <a:blip r:embed="rId3"/>
          <a:srcRect l="0" t="14180" r="0" b="12099"/>
          <a:stretch/>
        </p:blipFill>
        <p:spPr>
          <a:xfrm>
            <a:off x="3571920" y="142920"/>
            <a:ext cx="1736640" cy="1716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3357720" y="192888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наблю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Книга: &quot;Детская энциклопедия&quot; - Джейн Эллиотт. Купить книгу, читать  рецензии | ISBN 5-353-00168-0 | Лабиринт"/>
          <p:cNvPicPr/>
          <p:nvPr/>
        </p:nvPicPr>
        <p:blipFill>
          <a:blip r:embed="rId4"/>
          <a:stretch/>
        </p:blipFill>
        <p:spPr>
          <a:xfrm>
            <a:off x="6286680" y="428760"/>
            <a:ext cx="1531800" cy="2085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5500800" y="257184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 страницам энциклопе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Вопросительный знак PNG"/>
          <p:cNvPicPr/>
          <p:nvPr/>
        </p:nvPicPr>
        <p:blipFill>
          <a:blip r:embed="rId5"/>
          <a:stretch/>
        </p:blipFill>
        <p:spPr>
          <a:xfrm>
            <a:off x="285840" y="2857680"/>
            <a:ext cx="2071440" cy="2071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2"/>
          <p:cNvSpPr/>
          <p:nvPr/>
        </p:nvSpPr>
        <p:spPr>
          <a:xfrm>
            <a:off x="0" y="500076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думать сам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Иконка «Вся рука» — скачай бесплатно PNG и векторе"/>
          <p:cNvPicPr/>
          <p:nvPr/>
        </p:nvPicPr>
        <p:blipFill>
          <a:blip r:embed="rId6"/>
          <a:stretch/>
        </p:blipFill>
        <p:spPr>
          <a:xfrm>
            <a:off x="2928960" y="33577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4"/>
          <p:cNvSpPr/>
          <p:nvPr/>
        </p:nvSpPr>
        <p:spPr>
          <a:xfrm>
            <a:off x="2000160" y="592920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ровести опыт ,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8" descr="Как выбрать компьютер"/>
          <p:cNvPicPr/>
          <p:nvPr/>
        </p:nvPicPr>
        <p:blipFill>
          <a:blip r:embed="rId7"/>
          <a:stretch/>
        </p:blipFill>
        <p:spPr>
          <a:xfrm>
            <a:off x="6215040" y="3357720"/>
            <a:ext cx="2500200" cy="1666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6"/>
          <p:cNvSpPr/>
          <p:nvPr/>
        </p:nvSpPr>
        <p:spPr>
          <a:xfrm>
            <a:off x="5286240" y="500076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спользовать гадж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-1637280" y="28800"/>
            <a:ext cx="11758320" cy="58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Дети умеют принимать проблему  (не бояться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таршие дошкольники ставят ц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для достижения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Дети самостоятельно умеют выбир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птимальный прием решения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 воспитанников сформированы коммуникати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навыки со сверстниками и взрослы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азвиты компоненты логического расс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Дети умеют работать в команде (подгрупп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 Дети отвечают за полученный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1755720" y="1407960"/>
            <a:ext cx="6066000" cy="3829320"/>
          </a:xfrm>
          <a:prstGeom prst="rect">
            <a:avLst/>
          </a:prstGeom>
          <a:ln w="0">
            <a:noFill/>
          </a:ln>
        </p:spPr>
      </p:pic>
      <p:pic>
        <p:nvPicPr>
          <p:cNvPr id="83" name="Подзаголовок 4" descr=""/>
          <p:cNvPicPr/>
          <p:nvPr/>
        </p:nvPicPr>
        <p:blipFill>
          <a:blip r:embed="rId2"/>
          <a:stretch/>
        </p:blipFill>
        <p:spPr>
          <a:xfrm>
            <a:off x="2475000" y="3060720"/>
            <a:ext cx="4479840" cy="2674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Картинка &quot;Спасибо за внимание&quot; для презентаций (35 фото) • Прикольные  картинки и юмор | Презентация, Картинки, Юмор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6:44Z</dcterms:created>
  <dc:creator>User</dc:creator>
  <dc:description/>
  <dc:language>en-US</dc:language>
  <cp:lastModifiedBy>1</cp:lastModifiedBy>
  <dcterms:modified xsi:type="dcterms:W3CDTF">2021-04-21T15:58:38Z</dcterms:modified>
  <cp:revision>231</cp:revision>
  <dc:subject/>
  <dc:title>Презентация PowerPoint</dc:title>
</cp:coreProperties>
</file>