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99AC-3ECA-401B-B7EA-97BE4FD4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ED6E-312C-432D-BC4B-7E216A62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D2F-851A-4922-B6EB-47E4120F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5EC-E5B8-4B3F-88AB-0CECCD9C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AC6-2432-42FD-9AA0-FDEE4DF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6A7-70DF-4854-92A5-EB0FEC00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C8B-EC0F-4E77-A258-017E3E7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8C4-8FB5-480E-B77A-C31B0036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EFA-9573-4420-9F57-A18FD871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D5E-76E9-4D7B-8D72-142244A5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EF8-9C5A-49A1-84C8-DBA2F71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2EF-59EA-4E5B-8D1D-3B5835E2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E659-F1AD-4050-8AFB-51BEDFC70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Музыкально – познавательный проект «Звуки музы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Вид: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знавательный, долгосроч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Цель данного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одействовать всестороннему развитию детей, формирование у дошкольников музыкальной культуры, предполагающей интеграцию чувств 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- Обогащать впечатления детей, вызвать яркий эмоциональный отклик при восприятии  музы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- Развивать восприятие музыки, формировать навыки слушать и запоминать, продолжать воспитывать активного слуш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- Формировать у детей познавательный интерес к окружающему миру, родной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Воспитывать эмоционально – положительное отношение к природе, учить видеть прекрасное в ней в разные времена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Участниками проекта стали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дготовительной к школе группы №12, музыкальный руководит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воспитатель – эколог, воспитатель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3. Заключительный этап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(май)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Организация выставки «Времена года»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(в музыкальном зале) 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родолжать воспитывать желание участвовать в совместной деятельности, радоваться результатам общ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MG_7027"/>
          <p:cNvPicPr/>
          <p:nvPr/>
        </p:nvPicPr>
        <p:blipFill>
          <a:blip r:embed="rId1"/>
          <a:stretch/>
        </p:blipFill>
        <p:spPr>
          <a:xfrm>
            <a:off x="4724280" y="30481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IMG_7033"/>
          <p:cNvPicPr/>
          <p:nvPr/>
        </p:nvPicPr>
        <p:blipFill>
          <a:blip r:embed="rId2"/>
          <a:stretch/>
        </p:blipFill>
        <p:spPr>
          <a:xfrm>
            <a:off x="533520" y="20574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- Музыкальное развлечение «Времена года»</a:t>
            </a:r>
            <a:br>
              <a:rPr sz="2400"/>
            </a:b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создавать эмоциональный настрой, продолжать формировать стремление быть активным участником коллектив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IMG_4847"/>
          <p:cNvPicPr/>
          <p:nvPr/>
        </p:nvPicPr>
        <p:blipFill>
          <a:blip r:embed="rId1"/>
          <a:stretch/>
        </p:blipFill>
        <p:spPr>
          <a:xfrm>
            <a:off x="1066680" y="16002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4874"/>
          <p:cNvPicPr/>
          <p:nvPr/>
        </p:nvPicPr>
        <p:blipFill>
          <a:blip r:embed="rId2"/>
          <a:stretch/>
        </p:blipFill>
        <p:spPr>
          <a:xfrm>
            <a:off x="5105520" y="1538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IMG_4880"/>
          <p:cNvPicPr/>
          <p:nvPr/>
        </p:nvPicPr>
        <p:blipFill>
          <a:blip r:embed="rId3"/>
          <a:stretch/>
        </p:blipFill>
        <p:spPr>
          <a:xfrm>
            <a:off x="990720" y="4191120"/>
            <a:ext cx="3276360" cy="235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IMG_4906"/>
          <p:cNvPicPr/>
          <p:nvPr/>
        </p:nvPicPr>
        <p:blipFill>
          <a:blip r:embed="rId4"/>
          <a:stretch/>
        </p:blipFill>
        <p:spPr>
          <a:xfrm>
            <a:off x="5105520" y="40924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Мониторинг освоения программы в образовательной области «Музыка» </a:t>
            </a:r>
            <a:br>
              <a:rPr sz="2200"/>
            </a:b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в подготовительной к школе группе №12  </a:t>
            </a:r>
            <a:br>
              <a:rPr sz="2200"/>
            </a:b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(«Программа воспитания и обучения в детском саду»</a:t>
            </a:r>
            <a:br>
              <a:rPr sz="2200"/>
            </a:b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Под ред. М.А. Васильевой …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4"/>
          <p:cNvGraphicFramePr/>
          <p:nvPr/>
        </p:nvGraphicFramePr>
        <p:xfrm>
          <a:off x="3809880" y="2666880"/>
          <a:ext cx="4896000" cy="29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66880"/>
                    <a:ext cx="48960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30492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Май 201</a:t>
            </a:r>
            <a:r>
              <a:rPr b="1" lang="en-US" sz="18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22 человека –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Низкий уровень – 0 чел. (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редний уровень – 15 чел. (6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Высокий уровень – 7 чел. (32 %)</a:t>
            </a:r>
            <a:r>
              <a:rPr b="0" lang="ru-RU" sz="1800" spc="-1" strike="noStrike">
                <a:solidFill>
                  <a:srgbClr val="0033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Обучение слушанию детей дошкольного возраста – это особая деятельность имеющая самостоятельное значение, в процессе которой развивается не только музыкальное восприятие, но и закладываются основы музыкальной культуры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2.   Проектная деятельность позволяет успешно интегрировать разные виды дет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3.   Использование проектной деятельности способствовало не только положительной динамике освоения детьми образовательной программы, в образовательной области «Музыка», но и  возросшему интересу у детей к слушанию, как виду музыкальной деятельности. А так же совершенствованию у детей изобразительных навыков, накоплению личного опыта, приобретению навыков и умений сообща планировать, выполнять рабо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1. Подготовительный этап (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август – сентябрь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Планирование предстоящей деятельности направленной на реализацию проек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Подготовка мультимедийных презент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Организация,  в музыкальном зале,  уголка «Знакомство с композитором П.И. Чайковски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9220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- </a:t>
            </a: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Тематическое з</a:t>
            </a:r>
            <a:r>
              <a:rPr b="1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анятие</a:t>
            </a:r>
            <a:r>
              <a:rPr b="0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Тема: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«История одного композитор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ru-RU" sz="22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200" spc="-1" strike="noStrike">
                <a:solidFill>
                  <a:srgbClr val="003300"/>
                </a:solidFill>
                <a:latin typeface="Times New Roman"/>
              </a:rPr>
              <a:t> познакомить детей с биографией  П.И. Чайковского, с его творчест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Рисунок1.jpg"/>
          <p:cNvPicPr/>
          <p:nvPr/>
        </p:nvPicPr>
        <p:blipFill>
          <a:blip r:embed="rId1"/>
          <a:stretch/>
        </p:blipFill>
        <p:spPr>
          <a:xfrm>
            <a:off x="380880" y="2133720"/>
            <a:ext cx="4145040" cy="3108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Рисунок2.jpg"/>
          <p:cNvPicPr/>
          <p:nvPr/>
        </p:nvPicPr>
        <p:blipFill>
          <a:blip r:embed="rId2"/>
          <a:stretch/>
        </p:blipFill>
        <p:spPr>
          <a:xfrm>
            <a:off x="4952880" y="3505320"/>
            <a:ext cx="37594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Беседа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с детьми, рассматривание  иллюстраций художников: И. Шишкина, И. Левитана, И. Коровина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На тему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: «Как природа рисует красками» 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: развивать эстетическое восприятие детей, формировать навыки эстетических контактов с произведениями искусства. Обратить внимание детей, какими выразительными средствами пользовались художники, передавая красоту родно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Рисунок3.jpg"/>
          <p:cNvPicPr/>
          <p:nvPr/>
        </p:nvPicPr>
        <p:blipFill>
          <a:blip r:embed="rId1"/>
          <a:stretch/>
        </p:blipFill>
        <p:spPr>
          <a:xfrm>
            <a:off x="380880" y="2743200"/>
            <a:ext cx="4191120" cy="3666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Рисунок4.jpg"/>
          <p:cNvPicPr/>
          <p:nvPr/>
        </p:nvPicPr>
        <p:blipFill>
          <a:blip r:embed="rId2"/>
          <a:stretch/>
        </p:blipFill>
        <p:spPr>
          <a:xfrm>
            <a:off x="4933800" y="2438280"/>
            <a:ext cx="3594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2. Основной этап (сентябрь – май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- Музыкаль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Игра – за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Тема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«Звуки Осени», «Звуки Зимы», Звуки Весны», «Звуки Л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1. игра - занятие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 первичное слушание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 развивать навыки слуш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2.  игра - занятие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повторное слушание с просматриванием музыкальной</a:t>
            </a: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презентации.</a:t>
            </a:r>
            <a:br>
              <a:rPr sz="1800"/>
            </a:b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продолжать знакомить детей с творчеством композитора П.И.Чайковского; вызывать эмоциональный отклик при восприятии музы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Рисунок5.jpg"/>
          <p:cNvPicPr/>
          <p:nvPr/>
        </p:nvPicPr>
        <p:blipFill>
          <a:blip r:embed="rId1"/>
          <a:stretch/>
        </p:blipFill>
        <p:spPr>
          <a:xfrm>
            <a:off x="2743200" y="3505320"/>
            <a:ext cx="3941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- Цикл наблюдений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«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Сезонные изменения в природе » </a:t>
            </a:r>
            <a:br>
              <a:rPr sz="18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(в дендропарке, на участке ДОУ)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родолжать учить наблюдать за живой природой, выделять сезонные изменения. Развивать у детей способность  наслаждаться изяществом и многообразием форм, красок, звуков окружающе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6" descr="Рисунок6.jpg"/>
          <p:cNvPicPr/>
          <p:nvPr/>
        </p:nvPicPr>
        <p:blipFill>
          <a:blip r:embed="rId1"/>
          <a:stretch/>
        </p:blipFill>
        <p:spPr>
          <a:xfrm>
            <a:off x="30492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Рисунок7.jpg"/>
          <p:cNvPicPr/>
          <p:nvPr/>
        </p:nvPicPr>
        <p:blipFill>
          <a:blip r:embed="rId2"/>
          <a:stretch/>
        </p:blipFill>
        <p:spPr>
          <a:xfrm>
            <a:off x="4800600" y="3581280"/>
            <a:ext cx="39924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- Игры-занятия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о «Художественному творчеству» 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(рисование)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на темы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: «Сентябрь, Октябрь, Ноябрь, Декабрь, Январь, Февраль, Март, Апрель, Май, Июнь, Июль, Август».</a:t>
            </a:r>
            <a:br>
              <a:rPr sz="2000"/>
            </a:b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продолжать закреплять знания детей о сезонных изменениях в природе; </a:t>
            </a:r>
            <a:br>
              <a:rPr sz="20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знание о жанре изобразительного искусства – пейза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MG_7066"/>
          <p:cNvPicPr/>
          <p:nvPr/>
        </p:nvPicPr>
        <p:blipFill>
          <a:blip r:embed="rId1"/>
          <a:stretch/>
        </p:blipFill>
        <p:spPr>
          <a:xfrm>
            <a:off x="1676520" y="2362320"/>
            <a:ext cx="56386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- Составление альбома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с детскими рисунками «Времена года»</a:t>
            </a:r>
            <a:br>
              <a:rPr sz="2400"/>
            </a:b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воспитывать желание участвовать в совместной деятельности , радоваться результатам коллектив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IMG_7051"/>
          <p:cNvPicPr/>
          <p:nvPr/>
        </p:nvPicPr>
        <p:blipFill>
          <a:blip r:embed="rId1"/>
          <a:stretch/>
        </p:blipFill>
        <p:spPr>
          <a:xfrm>
            <a:off x="4495680" y="28954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IMG_7025"/>
          <p:cNvPicPr/>
          <p:nvPr/>
        </p:nvPicPr>
        <p:blipFill>
          <a:blip r:embed="rId2"/>
          <a:stretch/>
        </p:blipFill>
        <p:spPr>
          <a:xfrm>
            <a:off x="228600" y="1828800"/>
            <a:ext cx="403848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- Музыкальные развлечения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Тема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: «Праздник Осени», «Праздник Зимы», «Праздник Весны»</a:t>
            </a:r>
            <a:br>
              <a:rPr sz="1800"/>
            </a:br>
            <a:r>
              <a:rPr b="1" lang="ru-RU" sz="1800" spc="-1" strike="noStrike" u="sng">
                <a:solidFill>
                  <a:srgbClr val="003300"/>
                </a:solidFill>
                <a:uFillTx/>
                <a:latin typeface="Times New Roman"/>
              </a:rPr>
              <a:t>Цель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создавать эмоциональный настрой: радостный, приподнятый; продолжать формировать стремление активно участвовать в развлечениях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0871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IMG_7057"/>
          <p:cNvPicPr/>
          <p:nvPr/>
        </p:nvPicPr>
        <p:blipFill>
          <a:blip r:embed="rId2"/>
          <a:stretch/>
        </p:blipFill>
        <p:spPr>
          <a:xfrm>
            <a:off x="4648320" y="27432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1-04-21T08:44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