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371-84CE-470E-A198-5BA57883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075-48A8-4E24-BF52-8B1C4EC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7D3-EAAD-4888-B46E-D19BA2E7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061-67A4-446C-88C1-EE3947BF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1D4-4FA4-49AB-8696-56DE4E75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028-45B5-498F-AC0D-B174E4D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5CE-2134-495C-8CBC-6D181F2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B37-CF3A-4481-B96B-3A95569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80F-CE35-481C-8EA3-8C72ACD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CB8-4C04-4BF9-AA8F-468E39D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A1E-EBFB-4A74-87CD-89BFE5E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B8B-950B-4A91-9E75-0FA50AC6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9824-3080-4DB3-9AF7-2906BF345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узыкально – познавательный проект «Звуки музы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ид: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знавательный, долгосро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Цель данного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одействовать всестороннему развитию детей, формирование у дошкольников музыкальной культуры, предполагающей интеграцию чувств 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Обогащать впечатления детей, вызвать яркий эмоциональный отклик при восприятии  муз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Развивать восприятие музыки, формировать навыки слушать и запоминать, продолжать воспитывать активного слуш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Формировать у детей познавательный интерес к окружающему миру, родной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оспитывать эмоционально – положительное отношение к природе, учить видеть прекрасное в ней в разные 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Участниками проекта стали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дготовительной к школе группы №12, музыкальный руководит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оспитатель – эколог, воспитатель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3. Заключительный этап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(май)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Организация выставки «Времена года»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в музыкальном зале) 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воспитывать желание участвовать в совместной деятельности, радоваться результатам общ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MG_7027"/>
          <p:cNvPicPr/>
          <p:nvPr/>
        </p:nvPicPr>
        <p:blipFill>
          <a:blip r:embed="rId1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IMG_7033"/>
          <p:cNvPicPr/>
          <p:nvPr/>
        </p:nvPicPr>
        <p:blipFill>
          <a:blip r:embed="rId2"/>
          <a:stretch/>
        </p:blipFill>
        <p:spPr>
          <a:xfrm>
            <a:off x="533520" y="20574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- Музыкальное развлечение «Времена года»</a:t>
            </a:r>
            <a:br>
              <a:rPr sz="2400"/>
            </a:b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создавать эмоциональный настрой, продолжать формировать стремление быть активным участником коллектив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MG_4847"/>
          <p:cNvPicPr/>
          <p:nvPr/>
        </p:nvPicPr>
        <p:blipFill>
          <a:blip r:embed="rId1"/>
          <a:stretch/>
        </p:blipFill>
        <p:spPr>
          <a:xfrm>
            <a:off x="10666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4874"/>
          <p:cNvPicPr/>
          <p:nvPr/>
        </p:nvPicPr>
        <p:blipFill>
          <a:blip r:embed="rId2"/>
          <a:stretch/>
        </p:blipFill>
        <p:spPr>
          <a:xfrm>
            <a:off x="5105520" y="1538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IMG_4880"/>
          <p:cNvPicPr/>
          <p:nvPr/>
        </p:nvPicPr>
        <p:blipFill>
          <a:blip r:embed="rId3"/>
          <a:stretch/>
        </p:blipFill>
        <p:spPr>
          <a:xfrm>
            <a:off x="990720" y="4191120"/>
            <a:ext cx="3276360" cy="235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IMG_4906"/>
          <p:cNvPicPr/>
          <p:nvPr/>
        </p:nvPicPr>
        <p:blipFill>
          <a:blip r:embed="rId4"/>
          <a:stretch/>
        </p:blipFill>
        <p:spPr>
          <a:xfrm>
            <a:off x="5105520" y="40924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Мониторинг освоения программы в образовательной области «Музыка» 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в подготовительной к школе группе №12  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(«Программа воспитания и обучения в детском саду»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Под ред. М.А. Васильевой …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"/>
          <p:cNvGraphicFramePr/>
          <p:nvPr/>
        </p:nvGraphicFramePr>
        <p:xfrm>
          <a:off x="3809880" y="2666880"/>
          <a:ext cx="489600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48960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30492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Май 201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22 человека –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Низкий уровень – 0 чел. (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едний уровень – 15 чел. (6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ысокий уровень – 7 чел. (32 %)</a:t>
            </a:r>
            <a:r>
              <a:rPr b="0" lang="ru-RU" sz="1800" spc="-1" strike="noStrike">
                <a:solidFill>
                  <a:srgbClr val="0033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бучение слушанию детей дошкольного возраста – это особая деятельность имеющая самостоятельное значение, в процессе которой развивается не только музыкальное восприятие, но и закладываются основы музыкальной культур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2.   Проектная деятельность позволяет успешно интегрировать разные виды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3.   Использование проектной деятельности способствовало не только положительной динамике освоения детьми образовательной программы, в образовательной области «Музыка», но и  возросшему интересу у детей к слушанию, как виду музыкальной деятельности. А так же совершенствованию у детей изобразительных навыков, накоплению личного опыта, приобретению навыков и умений сообща планировать, выполнять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1. Подготовительный этап (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август – сентябр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Планирование предстоящей деятельности направленной на реализацию проек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Подготовка мультимедийных презент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Организация,  в музыкальном зале,  уголка «Знакомство с композитором П.И. Чайковски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Тематическое з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анятие</a:t>
            </a:r>
            <a:r>
              <a:rPr b="0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Тема: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«История одного композитор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познакомить детей с биографией  П.И. Чайковского, с его творчест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380880" y="2133720"/>
            <a:ext cx="4145040" cy="3108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Рисунок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Беседа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с детьми, рассматривание  иллюстраций художников: И. Шишкина, И. Левитана, И. Коровина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На тему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«Как природа рисует красками» 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развивать эстетическое восприятие детей, формировать навыки эстетических контактов с произведениями искусства. Обратить внимание детей, какими выразительными средствами пользовались художники, передавая красоту родно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Рисунок3.jpg"/>
          <p:cNvPicPr/>
          <p:nvPr/>
        </p:nvPicPr>
        <p:blipFill>
          <a:blip r:embed="rId1"/>
          <a:stretch/>
        </p:blipFill>
        <p:spPr>
          <a:xfrm>
            <a:off x="380880" y="2743200"/>
            <a:ext cx="4191120" cy="3666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Рисунок4.jpg"/>
          <p:cNvPicPr/>
          <p:nvPr/>
        </p:nvPicPr>
        <p:blipFill>
          <a:blip r:embed="rId2"/>
          <a:stretch/>
        </p:blipFill>
        <p:spPr>
          <a:xfrm>
            <a:off x="4933800" y="2438280"/>
            <a:ext cx="3594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2. Основной этап (сентябрь – май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- Музык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Игра –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Тема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«Звуки Осени», «Звуки Зимы», Звуки Весны», «Звуки Л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1. игра - занятие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первичное слушание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развивать навыки слуш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2.  игра - занятие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повторное слушание с просматриванием музыкальной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езентации.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одолжать знакомить детей с творчеством композитора П.И.Чайковского; вызывать эмоциональный отклик при восприятии музы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Рисунок5.jpg"/>
          <p:cNvPicPr/>
          <p:nvPr/>
        </p:nvPicPr>
        <p:blipFill>
          <a:blip r:embed="rId1"/>
          <a:stretch/>
        </p:blipFill>
        <p:spPr>
          <a:xfrm>
            <a:off x="2743200" y="3505320"/>
            <a:ext cx="3941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- Цикл наблюдени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зонные изменения в природе » </a:t>
            </a:r>
            <a:br>
              <a:rPr sz="18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в дендропарке, на участке ДОУ)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учить наблюдать за живой природой, выделять сезонные изменения. Развивать у детей способность  наслаждаться изяществом и многообразием форм, красок, звуков окружающе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6" descr="Рисунок6.jpg"/>
          <p:cNvPicPr/>
          <p:nvPr/>
        </p:nvPicPr>
        <p:blipFill>
          <a:blip r:embed="rId1"/>
          <a:stretch/>
        </p:blipFill>
        <p:spPr>
          <a:xfrm>
            <a:off x="30492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Рисунок7.jpg"/>
          <p:cNvPicPr/>
          <p:nvPr/>
        </p:nvPicPr>
        <p:blipFill>
          <a:blip r:embed="rId2"/>
          <a:stretch/>
        </p:blipFill>
        <p:spPr>
          <a:xfrm>
            <a:off x="4800600" y="3581280"/>
            <a:ext cx="3992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- Игры-занятия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о «Художественному творчеству» 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рисование)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на темы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«Сентябрь, Октябрь, Ноябрь, Декабрь, Январь, Февраль, Март, Апрель, Май, Июнь, Июль, Август».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закреплять знания детей о сезонных изменениях в природе; 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знание о жанре изобразительного искусства – пейза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MG_7066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- Составление альбом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с детскими рисунками «Времена года»</a:t>
            </a:r>
            <a:br>
              <a:rPr sz="2400"/>
            </a:b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воспитывать желание участвовать в совместной деятельности , радоваться результатам коллектив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IMG_7051"/>
          <p:cNvPicPr/>
          <p:nvPr/>
        </p:nvPicPr>
        <p:blipFill>
          <a:blip r:embed="rId1"/>
          <a:stretch/>
        </p:blipFill>
        <p:spPr>
          <a:xfrm>
            <a:off x="4495680" y="2895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IMG_7025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- Музыкальные развлечения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Тема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«Праздник Осени», «Праздник Зимы», «Праздник Весны»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создавать эмоциональный настрой: радостный, приподнятый; продолжать формировать стремление активно участвовать в развлечения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87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IMG_7057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04-21T08:44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