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D16-CEE5-4A5A-BF07-41AAB6DC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CE4-A9BC-4AC6-B829-5720049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8CB-3F20-4CB9-821C-9B726478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0D0-A68C-4AF0-BCC7-4B20A039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5FF-2D3A-4015-890C-3ACF72E1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DA0-06DE-4964-9ABD-581B2AEB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2E9-B368-4900-B405-990D9907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29A-C2B7-40CD-9481-CBF0F0E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27B-2E43-4D46-A1D2-4B0A7DE5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D3E-491D-4868-8712-EAFC4686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790-20D0-47C2-930D-22329FB9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AC9-FA6D-4091-BD49-8AF7040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C738-64BD-4EB0-B82B-EF17D26F9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асписное яйцо на подста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93760" y="12600"/>
            <a:ext cx="67564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9480" y="12600"/>
            <a:ext cx="6845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9480" y="12600"/>
            <a:ext cx="6845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9080"/>
            <a:ext cx="67816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19080"/>
            <a:ext cx="67694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3760" y="12600"/>
            <a:ext cx="67564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09T18:20:55Z</dcterms:modified>
  <cp:revision>8</cp:revision>
  <dc:subject/>
  <dc:title>Слайд 1</dc:title>
</cp:coreProperties>
</file>