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6A4-DD05-485E-8B14-19F99D0F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2BB-DFD0-4319-8E51-005F240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DC5-4691-418D-8CBE-5DE6B674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6061-37BF-4B61-8F80-7725E706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C87-B0C5-453D-9B36-9347990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17F-8DAB-4BFF-B2BB-CF3F75ED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7FD-1B23-440C-8396-FF71837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1ADA-9DBF-4E8D-A22B-3FAD68D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2E9-5DF4-4237-85FF-FCB19B5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DEB-425E-42CB-8915-7269DD6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86B-1975-4665-98E9-2BEC284F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DBF-1052-41E0-9D01-E76BCDD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EFD-CF04-4F8E-A8B5-5633D25C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Расписное яйцо на подстав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93760" y="12600"/>
            <a:ext cx="67564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9480" y="12600"/>
            <a:ext cx="6845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9480" y="12600"/>
            <a:ext cx="68450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9080"/>
            <a:ext cx="6781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19080"/>
            <a:ext cx="67694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93760" y="12600"/>
            <a:ext cx="67564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20:55Z</dcterms:modified>
  <cp:revision>8</cp:revision>
  <dc:subject/>
  <dc:title>Слайд 1</dc:title>
</cp:coreProperties>
</file>