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16B-A6B1-4D07-BB8A-87FD7068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5E6-701F-4B03-B9AA-C48DD73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57C-ABE5-4CAD-ACCC-AE0C6F82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B5D-BB22-4445-9AD4-80E1C953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4886-EA7E-42B4-BF6D-A74686C1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324-4600-43FE-B410-3FC1DD7E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BDDD-974E-4D6B-A742-3262E1D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FA66-713B-4F25-A232-3DCE5CB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35E-7C3C-402F-9D81-DD772F1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5AF0-9328-41D9-9B04-567A0BA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0E35-9026-4F97-B5F1-A24748B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A34-DDD1-40D2-81B4-5155232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DD90-3E61-4A9B-B229-E5A62A8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009-D57E-4440-9294-79F3712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C9E-5DF0-41A7-883D-963B813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C912-E299-4F89-902E-EAB37941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A2B-F5AA-493B-9500-A31A4D15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6D700-F052-44D8-A4A6-2982E280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C8EF8-BA2A-4171-87A4-1996B3ED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B836C-501E-4DEF-8751-9A4AAF9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3C56B-A9CD-4959-AC03-C38F8795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1A093-9DC0-4B2E-A011-EB7203A9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01B-9BD8-42EA-91AE-E7F5235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1E636-C8E1-4478-8D71-905F8CCA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06B37-E762-4B3D-9759-319ABD4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DA932-C073-404D-B181-25F0239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D5520-8746-441C-98F5-A5B5535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11119-464C-4E49-93C0-08B43EF6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E599A-9BA3-43CD-875F-5BD5E462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A179A-1A35-4496-91C7-2A5BA91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8AD6F-C9DB-43F7-9918-B818C726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4911D-A333-48AF-867C-8AC2CD9C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715E4-92A8-4AFE-84A2-30D445F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0C3-6B6A-4496-9A37-CA0AC431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408BD-78C4-4AE4-BBF1-627EC00B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79F8A-42DE-4CDF-BE4D-8325074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DE747-8176-4E55-AB75-23528147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DB419-D3AC-4019-A8BD-6966477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27F6A-62EE-4625-A0FB-47D68CB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BE49D-D660-4FC8-A916-AB96345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5D721-65D8-4EFA-AF6D-B6AF7DE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B2176-87F1-44FD-A35F-415CE2D8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71A6E-7C50-4DA5-A9C9-39FA15E7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7A90F-FCCA-49AF-BB2D-5F0EB2D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188-8BB3-470E-8CAE-6AC19CA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85DA6-A597-43D9-9857-23F3DA0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A967F-2A12-4289-83DF-B73812F4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DFB33-98D1-49B4-9720-5E9BE953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F19B8-B5DD-47C3-A4C2-398FB87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707F4-CF6F-4561-9A0D-4E36E89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426D3-2948-4564-8935-BE6D4CF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5A847-14F9-414C-97E1-4749E79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3331B-3F9C-4F5F-834B-9E27D92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BD892-492B-43A7-946E-17DA2F9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046B4-CA07-44D6-A86F-4BFACCD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54F-53C7-49DB-BDD2-8150BA6B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9B2C3-D495-4D2F-A5C3-6A0B1FE6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71F4-0BA0-4F72-9CBF-694F76E8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0791-2283-4500-B59E-6263BB7D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D9B0-0CD4-4116-8686-32FAFE3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9436-0749-44FB-96D4-DBD3731D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CD09-8EA7-4A25-A3A7-5872DAE5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89CE-3B1B-4A42-8083-EFF33D2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F293-A3A0-447A-AAB7-FB9E478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A98F-F584-454B-8008-977408D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FE74-0B01-404B-A5B9-126C3F7D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D26-05B4-4685-9A04-6B7BAEC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008FD-1A02-482C-89B1-5E2782A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B354-9487-49A1-A1B3-D10FD73C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D065-7A04-4DCB-88BE-85E7636E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78885-5601-4AC2-9F58-E7A728BF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21DD9-519D-4773-989C-DEAF789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9B727-147D-4A17-AD9C-539D0F1E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85C82-3706-48D7-8DAC-F63D27B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0FF1F-B2C8-4FC5-92EB-5B46A8F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F9251-E5D5-4432-904D-7914DF5C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3A918-9637-4B2F-883C-35FB367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6A5-F518-4596-9CDF-6121B7E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B2D0D-E6A2-4673-96D3-F242E00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4E56C-048D-450F-B076-8BDE239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CC5BB-A497-46F6-B49D-6C71DBD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790BA-08AE-4269-9053-281F159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3DFCE-1C9B-4388-B9A8-54CCC09D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6B1C-8E58-4E6D-B28A-DDEBBAA6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E004-203D-480A-9E44-406F588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6599-8144-4204-A2B1-F75A7090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DE9E-4052-46F1-A45C-E3A6C38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711C-D2F8-4AD4-95F5-1C65EBEE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26C-F2D1-46C9-B270-8BF5872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7256-D984-4E23-A3F7-DCD9DBB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917D-0FE8-4F01-967A-01CEF2A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F87E-8C16-448D-AFB0-5F7CE9B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78265-C617-4686-82FD-57BB4D2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B8BB-812F-4A37-8CB4-ED599865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39FC1-EE57-472D-BBEA-0E0491C7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D4A6-39AE-4CF1-8803-6726966C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B7D3-C6BF-46DB-A698-3B14BB2040D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09E5-1A8D-4073-9F2C-A33F44C84547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1FDF-8D5C-49E9-99A8-8891B2B1C68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26B-8524-425D-AB71-49A1E54DDEB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F0F4-6629-4E17-9EA6-85430B7B26E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4BD-8E4C-4437-AF37-B22209D1DFAD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308-39F3-4FF0-BC16-E542A29EAF0F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A88-C03B-4EA8-8D62-10873E74DB0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3"/>
          <p:cNvSpPr/>
          <p:nvPr/>
        </p:nvSpPr>
        <p:spPr>
          <a:xfrm>
            <a:off x="53964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колледж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ое подразделение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1488960" y="2060640"/>
            <a:ext cx="62802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1.2. Законность, правопорядок, правомерное поведение.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е занятие 2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СЭ.07 Основы пра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выпускника: медицинская сестра/медицинский б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428472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Д. Лах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одаватель общепрофессиональных дисциплин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3855600" y="616572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0338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превращается в закон в том случае, если в его основе лежит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формальное юридическое равен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ей и справедливость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о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не соблюдение закона вообще, а соблюдение только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ового закон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6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4427640" y="692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о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огое и неуклонное исполнение правовых законов всеми субъектами прав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овое государство + Правовой закон = Законность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8" name="Picture 3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5508720" y="2060640"/>
            <a:ext cx="2736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определение подкреплялось цитатой из работы В.И. Лени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двойном подчинении и законности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что законность не может быть ни рязанской, ни калужской, она может быть только всероссийской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0" name="Picture 3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6156360" y="3429000"/>
            <a:ext cx="2736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Принципы законности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зако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обусловленные характером формирования и функционирования правовой системы исходные положения, которые лежат в основе реализации правовых предписаний и в основе требований к поведению субъектов правовых отнош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енство зако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еспечивает иерархическую стройность системы нормативных ак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динство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сей территории страны вне зависимости от местных условий правовые нормы понимаются и применяются одинаков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общность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ый на равенстве всех перед законом (нормы закона должны соблюдаться всеми физическими лицами вне зависимости от расы, пола, цвета кожи, языка, вероисповедания, социального и должностного положения, благосостояния и всеми юридическими лица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елесообразность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ствует достижению целей государства и общества, которые выражаются в праве, в закон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венство перед зак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оставление одинаковых прав и предъявление единых требований ко всем граждана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арантированность основных прав и свобод гражд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общая защита индивида и необходимость обеспечения приоритета общегуманитарных ценност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нцип неотвратимости ответств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людение этого принципа является одной из самых эффективных мер, которая может удержать человека от совершения правонарушения; принцип способствует соблюдению законов всеми субъектами прав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заимосвязь законности и культур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арактеризует нравственную природу законности; без достижения определённого уровня правовой культуры всеми субъектами права, населением страны в целом, невозможно обеспечить должный уровень законно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Правовой порядок (правопорядок)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341000"/>
            <a:ext cx="8153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конность – это точное и неукоснительное соблюдение законов всеми субъектами права, 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истема отношений, охраняемых, защищаемых и регулируемых пра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12720" y="1341000"/>
            <a:ext cx="81532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ившая в обществе система отношений между людьми, правил взаимного поведения, регулируемых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остояние общественных отношений, при котором обеспечивается соблюдение закона и иных правовых нор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5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законностью и правопорядком является причинно-следственной: если субъекты права неукоснительно соблюдают все нормы права, то, следовательно, в данном государстве существует правопорядок. При несоблюдении законов отсутствует и правопоря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14280" y="549000"/>
            <a:ext cx="851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порядок возможен только при соблюдении ряда услов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правовой культуры членов общест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развитого законодательства, в основе которого положены права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судебной системы, независимой от других ветвей власти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324000" y="11253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и раскройте признак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е формы (источника) права. Какие виды источников (форм) права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ычай называется право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й нормативно-правовой а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вая нор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правовых норм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3" descr="knigi-186.gif"/>
          <p:cNvPicPr/>
          <p:nvPr/>
        </p:nvPicPr>
        <p:blipFill>
          <a:blip r:embed="rId1"/>
          <a:stretch/>
        </p:blipFill>
        <p:spPr>
          <a:xfrm>
            <a:off x="5219640" y="357336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"/>
          <p:cNvSpPr/>
          <p:nvPr/>
        </p:nvSpPr>
        <p:spPr>
          <a:xfrm>
            <a:off x="114480" y="40464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Вспомним ранее изуче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Гарантии законности и правопоряд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233000"/>
            <a:ext cx="815364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ются объективные и субъективные факторы, условия и предпосылки, обеспечивающие укрепление законности и правопорядка или способствующие этому (это не одна какая-то мера, а цел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личных 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627120" y="3429000"/>
            <a:ext cx="565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гаран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и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537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аким образом, законность и правопорядок являются необходимыми условиями общественной стабильности и прогресс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4" name="Picture 6" descr="gKGimDb1zr4"/>
          <p:cNvPicPr/>
          <p:nvPr/>
        </p:nvPicPr>
        <p:blipFill>
          <a:blip r:embed="rId1"/>
          <a:stretch/>
        </p:blipFill>
        <p:spPr>
          <a:xfrm>
            <a:off x="5003640" y="260280"/>
            <a:ext cx="3870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. Правомерное поведение: понятие, виды, мотивы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233360"/>
            <a:ext cx="815364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законопослушное поведение, соответствующее предписаниям правовых нор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авомерного поведения заключаются в том, что о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609480" y="2852640"/>
            <a:ext cx="76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 поле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 и реализует свободу вол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ет интересы и потребности как самого индив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необходимый правопорядок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о с позитивной ответственностью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5"/>
          <p:cNvSpPr/>
          <p:nvPr/>
        </p:nvSpPr>
        <p:spPr>
          <a:xfrm>
            <a:off x="468360" y="83664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равомерного поведения входят следующие элем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убъект (праводееспособное лиц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ъект (общественно полезный результа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бъективная сторона (действия либо бездействие, не противоречащее прав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убъективная сторона (позитивные цели, мотивы, устан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0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3"/>
          <p:cNvSpPr/>
          <p:nvPr/>
        </p:nvSpPr>
        <p:spPr>
          <a:xfrm>
            <a:off x="826920" y="1052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отношения субъекта права к своему поведению, его мотивации различают следующие виды правомер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циально активное правомер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конопослуш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ассивное правомер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аргинальн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407880" y="422280"/>
            <a:ext cx="84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м итоги изучения темы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755640" y="134136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краткие определения законности и правопоря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ются различия между понятиями "правопорядок" и "общественный порядок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гарантии законности и правопорядка, их виды, зна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имается под правомерным поведени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основные виды и мотивы правомер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934920" y="476280"/>
            <a:ext cx="72741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пройде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ся к опр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ь задание: назовите любые три характерных признака правомерного поведения и проиллюстрируйте их при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3" descr="knigi-186.gif"/>
          <p:cNvPicPr/>
          <p:nvPr/>
        </p:nvPicPr>
        <p:blipFill>
          <a:blip r:embed="rId1"/>
          <a:stretch/>
        </p:blipFill>
        <p:spPr>
          <a:xfrm>
            <a:off x="5383080" y="3213000"/>
            <a:ext cx="307656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"/>
          <p:cNvSpPr/>
          <p:nvPr/>
        </p:nvSpPr>
        <p:spPr>
          <a:xfrm>
            <a:off x="324000" y="1125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акон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правопоряд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и законности 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поведение: понятие, виды,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3" descr="knigi-186.gif"/>
          <p:cNvPicPr/>
          <p:nvPr/>
        </p:nvPicPr>
        <p:blipFill>
          <a:blip r:embed="rId1"/>
          <a:stretch/>
        </p:blipFill>
        <p:spPr>
          <a:xfrm>
            <a:off x="5219640" y="357336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"/>
          <p:cNvSpPr/>
          <p:nvPr/>
        </p:nvSpPr>
        <p:spPr>
          <a:xfrm>
            <a:off x="114480" y="26028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держа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61960" y="26028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нятие «законность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213372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осударство и право неразрывно связаны, они тесно взаимодействуют и дополняют друг друг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неправильно считать, что законность возникает одновременно с появлением государства, права, 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539640" y="400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ность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водимо к понят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сех средств для поддержания законов, еще не создает режима зако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5329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ом отсутствия законности при существовании государства и законов может быть СССР в годы сталинского тоталитариз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5" descr="01stalin-plakat-150x150"/>
          <p:cNvPicPr/>
          <p:nvPr/>
        </p:nvPicPr>
        <p:blipFill>
          <a:blip r:embed="rId1"/>
          <a:stretch/>
        </p:blipFill>
        <p:spPr>
          <a:xfrm>
            <a:off x="5580000" y="1197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онность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только наличие законов и специальных государственных средств их обеспечения, но и строгое и неуклонное исполнение законов, всем органами государственной власти, местного самоуправления, должностными лицами и гражданами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504036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о является ли данное определение полным? Можно ли говорить о законности, если предписания законов соблюдаются всеми без исключения и  не противоречат друг другу?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7" name="Picture 3" descr="Question-mark-65796"/>
          <p:cNvPicPr/>
          <p:nvPr/>
        </p:nvPicPr>
        <p:blipFill>
          <a:blip r:embed="rId1"/>
          <a:stretch/>
        </p:blipFill>
        <p:spPr>
          <a:xfrm>
            <a:off x="5292720" y="69228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46400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партийные функционеры, судьи, чиновники, врачи, коменданты концлагерей в фашистской Германии четко соблюдали</a:t>
            </a:r>
            <a:r>
              <a:rPr b="0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водили в действие государственные законы, среди которых было огромное количество антигуманных (например, закон о расовой чистке)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86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6" descr="1376640099_019"/>
          <p:cNvPicPr/>
          <p:nvPr/>
        </p:nvPicPr>
        <p:blipFill>
          <a:blip r:embed="rId1"/>
          <a:stretch/>
        </p:blipFill>
        <p:spPr>
          <a:xfrm>
            <a:off x="4859280" y="2565360"/>
            <a:ext cx="4035600" cy="3168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06200814182143"/>
          <p:cNvPicPr/>
          <p:nvPr/>
        </p:nvPicPr>
        <p:blipFill>
          <a:blip r:embed="rId2"/>
          <a:stretch/>
        </p:blipFill>
        <p:spPr>
          <a:xfrm>
            <a:off x="5364000" y="260280"/>
            <a:ext cx="2768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53708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, существовавшие в фашисткой Германии, нельзя назвать правовыми, здесь мы имеем дело не с законом, а с произволом, облеченным в форму закон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3" name="Picture 6" descr="37944"/>
          <p:cNvPicPr/>
          <p:nvPr/>
        </p:nvPicPr>
        <p:blipFill>
          <a:blip r:embed="rId1"/>
          <a:stretch/>
        </p:blipFill>
        <p:spPr>
          <a:xfrm>
            <a:off x="5219640" y="260280"/>
            <a:ext cx="3770280" cy="2881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22"/>
          <p:cNvPicPr/>
          <p:nvPr/>
        </p:nvPicPr>
        <p:blipFill>
          <a:blip r:embed="rId2"/>
          <a:stretch/>
        </p:blipFill>
        <p:spPr>
          <a:xfrm>
            <a:off x="5076720" y="3284640"/>
            <a:ext cx="3816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2:04:35Z</dcterms:created>
  <dc:creator>Master</dc:creator>
  <dc:description/>
  <dc:language>en-US</dc:language>
  <cp:lastModifiedBy>User</cp:lastModifiedBy>
  <dcterms:modified xsi:type="dcterms:W3CDTF">2021-01-30T12:52:23Z</dcterms:modified>
  <cp:revision>72</cp:revision>
  <dc:subject/>
  <dc:title>Слайд 1</dc:title>
</cp:coreProperties>
</file>