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5A8-6D15-4394-9E35-76D3867E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A36-50CE-4CC9-9462-BAEF9A01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4FD-14C2-49D3-B4B4-AAE2A5B9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478-AA3A-4804-9F0B-B16E4946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5AC2-CC4F-4386-88CD-6B149421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B03-2CB9-4F9B-8A32-65E79D1B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DC4-01A4-4F07-8156-9885CC9B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4CA1-2DD9-4B35-B00E-1A8CADB5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0E84-5FCE-4639-BA4E-18494F8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CDE-BBB3-466C-9BCD-5EA8465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6CA8-A39A-4093-A4AF-5B1A69E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02E-87D8-47F3-B0EE-44BF528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7847-6BF7-472F-BB90-5F80A61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9A2-5A82-44D3-9621-0BA9E1AE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BCD-D4A0-404C-AE27-C234F08F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E2EF-ECA2-4671-A7A2-E69D4FB9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E17B-91D4-42D4-9A03-EFBA98FB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BFC14-6810-42CC-92C4-AC16B421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DC719-826C-40B3-BFE5-39A8C127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F7EF4-33B2-4DB9-8B98-6999EEC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43298-0B51-4417-880A-79C7A50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B1980-E4E7-4AEB-B931-246EB8C7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311-0E3D-4DA0-8A11-F5B4A8BF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B0AC1-E4E0-4F91-9468-309087B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A3D4D-2F95-4279-B866-20C34B0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195EE-5124-42B9-B54A-76D2A5B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6F920-5D56-4640-982B-424461C1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A2B9E-8B11-439A-B09E-0C2C638E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3BA08-9700-4A4A-84A4-D162BD89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100F8-B3B3-42F9-BD2E-9056BCFF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69458-7A87-42B6-A015-5A30AA46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165C5-B8C6-460C-84AC-C10F863D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8EF6E-4511-4A05-934B-CDEDA206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911-4638-4BE3-B442-E18FBA6B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9010D-A0F7-4271-99EE-67A17F45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06E02-70C9-4980-ADA3-0060FEC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2AF62-C177-4F8E-B890-2462C8F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D7F09-79FD-4F10-A79C-565448EB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609C5-66D7-4094-A300-A171206E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B6463-CFBE-47F4-B99C-32E9319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9EDA2-301C-49FB-8643-08526C9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AF037-6F9C-4CFD-975F-C47F80F0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1CA796-EE56-4754-B042-27DC108E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D2B46-920F-446F-9C92-824681DA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306-1E7A-43F7-93AD-F2DF6689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962D3-BC6D-4DDC-B916-152CB89C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05BF4-F0A3-444A-97C6-C64F1F6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AAB3D-41BF-4314-81C2-A6F55E9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B4A9D-55F1-4013-81EB-442F7F2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7B35F-1092-4BD3-AF77-AD83CBF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A07D4-64DF-493A-A16F-744A74E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3508E-D279-4846-BA74-35935C4F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2C0E7-A4C2-4661-ADE0-9673217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AD2A8-55DB-4FDB-8388-C406D9A0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BE1C8-3FA9-46D0-90EF-79B486B7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FBD-FFEE-4CDC-AEA5-942A20F8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C94CE-FF18-4EC2-B572-6D0FE0D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D2022-D7F9-47BB-8168-602DDD02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42851-1B38-42B6-A4EB-0E0FEB9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F442E-962A-4899-BA9F-386E1F0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CB58-1D3B-4976-B418-6BEDA8FA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5FA8-A14D-4BE0-A052-B8139FE1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74274-AB3E-4C8A-ABB6-21D0A771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EE7C-D520-4358-9B06-9C260CE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5DDE-64F2-4FD3-B7BD-975BCB44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6A58-1F5D-4ADC-944D-A02FF4E2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C82-76EB-4060-A36A-B876783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6455D-E763-47CB-A9D7-96B97FD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6264-A8D4-4225-A559-6DE15AF0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412C-DAB6-4897-8CEA-AA16B5CD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CB85D1-19D6-4F3D-8ABA-51E3BF5B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8BF83-218F-4AC3-ABF5-39371E36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61756-50DD-4C30-99B5-03B04902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21DEC-E26C-4C7B-8281-9C28561D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E7E677-3E4A-456D-A29E-5F9B04B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6F177-314C-400A-BF9B-540048F7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1C742-1573-4F0E-AAB8-42E58FB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21A-00FE-42A8-A3F0-A84168B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AB4E91-7359-4A67-9B8B-94DD4A4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BF5AC-0A4E-4205-8A12-4A71DDE3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0B7F70-0C10-4838-BD32-AC94891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74102-ECA6-4F7F-9152-8934B602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59231-8880-4A5D-9B38-2EE57507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6ECB-C5DD-4583-8E82-3A1B1EE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2F97-B890-4A9D-8083-E33D960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0BF26-76A6-4F24-8F52-64FB307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5529B-B9E6-464F-9758-934D7A0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5B4C5-B554-45DE-A6AD-CF511FA2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367-0788-45B4-B27F-501E1B7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B5AC-98DA-42D5-8964-C82FB5FD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EABC8-53DB-4B62-AF2D-5D45B9E1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7E623-0CF4-4E9A-893F-6AD85ED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B6209-0B7D-4E65-AE98-3A508C6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490D-973F-40C2-94B7-4BBD878F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A90F4-B9F1-49F3-BF5A-73FCF67F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065C8-518E-48A6-80B9-0F72580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59A-4F5E-4A12-BAAB-F7AD73E44E6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87B4-77D0-4E82-883D-1B26E95C2FD7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C14-750A-4AC7-AD99-38F419B7DFE6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E061-CF49-4396-964D-5CEBD013C82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70F6-0342-456D-96AD-1AA01368E789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5D9-FE69-430A-B46C-0F915201C81E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1A01-A4B4-48B3-A1CD-47D46455C11B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efe0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BD1-A76F-48F1-BAE6-D45093339B53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3"/>
          <p:cNvSpPr/>
          <p:nvPr/>
        </p:nvSpPr>
        <p:spPr>
          <a:xfrm>
            <a:off x="53964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колледж 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ое подразделение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"/>
          <p:cNvSpPr/>
          <p:nvPr/>
        </p:nvSpPr>
        <p:spPr>
          <a:xfrm>
            <a:off x="1488960" y="2060640"/>
            <a:ext cx="62802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1.2. Законность, правопорядок, правомерное поведение.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е занятие 2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СЭ.07 Основы пра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выпускника: медицинская сестра/медицинский б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428472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Д. Лах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одаватель общепрофессиональных дисциплин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3855600" y="616572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0338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превращается в закон в том случае, если в его основе лежит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формальное юридическое равен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ей и справедливость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о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не соблюдение закона вообще, а соблюдение только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ового закон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6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4427640" y="692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о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огое и неуклонное исполнение правовых законов всеми субъектами прав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овое государство + Правовой закон = Законность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8" name="Picture 3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5508720" y="2060640"/>
            <a:ext cx="2736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определение подкреплялось цитатой из работы В.И. Лени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двойном подчинении и законности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ом, что законность не может быть ни рязанской, ни калужской, она может быть только всероссийской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0" name="Picture 3" descr="i?id=5a65f94dd43e6db76c79131372dbdeb6&amp;n=33&amp;h=215&amp;w=278"/>
          <p:cNvPicPr/>
          <p:nvPr/>
        </p:nvPicPr>
        <p:blipFill>
          <a:blip r:embed="rId1"/>
          <a:stretch/>
        </p:blipFill>
        <p:spPr>
          <a:xfrm>
            <a:off x="6156360" y="3429000"/>
            <a:ext cx="2736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2. Принципы законности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зако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обусловленные характером формирования и функционирования правовой системы исходные положения, которые лежат в основе реализации правовых предписаний и в основе требований к поведению субъектов правовых отнош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енство закон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еспечивает иерархическую стройность системы нормативных ак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динство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сей территории страны вне зависимости от местных условий правовые нормы понимаются и применяются одинаково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еобщность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ый на равенстве всех перед законом (нормы закона должны соблюдаться всеми физическими лицами вне зависимости от расы, пола, цвета кожи, языка, вероисповедания, социального и должностного положения, благосостояния и всеми юридическими лицам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елесообразность зако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собствует достижению целей государства и общества, которые выражаются в праве, в закон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венство перед зако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оставление одинаковых прав и предъявление единых требований ко всем граждана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арантированность основных прав и свобод гражд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общая защита индивида и необходимость обеспечения приоритета общегуманитарных ценносте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инцип неотвратимости ответств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людение этого принципа является одной из самых эффективных мер, которая может удержать человека от совершения правонарушения; принцип способствует соблюдению законов всеми субъектами прав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заимосвязь законности и культур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арактеризует нравственную природу законности; без достижения определённого уровня правовой культуры всеми субъектами права, населением страны в целом, невозможно обеспечить должный уровень законно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3. Правовой порядок (правопорядок)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341000"/>
            <a:ext cx="8153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конность – это точное и неукоснительное соблюдение законов всеми субъектами права, т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истема отношений, охраняемых, защищаемых и регулируемых прав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12720" y="1341000"/>
            <a:ext cx="81532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й 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ившая в обществе система отношений между людьми, правил взаимного поведения, регулируемых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оряд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остояние общественных отношений, при котором обеспечивается соблюдение закона и иных правовых нор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5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жду законностью и правопорядком является причинно-следственной: если субъекты права неукоснительно соблюдают все нормы права, то, следовательно, в данном государстве существует правопорядок. При несоблюдении законов отсутствует и правопоря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14280" y="549000"/>
            <a:ext cx="851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порядок возможен только при соблюдении ряда услов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правовой культуры членов общест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развитого законодательства, в основе которого положены права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судебной системы, независимой от других ветвей власти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324000" y="11253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и раскройте признак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определение формы (источника) права. Какие виды источников (форм) права вы знае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ычай называется правов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й нормативно-правовой а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вая нор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иды правовых норм вам извест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3" descr="knigi-186.gif"/>
          <p:cNvPicPr/>
          <p:nvPr/>
        </p:nvPicPr>
        <p:blipFill>
          <a:blip r:embed="rId1"/>
          <a:stretch/>
        </p:blipFill>
        <p:spPr>
          <a:xfrm>
            <a:off x="5219640" y="357336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1"/>
          <p:cNvSpPr/>
          <p:nvPr/>
        </p:nvSpPr>
        <p:spPr>
          <a:xfrm>
            <a:off x="114480" y="40464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Вспомним ранее изуче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4. Гарантии законности и правопорядка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233000"/>
            <a:ext cx="815364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ются объективные и субъективные факторы, условия и предпосылки, обеспечивающие укрепление законности и правопорядка или способствующие этому (это не одна какая-то мера, а цел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личных ме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627120" y="3429000"/>
            <a:ext cx="565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гаран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и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гаран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537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аким образом, законность и правопорядок являются необходимыми условиями общественной стабильности и прогресс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4" name="Picture 6" descr="gKGimDb1zr4"/>
          <p:cNvPicPr/>
          <p:nvPr/>
        </p:nvPicPr>
        <p:blipFill>
          <a:blip r:embed="rId1"/>
          <a:stretch/>
        </p:blipFill>
        <p:spPr>
          <a:xfrm>
            <a:off x="5003640" y="260280"/>
            <a:ext cx="3870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5. Правомерное поведение: понятие, виды, мотивы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120" y="1233360"/>
            <a:ext cx="815364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законопослушное поведение, соответствующее предписаниям правовых нор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равомерного поведения заключаются в том, что о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609480" y="2852640"/>
            <a:ext cx="76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о полез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 и реализует свободу воли челове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ет интересы и потребности как самого индиви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необходимый правопорядок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о с позитивной ответственностью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5"/>
          <p:cNvSpPr/>
          <p:nvPr/>
        </p:nvSpPr>
        <p:spPr>
          <a:xfrm>
            <a:off x="468360" y="836640"/>
            <a:ext cx="835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равомерного поведения входят следующие элеме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убъект (праводееспособное лиц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ъект (общественно полезный результат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бъективная сторона (действия либо бездействие, не противоречащее праву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убъективная сторона (позитивные цели, мотивы, устан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02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3"/>
          <p:cNvSpPr/>
          <p:nvPr/>
        </p:nvSpPr>
        <p:spPr>
          <a:xfrm>
            <a:off x="826920" y="1052640"/>
            <a:ext cx="77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отношения субъекта права к своему поведению, его мотивации различают следующие виды правомер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циально активное правомер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законопослуш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ассивное правомерное пове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маргинальн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407880" y="422280"/>
            <a:ext cx="84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м итоги изучения темы за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755640" y="134136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краткие определения законности и правопоря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ются различия между понятиями "правопорядок" и "общественный порядок"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гарантии законности и правопорядка, их виды, зна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имается под правомерным поведение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основные виды и мотивы правомер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934920" y="476280"/>
            <a:ext cx="72741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торить пройден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ться к опр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ть задание: назовите любые три характерных признака правомерного поведения и проиллюстрируйте их приме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3" descr="knigi-186.gif"/>
          <p:cNvPicPr/>
          <p:nvPr/>
        </p:nvPicPr>
        <p:blipFill>
          <a:blip r:embed="rId1"/>
          <a:stretch/>
        </p:blipFill>
        <p:spPr>
          <a:xfrm>
            <a:off x="5383080" y="3213000"/>
            <a:ext cx="307656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2"/>
          <p:cNvSpPr/>
          <p:nvPr/>
        </p:nvSpPr>
        <p:spPr>
          <a:xfrm>
            <a:off x="324000" y="112536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закон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правопоряд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и законности 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поведение: понятие, виды, мо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Рисунок 3" descr="knigi-186.gif"/>
          <p:cNvPicPr/>
          <p:nvPr/>
        </p:nvPicPr>
        <p:blipFill>
          <a:blip r:embed="rId1"/>
          <a:stretch/>
        </p:blipFill>
        <p:spPr>
          <a:xfrm>
            <a:off x="5219640" y="3573360"/>
            <a:ext cx="2160720" cy="215928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1"/>
          <p:cNvSpPr/>
          <p:nvPr/>
        </p:nvSpPr>
        <p:spPr>
          <a:xfrm>
            <a:off x="114480" y="26028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держа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61960" y="26028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нятие «законность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»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213372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осударство и право неразрывно связаны, они тесно взаимодействуют и дополняют друг друг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неправильно считать, что законность возникает одновременно с появлением государства, права, 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539640" y="400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ность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сводимо к понят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он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всех средств для поддержания законов, еще не создает режима зако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50560" y="1557000"/>
            <a:ext cx="53290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 algn="just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ом отсутствия законности при существовании государства и законов может быть СССР в годы сталинского тоталитаризм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5" descr="01stalin-plakat-150x150"/>
          <p:cNvPicPr/>
          <p:nvPr/>
        </p:nvPicPr>
        <p:blipFill>
          <a:blip r:embed="rId1"/>
          <a:stretch/>
        </p:blipFill>
        <p:spPr>
          <a:xfrm>
            <a:off x="5580000" y="1197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конность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 только наличие законов и специальных государственных средств их обеспечения, но и строгое и неуклонное исполнение законов, всем органами государственной власти, местного самоуправления, должностными лицами и гражданами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504036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о является ли данное определение полным? Можно ли говорить о законности, если предписания законов соблюдаются всеми без исключения и  не противоречат друг другу?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7" name="Picture 3" descr="Question-mark-65796"/>
          <p:cNvPicPr/>
          <p:nvPr/>
        </p:nvPicPr>
        <p:blipFill>
          <a:blip r:embed="rId1"/>
          <a:stretch/>
        </p:blipFill>
        <p:spPr>
          <a:xfrm>
            <a:off x="5292720" y="69228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46400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партийные функционеры, судьи, чиновники, врачи, коменданты концлагерей в фашистской Германии четко соблюдали</a:t>
            </a:r>
            <a:r>
              <a:rPr b="0" lang="ru-RU" sz="2400" spc="-1" strike="noStrike">
                <a:solidFill>
                  <a:srgbClr val="775f5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водили в действие государственные законы, среди которых было огромное количество антигуманных (например, закон о расовой чистке)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586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6" descr="1376640099_019"/>
          <p:cNvPicPr/>
          <p:nvPr/>
        </p:nvPicPr>
        <p:blipFill>
          <a:blip r:embed="rId1"/>
          <a:stretch/>
        </p:blipFill>
        <p:spPr>
          <a:xfrm>
            <a:off x="4859280" y="2565360"/>
            <a:ext cx="4035600" cy="3168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06200814182143"/>
          <p:cNvPicPr/>
          <p:nvPr/>
        </p:nvPicPr>
        <p:blipFill>
          <a:blip r:embed="rId2"/>
          <a:stretch/>
        </p:blipFill>
        <p:spPr>
          <a:xfrm>
            <a:off x="5364000" y="260280"/>
            <a:ext cx="2768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453708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, существовавшие в фашисткой Германии, нельзя назвать правовыми, здесь мы имеем дело не с законом, а с произволом, облеченным в форму закона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3" name="Picture 6" descr="37944"/>
          <p:cNvPicPr/>
          <p:nvPr/>
        </p:nvPicPr>
        <p:blipFill>
          <a:blip r:embed="rId1"/>
          <a:stretch/>
        </p:blipFill>
        <p:spPr>
          <a:xfrm>
            <a:off x="5219640" y="260280"/>
            <a:ext cx="3770280" cy="2881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22"/>
          <p:cNvPicPr/>
          <p:nvPr/>
        </p:nvPicPr>
        <p:blipFill>
          <a:blip r:embed="rId2"/>
          <a:stretch/>
        </p:blipFill>
        <p:spPr>
          <a:xfrm>
            <a:off x="5076720" y="3284640"/>
            <a:ext cx="38163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2:04:35Z</dcterms:created>
  <dc:creator>Master</dc:creator>
  <dc:description/>
  <dc:language>en-US</dc:language>
  <cp:lastModifiedBy>User</cp:lastModifiedBy>
  <dcterms:modified xsi:type="dcterms:W3CDTF">2021-01-30T12:52:23Z</dcterms:modified>
  <cp:revision>72</cp:revision>
  <dc:subject/>
  <dc:title>Слайд 1</dc:title>
</cp:coreProperties>
</file>