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D9A-940A-4590-BAF6-134DA07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BB1-4136-42DF-83FE-102A0088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92C-F405-4D67-B046-B669BF29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C35-25DB-4777-ACDA-32174ABF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6A7-8948-4DA8-9543-7325B79C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453-4602-49BB-AAA6-CA7C63A7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F482-7203-4D5F-AF4B-F331A51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7529-060E-45A0-AA31-6F078F2C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6DDB-DACB-4047-8FB9-DE07B34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003-3218-4B0B-ACAC-C24EE2E8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AC8E-26BB-4040-8100-313F39D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7D1-DCA2-4C47-B414-1B7ABE67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B11F-85D2-4789-ACCF-B83DF3B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705D-409C-4C84-A7A6-7509D67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A9E-694E-48C9-9AE2-9B317F2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520-E37E-4D9D-B496-9877BBAE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18A9-D942-471E-91CE-90F140BD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CE9-CAA9-44E8-BD07-59145100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F1F-A669-43E2-AC04-DE34BA2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F97-8A5A-414D-BADE-56C4D57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23A-5281-4DE0-A91B-8695907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FB4-70CC-4111-B0E2-CBB0DDC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1E3-B16B-49D0-8A4B-F1CBC78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F50-2B92-490A-A71D-DDEF4791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6DD7-0428-4207-BD7B-9820FF6011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CAF-BE90-4AFE-9A8F-95354E88725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4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533520" y="5335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колледж №5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ое подразделение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1488960" y="2060640"/>
            <a:ext cx="62802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2.1. Конституция РФ об основах.  Основы конституционного строя РФ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е занятие 3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СЭ.07 Основы пра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выпускника: медицинская сестра/медицинский б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28472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Д. Лах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одаватель общепрофессиональных дисциплин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855600" y="616572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412640" y="3165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пересмотра положений глав 1, 2, 9 Конституции РФ 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0720" y="620640"/>
            <a:ext cx="68904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9966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28600" y="1143000"/>
            <a:ext cx="268272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несение предложений о пересмотре положе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 1, 2, 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и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0" y="1143000"/>
            <a:ext cx="27828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держка 3/5 голосов от общего числа член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ета Федераци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утатов Г. Ду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324480" y="1143000"/>
            <a:ext cx="2583000" cy="10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зыв Конституционного Собрания в соответствии с федеральным конституционным зако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334120" y="2590920"/>
            <a:ext cx="3576600" cy="660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СТИТУЦИОННОЕ СОБР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2637000"/>
            <a:ext cx="35766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бо подтверждает неизменность Конституции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895480" y="3429000"/>
            <a:ext cx="35766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бо разрабатывает проект новой Конституции РФ, котор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28600" y="5181480"/>
            <a:ext cx="298116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нимается Конституционным Собранием двумя третями голосов от общего числа его чле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5791320" y="4876920"/>
            <a:ext cx="3079800" cy="167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носится на всенародное голосование (Конституция считается принятой, если за нее проголосовало более половины избирателей,  при условии, что в референдуме приняло участие более половины избирате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932200" y="1569960"/>
            <a:ext cx="299880" cy="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012000" y="1569960"/>
            <a:ext cx="298440" cy="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7701120" y="2201760"/>
            <a:ext cx="0" cy="42228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H="1">
            <a:off x="3825720" y="2833560"/>
            <a:ext cx="1492560" cy="1800"/>
          </a:xfrm>
          <a:prstGeom prst="line">
            <a:avLst/>
          </a:prstGeom>
          <a:ln w="1908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4521240" y="2833560"/>
            <a:ext cx="1440" cy="633600"/>
          </a:xfrm>
          <a:prstGeom prst="line">
            <a:avLst/>
          </a:prstGeom>
          <a:ln w="1908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3995640" y="4005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3203640" y="58770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4932360" y="4005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4932360" y="587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5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4. Структура Конституции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90920" y="1219320"/>
            <a:ext cx="396216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АМБУ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590920" y="1828800"/>
            <a:ext cx="390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ЫЙ 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глав, 137 стат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66680" y="2514600"/>
            <a:ext cx="2024280" cy="11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Осно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ституцион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124080" y="2514600"/>
            <a:ext cx="1656000" cy="11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в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бо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ждан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876920" y="2514600"/>
            <a:ext cx="182880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Федератив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тро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705720" y="2514600"/>
            <a:ext cx="1657080" cy="11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резиден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042920" y="3860640"/>
            <a:ext cx="1657440" cy="1008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Федераль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р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743200" y="3886200"/>
            <a:ext cx="2016000" cy="10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равительств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800600" y="3886200"/>
            <a:ext cx="1731960" cy="10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Судеб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6553080" y="3886200"/>
            <a:ext cx="1800360" cy="100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Мест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981080" y="5029200"/>
            <a:ext cx="5688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Конституционные поправки и пересмотр конститу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2819520" y="5638680"/>
            <a:ext cx="37335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ТОРОЙ 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514600" y="6095880"/>
            <a:ext cx="4495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лючительные и переходные поло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2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3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880" y="1447920"/>
            <a:ext cx="8353440" cy="5121000"/>
            <a:chOff x="380880" y="1447920"/>
            <a:chExt cx="8353440" cy="5121000"/>
          </a:xfrm>
        </p:grpSpPr>
        <p:sp>
          <p:nvSpPr>
            <p:cNvPr id="188" name="Rectangle 3"/>
            <p:cNvSpPr/>
            <p:nvPr/>
          </p:nvSpPr>
          <p:spPr>
            <a:xfrm>
              <a:off x="380880" y="4830840"/>
              <a:ext cx="8353440" cy="173808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00"/>
                  </a:solidFill>
                  <a:latin typeface="Times New Roman"/>
                </a:rPr>
                <a:t>ОСНОВЫ    КОНСТИТУЦИОННОГО    СТРОЯ    РОСС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ссия 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мократическое, федеративное, правовое государство с республиканской формой правл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363680" y="1814400"/>
              <a:ext cx="30463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3300"/>
                  </a:solidFill>
                  <a:latin typeface="Times New Roman"/>
                </a:rPr>
                <a:t>КОНСТИТУЦИОННЫЙ СТРО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пределенная фор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рганизации 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4802040" y="1814400"/>
              <a:ext cx="314604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3300"/>
                  </a:solidFill>
                  <a:latin typeface="Times New Roman"/>
                </a:rPr>
                <a:t>КОНСТИТУЦИОННЫЙ СТРО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новные принципы, на которых строится жизнь общества и 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 flipH="1">
              <a:off x="871920" y="1447920"/>
              <a:ext cx="3734640" cy="4575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4606560" y="1447920"/>
              <a:ext cx="3832920" cy="4575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4606560" y="1447920"/>
              <a:ext cx="360" cy="33836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1166760" y="1904760"/>
              <a:ext cx="720" cy="29264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8242560" y="1904760"/>
              <a:ext cx="720" cy="29264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96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Основы конституционного строя РФ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755640" y="1268280"/>
            <a:ext cx="7773480" cy="5257800"/>
            <a:chOff x="755640" y="1268280"/>
            <a:chExt cx="7773480" cy="5257800"/>
          </a:xfrm>
        </p:grpSpPr>
        <p:sp>
          <p:nvSpPr>
            <p:cNvPr id="198" name="Rectangle 3"/>
            <p:cNvSpPr/>
            <p:nvPr/>
          </p:nvSpPr>
          <p:spPr>
            <a:xfrm>
              <a:off x="1120320" y="1268280"/>
              <a:ext cx="25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755640" y="1636920"/>
              <a:ext cx="1554840" cy="48877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5053680" y="1637640"/>
              <a:ext cx="3475440" cy="46188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МОКРАТИЧЕСКОЕ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5053680" y="606456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СПУБЛИКАНСКАЯ  ФОРМА  ПРАВЛ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5053680" y="329760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УВЕРЕН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5053680" y="385128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ЕДЕРАТИВ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5053680" y="440388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ЦИАЛЬ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5053680" y="495684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КОНОМИЧЕСКИЕ  ОСНОВЫ  ГОСУДАРСТ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053680" y="551052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ТСК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5053680" y="274356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АВОВ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053680" y="219060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ЧЕЛОВЕК, ЕГО ПРАВА И СВОБОДЫ –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СШАЯ ЦЕН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767320" y="191376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767320" y="237492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2767320" y="302040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2767320" y="357372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2767320" y="412704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767320" y="468036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>
              <a:off x="2767320" y="523404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>
              <a:off x="2767320" y="569484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>
              <a:off x="2767320" y="624816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одержание основ конституционного строя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0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2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515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группа – гл.2 «Права и свободы человека и гражданина», составить схему «Классификация основных прав и своб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группа – гл.3 «Федеративное устройство», заполнить схему «Типы субъектов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группа - гл. 4 «Президент РФ», составить кластер «Полномочия президента», «Статус президен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группа – гл. 5 «Федеральное собрание», составить таб. «Назначение, структура и полномочия Федерального собран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группа – гл. 6 составление кластера «Полномочия правительства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 группа – гл. 7 составить таб. «Судебная власть в РФ» Полномочия суд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i?id=283636729-60-72&amp;n=21"/>
          <p:cNvPicPr/>
          <p:nvPr/>
        </p:nvPicPr>
        <p:blipFill>
          <a:blip r:embed="rId1"/>
          <a:stretch/>
        </p:blipFill>
        <p:spPr>
          <a:xfrm>
            <a:off x="7543800" y="5627520"/>
            <a:ext cx="1295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оссия – демократическое государство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источником вла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Российской Федерации является ее многонациональный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нар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род осуществляет свою власть непосредственно, а также через органы государственной власти и органы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Высшим непосредственным выражением власти народа являются референдум и свободные выб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Никто не может присваивать власть в Российской Федерации. Захват власти или присвоение властных полномочий преследуется по федеральному зако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22960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5145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Россия – правовое государство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нституция Российской Федерации и федеральные законы имеют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верховен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сей территории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 власть в Российской Федерации осуществляется на основе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разделения на законодательную, исполнительную и судебную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рганы законодательной, исполнительной и судебной власти самостоят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696080" y="5486400"/>
            <a:ext cx="838440" cy="662040"/>
          </a:xfrm>
          <a:custGeom>
            <a:avLst/>
            <a:gdLst>
              <a:gd name="textAreaLeft" fmla="*/ 42840 w 838440"/>
              <a:gd name="textAreaRight" fmla="*/ 795600 w 8384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уверенн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татья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Российская Федерация обеспечивает целостность и неприкосновенность своей террито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оссия – федеративное государство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Российская Федерация состоит из республик, краев, областей, городов федерального значения, автономной области, автономных округов - равноправных субъектов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Республика (государство) имеет свою конституцию и законодательство. Край, область, город федерального значения, автономная область, автономный округ имеет свой устав и законода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Федеративное устройство Российской Федерации основано на ее государственной целостности, единстве системы государственной власти, разграничении предметов ведения и полномочий между органами государственной власти Российской Федерации и органами государственной власти субъектов Российской Федерации, равноправии и самоопределении народов в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Во взаимоотношениях с федеральными органами государственной власти все субъекты Российской Федерации между собой равноправ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8305920" y="5791320"/>
            <a:ext cx="609480" cy="814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320"/>
              <a:gd name="textAreaBottom" fmla="*/ 775080 h 814320"/>
            </a:gdLst>
            <a:ahLst/>
            <a:rect l="textAreaLeft" t="textAreaTop" r="textAreaRight" b="textAreaBottom"/>
            <a:pathLst>
              <a:path w="21600" h="28855">
                <a:moveTo>
                  <a:pt x="0" y="0"/>
                </a:moveTo>
                <a:lnTo>
                  <a:pt x="21600" y="0"/>
                </a:lnTo>
                <a:lnTo>
                  <a:pt x="21600" y="28855"/>
                </a:lnTo>
                <a:lnTo>
                  <a:pt x="0" y="28855"/>
                </a:lnTo>
                <a:close/>
              </a:path>
              <a:path fill="lightenLess" w="21600" h="28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55">
                <a:moveTo>
                  <a:pt x="21600" y="0"/>
                </a:moveTo>
                <a:lnTo>
                  <a:pt x="21600" y="28855"/>
                </a:lnTo>
                <a:lnTo>
                  <a:pt x="20200" y="27455"/>
                </a:lnTo>
                <a:lnTo>
                  <a:pt x="20200" y="1400"/>
                </a:lnTo>
                <a:close/>
              </a:path>
              <a:path fill="darkenLess" w="21600" h="28855">
                <a:moveTo>
                  <a:pt x="21600" y="28855"/>
                </a:moveTo>
                <a:lnTo>
                  <a:pt x="0" y="28855"/>
                </a:lnTo>
                <a:lnTo>
                  <a:pt x="1400" y="27455"/>
                </a:lnTo>
                <a:lnTo>
                  <a:pt x="20200" y="27455"/>
                </a:lnTo>
                <a:close/>
              </a:path>
              <a:path fill="lighten" w="21600" h="28855">
                <a:moveTo>
                  <a:pt x="0" y="28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55"/>
                </a:lnTo>
                <a:close/>
              </a:path>
              <a:path fill="darken" w="21600" h="28855">
                <a:moveTo>
                  <a:pt x="3794" y="7421"/>
                </a:moveTo>
                <a:lnTo>
                  <a:pt x="17806" y="14428"/>
                </a:lnTo>
                <a:lnTo>
                  <a:pt x="3794" y="214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оциальн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татья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 - социальное государство, политика которого направлена на создание условий, обеспечивающих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достойную жизн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свободное развитие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Российской Федерации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храняются труд и здоров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юдей, устанавливается гарантированный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минимальный размер оплаты труда, обеспечивается государственная поддержка семьи, материнства, отцовства и детства, инвалидов и пожилых гражд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вивается система социальных служб, устанавливаются государственные пенсии, пособия и иные гарантии социальной защи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53280" y="4876920"/>
            <a:ext cx="685800" cy="8143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320"/>
              <a:gd name="textAreaBottom" fmla="*/ 770040 h 814320"/>
            </a:gdLst>
            <a:ahLst/>
            <a:rect l="textAreaLeft" t="textAreaTop" r="textAreaRight" b="textAreaBottom"/>
            <a:pathLst>
              <a:path w="21600" h="25646">
                <a:moveTo>
                  <a:pt x="0" y="0"/>
                </a:moveTo>
                <a:lnTo>
                  <a:pt x="21600" y="0"/>
                </a:lnTo>
                <a:lnTo>
                  <a:pt x="21600" y="25646"/>
                </a:lnTo>
                <a:lnTo>
                  <a:pt x="0" y="25646"/>
                </a:lnTo>
                <a:close/>
              </a:path>
              <a:path fill="lightenLess" w="21600" h="25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6">
                <a:moveTo>
                  <a:pt x="21600" y="0"/>
                </a:moveTo>
                <a:lnTo>
                  <a:pt x="21600" y="25646"/>
                </a:lnTo>
                <a:lnTo>
                  <a:pt x="20200" y="24246"/>
                </a:lnTo>
                <a:lnTo>
                  <a:pt x="20200" y="1400"/>
                </a:lnTo>
                <a:close/>
              </a:path>
              <a:path fill="darkenLess" w="21600" h="25646">
                <a:moveTo>
                  <a:pt x="21600" y="25646"/>
                </a:moveTo>
                <a:lnTo>
                  <a:pt x="0" y="25646"/>
                </a:lnTo>
                <a:lnTo>
                  <a:pt x="1400" y="24246"/>
                </a:lnTo>
                <a:lnTo>
                  <a:pt x="20200" y="24246"/>
                </a:lnTo>
                <a:close/>
              </a:path>
              <a:path fill="lighten" w="21600" h="25646">
                <a:moveTo>
                  <a:pt x="0" y="25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6"/>
                </a:lnTo>
                <a:close/>
              </a:path>
              <a:path fill="darken" w="21600" h="25646">
                <a:moveTo>
                  <a:pt x="3794" y="5816"/>
                </a:moveTo>
                <a:lnTo>
                  <a:pt x="17806" y="12823"/>
                </a:lnTo>
                <a:lnTo>
                  <a:pt x="3794" y="198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04920" y="76212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Вспомним ранее изученно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04920" y="2057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наруш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еступление и проступок? В чем их разниц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е характеризуется следующими признакам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элементы состава правонару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юридическая ответственнос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виды юридической ответств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государство с рыночной экономико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 Российской Федерации гарантируются единство экономического пространства, свободное перемещение товаров, услуг и финансовых средств, поддержка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конкурен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вобода эконом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 Российской Федерации признаются и защищаются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равным образом частная, государственная, муниципальная и иные формы собств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924680" y="5638680"/>
            <a:ext cx="762120" cy="738360"/>
          </a:xfrm>
          <a:custGeom>
            <a:avLst/>
            <a:gdLst>
              <a:gd name="textAreaLeft" fmla="*/ 47880 w 762120"/>
              <a:gd name="textAreaRight" fmla="*/ 714600 w 7621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2295" h="21600">
                <a:moveTo>
                  <a:pt x="0" y="0"/>
                </a:moveTo>
                <a:lnTo>
                  <a:pt x="22295" y="0"/>
                </a:lnTo>
                <a:lnTo>
                  <a:pt x="22295" y="21600"/>
                </a:lnTo>
                <a:lnTo>
                  <a:pt x="0" y="21600"/>
                </a:lnTo>
                <a:close/>
              </a:path>
              <a:path fill="lightenLess" w="22295" h="21600">
                <a:moveTo>
                  <a:pt x="0" y="0"/>
                </a:moveTo>
                <a:lnTo>
                  <a:pt x="22295" y="0"/>
                </a:lnTo>
                <a:lnTo>
                  <a:pt x="20895" y="1400"/>
                </a:lnTo>
                <a:lnTo>
                  <a:pt x="1400" y="1400"/>
                </a:lnTo>
                <a:close/>
              </a:path>
              <a:path fill="darken" w="22295" h="21600">
                <a:moveTo>
                  <a:pt x="22295" y="0"/>
                </a:moveTo>
                <a:lnTo>
                  <a:pt x="22295" y="21600"/>
                </a:lnTo>
                <a:lnTo>
                  <a:pt x="20895" y="20200"/>
                </a:lnTo>
                <a:lnTo>
                  <a:pt x="20895" y="1400"/>
                </a:lnTo>
                <a:close/>
              </a:path>
              <a:path fill="darkenLess" w="22295" h="21600">
                <a:moveTo>
                  <a:pt x="2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95" y="20200"/>
                </a:lnTo>
                <a:close/>
              </a:path>
              <a:path fill="lighten" w="2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95" h="21600">
                <a:moveTo>
                  <a:pt x="4141" y="3794"/>
                </a:moveTo>
                <a:lnTo>
                  <a:pt x="18154" y="10800"/>
                </a:lnTo>
                <a:lnTo>
                  <a:pt x="414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ветск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татья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Российская Федерация - светское государство.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Никакая религ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е может устанавливаться в качестве государственной или обязательн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Религиозные объединения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отделены от государст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равны перед зако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Россия - республи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Государственную власть в Российской Федерации осуществляют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езид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ой Федерации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Федеральное Собр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Совет Федерации и Государственная Дума)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авительство Российской Федерации, суды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467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Идеологическое и политическое многообразие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Никакая идеоло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 может устанавливаться в качестве 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 Российской Федерации признаются политическое многообразие,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многопартий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Общественные объедин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вны перед зако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Запрещается создание и деятельность общественных объединений, цели или действия которых направлены на насильственное измен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5. Особенности Конституции РФ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47" name="Объект 5" descr=""/>
          <p:cNvPicPr/>
          <p:nvPr/>
        </p:nvPicPr>
        <p:blipFill>
          <a:blip r:embed="rId1"/>
          <a:stretch/>
        </p:blipFill>
        <p:spPr>
          <a:xfrm>
            <a:off x="882720" y="1295280"/>
            <a:ext cx="73785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6. Функции Конституции РФ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49" name="Объект 3" descr=""/>
          <p:cNvPicPr/>
          <p:nvPr/>
        </p:nvPicPr>
        <p:blipFill>
          <a:blip r:embed="rId1"/>
          <a:stretch/>
        </p:blipFill>
        <p:spPr>
          <a:xfrm>
            <a:off x="1050840" y="1676520"/>
            <a:ext cx="67374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7. Закрепление изученного материал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онститу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еамбула? О чем в ней говориться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в и статей включает в себя основная часть текста Конститу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В чем проявляется светский характер Российского государства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8. Домашнее задание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конспект теоретического заня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раясь на текст Конституции РФ, заполнить табл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438280" y="2813040"/>
          <a:ext cx="4083120" cy="4016520"/>
        </p:xfrm>
        <a:graphic>
          <a:graphicData uri="http://schemas.openxmlformats.org/drawingml/2006/table">
            <a:tbl>
              <a:tblPr/>
              <a:tblGrid>
                <a:gridCol w="338400"/>
                <a:gridCol w="1376280"/>
                <a:gridCol w="801720"/>
                <a:gridCol w="1566720"/>
              </a:tblGrid>
              <a:tr h="535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овлас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ое государ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в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 челове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 - социа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веренит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4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воб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рал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8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304920" y="2057400"/>
            <a:ext cx="856908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 конститу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принятия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ституция как основной закон государства и общ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обенности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ункции Конституции Р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Закрепл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Домашнее 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304920" y="76212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держа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КОНСТИТУЦИЯ </a:t>
            </a:r>
            <a:r>
              <a:rPr b="1" lang="ru-RU" sz="2800" spc="-1" strike="noStrike">
                <a:solidFill>
                  <a:srgbClr val="999966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й     закон, обладающий     высшей    юридической    силой    и закрепляющий   основы   общественного   строя   и государственного   устройства,    взаимоотношений между   государством   и   личностью,   организации и  деятельности  системы государственных  органов</a:t>
            </a:r>
            <a:r>
              <a:rPr b="1" lang="ru-RU" sz="2800" spc="-1" strike="noStrike">
                <a:solidFill>
                  <a:srgbClr val="9999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 Конституцию принято называть законом высшей юридической силы? Приведите конкретные примеры из текста Конституции РФ, подтверждающие это поло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514600" y="919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69800" algn="just"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я рождения новой Конституции, принято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народным голосован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еферендумом) 12 декабря 1993 го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ржество Закона, или в Ро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 декабря отмечают День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05320" cy="2512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295280" y="6271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История создания и принятия Конституции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495680" y="1066680"/>
            <a:ext cx="441972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 РОССИИ  12.12. 19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принципы демократического федеративного правового государства с республиканской формой 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09880" y="2057400"/>
            <a:ext cx="390996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77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факт построения общенарод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743200" y="3048120"/>
            <a:ext cx="41148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3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построение основ социализ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057400" y="3962520"/>
            <a:ext cx="39085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2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факт вхождения РСФСР в ССС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04920" y="5791320"/>
            <a:ext cx="390996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МАНИФЕСТ  17  ОКТЯБРЯ  1905 г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Об усовершенствовании государствен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ядк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143000" y="4800600"/>
            <a:ext cx="3909960" cy="91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Закрепила диктатуру пролетариата и власть Советов рабочих, солдатских и крестьянских  депутато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Этапы развития Конституции в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Конституция – основной закон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я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 конституционного стр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и свободы гражд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едеративное устрой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ганизацию органов власти и местного самоупр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i?id=40684090-47-72&amp;n=21"/>
          <p:cNvPicPr/>
          <p:nvPr/>
        </p:nvPicPr>
        <p:blipFill>
          <a:blip r:embed="rId1"/>
          <a:stretch/>
        </p:blipFill>
        <p:spPr>
          <a:xfrm>
            <a:off x="7188120" y="5257800"/>
            <a:ext cx="1803600" cy="1352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1405080" y="649440"/>
            <a:ext cx="63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ституция как основной закон государства и об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080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ридические свойства Конституц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1828800"/>
            <a:ext cx="3353040" cy="11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юридическая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066680" y="3048120"/>
            <a:ext cx="335304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ен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066680" y="3886200"/>
            <a:ext cx="3353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правов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66680" y="5181480"/>
            <a:ext cx="7391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собый порядок принятия и из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4495680" y="1752480"/>
            <a:ext cx="4038840" cy="762120"/>
          </a:xfrm>
          <a:prstGeom prst="wedgeRectCallout">
            <a:avLst>
              <a:gd name="adj1" fmla="val -48583"/>
              <a:gd name="adj2" fmla="val 66041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ругие законы и подзак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кты не противоречат нормам 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9"/>
          <p:cNvSpPr/>
          <p:nvPr/>
        </p:nvSpPr>
        <p:spPr>
          <a:xfrm>
            <a:off x="4495680" y="2666880"/>
            <a:ext cx="4038840" cy="914400"/>
          </a:xfrm>
          <a:prstGeom prst="wedgeRectCallout">
            <a:avLst>
              <a:gd name="adj1" fmla="val -46699"/>
              <a:gd name="adj2" fmla="val 63370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енные органы, организации и граждане подчиняются нормам 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0"/>
          <p:cNvSpPr/>
          <p:nvPr/>
        </p:nvSpPr>
        <p:spPr>
          <a:xfrm>
            <a:off x="4495680" y="3886200"/>
            <a:ext cx="4038840" cy="838080"/>
          </a:xfrm>
          <a:prstGeom prst="wedgeRectCallout">
            <a:avLst>
              <a:gd name="adj1" fmla="val -48583"/>
              <a:gd name="adj2" fmla="val 64583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. содержатся основные начала всех иных Н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5240" y="692280"/>
            <a:ext cx="27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62520" y="1600200"/>
            <a:ext cx="1269720" cy="1535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ложения о поправках и пересмотре конституци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гут вносить (ст. 134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61280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идент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222732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4000" y="2840040"/>
            <a:ext cx="32223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Д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562720" y="160020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тельство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562720" y="2133720"/>
            <a:ext cx="3222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дательные орг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62720" y="2743200"/>
            <a:ext cx="322236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а не менее 1/5 депутатов Г. Думы 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048120" y="3429000"/>
            <a:ext cx="3224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енее 1/5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та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3546360" y="181764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46360" y="243216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546360" y="3044880"/>
            <a:ext cx="392400" cy="144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5205240" y="181764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5205240" y="243216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5205240" y="3044880"/>
            <a:ext cx="392400" cy="144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4522680" y="3147840"/>
            <a:ext cx="0" cy="30816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7200" y="4267080"/>
            <a:ext cx="830592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гут быть пересмотре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Федеральным Собранием положения глав:  1 – Основы конституционного строя;  2 – Права и свободы человека и гражданина;   9 – Конституционные поправки и пересмотр Конститу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457200" y="5638680"/>
            <a:ext cx="83977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  ПОПРАВКОЙ  к Конституции понимается любое изменение текста глав 3 – 8  Конституции  Р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8560" y="533520"/>
            <a:ext cx="8785080" cy="91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ституционные поправки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смотр Конституци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27:30Z</dcterms:created>
  <dc:creator>Пользователь</dc:creator>
  <dc:description/>
  <dc:language>en-US</dc:language>
  <cp:lastModifiedBy>User</cp:lastModifiedBy>
  <dcterms:modified xsi:type="dcterms:W3CDTF">2021-02-15T14:03:4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