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C8DC-4E67-4B99-A950-62036DAB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D9C-B0CD-46DB-90DD-0696D8B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F7-C379-439D-A7BC-2AEE07D3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72B-1ED2-42FB-B33B-B96B4DC8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E596-0769-4B24-A39C-2C60F50E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F677-65B5-444A-873F-0C8DBE63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9258-B203-4D8E-AB4F-CB393F69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DB97-2B04-4C60-91D6-306A4628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E870-483C-443B-8F21-AE5B306A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CDA-F474-4771-9248-6996F40D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547-6117-4D41-BACB-FF8C5BD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4E4-8576-4A2F-BADF-0F9E8CC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6247-018B-4463-A68C-C41D5DF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050A-9AE9-49E7-AD80-93A20A24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B211-991F-459F-A9CD-50EF25CD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DE1-3C44-47A0-8962-7046D3F2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523-AE2F-4615-A2BF-36D44800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CE6-35EB-47C7-9149-F95818F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201-81F6-4078-AD30-421CA475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FAF-063B-43A3-B940-16F37240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9C3-90D5-415D-BB24-9C6DEFB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080-D704-4625-93D7-DE2975E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C62-B142-4035-BF81-567438B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D6E-E35E-44B6-9A53-25BA82F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FC8-5094-4778-950F-53FD22AF08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6F19-5555-48CF-AC4E-F0C7FCB02CC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4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533520" y="5335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а здравоохранения города Моск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ицинский колледж №5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ое подразделение №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1488960" y="2060640"/>
            <a:ext cx="62802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2.1. Конституция РФ об основах.  Основы конституционного строя РФ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е занятие 3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СЭ.07 Основы пра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34.02.01 Сестринское де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выпускника: медицинская сестра/медицинский б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428472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Д. Лах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одаватель общепрофессиональных дисциплин перво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3855600" y="616572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2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412640" y="316584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пересмотра положений глав 1, 2, 9 Конституции РФ 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0720" y="620640"/>
            <a:ext cx="68904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9966"/>
                </a:solidFill>
                <a:latin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28600" y="1143000"/>
            <a:ext cx="268272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несение предложений о пересмотре положе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лав 1, 2, 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и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0" y="1143000"/>
            <a:ext cx="278280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держка 3/5 голосов от общего числа член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ета Федераци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утатов Г. Ду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324480" y="1143000"/>
            <a:ext cx="2583000" cy="10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зыв Конституционного Собрания в соответствии с федеральным конституционным зако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334120" y="2590920"/>
            <a:ext cx="3576600" cy="660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ОНСТИТУЦИОННОЕ СОБР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2637000"/>
            <a:ext cx="35766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бо подтверждает неизменность Конституции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2895480" y="3429000"/>
            <a:ext cx="357660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бо разрабатывает проект новой Конституции РФ, котор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228600" y="5181480"/>
            <a:ext cx="298116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нимается Конституционным Собранием двумя третями голосов от общего числа его член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5791320" y="4876920"/>
            <a:ext cx="3079800" cy="167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носится на всенародное голосование (Конституция считается принятой, если за нее проголосовало более половины избирателей,  при условии, что в референдуме приняло участие более половины избирате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932200" y="1569960"/>
            <a:ext cx="299880" cy="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012000" y="1569960"/>
            <a:ext cx="298440" cy="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7701120" y="2201760"/>
            <a:ext cx="0" cy="422280"/>
          </a:xfrm>
          <a:prstGeom prst="line">
            <a:avLst/>
          </a:prstGeom>
          <a:ln w="936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6"/>
          <p:cNvSpPr/>
          <p:nvPr/>
        </p:nvSpPr>
        <p:spPr>
          <a:xfrm flipH="1">
            <a:off x="3825720" y="2833560"/>
            <a:ext cx="1492560" cy="1800"/>
          </a:xfrm>
          <a:prstGeom prst="line">
            <a:avLst/>
          </a:prstGeom>
          <a:ln w="1908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4521240" y="2833560"/>
            <a:ext cx="1440" cy="633600"/>
          </a:xfrm>
          <a:prstGeom prst="line">
            <a:avLst/>
          </a:prstGeom>
          <a:ln w="19080">
            <a:solidFill>
              <a:srgbClr val="42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8"/>
          <p:cNvSpPr/>
          <p:nvPr/>
        </p:nvSpPr>
        <p:spPr>
          <a:xfrm>
            <a:off x="3995640" y="4005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3203640" y="58770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4932360" y="400536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>
            <a:off x="4932360" y="587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100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50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4. Структура Конституции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590920" y="1219320"/>
            <a:ext cx="3962160" cy="43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АМБУ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590920" y="1828800"/>
            <a:ext cx="390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ЫЙ 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глав, 137 стат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66680" y="2514600"/>
            <a:ext cx="2024280" cy="11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Осно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ституцион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124080" y="2514600"/>
            <a:ext cx="1656000" cy="11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в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обод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аждани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876920" y="2514600"/>
            <a:ext cx="182880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Федератив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трой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705720" y="2514600"/>
            <a:ext cx="1657080" cy="11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резиден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1042920" y="3860640"/>
            <a:ext cx="1657440" cy="1008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Федераль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р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743200" y="3886200"/>
            <a:ext cx="2016000" cy="10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равительств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оссий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800600" y="3886200"/>
            <a:ext cx="1731960" cy="10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Судеб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6553080" y="3886200"/>
            <a:ext cx="1800360" cy="100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Местно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о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981080" y="5029200"/>
            <a:ext cx="5688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Конституционные поправки и пересмотр конститу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2819520" y="5638680"/>
            <a:ext cx="37335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ТОРОЙ  РАЗДЕ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514600" y="6095880"/>
            <a:ext cx="4495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лючительные и переходные поло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34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880" y="1447920"/>
            <a:ext cx="8353440" cy="5121000"/>
            <a:chOff x="380880" y="1447920"/>
            <a:chExt cx="8353440" cy="5121000"/>
          </a:xfrm>
        </p:grpSpPr>
        <p:sp>
          <p:nvSpPr>
            <p:cNvPr id="188" name="Rectangle 3"/>
            <p:cNvSpPr/>
            <p:nvPr/>
          </p:nvSpPr>
          <p:spPr>
            <a:xfrm>
              <a:off x="380880" y="4830840"/>
              <a:ext cx="8353440" cy="173808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00"/>
                  </a:solidFill>
                  <a:latin typeface="Times New Roman"/>
                </a:rPr>
                <a:t>ОСНОВЫ    КОНСТИТУЦИОННОГО    СТРОЯ    РОСС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оссия 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мократическое, федеративное, правовое государство с республиканской формой правл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363680" y="1814400"/>
              <a:ext cx="304632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3300"/>
                  </a:solidFill>
                  <a:latin typeface="Times New Roman"/>
                </a:rPr>
                <a:t>КОНСТИТУЦИОННЫЙ СТРО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пределенная форм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рганизации 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4802040" y="1814400"/>
              <a:ext cx="314604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993300"/>
                  </a:solidFill>
                  <a:latin typeface="Times New Roman"/>
                </a:rPr>
                <a:t>КОНСТИТУЦИОННЫЙ СТРО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сновные принципы, на которых строится жизнь общества и государств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 flipH="1">
              <a:off x="871920" y="1447920"/>
              <a:ext cx="3734640" cy="4575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"/>
            <p:cNvSpPr/>
            <p:nvPr/>
          </p:nvSpPr>
          <p:spPr>
            <a:xfrm>
              <a:off x="4606560" y="1447920"/>
              <a:ext cx="3832920" cy="4575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4606560" y="1447920"/>
              <a:ext cx="360" cy="33836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1166760" y="1904760"/>
              <a:ext cx="720" cy="29264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8242560" y="1904760"/>
              <a:ext cx="720" cy="292644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96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Основы конституционного строя РФ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755640" y="1268280"/>
            <a:ext cx="7773480" cy="5257800"/>
            <a:chOff x="755640" y="1268280"/>
            <a:chExt cx="7773480" cy="5257800"/>
          </a:xfrm>
        </p:grpSpPr>
        <p:sp>
          <p:nvSpPr>
            <p:cNvPr id="198" name="Rectangle 3"/>
            <p:cNvSpPr/>
            <p:nvPr/>
          </p:nvSpPr>
          <p:spPr>
            <a:xfrm>
              <a:off x="1120320" y="1268280"/>
              <a:ext cx="25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12600" bIns="126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755640" y="1636920"/>
              <a:ext cx="1554840" cy="48877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Times New Roman"/>
                </a:rPr>
                <a:t>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5053680" y="1637640"/>
              <a:ext cx="3475440" cy="46188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МОКРАТИЧЕСКОЕ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5053680" y="606456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ЕСПУБЛИКАНСКАЯ  ФОРМА  ПРАВЛ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5053680" y="329760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УВЕРЕН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5053680" y="385128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ЕДЕРАТИВ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5053680" y="440388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ЦИАЛЬН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5053680" y="495684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КОНОМИЧЕСКИЕ  ОСНОВЫ  ГОСУДАРСТВ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053680" y="551052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ТСК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5053680" y="274356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АВОВОЕ    ГОСУДАРСТВ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5053680" y="2190600"/>
              <a:ext cx="3475440" cy="461520"/>
            </a:xfrm>
            <a:prstGeom prst="rect">
              <a:avLst/>
            </a:prstGeom>
            <a:noFill/>
            <a:ln w="28440">
              <a:solidFill>
                <a:srgbClr val="4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ЧЕЛОВЕК, ЕГО ПРАВА И СВОБОДЫ –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ЫСШАЯ ЦЕН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767320" y="191376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767320" y="237492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2767320" y="302040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2767320" y="357372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2767320" y="412704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767320" y="468036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>
              <a:off x="2767320" y="523404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1"/>
            <p:cNvSpPr/>
            <p:nvPr/>
          </p:nvSpPr>
          <p:spPr>
            <a:xfrm>
              <a:off x="2767320" y="5694840"/>
              <a:ext cx="1829520" cy="72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2"/>
            <p:cNvSpPr/>
            <p:nvPr/>
          </p:nvSpPr>
          <p:spPr>
            <a:xfrm>
              <a:off x="2767320" y="6248160"/>
              <a:ext cx="1829520" cy="360"/>
            </a:xfrm>
            <a:prstGeom prst="line">
              <a:avLst/>
            </a:prstGeom>
            <a:ln w="28440">
              <a:solidFill>
                <a:srgbClr val="42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Содержание основ конституционного строя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519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ктическая работ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группа – гл.2 «Права и свободы человека и гражданина», составить схему «Классификация основных прав и своб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группа – гл.3 «Федеративное устройство», заполнить схему «Типы субъектов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 группа - гл. 4 «Президент РФ», составить кластер «Полномочия президента», «Статус президен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 группа – гл. 5 «Федеральное собрание», составить таб. «Назначение, структура и полномочия Федерального собрани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 группа – гл. 6 составление кластера «Полномочия правительства РФ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 группа – гл. 7 составить таб. «Судебная власть в РФ» Полномочия суд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5" descr="i?id=283636729-60-72&amp;n=21"/>
          <p:cNvPicPr/>
          <p:nvPr/>
        </p:nvPicPr>
        <p:blipFill>
          <a:blip r:embed="rId1"/>
          <a:stretch/>
        </p:blipFill>
        <p:spPr>
          <a:xfrm>
            <a:off x="7543800" y="5627520"/>
            <a:ext cx="1295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оссия – демократическое государство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источником власт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Российской Федерации является ее многонациональный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нар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род осуществляет свою власть непосредственно, а также через органы государственной власти и органы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Высшим непосредственным выражением власти народа являются референдум и свободные выб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Никто не может присваивать власть в Российской Федерации. Захват власти или присвоение властных полномочий преследуется по федеральному зако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8229600" y="57913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5145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Россия – правовое государство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нституция Российской Федерации и федеральные законы имеют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верховенств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всей территории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ая власть в Российской Федерации осуществляется на основе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разделения на законодательную, исполнительную и судебную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рганы законодательной, исполнительной и судебной власти самостоят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7696080" y="5486400"/>
            <a:ext cx="838440" cy="662040"/>
          </a:xfrm>
          <a:custGeom>
            <a:avLst/>
            <a:gdLst>
              <a:gd name="textAreaLeft" fmla="*/ 42840 w 838440"/>
              <a:gd name="textAreaRight" fmla="*/ 795600 w 8384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7352" h="21600">
                <a:moveTo>
                  <a:pt x="0" y="0"/>
                </a:moveTo>
                <a:lnTo>
                  <a:pt x="27352" y="0"/>
                </a:lnTo>
                <a:lnTo>
                  <a:pt x="27352" y="21600"/>
                </a:lnTo>
                <a:lnTo>
                  <a:pt x="0" y="21600"/>
                </a:lnTo>
                <a:close/>
              </a:path>
              <a:path fill="lightenLess" w="27352" h="21600">
                <a:moveTo>
                  <a:pt x="0" y="0"/>
                </a:moveTo>
                <a:lnTo>
                  <a:pt x="27352" y="0"/>
                </a:lnTo>
                <a:lnTo>
                  <a:pt x="25952" y="1400"/>
                </a:lnTo>
                <a:lnTo>
                  <a:pt x="1400" y="1400"/>
                </a:lnTo>
                <a:close/>
              </a:path>
              <a:path fill="darken" w="27352" h="21600">
                <a:moveTo>
                  <a:pt x="27352" y="0"/>
                </a:moveTo>
                <a:lnTo>
                  <a:pt x="27352" y="21600"/>
                </a:lnTo>
                <a:lnTo>
                  <a:pt x="25952" y="20200"/>
                </a:lnTo>
                <a:lnTo>
                  <a:pt x="25952" y="1400"/>
                </a:lnTo>
                <a:close/>
              </a:path>
              <a:path fill="darkenLess" w="27352" h="21600">
                <a:moveTo>
                  <a:pt x="27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2" y="20200"/>
                </a:lnTo>
                <a:close/>
              </a:path>
              <a:path fill="lighten" w="27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2" h="21600">
                <a:moveTo>
                  <a:pt x="6670" y="3794"/>
                </a:moveTo>
                <a:lnTo>
                  <a:pt x="20683" y="10800"/>
                </a:lnTo>
                <a:lnTo>
                  <a:pt x="667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уверенн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татья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Российская Федерация обеспечивает целостность и неприкосновенность своей террито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Россия – федеративное государство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Российская Федерация состоит из республик, краев, областей, городов федерального значения, автономной области, автономных округов - равноправных субъектов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Республика (государство) имеет свою конституцию и законодательство. Край, область, город федерального значения, автономная область, автономный округ имеет свой устав и законодательств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Федеративное устройство Российской Федерации основано на ее государственной целостности, единстве системы государственной власти, разграничении предметов ведения и полномочий между органами государственной власти Российской Федерации и органами государственной власти субъектов Российской Федерации, равноправии и самоопределении народов в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Во взаимоотношениях с федеральными органами государственной власти все субъекты Российской Федерации между собой равноправ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8305920" y="5791320"/>
            <a:ext cx="609480" cy="814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14320"/>
              <a:gd name="textAreaBottom" fmla="*/ 775080 h 814320"/>
            </a:gdLst>
            <a:ahLst/>
            <a:rect l="textAreaLeft" t="textAreaTop" r="textAreaRight" b="textAreaBottom"/>
            <a:pathLst>
              <a:path w="21600" h="28855">
                <a:moveTo>
                  <a:pt x="0" y="0"/>
                </a:moveTo>
                <a:lnTo>
                  <a:pt x="21600" y="0"/>
                </a:lnTo>
                <a:lnTo>
                  <a:pt x="21600" y="28855"/>
                </a:lnTo>
                <a:lnTo>
                  <a:pt x="0" y="28855"/>
                </a:lnTo>
                <a:close/>
              </a:path>
              <a:path fill="lightenLess" w="21600" h="288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55">
                <a:moveTo>
                  <a:pt x="21600" y="0"/>
                </a:moveTo>
                <a:lnTo>
                  <a:pt x="21600" y="28855"/>
                </a:lnTo>
                <a:lnTo>
                  <a:pt x="20200" y="27455"/>
                </a:lnTo>
                <a:lnTo>
                  <a:pt x="20200" y="1400"/>
                </a:lnTo>
                <a:close/>
              </a:path>
              <a:path fill="darkenLess" w="21600" h="28855">
                <a:moveTo>
                  <a:pt x="21600" y="28855"/>
                </a:moveTo>
                <a:lnTo>
                  <a:pt x="0" y="28855"/>
                </a:lnTo>
                <a:lnTo>
                  <a:pt x="1400" y="27455"/>
                </a:lnTo>
                <a:lnTo>
                  <a:pt x="20200" y="27455"/>
                </a:lnTo>
                <a:close/>
              </a:path>
              <a:path fill="lighten" w="21600" h="28855">
                <a:moveTo>
                  <a:pt x="0" y="288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55"/>
                </a:lnTo>
                <a:close/>
              </a:path>
              <a:path fill="darken" w="21600" h="28855">
                <a:moveTo>
                  <a:pt x="3794" y="7421"/>
                </a:moveTo>
                <a:lnTo>
                  <a:pt x="17806" y="14428"/>
                </a:lnTo>
                <a:lnTo>
                  <a:pt x="3794" y="214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оциальн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Статья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 - социальное государство, политика которого направлена на создание условий, обеспечивающих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достойную жизн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свободное развитие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Российской Федерации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храняются труд и здоровь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юдей, устанавливается гарантированный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минимальный размер оплаты труда, обеспечивается государственная поддержка семьи, материнства, отцовства и детства, инвалидов и пожилых гражда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вивается система социальных служб, устанавливаются государственные пенсии, пособия и иные гарантии социальной защи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53280" y="4876920"/>
            <a:ext cx="685800" cy="8143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320"/>
              <a:gd name="textAreaBottom" fmla="*/ 770040 h 814320"/>
            </a:gdLst>
            <a:ahLst/>
            <a:rect l="textAreaLeft" t="textAreaTop" r="textAreaRight" b="textAreaBottom"/>
            <a:pathLst>
              <a:path w="21600" h="25646">
                <a:moveTo>
                  <a:pt x="0" y="0"/>
                </a:moveTo>
                <a:lnTo>
                  <a:pt x="21600" y="0"/>
                </a:lnTo>
                <a:lnTo>
                  <a:pt x="21600" y="25646"/>
                </a:lnTo>
                <a:lnTo>
                  <a:pt x="0" y="25646"/>
                </a:lnTo>
                <a:close/>
              </a:path>
              <a:path fill="lightenLess" w="21600" h="25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46">
                <a:moveTo>
                  <a:pt x="21600" y="0"/>
                </a:moveTo>
                <a:lnTo>
                  <a:pt x="21600" y="25646"/>
                </a:lnTo>
                <a:lnTo>
                  <a:pt x="20200" y="24246"/>
                </a:lnTo>
                <a:lnTo>
                  <a:pt x="20200" y="1400"/>
                </a:lnTo>
                <a:close/>
              </a:path>
              <a:path fill="darkenLess" w="21600" h="25646">
                <a:moveTo>
                  <a:pt x="21600" y="25646"/>
                </a:moveTo>
                <a:lnTo>
                  <a:pt x="0" y="25646"/>
                </a:lnTo>
                <a:lnTo>
                  <a:pt x="1400" y="24246"/>
                </a:lnTo>
                <a:lnTo>
                  <a:pt x="20200" y="24246"/>
                </a:lnTo>
                <a:close/>
              </a:path>
              <a:path fill="lighten" w="21600" h="25646">
                <a:moveTo>
                  <a:pt x="0" y="25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46"/>
                </a:lnTo>
                <a:close/>
              </a:path>
              <a:path fill="darken" w="21600" h="25646">
                <a:moveTo>
                  <a:pt x="3794" y="5816"/>
                </a:moveTo>
                <a:lnTo>
                  <a:pt x="17806" y="12823"/>
                </a:lnTo>
                <a:lnTo>
                  <a:pt x="3794" y="198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04920" y="76212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Вспомним ранее изученно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04920" y="20574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авонаруш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еступление и проступок? В чем их разниц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нарушение характеризуется следующими признаками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элементы состава правонару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юридическая ответственнос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виды юридической ответств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государство с рыночной экономикой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В Российской Федерации гарантируются единство экономического пространства, свободное перемещение товаров, услуг и финансовых средств, поддержка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конкурен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вобода эконом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В Российской Федерации признаются и защищаются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равным образом частная, государственная, муниципальная и иные формы собств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7924680" y="5638680"/>
            <a:ext cx="762120" cy="738360"/>
          </a:xfrm>
          <a:custGeom>
            <a:avLst/>
            <a:gdLst>
              <a:gd name="textAreaLeft" fmla="*/ 47880 w 762120"/>
              <a:gd name="textAreaRight" fmla="*/ 714600 w 7621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2295" h="21600">
                <a:moveTo>
                  <a:pt x="0" y="0"/>
                </a:moveTo>
                <a:lnTo>
                  <a:pt x="22295" y="0"/>
                </a:lnTo>
                <a:lnTo>
                  <a:pt x="22295" y="21600"/>
                </a:lnTo>
                <a:lnTo>
                  <a:pt x="0" y="21600"/>
                </a:lnTo>
                <a:close/>
              </a:path>
              <a:path fill="lightenLess" w="22295" h="21600">
                <a:moveTo>
                  <a:pt x="0" y="0"/>
                </a:moveTo>
                <a:lnTo>
                  <a:pt x="22295" y="0"/>
                </a:lnTo>
                <a:lnTo>
                  <a:pt x="20895" y="1400"/>
                </a:lnTo>
                <a:lnTo>
                  <a:pt x="1400" y="1400"/>
                </a:lnTo>
                <a:close/>
              </a:path>
              <a:path fill="darken" w="22295" h="21600">
                <a:moveTo>
                  <a:pt x="22295" y="0"/>
                </a:moveTo>
                <a:lnTo>
                  <a:pt x="22295" y="21600"/>
                </a:lnTo>
                <a:lnTo>
                  <a:pt x="20895" y="20200"/>
                </a:lnTo>
                <a:lnTo>
                  <a:pt x="20895" y="1400"/>
                </a:lnTo>
                <a:close/>
              </a:path>
              <a:path fill="darkenLess" w="22295" h="21600">
                <a:moveTo>
                  <a:pt x="22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95" y="20200"/>
                </a:lnTo>
                <a:close/>
              </a:path>
              <a:path fill="lighten" w="22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95" h="21600">
                <a:moveTo>
                  <a:pt x="4141" y="3794"/>
                </a:moveTo>
                <a:lnTo>
                  <a:pt x="18154" y="10800"/>
                </a:lnTo>
                <a:lnTo>
                  <a:pt x="414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Россия – светское государство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Статья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Российская Федерация - светское государство.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Никакая религ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е может устанавливаться в качестве государственной или обязательн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Религиозные объединения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отделены от государст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равны перед зако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Россия - республик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Государственную власть в Российской Федерации осуществляют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езид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ой Федерации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Федеральное Собр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Совет Федерации и Государственная Дума),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Правительство Российской Федерации, суды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467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Идеологическое и политическое многообразие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Статья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Никакая идеоло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е может устанавливаться в качестве 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В Российской Федерации признаются политическое многообразие,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многопартий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Общественные объедин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равны перед зако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000" spc="-1" strike="noStrike">
                <a:solidFill>
                  <a:srgbClr val="660000"/>
                </a:solidFill>
                <a:latin typeface="Times New Roman"/>
              </a:rPr>
              <a:t>Запрещается создание и деятельность общественных объединений, цели или действия которых направлены на насильственное измен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5. Особенности Конституции РФ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47" name="Объект 5" descr=""/>
          <p:cNvPicPr/>
          <p:nvPr/>
        </p:nvPicPr>
        <p:blipFill>
          <a:blip r:embed="rId1"/>
          <a:stretch/>
        </p:blipFill>
        <p:spPr>
          <a:xfrm>
            <a:off x="882720" y="1295280"/>
            <a:ext cx="73785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6. Функции Конституции РФ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49" name="Объект 3" descr=""/>
          <p:cNvPicPr/>
          <p:nvPr/>
        </p:nvPicPr>
        <p:blipFill>
          <a:blip r:embed="rId1"/>
          <a:stretch/>
        </p:blipFill>
        <p:spPr>
          <a:xfrm>
            <a:off x="1050840" y="1676520"/>
            <a:ext cx="67374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7. Закрепление изученного материал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онститу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реамбула? О чем в ней говориться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лав и статей включает в себя основная часть текста Конституци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В чем проявляется светский характер Российского государства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8. Домашнее задание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конспект теоретического заня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раясь на текст Конституции РФ, заполнить таблиц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438280" y="2813040"/>
          <a:ext cx="4083120" cy="4016520"/>
        </p:xfrm>
        <a:graphic>
          <a:graphicData uri="http://schemas.openxmlformats.org/drawingml/2006/table">
            <a:tbl>
              <a:tblPr/>
              <a:tblGrid>
                <a:gridCol w="338400"/>
                <a:gridCol w="1376280"/>
                <a:gridCol w="801720"/>
                <a:gridCol w="1566720"/>
              </a:tblGrid>
              <a:tr h="535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овлас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ое государ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ение в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 челове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Ф - социа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веренит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44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воб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ческ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образ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рал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8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8960" marR="4896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304920" y="2057400"/>
            <a:ext cx="856908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 конститу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 и принятия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ституция как основной закон государства и общ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собенности Конституции РФ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ункции Конституции Р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Закрепл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Домашнее зад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304920" y="762120"/>
            <a:ext cx="90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8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держа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КОНСТИТУЦИЯ </a:t>
            </a:r>
            <a:r>
              <a:rPr b="1" lang="ru-RU" sz="2800" spc="-1" strike="noStrike">
                <a:solidFill>
                  <a:srgbClr val="999966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ой     закон, обладающий     высшей    юридической    силой    и закрепляющий   основы   общественного   строя   и государственного   устройства,    взаимоотношений между   государством   и   личностью,   организации и  деятельности  системы государственных  органов</a:t>
            </a:r>
            <a:r>
              <a:rPr b="1" lang="ru-RU" sz="2800" spc="-1" strike="noStrike">
                <a:solidFill>
                  <a:srgbClr val="9999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 Конституцию принято называть законом высшей юридической силы? Приведите конкретные примеры из текста Конституции РФ, подтверждающие это поло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2514600" y="919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ие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69800" algn="just"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я рождения новой Конституции, принято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народным голосован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референдумом) 12 декабря 1993 го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ржество Закона, или в Ро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 декабря отмечают День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05320" cy="2512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295280" y="6271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История создания и принятия Конституции Р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495680" y="1066680"/>
            <a:ext cx="441972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 РОССИИ  12.12. 19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принципы демократического федеративного правового государства с республиканской формой 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809880" y="2057400"/>
            <a:ext cx="390996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77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факт построения общенарод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743200" y="3048120"/>
            <a:ext cx="41148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36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построение основ социализ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057400" y="3962520"/>
            <a:ext cx="390852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24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ила факт вхождения РСФСР в ССС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04920" y="5791320"/>
            <a:ext cx="3909960" cy="84276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МАНИФЕСТ  17  ОКТЯБРЯ  1905 г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 Об усовершенствовании государствен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ядк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143000" y="4800600"/>
            <a:ext cx="3909960" cy="919080"/>
          </a:xfrm>
          <a:prstGeom prst="rect">
            <a:avLst/>
          </a:prstGeom>
          <a:solidFill>
            <a:srgbClr val="ffffff"/>
          </a:solidFill>
          <a:ln w="1908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СТИТУЦИЯ  РСФСР  19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Закрепила диктатуру пролетариата и власть Советов рабочих, солдатских и крестьянских  депутато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Этапы развития Конституции в Росс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Конституция – основной закон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я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ы  конституционного стр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а и свободы гражд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едеративное устрой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660000"/>
              </a:buClr>
              <a:buSzPct val="70000"/>
              <a:buFont typeface="Wingdings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рганизацию органов власти и местного самоуправл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i?id=40684090-47-72&amp;n=21"/>
          <p:cNvPicPr/>
          <p:nvPr/>
        </p:nvPicPr>
        <p:blipFill>
          <a:blip r:embed="rId1"/>
          <a:stretch/>
        </p:blipFill>
        <p:spPr>
          <a:xfrm>
            <a:off x="7188120" y="5257800"/>
            <a:ext cx="1803600" cy="1352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1405080" y="649440"/>
            <a:ext cx="63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ституция как основной закон государства и обще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080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Юридические свойства Конституци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1828800"/>
            <a:ext cx="3353040" cy="11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ая юридическая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066680" y="3048120"/>
            <a:ext cx="3353040" cy="69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ен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066680" y="3886200"/>
            <a:ext cx="3353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правов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066680" y="5181480"/>
            <a:ext cx="7391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собый порядок принятия и из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9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4495680" y="1752480"/>
            <a:ext cx="4038840" cy="762120"/>
          </a:xfrm>
          <a:prstGeom prst="wedgeRectCallout">
            <a:avLst>
              <a:gd name="adj1" fmla="val -48583"/>
              <a:gd name="adj2" fmla="val 66041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ругие законы и подзак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кты не противоречат нормам 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9"/>
          <p:cNvSpPr/>
          <p:nvPr/>
        </p:nvSpPr>
        <p:spPr>
          <a:xfrm>
            <a:off x="4495680" y="2666880"/>
            <a:ext cx="4038840" cy="914400"/>
          </a:xfrm>
          <a:prstGeom prst="wedgeRectCallout">
            <a:avLst>
              <a:gd name="adj1" fmla="val -46699"/>
              <a:gd name="adj2" fmla="val 63370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осударственные органы, организации и граждане подчиняются нормам 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0"/>
          <p:cNvSpPr/>
          <p:nvPr/>
        </p:nvSpPr>
        <p:spPr>
          <a:xfrm>
            <a:off x="4495680" y="3886200"/>
            <a:ext cx="4038840" cy="838080"/>
          </a:xfrm>
          <a:prstGeom prst="wedgeRectCallout">
            <a:avLst>
              <a:gd name="adj1" fmla="val -48583"/>
              <a:gd name="adj2" fmla="val 64583"/>
            </a:avLst>
          </a:prstGeom>
          <a:solidFill>
            <a:srgbClr val="9999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. содержатся основные начала всех иных Н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5240" y="692280"/>
            <a:ext cx="27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62520" y="1600200"/>
            <a:ext cx="1269720" cy="1535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ложения о поправках и пересмотре конституци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гут вносить (ст. 134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24000" y="161280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идент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222732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ет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24000" y="2840040"/>
            <a:ext cx="32223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Д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5562720" y="1600200"/>
            <a:ext cx="322236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ительство Р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562720" y="2133720"/>
            <a:ext cx="3222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дательные орга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 Р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62720" y="2743200"/>
            <a:ext cx="3222360" cy="6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а не менее 1/5 депутатов Г. Думы 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048120" y="3429000"/>
            <a:ext cx="3224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енее 1/5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вета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3546360" y="181764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46360" y="243216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546360" y="3044880"/>
            <a:ext cx="392400" cy="144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 flipH="1">
            <a:off x="5205240" y="181764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5205240" y="2432160"/>
            <a:ext cx="392400" cy="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5205240" y="3044880"/>
            <a:ext cx="392400" cy="144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4522680" y="3147840"/>
            <a:ext cx="0" cy="308160"/>
          </a:xfrm>
          <a:prstGeom prst="line">
            <a:avLst/>
          </a:prstGeom>
          <a:ln w="9360">
            <a:solidFill>
              <a:srgbClr val="42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457200" y="4267080"/>
            <a:ext cx="830592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гут быть пересмотрены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Федеральным Собранием положения глав:  1 – Основы конституционного строя;  2 – Права и свободы человека и гражданина;   9 – Конституционные поправки и пересмотр Конститу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457200" y="5638680"/>
            <a:ext cx="83977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  ПОПРАВКОЙ  к Конституции понимается любое изменение текста глав 3 – 8  Конституции  Р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8560" y="533520"/>
            <a:ext cx="8785080" cy="91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ституционные поправки 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смотр Конституции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27:30Z</dcterms:created>
  <dc:creator>Пользователь</dc:creator>
  <dc:description/>
  <dc:language>en-US</dc:language>
  <cp:lastModifiedBy>User</cp:lastModifiedBy>
  <dcterms:modified xsi:type="dcterms:W3CDTF">2021-02-15T14:03:4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