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F62-9852-4CD1-B894-C8BA21DD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E6D-32DB-48FF-B6B5-F6C22D3B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D3B-C53A-4456-96B0-2FCB52F0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00F-5A0D-4EBD-9AFB-03B1AD7D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B01C-CDB1-487A-80E1-FC2F2246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7B58-5C6E-4E6B-ACBF-830FFEB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DA2F-8737-4818-8E9F-5DB0F62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EDC5-178F-4C07-A023-C56DE2B1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BB7F-9402-4576-95D2-204AE03F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8AA5-8902-4624-817A-64BD93AB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9195-91F3-4FF1-9FD9-2124AA67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B87-2280-454C-A0FF-7321A1AB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0398-BFA2-4C30-97DB-B205848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0D32-863F-4109-AB6B-9385DB4D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3FD5-1886-4BB3-9F16-6F5CBF89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3D95-7C8F-4E56-A1F1-0201763D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60BA-BF7B-4A8F-947A-81F20F69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C3F-5DE7-4714-B9E0-34976259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B00-CB87-4645-9FB9-7BC9433F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62F-1C74-4525-A840-32E346FC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686-D793-4C53-AEF9-13E46D3F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71F-47B2-4EFC-ADC3-6DBB76E1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6C6-6052-4B8E-852E-6D57D827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079-0CE7-4D5D-AF9B-0C9840D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0FC3-DF09-4B34-8778-0E9342F3F9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5CF8-7D7B-4725-A9D3-F12D7D38FC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Темпоритмическая организация речи и интонационная выразительность реч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897280" y="4724280"/>
            <a:ext cx="487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подготови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.-логопе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СКОУ шк.№13 приморского райо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ркина Яна Аркад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7" descr="5"/>
          <p:cNvPicPr/>
          <p:nvPr/>
        </p:nvPicPr>
        <p:blipFill>
          <a:blip r:embed="rId1"/>
          <a:stretch/>
        </p:blipFill>
        <p:spPr>
          <a:xfrm>
            <a:off x="457200" y="762120"/>
            <a:ext cx="3733920" cy="5654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6"/>
          <p:cNvPicPr/>
          <p:nvPr/>
        </p:nvPicPr>
        <p:blipFill>
          <a:blip r:embed="rId2"/>
          <a:stretch/>
        </p:blipFill>
        <p:spPr>
          <a:xfrm>
            <a:off x="4724280" y="762120"/>
            <a:ext cx="3986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11" descr="7"/>
          <p:cNvPicPr/>
          <p:nvPr/>
        </p:nvPicPr>
        <p:blipFill>
          <a:blip r:embed="rId1"/>
          <a:stretch/>
        </p:blipFill>
        <p:spPr>
          <a:xfrm>
            <a:off x="457200" y="685800"/>
            <a:ext cx="3932280" cy="556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8"/>
          <p:cNvPicPr/>
          <p:nvPr/>
        </p:nvPicPr>
        <p:blipFill>
          <a:blip r:embed="rId2"/>
          <a:stretch/>
        </p:blipFill>
        <p:spPr>
          <a:xfrm>
            <a:off x="4800600" y="685800"/>
            <a:ext cx="3824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РТОТЕКА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звитие силы  и высоты голо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4" descr="картотека по развитиюсилы голоса11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картотека по развитиюсилы голоса01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картотека по развитиюсилы голоса02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витие темпа и  ритм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735360" cy="21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игра колокольчик"/>
          <p:cNvPicPr/>
          <p:nvPr/>
        </p:nvPicPr>
        <p:blipFill>
          <a:blip r:embed="rId2"/>
          <a:stretch/>
        </p:blipFill>
        <p:spPr>
          <a:xfrm>
            <a:off x="457200" y="1447920"/>
            <a:ext cx="3735360" cy="21891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2" descr="карт по физмит"/>
          <p:cNvPicPr/>
          <p:nvPr/>
        </p:nvPicPr>
        <p:blipFill>
          <a:blip r:embed="rId3"/>
          <a:stretch/>
        </p:blipFill>
        <p:spPr>
          <a:xfrm>
            <a:off x="4952880" y="1371600"/>
            <a:ext cx="3657600" cy="257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карт пал игр"/>
          <p:cNvPicPr/>
          <p:nvPr/>
        </p:nvPicPr>
        <p:blipFill>
          <a:blip r:embed="rId4"/>
          <a:stretch/>
        </p:blipFill>
        <p:spPr>
          <a:xfrm>
            <a:off x="4952880" y="4038480"/>
            <a:ext cx="3581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картотека по ритму2"/>
          <p:cNvPicPr/>
          <p:nvPr/>
        </p:nvPicPr>
        <p:blipFill>
          <a:blip r:embed="rId1"/>
          <a:stretch/>
        </p:blipFill>
        <p:spPr>
          <a:xfrm>
            <a:off x="304920" y="457200"/>
            <a:ext cx="4255920" cy="6019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картотека по ритму3"/>
          <p:cNvPicPr/>
          <p:nvPr/>
        </p:nvPicPr>
        <p:blipFill>
          <a:blip r:embed="rId2"/>
          <a:stretch/>
        </p:blipFill>
        <p:spPr>
          <a:xfrm>
            <a:off x="4648320" y="457200"/>
            <a:ext cx="4203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картотека по ритму"/>
          <p:cNvPicPr/>
          <p:nvPr/>
        </p:nvPicPr>
        <p:blipFill>
          <a:blip r:embed="rId1"/>
          <a:stretch/>
        </p:blipFill>
        <p:spPr>
          <a:xfrm>
            <a:off x="380880" y="380880"/>
            <a:ext cx="4156200" cy="5878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картотека по ритму5"/>
          <p:cNvPicPr/>
          <p:nvPr/>
        </p:nvPicPr>
        <p:blipFill>
          <a:blip r:embed="rId2"/>
          <a:stretch/>
        </p:blipFill>
        <p:spPr>
          <a:xfrm>
            <a:off x="4718160" y="380880"/>
            <a:ext cx="4155840" cy="58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витие интонац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7" descr="картот по интонации5"/>
          <p:cNvPicPr/>
          <p:nvPr/>
        </p:nvPicPr>
        <p:blipFill>
          <a:blip r:embed="rId1"/>
          <a:stretch/>
        </p:blipFill>
        <p:spPr>
          <a:xfrm>
            <a:off x="609480" y="1143000"/>
            <a:ext cx="3878280" cy="5486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картот по интонации"/>
          <p:cNvPicPr/>
          <p:nvPr/>
        </p:nvPicPr>
        <p:blipFill>
          <a:blip r:embed="rId2"/>
          <a:stretch/>
        </p:blipFill>
        <p:spPr>
          <a:xfrm>
            <a:off x="4876920" y="1143000"/>
            <a:ext cx="3825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рушение устной ре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икуля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вукопроизнош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а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сико-грамматических категор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одической стороны реч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девочка2"/>
          <p:cNvPicPr/>
          <p:nvPr/>
        </p:nvPicPr>
        <p:blipFill>
          <a:blip r:embed="rId1"/>
          <a:stretch/>
        </p:blipFill>
        <p:spPr>
          <a:xfrm>
            <a:off x="533520" y="1752480"/>
            <a:ext cx="396216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картот по интонации2"/>
          <p:cNvPicPr/>
          <p:nvPr/>
        </p:nvPicPr>
        <p:blipFill>
          <a:blip r:embed="rId1"/>
          <a:stretch/>
        </p:blipFill>
        <p:spPr>
          <a:xfrm>
            <a:off x="304920" y="457200"/>
            <a:ext cx="4057560" cy="573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картот по интонации3"/>
          <p:cNvPicPr/>
          <p:nvPr/>
        </p:nvPicPr>
        <p:blipFill>
          <a:blip r:embed="rId2"/>
          <a:stretch/>
        </p:blipFill>
        <p:spPr>
          <a:xfrm>
            <a:off x="4626000" y="457200"/>
            <a:ext cx="40575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33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2590920" y="26668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одические компоненты ре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66680" y="762120"/>
            <a:ext cx="121932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ит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590920" y="4572000"/>
            <a:ext cx="144756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429000" y="533520"/>
            <a:ext cx="1676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он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029200" y="4800600"/>
            <a:ext cx="9144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у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7391520" y="2438280"/>
            <a:ext cx="9144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5791320" y="457200"/>
            <a:ext cx="228600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евое дых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533520" y="3276720"/>
            <a:ext cx="1600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удар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7467480" y="5105520"/>
            <a:ext cx="9144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б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Особенности просодичесой стороны речи у детей дошкольного возраста с дизартри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Речевое дыхание верхнеключич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Речевой выдох ослабл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Речь монотонна, маловыразитель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Темп речи замедленный или ускорен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Темп  и ритм нарушены  при восприятии или воспроизвед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Голос тихий или чрезмерно высо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Темб чаще низ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ая цель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формировать речь внятной, яркой, эмоциональной и выразительн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воспитатель"/>
          <p:cNvPicPr/>
          <p:nvPr/>
        </p:nvPicPr>
        <p:blipFill>
          <a:blip r:embed="rId1"/>
          <a:stretch/>
        </p:blipFill>
        <p:spPr>
          <a:xfrm>
            <a:off x="2133720" y="2743200"/>
            <a:ext cx="487656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Этапы формирования просодической стороны речи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2050920"/>
          <a:ext cx="8382240" cy="4105440"/>
        </p:xfrm>
        <a:graphic>
          <a:graphicData uri="http://schemas.openxmlformats.org/drawingml/2006/table">
            <a:tbl>
              <a:tblPr/>
              <a:tblGrid>
                <a:gridCol w="2438640"/>
                <a:gridCol w="3124080"/>
                <a:gridCol w="28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эт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эт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люч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Работа над речевым дыханием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Работа над голосом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Формирование ритмической организации реч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Формирование темповой организации реч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Формирование общих представлений об интонаци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Знакомство с повествовательной интонацие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Знакомство с вопросительной интонацие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Знакомство с восклицательной интонацие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Дифференциация интонационной структуры предлож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Работа над интонацией повествовательного предложени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Работа над интонацией вопросительного предложени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Работа над интонацией восклицательного предложени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Дифференциация интонационной структуры предлож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к и когда формировать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4627440" y="1434960"/>
            <a:ext cx="4191120" cy="2184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4191120" cy="235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00nm"/>
          <p:cNvPicPr/>
          <p:nvPr/>
        </p:nvPicPr>
        <p:blipFill>
          <a:blip r:embed="rId3"/>
          <a:stretch/>
        </p:blipFill>
        <p:spPr>
          <a:xfrm>
            <a:off x="762120" y="12193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1260115"/>
          <p:cNvPicPr/>
          <p:nvPr/>
        </p:nvPicPr>
        <p:blipFill>
          <a:blip r:embed="rId4"/>
          <a:stretch/>
        </p:blipFill>
        <p:spPr>
          <a:xfrm>
            <a:off x="5638680" y="40384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витие речевого дых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1"/>
          <p:cNvPicPr/>
          <p:nvPr/>
        </p:nvPicPr>
        <p:blipFill>
          <a:blip r:embed="rId1"/>
          <a:stretch/>
        </p:blipFill>
        <p:spPr>
          <a:xfrm>
            <a:off x="533520" y="1523880"/>
            <a:ext cx="3733560" cy="464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2"/>
          <p:cNvPicPr/>
          <p:nvPr/>
        </p:nvPicPr>
        <p:blipFill>
          <a:blip r:embed="rId2"/>
          <a:stretch/>
        </p:blipFill>
        <p:spPr>
          <a:xfrm>
            <a:off x="4724280" y="160020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Picture 12" descr="3"/>
          <p:cNvPicPr/>
          <p:nvPr/>
        </p:nvPicPr>
        <p:blipFill>
          <a:blip r:embed="rId1"/>
          <a:stretch/>
        </p:blipFill>
        <p:spPr>
          <a:xfrm>
            <a:off x="533520" y="914400"/>
            <a:ext cx="3809880" cy="556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4"/>
          <p:cNvPicPr/>
          <p:nvPr/>
        </p:nvPicPr>
        <p:blipFill>
          <a:blip r:embed="rId2"/>
          <a:stretch/>
        </p:blipFill>
        <p:spPr>
          <a:xfrm>
            <a:off x="4952880" y="914400"/>
            <a:ext cx="3878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07:10:05Z</dcterms:created>
  <dc:creator>Yanochka</dc:creator>
  <dc:description/>
  <dc:language>en-US</dc:language>
  <cp:lastModifiedBy>USER</cp:lastModifiedBy>
  <dcterms:modified xsi:type="dcterms:W3CDTF">2021-04-22T08:41:0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