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0AD-223C-4DE2-BE4D-57FD3F6F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7C4-B8F5-4AAB-BD28-27C7624E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846-4115-452D-8084-DD50A05B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810-8B53-4C7A-8371-CF8E2999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C4DB-7A20-43FD-8A53-4126576B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080-BFFC-4548-8D4C-1F3B568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E65-A091-4E2D-AC01-B3CAB8DF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28E0-DDAA-47B5-A1E6-0AB9624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9766-6F7E-4F47-98C8-B977227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589C-338E-442C-8682-5E67F529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6A1B-D275-4D00-B363-CD9A9C1C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EAD-692C-4E57-A017-22C366CE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D8E0-2FE8-4FE1-A184-BBA1D1B9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AE1D-BDAA-4DD7-AF1C-CD627CCA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2241-DAC9-43CF-8364-93CAA37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67A1-622E-4B77-9783-DCB184BB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6734-6875-4FC8-9748-CE684E7D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C78-57FB-4056-9A40-BF0A9139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721-C05C-49FF-BC86-D27B402B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533-179F-4044-9146-C0D00D03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6EC-8B06-41FE-A4F3-CDCEE93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5EE-725D-4243-83D0-1F25274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8B6-A98A-4DCD-BBD4-D22AE107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5DAB-DD9B-44C2-B32A-7158C60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6D77-D3D7-4B6D-832A-7B0D7CCF32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347-4119-4E6A-B57D-895C272956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Темпоритмическая организация речи и интонационная выразительность реч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97280" y="4724280"/>
            <a:ext cx="487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 подготов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.-логопе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БСКОУ шк.№13 приморского райо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ркина Яна Аркадь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7" descr="5"/>
          <p:cNvPicPr/>
          <p:nvPr/>
        </p:nvPicPr>
        <p:blipFill>
          <a:blip r:embed="rId1"/>
          <a:stretch/>
        </p:blipFill>
        <p:spPr>
          <a:xfrm>
            <a:off x="457200" y="762120"/>
            <a:ext cx="3733920" cy="5654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6"/>
          <p:cNvPicPr/>
          <p:nvPr/>
        </p:nvPicPr>
        <p:blipFill>
          <a:blip r:embed="rId2"/>
          <a:stretch/>
        </p:blipFill>
        <p:spPr>
          <a:xfrm>
            <a:off x="4724280" y="762120"/>
            <a:ext cx="39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11" descr="7"/>
          <p:cNvPicPr/>
          <p:nvPr/>
        </p:nvPicPr>
        <p:blipFill>
          <a:blip r:embed="rId1"/>
          <a:stretch/>
        </p:blipFill>
        <p:spPr>
          <a:xfrm>
            <a:off x="457200" y="685800"/>
            <a:ext cx="3932280" cy="556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8"/>
          <p:cNvPicPr/>
          <p:nvPr/>
        </p:nvPicPr>
        <p:blipFill>
          <a:blip r:embed="rId2"/>
          <a:stretch/>
        </p:blipFill>
        <p:spPr>
          <a:xfrm>
            <a:off x="4800600" y="685800"/>
            <a:ext cx="3824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РТОТЕК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звитие силы  и высоты голос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4" descr="картотека по развитиюсилы голоса11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картотека по развитиюсилы голоса01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картотека по развитиюсилы голоса02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темпа и  ритма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73536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игра колокольчик"/>
          <p:cNvPicPr/>
          <p:nvPr/>
        </p:nvPicPr>
        <p:blipFill>
          <a:blip r:embed="rId2"/>
          <a:stretch/>
        </p:blipFill>
        <p:spPr>
          <a:xfrm>
            <a:off x="457200" y="1447920"/>
            <a:ext cx="3735360" cy="21891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2" descr="карт по физмит"/>
          <p:cNvPicPr/>
          <p:nvPr/>
        </p:nvPicPr>
        <p:blipFill>
          <a:blip r:embed="rId3"/>
          <a:stretch/>
        </p:blipFill>
        <p:spPr>
          <a:xfrm>
            <a:off x="4952880" y="1371600"/>
            <a:ext cx="3657600" cy="257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карт пал игр"/>
          <p:cNvPicPr/>
          <p:nvPr/>
        </p:nvPicPr>
        <p:blipFill>
          <a:blip r:embed="rId4"/>
          <a:stretch/>
        </p:blipFill>
        <p:spPr>
          <a:xfrm>
            <a:off x="4952880" y="4038480"/>
            <a:ext cx="3581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картотека по ритму2"/>
          <p:cNvPicPr/>
          <p:nvPr/>
        </p:nvPicPr>
        <p:blipFill>
          <a:blip r:embed="rId1"/>
          <a:stretch/>
        </p:blipFill>
        <p:spPr>
          <a:xfrm>
            <a:off x="304920" y="457200"/>
            <a:ext cx="4255920" cy="6019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картотека по ритму3"/>
          <p:cNvPicPr/>
          <p:nvPr/>
        </p:nvPicPr>
        <p:blipFill>
          <a:blip r:embed="rId2"/>
          <a:stretch/>
        </p:blipFill>
        <p:spPr>
          <a:xfrm>
            <a:off x="4648320" y="457200"/>
            <a:ext cx="4203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картотека по ритму"/>
          <p:cNvPicPr/>
          <p:nvPr/>
        </p:nvPicPr>
        <p:blipFill>
          <a:blip r:embed="rId1"/>
          <a:stretch/>
        </p:blipFill>
        <p:spPr>
          <a:xfrm>
            <a:off x="380880" y="380880"/>
            <a:ext cx="4156200" cy="5878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картотека по ритму5"/>
          <p:cNvPicPr/>
          <p:nvPr/>
        </p:nvPicPr>
        <p:blipFill>
          <a:blip r:embed="rId2"/>
          <a:stretch/>
        </p:blipFill>
        <p:spPr>
          <a:xfrm>
            <a:off x="4718160" y="380880"/>
            <a:ext cx="4155840" cy="58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интона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7" descr="картот по интонации5"/>
          <p:cNvPicPr/>
          <p:nvPr/>
        </p:nvPicPr>
        <p:blipFill>
          <a:blip r:embed="rId1"/>
          <a:stretch/>
        </p:blipFill>
        <p:spPr>
          <a:xfrm>
            <a:off x="609480" y="1143000"/>
            <a:ext cx="3878280" cy="548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картот по интонации"/>
          <p:cNvPicPr/>
          <p:nvPr/>
        </p:nvPicPr>
        <p:blipFill>
          <a:blip r:embed="rId2"/>
          <a:stretch/>
        </p:blipFill>
        <p:spPr>
          <a:xfrm>
            <a:off x="4876920" y="1143000"/>
            <a:ext cx="3825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рушение устной ре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икуля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вукопроизнош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а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сико-грамматических категор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одической стороны ре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девочка2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28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картот по интонации2"/>
          <p:cNvPicPr/>
          <p:nvPr/>
        </p:nvPicPr>
        <p:blipFill>
          <a:blip r:embed="rId1"/>
          <a:stretch/>
        </p:blipFill>
        <p:spPr>
          <a:xfrm>
            <a:off x="304920" y="457200"/>
            <a:ext cx="4057560" cy="573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картот по интонации3"/>
          <p:cNvPicPr/>
          <p:nvPr/>
        </p:nvPicPr>
        <p:blipFill>
          <a:blip r:embed="rId2"/>
          <a:stretch/>
        </p:blipFill>
        <p:spPr>
          <a:xfrm>
            <a:off x="4626000" y="457200"/>
            <a:ext cx="405756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33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8"/>
          <p:cNvSpPr/>
          <p:nvPr/>
        </p:nvSpPr>
        <p:spPr>
          <a:xfrm>
            <a:off x="2590920" y="2666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одические компоненты ре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66680" y="762120"/>
            <a:ext cx="121932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т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590920" y="4572000"/>
            <a:ext cx="144756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429000" y="533520"/>
            <a:ext cx="1676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он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5029200" y="480060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у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7391520" y="243828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5791320" y="457200"/>
            <a:ext cx="2286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чевое дых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533520" y="3276720"/>
            <a:ext cx="16002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удар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7467480" y="5105520"/>
            <a:ext cx="9144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б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Особенности просодичесой стороны речи у детей дошкольного возраста с дизартрией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евое дыхание верхнеключич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евой выдох ослабл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Речь монотонна, маловыразитель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п речи замедленный или ускорен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п  и ритм нарушены  при восприятии или воспроизвед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Голос тихий или чрезмерно высо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  <a:ea typeface="Times New Roman"/>
              </a:rPr>
              <a:t>Темб чаще низ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ая цель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формировать речь внятной, яркой, эмоциональной и выразительно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воспитатель"/>
          <p:cNvPicPr/>
          <p:nvPr/>
        </p:nvPicPr>
        <p:blipFill>
          <a:blip r:embed="rId1"/>
          <a:stretch/>
        </p:blipFill>
        <p:spPr>
          <a:xfrm>
            <a:off x="2133720" y="2743200"/>
            <a:ext cx="48765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Этапы формирования просодической стороны речи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2050920"/>
          <a:ext cx="8382240" cy="4105440"/>
        </p:xfrm>
        <a:graphic>
          <a:graphicData uri="http://schemas.openxmlformats.org/drawingml/2006/table">
            <a:tbl>
              <a:tblPr/>
              <a:tblGrid>
                <a:gridCol w="2438640"/>
                <a:gridCol w="3124080"/>
                <a:gridCol w="28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эта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Работа над речевым дыханием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бота над голосом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Формирование ритмической организации реч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ирование темповой организации реч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 Формирование общих представлений об интонаци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Знакомство с повествова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Знакомство с вопроси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Знакомство с восклицательной интонацие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Дифференциация интонационной структуры пред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Работа над интонацией повествова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Работа над интонацией вопроси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Работа над интонацией восклицательного предложения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Дифференциация интонационной структуры предложени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к и когда формировать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1"/>
          <a:stretch/>
        </p:blipFill>
        <p:spPr>
          <a:xfrm>
            <a:off x="4627440" y="1434960"/>
            <a:ext cx="4191120" cy="2184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419112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00nm"/>
          <p:cNvPicPr/>
          <p:nvPr/>
        </p:nvPicPr>
        <p:blipFill>
          <a:blip r:embed="rId3"/>
          <a:stretch/>
        </p:blipFill>
        <p:spPr>
          <a:xfrm>
            <a:off x="762120" y="12193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1260115"/>
          <p:cNvPicPr/>
          <p:nvPr/>
        </p:nvPicPr>
        <p:blipFill>
          <a:blip r:embed="rId4"/>
          <a:stretch/>
        </p:blipFill>
        <p:spPr>
          <a:xfrm>
            <a:off x="5638680" y="40384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витие речевого дых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1"/>
          <p:cNvPicPr/>
          <p:nvPr/>
        </p:nvPicPr>
        <p:blipFill>
          <a:blip r:embed="rId1"/>
          <a:stretch/>
        </p:blipFill>
        <p:spPr>
          <a:xfrm>
            <a:off x="533520" y="1523880"/>
            <a:ext cx="3733560" cy="464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"/>
          <p:cNvPicPr/>
          <p:nvPr/>
        </p:nvPicPr>
        <p:blipFill>
          <a:blip r:embed="rId2"/>
          <a:stretch/>
        </p:blipFill>
        <p:spPr>
          <a:xfrm>
            <a:off x="4724280" y="160020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12" descr="3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556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4"/>
          <p:cNvPicPr/>
          <p:nvPr/>
        </p:nvPicPr>
        <p:blipFill>
          <a:blip r:embed="rId2"/>
          <a:stretch/>
        </p:blipFill>
        <p:spPr>
          <a:xfrm>
            <a:off x="4952880" y="914400"/>
            <a:ext cx="3878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07:10:05Z</dcterms:created>
  <dc:creator>Yanochka</dc:creator>
  <dc:description/>
  <dc:language>en-US</dc:language>
  <cp:lastModifiedBy>USER</cp:lastModifiedBy>
  <dcterms:modified xsi:type="dcterms:W3CDTF">2021-04-22T08:41:0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