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35B-A0AC-4D9E-B065-CD2BDDC43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6FF-149F-41FD-854B-EEB2E2FC00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C74-CCF3-42B7-A6A7-5D3D4594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6ED-2F26-47C3-AAE9-F651657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151-CB2C-4F14-9BEA-203F32FD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C2E-6C4B-43BC-84B1-229A781D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C4D-791B-4DE4-A72E-C4C775CF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B30-A919-4500-949B-3C47D24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33D-2991-4674-B8F9-61C238D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510-86E1-4E18-A68D-5F9902D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0AC-B9B6-4FEE-B64B-5F9225C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687-BB04-45F7-B026-E6399A3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659-77C3-4F6E-8272-26411AAF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980-43E6-4331-8048-1C4F52A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029F-1D09-43CF-B8A6-8378142117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79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Индивидуальный образовательный маршрут учащегося как одно из условий повышения качества знаний, способ развития математической одаренности.</a:t>
            </a: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. 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мы понимаем под И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«Индивидуальный образовательный маршрут</a:t>
            </a:r>
            <a:r>
              <a:rPr b="0" lang="ru-RU" sz="2400" spc="-1" strike="noStrike">
                <a:solidFill>
                  <a:srgbClr val="934bc9"/>
                </a:solidFill>
                <a:latin typeface="Calibri"/>
              </a:rPr>
              <a:t> – </a:t>
            </a: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934bc9"/>
                </a:solidFill>
                <a:latin typeface="Arial"/>
                <a:ea typeface="Arial"/>
              </a:rPr>
              <a:t> персональный путь реализации личностного потенциала каждого ученика в образовании».</a:t>
            </a:r>
            <a:br>
              <a:rPr sz="2400"/>
            </a:br>
            <a:r>
              <a:rPr b="1" i="1" lang="ru-RU" sz="2400" spc="-1" strike="noStrike">
                <a:solidFill>
                  <a:srgbClr val="934bc9"/>
                </a:solidFill>
                <a:latin typeface="Arial"/>
                <a:ea typeface="Arial"/>
              </a:rPr>
              <a:t> «Способ самоопределения, самореализации и проверки правильности выбора профилирующего направления дальнейшего обучения»</a:t>
            </a:r>
            <a:br>
              <a:rPr sz="2400"/>
            </a:b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ИОМ – специфический метод индивидуального обучения, помогающий ликвидировать пробелы в знаниях, умениях, навыках учащихся, овладеть ключевыми образовательными технологиями, осуществить психолого-педагогическую поддержку ребёнка, а значит повысить уровень учебной мотивации.</a:t>
            </a:r>
            <a:br>
              <a:rPr sz="2900"/>
            </a:br>
            <a:br>
              <a:rPr sz="32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ятия, связанные с 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образовательная траектория»,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образовательная программа»,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учебный план». 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ытаемся ответить на вопросы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 Вид какого документа должен иметь образовательный маршрут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Какова структура этого документа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Кем и с какой целью он разрабатывается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Через какие формы реализуется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Возможные направления разработки ИОМ?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Универсального рецепта создания индивидуального образовательного маршрута (ИОМ) в настоящий момент нет. 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На уровне педагог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)Программа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2)Индивидуальный план работы. </a:t>
            </a:r>
            <a:br>
              <a:rPr sz="2900"/>
            </a:b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 На уровне учени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Маршрутный лист.</a:t>
            </a:r>
            <a:br>
              <a:rPr sz="2900"/>
            </a:b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 На уровне классного руководителя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Карта. 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ИОМ включает компоненты: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целево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содержательны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технолог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диагност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организационно-педагог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результативный.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можные направления И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углубленное изучение предмета или отдельных тем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расширенно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компенсирующее обучение;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профильно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опережающе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другие.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ИОМ:</a:t>
            </a:r>
            <a:br>
              <a:rPr sz="40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-организация деятельности одаренных детей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ликвидация пробелов в знаниях обучающихся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организация обучения на повышенном  уровне через выбор предлагаемых элективных учебных курсов, профильных предметов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организация исследовательской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другие. 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Этапы проектирования 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образовательной цел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анализ, рефлексия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сознание и соотнесение индивидуальных потребностей с внешними требованиями)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бор пути (вариантов) реализации поставленной цел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кретизация цели (выбор курсов)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маршрутного ли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8" name="Стрелка вниз 7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16"/>
          <p:cNvSpPr/>
          <p:nvPr/>
        </p:nvSpPr>
        <p:spPr>
          <a:xfrm>
            <a:off x="4214880" y="1714680"/>
            <a:ext cx="71280" cy="2854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21"/>
          <p:cNvSpPr/>
          <p:nvPr/>
        </p:nvSpPr>
        <p:spPr>
          <a:xfrm>
            <a:off x="4143240" y="3429000"/>
            <a:ext cx="71640" cy="28584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22"/>
          <p:cNvSpPr/>
          <p:nvPr/>
        </p:nvSpPr>
        <p:spPr>
          <a:xfrm>
            <a:off x="4143240" y="4786200"/>
            <a:ext cx="46080" cy="4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низ 23"/>
          <p:cNvSpPr/>
          <p:nvPr/>
        </p:nvSpPr>
        <p:spPr>
          <a:xfrm>
            <a:off x="4143240" y="4714920"/>
            <a:ext cx="46080" cy="142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24"/>
          <p:cNvSpPr/>
          <p:nvPr/>
        </p:nvSpPr>
        <p:spPr>
          <a:xfrm>
            <a:off x="4143240" y="4643280"/>
            <a:ext cx="46080" cy="214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29"/>
          <p:cNvSpPr/>
          <p:nvPr/>
        </p:nvSpPr>
        <p:spPr>
          <a:xfrm>
            <a:off x="4071960" y="5500800"/>
            <a:ext cx="46080" cy="28548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ОМ ученика реализуется различными способами:</a:t>
            </a:r>
            <a:br>
              <a:rPr sz="28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классно-урочная система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групповые и индивидуальные формы занятий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самостоятельная деятельность (сочетающаяся с консультациями)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практическая деятельность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1010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«Обучение должно быть построено так, чтобы оно стало нужным человеку для продолжения развития, профессиональной дальнейшей деятельности»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                                    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. Б. Эльконин</a:t>
            </a:r>
            <a:br>
              <a:rPr sz="3600"/>
            </a:br>
            <a:r>
              <a:rPr b="0" lang="ru-RU" sz="3600" spc="-1" strike="noStrike">
                <a:solidFill>
                  <a:srgbClr val="934bc9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Создание в школе единого пространства по разработке и реализации ИОМ позволяет значительно повысить эффективность их применения.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422100"/>
                </a:solidFill>
                <a:latin typeface="Cambria"/>
              </a:rPr>
              <a:t>на уровне ОО</a:t>
            </a: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амоопредел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: выбор целей и задач  развития ОО, соотнесение их с социальным заказом  общества (выявление потребностей  родители, обучающиеся);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азработка и принятие на уровне ОО моде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организации образовательной деятельности с использованием  ИОМ;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нализ диагностики индивидуальных особенностей обучающихс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на уровне ОО (по результатам предыдущего периода).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422100"/>
                </a:solidFill>
                <a:latin typeface="Cambria"/>
              </a:rPr>
              <a:t>на уровне ОО</a:t>
            </a: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пределение технологий и методик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индивидуального педагогического сопровождения указанных категорий,</a:t>
            </a:r>
            <a:br>
              <a:rPr sz="29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нализ ресурсного обеспечени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эффективного управления реализацией ИОМ,</a:t>
            </a:r>
            <a:br>
              <a:rPr sz="25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разработка и реализация педагогами ИО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на указанный период,</a:t>
            </a:r>
            <a:br>
              <a:rPr sz="29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ромежуточный и итоговый анализ реализации ИО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коррекция.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ОМ для одаренных детей</a:t>
            </a: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Отличительной особенностью обучения  одаренных детей может стать разработка ИОМ с широким использованием системы олимпиад.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менно школьные олимпиады имеют своей целью: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расширение кругозора учащихся,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развитие интереса к изучаемому предмету,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выявление одаренных учащих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0" y="1285560"/>
            <a:ext cx="84582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пешное развитие математической одарённости достигается при выполнении определённых условий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создание особой развивающей среды;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 углубление и обогащение содержания математического образования; 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создание особых организационных условий (работа по индивидуальному образовательному маршруту); 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эффективное  использование педагогических технологий; совершенствование профессиональных и личностных качеств педагога.</a:t>
            </a:r>
            <a:br>
              <a:rPr sz="28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Под выбором индивидуального образовательного маршрута мы понимаем создание специальных педагогических условий для возможности выбора способов, форм и методов обучения, позволяющих поддерживать различные образовательные интересы учащихся при обучении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6760" y="1213920"/>
            <a:ext cx="857268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снилось, что при наличии четырех основных профилей существуют образовательные маршруты учащихся, отличающиеся набором и уровнем основных учебных курсов школьного компонента и набором спецкурсов элективного компонента. Из 49 возможных спецкурсов, рекомендуемых в качестве обязательных для завершения профиля, и спецкурсов свободного выбора реально начали работать 16. Это спецкурсы, которые были выбраны минимум 13 учащимися – минимальное количество учащихся, которое позволяет реализовать в школе данный спецкурс. Помимо рекомендованных к каждому профилю, наиболее популярными оказались такие спецкурсы, как «Начала философии» и «Информационные технологии в образовани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заметить, что реализация такого большого числа спецкурсов и образовательных маршрутов учащихся возможна только при наличии в школе как минимум трех 10-х классов профильного обучения. Лишь в этом случае возможно открытие нужного количества спецкурсов, организация модульных, а в дальнейшем и разновозрастных модульных спецкурсов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79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дивидуального образовательного маршрута (ИОМ) при обучении математике.</a:t>
            </a: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. 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Arial"/>
                <a:ea typeface="Arial"/>
              </a:rPr>
              <a:t>Актуальность</a:t>
            </a:r>
            <a:r>
              <a:rPr b="1" i="1" lang="ru-RU" sz="3600" spc="-1" strike="noStrike">
                <a:solidFill>
                  <a:srgbClr val="934bc9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34bc9"/>
                </a:solidFill>
                <a:latin typeface="Arial"/>
                <a:ea typeface="Arial"/>
              </a:rPr>
              <a:t>вопроса</a:t>
            </a: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человек – единственный и неповторимый в своей индивидуальности. Индивидуальность выражается в индивидуальных особенностях и различиях. Индивидуальными особенностями обусловлено формирование всех качеств.</a:t>
            </a:r>
            <a:br>
              <a:rPr sz="2800"/>
            </a:b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Индивидуальный образовательный маршру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это персональный путь реализации личностного потенциала каждого ученика в образовании. Процесс выявления, реализации и развития способностей ученика происходят в ходе образовательного движения по индивидуальному маршруту.</a:t>
            </a:r>
            <a:br>
              <a:rPr sz="32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Основная идея обновления образования состоит в том, что оно должно стать индивидуализированным, функциональным и эффективным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Ученик сможет продвигаться по образовательному маршруту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 во всех образовательных областях, в том случае, если ему будут представлены возможности: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определить индивидуальный смысл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изучения учебной дисциплины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ставить собственные цели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в изучении конкретной темы или раздела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выбирать оптимальные формы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и темпы обучения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применять те способы учения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, которые наиболее соответствуют его индивидуальным особенностям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рефлексивно осознавать полученные результаты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, осуществлять оценку и корректировку своей деятельност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Требования к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Й МАРШРУТ каждого уровня должен отвечать специфическим требованиям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пускать возможность и необходимость маршрутов других уровней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читывать разброс целей образовательных субъектов другого уровня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предполагать вариативность достижения обозначаемых в маршруте целей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беспечивать соответствующий баланс заданности и выбора в каждом из структурных компонентов маршр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34bc9"/>
                </a:solidFill>
                <a:latin typeface="Arial"/>
                <a:ea typeface="Arial"/>
              </a:rPr>
              <a:t>Предварительная работа при проектировании  ИОМ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образовательный маршрут по математике должен содержать ответы на вопросы: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нужно заниматься математико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ие темы я буду изучать из учебника? Дистанционно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ему я хочу научиться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ие темы я планирую изучить дополнительно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ои самые интересные вопросы и проблемы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й творческой работы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то я буду делать? Как заниматься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то мне необходимо для заняти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чем будут состоять  результаты моих заняти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я буду отслеживать, контролировать свои результаты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Работа с дистанционными курсами по математике как элемент 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использовании индивидуальных образовательных маршрутов целесообразно включать в планирование элементы дистанционных курсов: ученики могут смотреть ролики и презентации по изучаемой теме, выполнять интересные задания, изучать интерактивные модели, готовиться к итоговой аттестации – все это в удобное для них время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ожет дистанционно контролировать полученные учеником результат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имер использования ИОМ при обучении математике неуспевающих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дивидуальный образовательный маршру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а(цы)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ликвидация пробелов  по матема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714840"/>
          <a:ext cx="8358120" cy="1941480"/>
        </p:xfrm>
        <a:graphic>
          <a:graphicData uri="http://schemas.openxmlformats.org/drawingml/2006/table">
            <a:tbl>
              <a:tblPr/>
              <a:tblGrid>
                <a:gridCol w="1204920"/>
                <a:gridCol w="2022480"/>
                <a:gridCol w="1282680"/>
                <a:gridCol w="1282680"/>
                <a:gridCol w="1282680"/>
                <a:gridCol w="128268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тка о выполн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3" name="Стрелка вниз 8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C:\Users\HP PC\Desktop\К совещанию по ГИА\картинки егэ\10152_html_m645ec98a.png"/>
          <p:cNvPicPr/>
          <p:nvPr/>
        </p:nvPicPr>
        <p:blipFill>
          <a:blip r:embed="rId1"/>
          <a:stretch/>
        </p:blipFill>
        <p:spPr>
          <a:xfrm>
            <a:off x="6429240" y="1357200"/>
            <a:ext cx="2000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имер использования ИОМ при обучении математике одаренных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дивидуальный образовательный маршру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а(цы)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 углубление знаний по предмету   матема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00040" y="3714840"/>
          <a:ext cx="8358120" cy="2490840"/>
        </p:xfrm>
        <a:graphic>
          <a:graphicData uri="http://schemas.openxmlformats.org/drawingml/2006/table">
            <a:tbl>
              <a:tblPr/>
              <a:tblGrid>
                <a:gridCol w="1204920"/>
                <a:gridCol w="2022480"/>
                <a:gridCol w="1282680"/>
                <a:gridCol w="1282680"/>
                <a:gridCol w="1282680"/>
                <a:gridCol w="128268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для изучения на базов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, углубление знаний по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8" name="Стрелка вниз 8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C:\Users\HP PC\Desktop\К совещанию по ГИА\картинки егэ\imgpreview (1).jpg"/>
          <p:cNvPicPr/>
          <p:nvPr/>
        </p:nvPicPr>
        <p:blipFill>
          <a:blip r:embed="rId1"/>
          <a:stretch/>
        </p:blipFill>
        <p:spPr>
          <a:xfrm>
            <a:off x="6786720" y="1428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c9"/>
                </a:solidFill>
                <a:latin typeface="Arial"/>
                <a:ea typeface="Arial"/>
              </a:rPr>
              <a:t>Ожидаемый результат реализации  ИОМ</a:t>
            </a:r>
            <a:br>
              <a:rPr sz="2200"/>
            </a:b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азработав индивидуальный образовательный маршрут учитель будет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ть четкое представление о том, с какой целью, на каких уроках и как конкретно он будет использовать его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ать и знать общую готовность детей к учебной деятельности, восприятию конкретного учебного материала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видеть затруднения, которые могут возникнуть у детей при усвоении нового материала и выполнении дифференцированных заданий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в системе уроков индивидуальные и групповые зада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 анализировать эффективность индивидуального и дифференцированного обуче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ть четкое представление о том, как будет продолжена работа на следующих уроках; 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дифференцированное обучение не эпизодически, а в систе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204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00"/>
                </a:solidFill>
                <a:latin typeface="Arial"/>
                <a:ea typeface="Arial"/>
              </a:rPr>
              <a:t>Из опыта работы по разработке И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1139760"/>
            <a:ext cx="7004160" cy="92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295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-правовые аспекты решения проблемы индивидуализации обучения определены: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Концепцией профильного обучения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Национальной законодательной инициативой «Наша новая школа»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Концепцией «Современная модель образования, ориентированная на решение задач инновационного развития экономики – 2020»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ФЗ «Об образовании в РФ» (ст.17)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ФГОС общего образования.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ИОМ – один из способов решения задачи индивидуализации образовательного процесса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Появление ИОМ обусловлено 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возникшим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противоречием между инновационным характером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государственных требований к планируемым результатам освоения каждым учащимся основных образовательных программ и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недостаточной разработанностью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на институциональном уровне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механизмов управления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образовательным процессом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Разработка и применение ИОМ маршрутов затруднено из-за отсутствия в широком доступе систематизированной теоретической основы процесса разработки и реализации ИОМ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созданию и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авлени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создание единого пространства по проектированию образовательных маршрутов на уровне образовательной организации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разработке образовательных маршрутов по отдельным направлениям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применение индивидуальных образовательных маршрутов конкретно к предмету математика.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151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мы понимаем под И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«Индивидуальный образовательный маршрут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 – это целенаправленно проектируемая дифференцированная образовательная программа, обеспечивающая учащемуся позиции субъекта выбора, разработки и реализации образовательной программы при осуществлении преподавателями педагогической поддержки его самоопределения и самореализации». (С.В. Воробьева, Н.А. Лабунская, А.П. Тряпицына, Ю.Ф. Тимофеева и др.)</a:t>
            </a: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21-04-22T13:33:48Z</dcterms:modified>
  <cp:revision>234</cp:revision>
  <dc:subject/>
  <dc:title>Слайд 1</dc:title>
</cp:coreProperties>
</file>