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CAEE-07AA-4295-85AE-26B9A88F41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C4BB-18C1-40FE-AC48-DB3F11F717F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205-50AE-4475-B974-CF0263E3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31C-819B-4CEB-B234-E7C278E3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9B9-F8A5-4EA5-B1C4-044221E4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23C-7326-419A-A60E-222DB80D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CAF-3346-467E-9EBB-0DEB1A2D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67A-E3B8-4B19-AF47-1E696D2C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CCC-DD2D-471F-B1F4-51CA7DAF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C0A-AE0E-4B32-BDDC-9FA99D04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B76A-B9FE-484C-B8DA-F48C877B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00D-8F23-4E0A-B612-70F69374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2BA-6CB9-4E39-9A3C-B8BEE71E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E3EE-5AD5-41BB-A5A5-0F55F6B6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A2AF-07FB-4376-8BBD-D516EC301FD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79581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934bc9"/>
                </a:solidFill>
                <a:latin typeface="Calibri"/>
              </a:rPr>
              <a:t>Индивидуальный образовательный маршрут учащегося как одно из условий повышения качества знаний, способ развития математической одаренности.</a:t>
            </a:r>
            <a:br>
              <a:rPr sz="3200"/>
            </a:b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56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. В. Риско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БОУ «СШ №21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 мы понимаем под И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934bc9"/>
                </a:solidFill>
                <a:latin typeface="Calibri"/>
              </a:rPr>
              <a:t>«Индивидуальный образовательный маршрут</a:t>
            </a:r>
            <a:r>
              <a:rPr b="0" lang="ru-RU" sz="2400" spc="-1" strike="noStrike">
                <a:solidFill>
                  <a:srgbClr val="934bc9"/>
                </a:solidFill>
                <a:latin typeface="Calibri"/>
              </a:rPr>
              <a:t> – </a:t>
            </a:r>
            <a:r>
              <a:rPr b="1" lang="ru-RU" sz="2400" spc="-1" strike="noStrike">
                <a:solidFill>
                  <a:srgbClr val="934bc9"/>
                </a:solidFill>
                <a:latin typeface="Calibri"/>
              </a:rPr>
              <a:t>это </a:t>
            </a:r>
            <a:r>
              <a:rPr b="1" i="1" lang="ru-RU" sz="2400" spc="-1" strike="noStrike">
                <a:solidFill>
                  <a:srgbClr val="934bc9"/>
                </a:solidFill>
                <a:latin typeface="Arial"/>
                <a:ea typeface="Arial"/>
              </a:rPr>
              <a:t> персональный путь реализации личностного потенциала каждого ученика в образовании».</a:t>
            </a:r>
            <a:br>
              <a:rPr sz="2400"/>
            </a:br>
            <a:r>
              <a:rPr b="1" i="1" lang="ru-RU" sz="2400" spc="-1" strike="noStrike">
                <a:solidFill>
                  <a:srgbClr val="934bc9"/>
                </a:solidFill>
                <a:latin typeface="Arial"/>
                <a:ea typeface="Arial"/>
              </a:rPr>
              <a:t> «Способ самоопределения, самореализации и проверки правильности выбора профилирующего направления дальнейшего обучения»</a:t>
            </a:r>
            <a:br>
              <a:rPr sz="2400"/>
            </a:br>
            <a:r>
              <a:rPr b="1" lang="ru-RU" sz="2400" spc="-1" strike="noStrike">
                <a:solidFill>
                  <a:srgbClr val="934bc9"/>
                </a:solidFill>
                <a:latin typeface="Calibri"/>
              </a:rPr>
              <a:t>ИОМ – специфический метод индивидуального обучения, помогающий ликвидировать пробелы в знаниях, умениях, навыках учащихся, овладеть ключевыми образовательными технологиями, осуществить психолого-педагогическую поддержку ребёнка, а значит повысить уровень учебной мотивации.</a:t>
            </a:r>
            <a:br>
              <a:rPr sz="2900"/>
            </a:br>
            <a:br>
              <a:rPr sz="32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нятия, связанные с И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8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«индивидуальная образовательная траектория», 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«индивидуальная образовательная программа», 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«индивидуальная учебный план». </a:t>
            </a:r>
            <a:br>
              <a:rPr sz="36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8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пытаемся ответить на вопросы?</a:t>
            </a:r>
            <a:br>
              <a:rPr sz="3200"/>
            </a:b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- Вид какого документа должен иметь образовательный маршрут?</a:t>
            </a:r>
            <a:br>
              <a:rPr sz="3200"/>
            </a:b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-Какова структура этого документа?</a:t>
            </a:r>
            <a:br>
              <a:rPr sz="3200"/>
            </a:b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-Кем и с какой целью он разрабатывается?</a:t>
            </a:r>
            <a:br>
              <a:rPr sz="3200"/>
            </a:b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-Через какие формы реализуется?</a:t>
            </a:r>
            <a:br>
              <a:rPr sz="3200"/>
            </a:b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-Возможные направления разработки ИОМ?</a:t>
            </a:r>
            <a:br>
              <a:rPr sz="32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8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Универсального рецепта создания индивидуального образовательного маршрута (ИОМ) в настоящий момент нет. </a:t>
            </a:r>
            <a:br>
              <a:rPr sz="32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8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934bc9"/>
                </a:solidFill>
                <a:latin typeface="Calibri"/>
              </a:rPr>
              <a:t>На уровне педагога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)Программа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2)Индивидуальный план работы. </a:t>
            </a:r>
            <a:br>
              <a:rPr sz="2900"/>
            </a:br>
            <a:r>
              <a:rPr b="1" lang="ru-RU" sz="2900" spc="-1" strike="noStrike">
                <a:solidFill>
                  <a:srgbClr val="934bc9"/>
                </a:solidFill>
                <a:latin typeface="Calibri"/>
              </a:rPr>
              <a:t> На уровне ученика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Маршрутный лист.</a:t>
            </a:r>
            <a:br>
              <a:rPr sz="2900"/>
            </a:br>
            <a:r>
              <a:rPr b="1" lang="ru-RU" sz="2900" spc="-1" strike="noStrike">
                <a:solidFill>
                  <a:srgbClr val="934bc9"/>
                </a:solidFill>
                <a:latin typeface="Calibri"/>
              </a:rPr>
              <a:t> На уровне классного руководителя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Карта. </a:t>
            </a:r>
            <a:br>
              <a:rPr sz="32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ИОМ включает компоненты:</a:t>
            </a:r>
            <a:br>
              <a:rPr sz="4000"/>
            </a:b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-целевой,</a:t>
            </a:r>
            <a:br>
              <a:rPr sz="4000"/>
            </a:b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-содержательный,</a:t>
            </a:r>
            <a:br>
              <a:rPr sz="4000"/>
            </a:b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-технологический,</a:t>
            </a:r>
            <a:br>
              <a:rPr sz="4000"/>
            </a:b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-диагностический,</a:t>
            </a:r>
            <a:br>
              <a:rPr sz="4000"/>
            </a:b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организационно-педагогический,</a:t>
            </a:r>
            <a:br>
              <a:rPr sz="4000"/>
            </a:b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-результативный.</a:t>
            </a:r>
            <a:br>
              <a:rPr sz="4000"/>
            </a:br>
            <a:br>
              <a:rPr sz="32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зможные направления ИОМ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- углубленное изучение предмета или отдельных тем,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- расширенное обучение,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- компенсирующее обучение; 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-профильное обучение,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-опережающее обучение,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-другие.</a:t>
            </a:r>
            <a:br>
              <a:rPr sz="4000"/>
            </a:br>
            <a:br>
              <a:rPr sz="32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203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и ИОМ:</a:t>
            </a:r>
            <a:br>
              <a:rPr sz="4000"/>
            </a:b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 -организация деятельности одаренных детей,</a:t>
            </a:r>
            <a:br>
              <a:rPr sz="2800"/>
            </a:b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-ликвидация пробелов в знаниях обучающихся,</a:t>
            </a:r>
            <a:br>
              <a:rPr sz="2800"/>
            </a:b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-организация обучения на повышенном  уровне через выбор предлагаемых элективных учебных курсов, профильных предметов,</a:t>
            </a:r>
            <a:br>
              <a:rPr sz="2800"/>
            </a:b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-организация исследовательской деятельности,</a:t>
            </a:r>
            <a:br>
              <a:rPr sz="2800"/>
            </a:b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-другие. </a:t>
            </a:r>
            <a:br>
              <a:rPr sz="4000"/>
            </a:br>
            <a:br>
              <a:rPr sz="3200"/>
            </a:br>
            <a:br>
              <a:rPr sz="3600"/>
            </a:br>
            <a:br>
              <a:rPr sz="2800"/>
            </a:b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5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 rot="5400000">
            <a:off x="4500360" y="-414324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34bc9"/>
                </a:solidFill>
                <a:latin typeface="Arial"/>
                <a:ea typeface="Arial"/>
              </a:rPr>
              <a:t>Этапы проектирования  ИОМ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ановка образовательной цели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амоанализ, рефлексия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осознание и соотнесение индивидуальных потребностей с внешними требованиями)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бор пути (вариантов) реализации поставленной цели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нкретизация цели (выбор курсов).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формление маршрутного лис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786880" y="2501280"/>
            <a:ext cx="16992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8" name="Стрелка вниз 7"/>
          <p:cNvSpPr/>
          <p:nvPr/>
        </p:nvSpPr>
        <p:spPr>
          <a:xfrm>
            <a:off x="11930040" y="27147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низ 16"/>
          <p:cNvSpPr/>
          <p:nvPr/>
        </p:nvSpPr>
        <p:spPr>
          <a:xfrm>
            <a:off x="4214880" y="1714680"/>
            <a:ext cx="71280" cy="28548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низ 21"/>
          <p:cNvSpPr/>
          <p:nvPr/>
        </p:nvSpPr>
        <p:spPr>
          <a:xfrm>
            <a:off x="4143240" y="3429000"/>
            <a:ext cx="71640" cy="28584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низ 22"/>
          <p:cNvSpPr/>
          <p:nvPr/>
        </p:nvSpPr>
        <p:spPr>
          <a:xfrm>
            <a:off x="4143240" y="4786200"/>
            <a:ext cx="46080" cy="4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низ 23"/>
          <p:cNvSpPr/>
          <p:nvPr/>
        </p:nvSpPr>
        <p:spPr>
          <a:xfrm>
            <a:off x="4143240" y="4714920"/>
            <a:ext cx="46080" cy="14292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трелка вниз 24"/>
          <p:cNvSpPr/>
          <p:nvPr/>
        </p:nvSpPr>
        <p:spPr>
          <a:xfrm>
            <a:off x="4143240" y="4643280"/>
            <a:ext cx="46080" cy="214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низ 29"/>
          <p:cNvSpPr/>
          <p:nvPr/>
        </p:nvSpPr>
        <p:spPr>
          <a:xfrm>
            <a:off x="4071960" y="5500800"/>
            <a:ext cx="46080" cy="285480"/>
          </a:xfrm>
          <a:prstGeom prst="downArrow">
            <a:avLst>
              <a:gd name="adj1" fmla="val 50000"/>
              <a:gd name="adj2" fmla="val 499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203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ОМ ученика реализуется различными способами:</a:t>
            </a:r>
            <a:br>
              <a:rPr sz="2800"/>
            </a:br>
            <a:r>
              <a:rPr b="1" lang="ru-RU" sz="3200" spc="-1" strike="noStrike">
                <a:solidFill>
                  <a:srgbClr val="934bc9"/>
                </a:solidFill>
                <a:latin typeface="Calibri"/>
              </a:rPr>
              <a:t>-классно-урочная система;</a:t>
            </a:r>
            <a:br>
              <a:rPr sz="3200"/>
            </a:br>
            <a:r>
              <a:rPr b="1" lang="ru-RU" sz="3200" spc="-1" strike="noStrike">
                <a:solidFill>
                  <a:srgbClr val="934bc9"/>
                </a:solidFill>
                <a:latin typeface="Calibri"/>
              </a:rPr>
              <a:t>-групповые и индивидуальные формы занятий;</a:t>
            </a:r>
            <a:br>
              <a:rPr sz="3200"/>
            </a:br>
            <a:r>
              <a:rPr b="1" lang="ru-RU" sz="3200" spc="-1" strike="noStrike">
                <a:solidFill>
                  <a:srgbClr val="934bc9"/>
                </a:solidFill>
                <a:latin typeface="Calibri"/>
              </a:rPr>
              <a:t>-самостоятельная деятельность (сочетающаяся с консультациями);</a:t>
            </a:r>
            <a:br>
              <a:rPr sz="3200"/>
            </a:br>
            <a:r>
              <a:rPr b="1" lang="ru-RU" sz="3200" spc="-1" strike="noStrike">
                <a:solidFill>
                  <a:srgbClr val="934bc9"/>
                </a:solidFill>
                <a:latin typeface="Calibri"/>
              </a:rPr>
              <a:t>-практическая деятельность 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6760" y="1500120"/>
            <a:ext cx="810108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934bc9"/>
                </a:solidFill>
                <a:latin typeface="Calibri"/>
              </a:rPr>
              <a:t>«Обучение должно быть построено так, чтобы оно стало нужным человеку для продолжения развития, профессиональной дальнейшей деятельности»</a:t>
            </a:r>
            <a:br>
              <a:rPr sz="3600"/>
            </a:br>
            <a:r>
              <a:rPr b="1" i="1" lang="ru-RU" sz="3600" spc="-1" strike="noStrike">
                <a:solidFill>
                  <a:srgbClr val="934bc9"/>
                </a:solidFill>
                <a:latin typeface="Calibri"/>
              </a:rPr>
              <a:t>                                                      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Д. Б. Эльконин</a:t>
            </a:r>
            <a:br>
              <a:rPr sz="3600"/>
            </a:br>
            <a:r>
              <a:rPr b="0" lang="ru-RU" sz="3600" spc="-1" strike="noStrike">
                <a:solidFill>
                  <a:srgbClr val="934bc9"/>
                </a:solidFill>
                <a:latin typeface="Calibri"/>
              </a:rPr>
              <a:t> </a:t>
            </a:r>
            <a:br>
              <a:rPr sz="3600"/>
            </a:br>
            <a:r>
              <a:rPr b="1" i="1" lang="ru-RU" sz="3600" spc="-1" strike="noStrike">
                <a:solidFill>
                  <a:srgbClr val="934bc9"/>
                </a:solidFill>
                <a:latin typeface="Calibri"/>
              </a:rPr>
              <a:t>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0" y="203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34bc9"/>
                </a:solidFill>
                <a:latin typeface="Calibri"/>
              </a:rPr>
              <a:t>Создание в школе единого пространства по разработке и реализации ИОМ позволяет значительно повысить эффективность их применения.</a:t>
            </a:r>
            <a:br>
              <a:rPr sz="32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203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422100"/>
                </a:solidFill>
                <a:latin typeface="Cambria"/>
              </a:rPr>
              <a:t>на уровне ОО</a:t>
            </a:r>
            <a:br>
              <a:rPr sz="3200"/>
            </a:b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самоопределение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: выбор целей и задач  развития ОО, соотнесение их с социальным заказом  общества (выявление потребностей  родители, обучающиеся);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разработка и принятие на уровне ОО модели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организации образовательной деятельности с использованием  ИОМ;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анализ диагностики индивидуальных особенностей обучающихся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на уровне ОО (по результатам предыдущего периода).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0" y="203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4200" y="1142640"/>
            <a:ext cx="82440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422100"/>
                </a:solidFill>
                <a:latin typeface="Cambria"/>
              </a:rPr>
              <a:t>на уровне ОО</a:t>
            </a:r>
            <a:br>
              <a:rPr sz="3200"/>
            </a:b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определение технологий и методик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индивидуального педагогического сопровождения указанных категорий,</a:t>
            </a:r>
            <a:br>
              <a:rPr sz="2900"/>
            </a:b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анализ ресурсного обеспечения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эффективного управления реализацией ИОМ,</a:t>
            </a:r>
            <a:br>
              <a:rPr sz="2500"/>
            </a:b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разработка и реализация педагогами ИОМ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на указанный период,</a:t>
            </a:r>
            <a:br>
              <a:rPr sz="2900"/>
            </a:b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промежуточный и итоговый анализ реализации ИОМ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, коррекция.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204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ОМ для одаренных детей</a:t>
            </a:r>
            <a:br>
              <a:rPr sz="36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Отличительной особенностью обучения  одаренных детей может стать разработка ИОМ с широким использованием системы олимпиад.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0" y="204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Именно школьные олимпиады имеют своей целью:</a:t>
            </a:r>
            <a:br>
              <a:rPr sz="3600"/>
            </a:br>
            <a:r>
              <a:rPr b="1" i="1" lang="ru-RU" sz="3600" spc="-1" strike="noStrike">
                <a:solidFill>
                  <a:srgbClr val="934bc9"/>
                </a:solidFill>
                <a:latin typeface="Calibri"/>
              </a:rPr>
              <a:t>-расширение кругозора учащихся,</a:t>
            </a:r>
            <a:br>
              <a:rPr sz="3600"/>
            </a:br>
            <a:r>
              <a:rPr b="1" i="1" lang="ru-RU" sz="3600" spc="-1" strike="noStrike">
                <a:solidFill>
                  <a:srgbClr val="934bc9"/>
                </a:solidFill>
                <a:latin typeface="Calibri"/>
              </a:rPr>
              <a:t>-развитие интереса к изучаемому предмету,</a:t>
            </a:r>
            <a:br>
              <a:rPr sz="3600"/>
            </a:br>
            <a:r>
              <a:rPr b="1" i="1" lang="ru-RU" sz="3600" spc="-1" strike="noStrike">
                <a:solidFill>
                  <a:srgbClr val="934bc9"/>
                </a:solidFill>
                <a:latin typeface="Calibri"/>
              </a:rPr>
              <a:t>-выявление одаренных учащихс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0" y="204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400" y="1285560"/>
            <a:ext cx="84582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пешное развитие математической одарённости достигается при выполнении определённых условий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создание особой развивающей среды;</a:t>
            </a: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- углубление и обогащение содержания математического образования; </a:t>
            </a: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-создание особых организационных условий (работа по индивидуальному образовательному маршруту); </a:t>
            </a: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-эффективное  использование педагогических технологий; совершенствование профессиональных и личностных качеств педагога.</a:t>
            </a:r>
            <a:br>
              <a:rPr sz="28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204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934bc9"/>
                </a:solidFill>
                <a:latin typeface="Calibri"/>
              </a:rPr>
              <a:t>Под выбором индивидуального образовательного маршрута мы понимаем создание специальных педагогических условий для возможности выбора способов, форм и методов обучения, позволяющих поддерживать различные образовательные интересы учащихся при обучении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0" y="204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6760" y="1213920"/>
            <a:ext cx="8572680" cy="53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яснилось, что при наличии четырех основных профилей существуют образовательные маршруты учащихся, отличающиеся набором и уровнем основных учебных курсов школьного компонента и набором спецкурсов элективного компонента. Из 49 возможных спецкурсов, рекомендуемых в качестве обязательных для завершения профиля, и спецкурсов свободного выбора реально начали работать 16. Это спецкурсы, которые были выбраны минимум 13 учащимися – минимальное количество учащихся, которое позволяет реализовать в школе данный спецкурс. Помимо рекомендованных к каждому профилю, наиболее популярными оказались такие спецкурсы, как «Начала философии» и «Информационные технологии в образовании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ует заметить, что реализация такого большого числа спецкурсов и образовательных маршрутов учащихся возможна только при наличии в школе как минимум трех 10-х классов профильного обучения. Лишь в этом случае возможно открытие нужного количества спецкурсов, организация модульных, а в дальнейшем и разновозрастных модульных спецкурсов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79581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дивидуального образовательного маршрута (ИОМ) при обучении математике.</a:t>
            </a:r>
            <a:br>
              <a:rPr sz="3200"/>
            </a:b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556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. В. Риско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БОУ «СШ №21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5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 rot="5400000">
            <a:off x="4500360" y="-414324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934bc9"/>
                </a:solidFill>
                <a:latin typeface="Arial"/>
                <a:ea typeface="Arial"/>
              </a:rPr>
              <a:t>Актуальность</a:t>
            </a:r>
            <a:r>
              <a:rPr b="1" i="1" lang="ru-RU" sz="3600" spc="-1" strike="noStrike">
                <a:solidFill>
                  <a:srgbClr val="934bc9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934bc9"/>
                </a:solidFill>
                <a:latin typeface="Arial"/>
                <a:ea typeface="Arial"/>
              </a:rPr>
              <a:t>вопроса</a:t>
            </a:r>
            <a:br>
              <a:rPr sz="32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ждый человек – единственный и неповторимый в своей индивидуальности. Индивидуальность выражается в индивидуальных особенностях и различиях. Индивидуальными особенностями обусловлено формирование всех качеств.</a:t>
            </a:r>
            <a:br>
              <a:rPr sz="2800"/>
            </a:br>
            <a:r>
              <a:rPr b="1" i="1" lang="ru-RU" sz="2800" spc="-1" strike="noStrike">
                <a:solidFill>
                  <a:srgbClr val="934bc9"/>
                </a:solidFill>
                <a:latin typeface="Arial"/>
                <a:ea typeface="Arial"/>
              </a:rPr>
              <a:t>Индивидуальный образовательный маршру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это персональный путь реализации личностного потенциала каждого ученика в образовании. Процесс выявления, реализации и развития способностей ученика происходят в ходе образовательного движения по индивидуальному маршруту.</a:t>
            </a:r>
            <a:br>
              <a:rPr sz="32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786880" y="2501280"/>
            <a:ext cx="16992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Основная идея обновления образования состоит в том, что оно должно стать индивидуализированным, функциональным и эффективным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5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 rot="5400000">
            <a:off x="4500360" y="-414324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Ученик сможет продвигаться по образовательному маршруту</a:t>
            </a: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 во всех образовательных областях, в том случае, если ему будут представлены возможности:</a:t>
            </a:r>
            <a:br>
              <a:rPr sz="2500"/>
            </a:b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-</a:t>
            </a:r>
            <a:r>
              <a:rPr b="1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определить индивидуальный смысл </a:t>
            </a: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изучения учебной дисциплины;</a:t>
            </a:r>
            <a:br>
              <a:rPr sz="2500"/>
            </a:b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-</a:t>
            </a:r>
            <a:r>
              <a:rPr b="1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ставить собственные цели </a:t>
            </a: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в изучении конкретной темы или раздела;</a:t>
            </a:r>
            <a:br>
              <a:rPr sz="2500"/>
            </a:b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-</a:t>
            </a:r>
            <a:r>
              <a:rPr b="1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выбирать оптимальные формы </a:t>
            </a: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и темпы обучения;</a:t>
            </a:r>
            <a:br>
              <a:rPr sz="2500"/>
            </a:b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-</a:t>
            </a:r>
            <a:r>
              <a:rPr b="1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применять те способы учения</a:t>
            </a: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, которые наиболее соответствуют его индивидуальным особенностям;</a:t>
            </a:r>
            <a:br>
              <a:rPr sz="2500"/>
            </a:b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-</a:t>
            </a:r>
            <a:r>
              <a:rPr b="1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рефлексивно осознавать полученные результаты</a:t>
            </a:r>
            <a:r>
              <a:rPr b="0" i="1" lang="ru-RU" sz="2500" spc="-1" strike="noStrike">
                <a:solidFill>
                  <a:srgbClr val="422100"/>
                </a:solidFill>
                <a:latin typeface="Arial"/>
                <a:ea typeface="Arial"/>
              </a:rPr>
              <a:t>, осуществлять оценку и корректировку своей деятельност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86880" y="2501280"/>
            <a:ext cx="16992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5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 rot="5400000">
            <a:off x="4500360" y="-414324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34bc9"/>
                </a:solidFill>
                <a:latin typeface="Arial"/>
                <a:ea typeface="Arial"/>
              </a:rPr>
              <a:t>Требования к ИОМ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Й МАРШРУТ каждого уровня должен отвечать специфическим требованиям: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допускать возможность и необходимость маршрутов других уровней;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учитывать разброс целей образовательных субъектов другого уровня;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предполагать вариативность достижения обозначаемых в маршруте целей;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обеспечивать соответствующий баланс заданности и выбора в каждом из структурных компонентов маршру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786880" y="2501280"/>
            <a:ext cx="16992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5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 rot="5400000">
            <a:off x="4500360" y="-414324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934bc9"/>
                </a:solidFill>
                <a:latin typeface="Arial"/>
                <a:ea typeface="Arial"/>
              </a:rPr>
              <a:t>Предварительная работа при проектировании  ИОМ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й образовательный маршрут по математике должен содержать ответы на вопросы: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Зачем мне нужно заниматься математикой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Какие темы я буду изучать из учебника? Дистанционно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Чему я хочу научиться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Какие темы я планирую изучить дополнительно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Мои самые интересные вопросы и проблемы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Тема моей творческой работы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Что я буду делать? Как заниматься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Что мне необходимо для занятий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В чем будут состоять  результаты моих занятий?</a:t>
            </a:r>
            <a:br>
              <a:rPr sz="2500"/>
            </a:b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Как я буду отслеживать, контролировать свои результаты?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786880" y="2501280"/>
            <a:ext cx="16992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5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 rot="5400000">
            <a:off x="4500360" y="-414324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34bc9"/>
                </a:solidFill>
                <a:latin typeface="Arial"/>
                <a:ea typeface="Arial"/>
              </a:rPr>
              <a:t>Работа с дистанционными курсами по математике как элемент  ИОМ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использовании индивидуальных образовательных маршрутов целесообразно включать в планирование элементы дистанционных курсов: ученики могут смотреть ролики и презентации по изучаемой теме, выполнять интересные задания, изучать интерактивные модели, готовиться к итоговой аттестации – все это в удобное для них время!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может дистанционно контролировать полученные учеником результат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786880" y="2501280"/>
            <a:ext cx="16992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Пример использования ИОМ при обучении математике неуспевающих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индивидуальный образовательный маршру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а(цы)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ликвидация пробелов  по матема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40" y="3714840"/>
          <a:ext cx="8358120" cy="1941480"/>
        </p:xfrm>
        <a:graphic>
          <a:graphicData uri="http://schemas.openxmlformats.org/drawingml/2006/table">
            <a:tbl>
              <a:tblPr/>
              <a:tblGrid>
                <a:gridCol w="1204920"/>
                <a:gridCol w="2022480"/>
                <a:gridCol w="1282680"/>
                <a:gridCol w="1282680"/>
                <a:gridCol w="1282680"/>
                <a:gridCol w="128268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метка о выполн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</a:tr>
              <a:tr h="51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3" name="Стрелка вниз 8"/>
          <p:cNvSpPr/>
          <p:nvPr/>
        </p:nvSpPr>
        <p:spPr>
          <a:xfrm>
            <a:off x="11930040" y="27147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9" descr="C:\Users\HP PC\Desktop\К совещанию по ГИА\картинки егэ\10152_html_m645ec98a.png"/>
          <p:cNvPicPr/>
          <p:nvPr/>
        </p:nvPicPr>
        <p:blipFill>
          <a:blip r:embed="rId1"/>
          <a:stretch/>
        </p:blipFill>
        <p:spPr>
          <a:xfrm>
            <a:off x="6429240" y="1357200"/>
            <a:ext cx="20005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Пример использования ИОМ при обучении математике одаренных дет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индивидуальный образовательный маршру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а(цы)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:  углубление знаний по предмету   математ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00040" y="3714840"/>
          <a:ext cx="8358120" cy="2490840"/>
        </p:xfrm>
        <a:graphic>
          <a:graphicData uri="http://schemas.openxmlformats.org/drawingml/2006/table">
            <a:tbl>
              <a:tblPr/>
              <a:tblGrid>
                <a:gridCol w="1204920"/>
                <a:gridCol w="2022480"/>
                <a:gridCol w="1282680"/>
                <a:gridCol w="1282680"/>
                <a:gridCol w="1282680"/>
                <a:gridCol w="128268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а для изучения на базовом уро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ширение, углубление знаний по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а 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a7ff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8" name="Стрелка вниз 8"/>
          <p:cNvSpPr/>
          <p:nvPr/>
        </p:nvSpPr>
        <p:spPr>
          <a:xfrm>
            <a:off x="11930040" y="271476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C:\Users\HP PC\Desktop\К совещанию по ГИА\картинки егэ\imgpreview (1).jpg"/>
          <p:cNvPicPr/>
          <p:nvPr/>
        </p:nvPicPr>
        <p:blipFill>
          <a:blip r:embed="rId1"/>
          <a:stretch/>
        </p:blipFill>
        <p:spPr>
          <a:xfrm>
            <a:off x="6786720" y="142884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5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 rot="5400000">
            <a:off x="4500360" y="-414324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34bc9"/>
                </a:solidFill>
                <a:latin typeface="Arial"/>
                <a:ea typeface="Arial"/>
              </a:rPr>
              <a:t>Ожидаемый результат реализации  ИОМ</a:t>
            </a:r>
            <a:br>
              <a:rPr sz="2200"/>
            </a:br>
            <a:r>
              <a:rPr b="0" i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Разработав индивидуальный образовательный маршрут учитель будет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еть четкое представление о том, с какой целью, на каких уроках и как конкретно он будет использовать его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зучать и знать общую готовность детей к учебной деятельности, восприятию конкретного учебного материала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едвидеть затруднения, которые могут возникнуть у детей при усвоении нового материала и выполнении дифференцированных заданий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в системе уроков индивидуальные и групповые задания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стоянно анализировать эффективность индивидуального и дифференцированного обучения;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еть четкое представление о том, как будет продолжена работа на следующих уроках; 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дифференцированное обучение не эпизодически, а в систем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786880" y="2501280"/>
            <a:ext cx="16992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-27000"/>
            <a:ext cx="9144000" cy="86364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0" y="204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800"/>
                </a:solidFill>
                <a:latin typeface="Arial"/>
                <a:ea typeface="Arial"/>
              </a:rPr>
              <a:t>Из опыта работы по разработке И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1452600" y="24444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ontrol 9" hidden="1"/>
          <p:cNvSpPr/>
          <p:nvPr/>
        </p:nvSpPr>
        <p:spPr>
          <a:xfrm>
            <a:off x="2206800" y="538200"/>
            <a:ext cx="6094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8"/>
          <p:cNvSpPr/>
          <p:nvPr/>
        </p:nvSpPr>
        <p:spPr>
          <a:xfrm flipV="1" rot="10800000">
            <a:off x="539640" y="4427640"/>
            <a:ext cx="83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Прямоугольник 9" descr=""/>
          <p:cNvPicPr/>
          <p:nvPr/>
        </p:nvPicPr>
        <p:blipFill>
          <a:blip r:embed="rId1"/>
          <a:stretch/>
        </p:blipFill>
        <p:spPr>
          <a:xfrm>
            <a:off x="1139760" y="1139760"/>
            <a:ext cx="7004160" cy="927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Users\HP PC\Desktop\К совещанию по ГИА\картинки егэ\Как-помочь-ребенку.jpg"/>
          <p:cNvPicPr/>
          <p:nvPr/>
        </p:nvPicPr>
        <p:blipFill>
          <a:blip r:embed="rId2"/>
          <a:stretch/>
        </p:blipFill>
        <p:spPr>
          <a:xfrm>
            <a:off x="7164360" y="4875120"/>
            <a:ext cx="176544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2952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ормативно-правовые аспекты решения проблемы индивидуализации обучения определены: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Концепцией профильного обучения,</a:t>
            </a: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Национальной законодательной инициативой «Наша новая школа»,</a:t>
            </a: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Концепцией «Современная модель образования, ориентированная на решение задач инновационного развития экономики – 2020»,</a:t>
            </a: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ФЗ «Об образовании в РФ» (ст.17),</a:t>
            </a: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ФГОС общего образования.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 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4bc9"/>
                </a:solidFill>
                <a:latin typeface="Calibri"/>
              </a:rPr>
              <a:t>ИОМ – один из способов решения задачи индивидуализации образовательного процесса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760" y="1499760"/>
            <a:ext cx="810108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Появление ИОМ обусловлено </a:t>
            </a:r>
            <a:br>
              <a:rPr sz="2800"/>
            </a:b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возникшим </a:t>
            </a: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противоречием между инновационным характером</a:t>
            </a: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 государственных требований к планируемым результатам освоения каждым учащимся основных образовательных программ и </a:t>
            </a: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недостаточной разработанностью</a:t>
            </a: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 на институциональном уровне </a:t>
            </a: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механизмов управления</a:t>
            </a: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 образовательным процессом.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4582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br>
              <a:rPr sz="3600"/>
            </a:br>
            <a:r>
              <a:rPr b="1" lang="ru-RU" sz="3600" spc="-1" strike="noStrike">
                <a:solidFill>
                  <a:srgbClr val="934bc9"/>
                </a:solidFill>
                <a:latin typeface="Calibri"/>
              </a:rPr>
              <a:t>Разработка и применение ИОМ маршрутов затруднено из-за отсутствия в широком доступе систематизированной теоретической основы процесса разработки и реализации ИОМ.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Times New Roman"/>
                <a:ea typeface="Times New Roman"/>
              </a:rPr>
              <a:t>Из опыта работы по созданию и применению И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аправления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создание единого пространства по проектированию образовательных маршрутов на уровне образовательной организации;</a:t>
            </a:r>
            <a:br>
              <a:rPr sz="3200"/>
            </a:br>
            <a:r>
              <a:rPr b="1" lang="ru-RU" sz="3200" spc="-1" strike="noStrike">
                <a:solidFill>
                  <a:srgbClr val="934bc9"/>
                </a:solidFill>
                <a:latin typeface="Calibri"/>
              </a:rPr>
              <a:t>- </a:t>
            </a: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разработке образовательных маршрутов по отдельным направлениям;</a:t>
            </a:r>
            <a:br>
              <a:rPr sz="3200"/>
            </a:br>
            <a:r>
              <a:rPr b="1" lang="ru-RU" sz="3200" spc="-1" strike="noStrike">
                <a:solidFill>
                  <a:srgbClr val="934bc9"/>
                </a:solidFill>
                <a:latin typeface="Calibri"/>
              </a:rPr>
              <a:t>- </a:t>
            </a:r>
            <a:r>
              <a:rPr b="1" i="1" lang="ru-RU" sz="3200" spc="-1" strike="noStrike">
                <a:solidFill>
                  <a:srgbClr val="934bc9"/>
                </a:solidFill>
                <a:latin typeface="Calibri"/>
              </a:rPr>
              <a:t>применение индивидуальных образовательных маршрутов конкретно к предмету математика.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0" y="151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 мы понимаем под И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2440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800"/>
            </a:br>
            <a:r>
              <a:rPr b="1" lang="ru-RU" sz="2800" spc="-1" strike="noStrike">
                <a:solidFill>
                  <a:srgbClr val="934bc9"/>
                </a:solidFill>
                <a:latin typeface="Calibri"/>
              </a:rPr>
              <a:t>«Индивидуальный образовательный маршрут</a:t>
            </a:r>
            <a:r>
              <a:rPr b="0" lang="ru-RU" sz="2800" spc="-1" strike="noStrike">
                <a:solidFill>
                  <a:srgbClr val="934bc9"/>
                </a:solidFill>
                <a:latin typeface="Calibri"/>
              </a:rPr>
              <a:t> – это целенаправленно проектируемая дифференцированная образовательная программа, обеспечивающая учащемуся позиции субъекта выбора, разработки и реализации образовательной программы при осуществлении преподавателями педагогической поддержки его самоопределения и самореализации». (С.В. Воробьева, Н.А. Лабунская, А.П. Тряпицына, Ю.Ф. Тимофеева и др.)</a:t>
            </a:r>
            <a:br>
              <a:rPr sz="28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858160" y="2501280"/>
            <a:ext cx="9864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3:36:11Z</dcterms:created>
  <dc:creator>VetrovaAV</dc:creator>
  <dc:description/>
  <dc:language>en-US</dc:language>
  <cp:lastModifiedBy>Admin</cp:lastModifiedBy>
  <dcterms:modified xsi:type="dcterms:W3CDTF">2021-04-22T13:33:48Z</dcterms:modified>
  <cp:revision>234</cp:revision>
  <dc:subject/>
  <dc:title>Слайд 1</dc:title>
</cp:coreProperties>
</file>