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728-56D3-4353-972E-D060EB861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2D0-AF3C-4496-A50D-CCE09E2F8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78E-7C90-4BED-8D48-1147EA20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179-17F2-4F06-9C06-E1FF2473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18F-79E9-48E8-B1D3-4816C67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8A4-E813-42A4-9A9C-66B54DE0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A90-ECA0-4270-BD17-3227958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179-3D3A-40FA-B4C3-CEF7AEC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338-22A4-4C2D-B776-9499F4C0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908-9664-47BD-AA02-7278F731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66C-39A8-48C6-8E10-42E6A9AB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C28-C021-4E90-A89A-52F1CE5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965-4080-4146-A3C1-3FA7508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AC4-B0AB-4697-85F9-D95F5DB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C3D6-FF60-4D91-9946-DB431F7E3E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обучению детей с ограниченными возможностями здоровья  по  предмету «Математика»  в соответствии с требованиями ФГОС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обучения детей с ЗП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осприя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вним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амя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мышл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эмоционально-волевой сфе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676160"/>
            <a:ext cx="8175600" cy="36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из заключений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меренно выраженные нарушения психических функций. Снижение вербальной и невербальной стороны мыслительной деятельности. Нарушение поведения.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едостаточность развития психических функций. Установление причинно-следственных связей затрудне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1399680"/>
            <a:ext cx="8175600" cy="42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 подход к каждому ребен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отвращение утомляем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ение педагогического та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рекция всех видов деятельности 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1245960"/>
            <a:ext cx="8175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особенност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коррекционной работы (из заключен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сихолого-педагогического сопровождения.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817560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рабочая программа по математи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кумент, являющийся компонентом адаптированной основной образовательной программы школы, который определяет цель, порядок, содержание, результаты и условия изучения и преподавания  предмета 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81756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задач, ориентированных на достижение школьником с ЗПР планируемых результатов обучения (личностных, метапредметных, предметных)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идов деятельности для конкретного обучающего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учебной информации информаци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ая характеристика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ние места учебного предмета в учебном пла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чностные, метапредметные и предметные результаты освоения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учебного предмета, кур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ческое планирование с определением основных видов учебной деятельности, направленных на развитие конкретного уче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исание учебно-методического и материально – технического обеспечения образовательного процес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ланируемые результаты изучения учебного предмета.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33120"/>
            <a:ext cx="8175600" cy="71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ю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ключайте действия посторонних раздражите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мните о замедлении процесса переработки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бщаемые сведения повторяйте многократ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Всегда используйте наглядные средства обуч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редуйте периоды  деятельности и отдыха</a:t>
            </a:r>
            <a:br>
              <a:rPr sz="2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математике (2018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личительные 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че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здание специальных условий для развития школьников с ЗПР (Пояснительная запис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основных психических функций: восприятие, память, мышление (Тематическое планирование с определением основных видов деятель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предметных знаний (Описание УМК. Планируемые результаты изучения учебного предмет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ложение. Лист коррек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20484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800" spc="-1" strike="noStrike">
                <a:solidFill>
                  <a:srgbClr val="004800"/>
                </a:solidFill>
                <a:latin typeface="Arial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9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016760" cy="342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2100"/>
                </a:solidFill>
                <a:latin typeface="Cambria"/>
              </a:rPr>
              <a:t>Основные доку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З от 29 декабря 2012 г. № 273-ФЗ "Об образовании в Российской Федерации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тья 79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врача Российской Федерации от 29 декабря 2010 г.N 189г. Москва  «Санитарно-эпидемиологические требования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56000" y="6281640"/>
            <a:ext cx="64008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14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71680" y="1285920"/>
            <a:ext cx="8215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016 года реали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 обучающихся с ограниченными возможностями здоровья (ФГОС ОВЗ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образования обучающихся с умственной отсталостью (интеллектуальными наруше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30.08. 2013 г. № 1015 г.  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" (в ред. от 17 июля 2015 г.)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14720" y="616536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571680" y="128592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е программы и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учебники, учебные пособия и 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технические средств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ррекционные занятия (групповые и индивиду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руги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817560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введения ФГОС НОО ОВЗ и ФГОС О у/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-2017 уч.г. - 1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уч.г. - 1 и 2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 - 1,2 и 3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0уч.г. - 1,2,3 и 4 класс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http://rewsosh.ucoz.ru/_si/0/16225856.jpg"/>
          <p:cNvPicPr/>
          <p:nvPr/>
        </p:nvPicPr>
        <p:blipFill>
          <a:blip r:embed="rId1"/>
          <a:stretch/>
        </p:blipFill>
        <p:spPr>
          <a:xfrm>
            <a:off x="1562040" y="5191200"/>
            <a:ext cx="7581960" cy="166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школы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ные АООП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ать на их основе АОП О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кадровый состав  соответствующим повышением квалифика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сетевое взаимодействие при невозможности полной реализации программы коррекционных курсов в О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атериально-технические условия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rewsosh.ucoz.ru/_si/0/16225856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1520"/>
            <a:ext cx="817560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сутствие должного опы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адаптированной основной образовательной программы О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пыта работы по разработке  рабочих программ учебных  предметов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ная трактовка требований к разработке програм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ности организации сетевого взаимодейств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хватка квалифицированных специалист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369800"/>
            <a:ext cx="8175600" cy="42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ительный характер обучения детей по адаптированным программа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ециальные услов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лого-педагогическое сопровожд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18-12-06T08:14:58Z</dcterms:modified>
  <cp:revision>267</cp:revision>
  <dc:subject/>
  <dc:title>Слайд 1</dc:title>
</cp:coreProperties>
</file>