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E8F-376F-4A4D-9BD6-BA75B414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0B8-9D54-48B8-93E8-82CA9AE4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4B0-546F-4EA2-B8EC-532A498E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F51-51F2-4E9A-B9F2-EBF20C86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B2D-5817-4316-9F7B-CE757C88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BAAE-6414-4D6F-9254-3AB7742A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72F6-0C27-446A-8D7F-E0C5884F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6D4-B4E1-41FB-A180-D56A69E5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AC09-CF6B-40BA-8EFA-07F7CAE7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2AE-9233-4ECD-A98F-1156554F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7DE1-B720-4903-8A57-605F74B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642-A482-4298-9C7A-08BD5184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3DD-1FC7-4B07-A971-1D26DBB0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BB45-5FFA-4F6E-BA2F-B4BAE05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6642-621E-408D-BB14-C919F982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AD96-B205-47E2-8C6F-789F01FC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E51D-3303-4496-A554-19F0246E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A2A-6FC8-4A44-999F-BFAE2806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EC4-6BFD-4C5C-AAD6-D9451C4D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56A-B82C-4720-8BF1-AF1A65D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84D-5DFA-419D-A717-B31C64D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3BA-3AC2-48F3-8E1A-3A072C0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9FD-CFA6-4BD0-915B-A6AFC87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5D0-EAE5-4E4C-80F3-DC549B8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C179EE-31FC-4C5F-BB14-F3941E696AB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589B55-572C-474F-9508-FA765D5C0C7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7640" y="1556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Учите русский – годы кряду,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С душой, с усердием, с умом!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Вас ждёт великая награда – </a:t>
            </a:r>
            <a:br>
              <a:rPr sz="4900"/>
            </a:br>
            <a:r>
              <a:rPr b="1" lang="ru-RU" sz="4900" spc="-1" strike="noStrike">
                <a:solidFill>
                  <a:srgbClr val="0070c0"/>
                </a:solidFill>
                <a:latin typeface="Times New Roman"/>
              </a:rPr>
              <a:t>И та награда в нём самом.</a:t>
            </a:r>
            <a:br>
              <a:rPr sz="53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                                       </a:t>
            </a:r>
            <a:r>
              <a:rPr b="0" i="1" lang="ru-RU" sz="4000" spc="-1" strike="noStrike">
                <a:solidFill>
                  <a:srgbClr val="0070c0"/>
                </a:solidFill>
                <a:latin typeface="Times New Roman"/>
              </a:rPr>
              <a:t>Сабир Абдулла</a:t>
            </a:r>
            <a:br>
              <a:rPr sz="2700"/>
            </a:b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5"/>
          <p:cNvSpPr/>
          <p:nvPr/>
        </p:nvSpPr>
        <p:spPr>
          <a:xfrm>
            <a:off x="467640" y="0"/>
            <a:ext cx="799236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Рефлек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683640" y="1287360"/>
            <a:ext cx="7920360" cy="5211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егодня мы узнали о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Теперь я мог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научил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е 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  <a:ea typeface="Times New Roman"/>
              </a:rPr>
              <a:t>Своей работой я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83640" y="-459360"/>
            <a:ext cx="7992360" cy="545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224 на стр.124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Упр. 227 на стр.125 в учеб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0070c0"/>
                </a:solidFill>
                <a:latin typeface="Times New Roman"/>
              </a:rPr>
              <a:t>Спасибо за урок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640" y="1412640"/>
            <a:ext cx="8500680" cy="1856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Глагол – самая огнепышущая,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самая живая 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часть речи.</a:t>
            </a:r>
            <a:br>
              <a:rPr sz="8000"/>
            </a:br>
            <a:r>
              <a:rPr b="1" lang="ru-RU" sz="8000" spc="-1" strike="noStrike">
                <a:solidFill>
                  <a:srgbClr val="002060"/>
                </a:solidFill>
                <a:latin typeface="Times New Roman"/>
              </a:rPr>
              <a:t>                           </a:t>
            </a:r>
            <a:r>
              <a:rPr b="0" i="1" lang="ru-RU" sz="5300" spc="-1" strike="noStrike">
                <a:solidFill>
                  <a:srgbClr val="002060"/>
                </a:solidFill>
                <a:latin typeface="Times New Roman"/>
              </a:rPr>
              <a:t>А. Югов</a:t>
            </a:r>
            <a:br>
              <a:rPr sz="7300"/>
            </a:br>
            <a:br>
              <a:rPr sz="2700"/>
            </a:br>
            <a:br>
              <a:rPr sz="4400"/>
            </a:br>
            <a:endParaRPr b="0" lang="ru-RU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7" name="TextBox 3"/>
          <p:cNvSpPr/>
          <p:nvPr/>
        </p:nvSpPr>
        <p:spPr>
          <a:xfrm>
            <a:off x="1475640" y="764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в  о  об  из  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475640" y="213300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и  но 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0" name="Rectangle 2"/>
          <p:cNvSpPr/>
          <p:nvPr/>
        </p:nvSpPr>
        <p:spPr>
          <a:xfrm>
            <a:off x="0" y="72864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820000" cy="113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3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Тема</a:t>
            </a: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: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Правописание не с глаголами.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0" y="1052640"/>
            <a:ext cx="8820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меть с помощью алгоритма  применять правил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827640" y="220500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и 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483640" y="3501000"/>
            <a:ext cx="42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436000" y="4653000"/>
            <a:ext cx="352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рав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755640" y="5229360"/>
            <a:ext cx="85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Е 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956360" y="1628640"/>
            <a:ext cx="863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0" y="346680"/>
            <a:ext cx="91447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В чужом доме (не)указыва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(Не)хвали сам себя, есть лучше т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Symbol" charset="2"/>
              <a:buChar char=""/>
              <a:tabLst>
                <a:tab algn="l" pos="90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Попусту (не)годовать – здоровья (не)вид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-1908720" y="3828240"/>
            <a:ext cx="1216908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указывают                Негодо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хв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не ви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3500280" y="135720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21428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5857920" y="3929040"/>
            <a:ext cx="2091960" cy="11062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ит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4"/>
          <p:cNvCxnSpPr/>
          <p:nvPr/>
        </p:nvCxnSpPr>
        <p:spPr>
          <a:xfrm flipH="1">
            <a:off x="221436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7" name="AutoShape 6"/>
          <p:cNvCxnSpPr/>
          <p:nvPr/>
        </p:nvCxnSpPr>
        <p:spPr>
          <a:xfrm flipH="1">
            <a:off x="5572080" y="2143080"/>
            <a:ext cx="1287720" cy="3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8" name="AutoShape 5"/>
          <p:cNvCxnSpPr/>
          <p:nvPr/>
        </p:nvCxnSpPr>
        <p:spPr>
          <a:xfrm>
            <a:off x="221436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9" name="AutoShape 7"/>
          <p:cNvCxnSpPr/>
          <p:nvPr/>
        </p:nvCxnSpPr>
        <p:spPr>
          <a:xfrm>
            <a:off x="6858000" y="2143080"/>
            <a:ext cx="360" cy="178452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10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3857760" y="1643040"/>
            <a:ext cx="15714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5500800" y="171468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2857680" y="1714680"/>
            <a:ext cx="642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0" y="2214720"/>
            <a:ext cx="214272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разд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6929280" y="2286000"/>
            <a:ext cx="199980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ли слово в русском языке не употребляется без частицы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ишем 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65080" y="329400"/>
            <a:ext cx="213120" cy="256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1166760"/>
                <a:tab algn="ctr" pos="2970360"/>
                <a:tab algn="l" pos="44989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5429160" y="1071720"/>
            <a:ext cx="27856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547640" y="0"/>
            <a:ext cx="5653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ИГРА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</a:rPr>
              <a:t> «Плюс – мин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455400"/>
            <a:ext cx="8100000" cy="5574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стану меша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доумевать по поводу отве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хочу ссорить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годовать из-за опозд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(Не) могу говор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</a:pPr>
            <a:r>
              <a:rPr b="0" i="1" lang="ru-RU" sz="40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аган (не)истовству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4788000" y="764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4788000" y="2565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4644000" y="4437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9"/>
          <p:cNvSpPr/>
          <p:nvPr/>
        </p:nvSpPr>
        <p:spPr>
          <a:xfrm>
            <a:off x="7956360" y="170064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7092360" y="350100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1"/>
          <p:cNvSpPr/>
          <p:nvPr/>
        </p:nvSpPr>
        <p:spPr>
          <a:xfrm>
            <a:off x="5940000" y="5301360"/>
            <a:ext cx="761760" cy="53316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2"/>
          <p:cNvSpPr/>
          <p:nvPr/>
        </p:nvSpPr>
        <p:spPr>
          <a:xfrm>
            <a:off x="323640" y="188640"/>
            <a:ext cx="882000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Расширить и углубить знания о правописании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206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Учиться находить и правильно писать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3.  Уметь с помощью алгоритма  применять правило правописания НЕ с глагол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  <Words>363</Words>
  <Paragraphs>74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4:31:54Z</dcterms:created>
  <dc:creator>Admin</dc:creator>
  <dc:description/>
  <dc:language>en-US</dc:language>
  <cp:lastModifiedBy>Лилия</cp:lastModifiedBy>
  <dcterms:modified xsi:type="dcterms:W3CDTF">2021-04-21T08:47:33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